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865-FF32-427B-BC35-3BACD292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56A-4532-45DC-BEF2-349F109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79C-ABB4-4D29-B708-F5EBF214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7CE-2875-48B5-A134-17391E02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B524-CC56-4FA3-BE75-FE307885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C3D8-24FC-4344-882E-834DFBBC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7285-2C65-4668-BA8C-D14FC72A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D939-5B0F-43CF-A243-AAF4035E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D46F-AC64-4F4C-92F4-4B6752F5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B38E-9E52-422C-8EE0-9CD02004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72A1-2678-46B6-B417-A0B2F4C9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1F5-FA11-4D2B-AFF1-1292A56A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C850-82A4-485E-A94A-13ACF4A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DE6A-85DE-4B93-B654-FD1A8379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AF29-6292-40D2-BBFC-813B884A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D5BC-2982-43CA-A224-0AFAF773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C12B-9D6E-43AB-B876-D2F8F3AF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104-2CD0-4491-8955-FC682548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9B6-A15C-49E0-A540-5E5F8AFB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87B-EC00-4FB3-BF2D-7265761B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B22-A92D-46BB-BE7E-25519FB4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174-71D7-48D2-A0AC-708C87B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61E-FAB8-4340-946F-4DA73FA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FD2-644C-462C-8EBF-1FE0D63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" name="Group 6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Line 69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" name="Line 70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" name="Line 71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" name="Line 72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" name="Line 73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" name="Line 74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" name="Line 75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" name="Line 76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" name="Line 77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" name="Line 78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" name="Line 79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" name="Line 80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" name="Line 81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" name="Line 82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" name="Line 83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" name="Line 84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" name="Line 85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" name="Line 86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" name="Line 87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" name="Line 88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" name="Line 89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" name="Line 90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" name="Line 91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" name="Line 92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" name="Line 93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" name="Line 94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" name="Line 95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" name="Line 96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" name="Line 97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2" name="Line 98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" name="Line 99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" name="Line 100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" name="Line 101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" name="Line 102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" name="Line 103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" name="Line 104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" name="Line 105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" name="Line 106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" name="Line 107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2" name="Line 108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" name="Line 109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" name="Line 110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" name="Line 111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" name="Line 112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" name="Line 113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" name="Line 114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" name="Line 115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" name="Line 116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" name="Line 117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" name="Line 118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" name="Line 119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04AB-B4B7-442D-9B0A-6D0C870BA4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Line 6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5" name="Line 7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7" name="Line 9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9" name="Line 11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2" name="Line 14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3" name="Line 15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" name="Line 40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" name="Line 43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2" name="Line 44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3" name="Line 45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4" name="Line 46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5" name="Line 47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7" name="Line 49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8" name="Line 50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9" name="Line 51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0" name="Line 52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1" name="Line 53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2" name="Line 54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3" name="Line 55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44" name="Line 56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472B-B39A-4D44-9BF5-70AC36800D4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143000" y="152388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kbar"/>
              </a:rPr>
              <a:t>Functions and relations 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kbar"/>
              <a:ea typeface="Akb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3d"/>
                  </a:outerShdw>
                </a:effectLst>
                <a:latin typeface="Akbar"/>
              </a:rPr>
              <a:t>Chapter 5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99003d"/>
                </a:outerShdw>
              </a:effectLst>
              <a:latin typeface="Akbar"/>
              <a:ea typeface="Akbar"/>
            </a:endParaRPr>
          </a:p>
        </p:txBody>
      </p:sp>
      <p:pic>
        <p:nvPicPr>
          <p:cNvPr id="187" name="Picture 4" descr="http://www.ltcconline.net/greenl/courses/154/systfunc/functn6.gif"/>
          <p:cNvPicPr/>
          <p:nvPr/>
        </p:nvPicPr>
        <p:blipFill>
          <a:blip r:embed="rId1"/>
          <a:stretch/>
        </p:blipFill>
        <p:spPr>
          <a:xfrm rot="20835000">
            <a:off x="528120" y="3851280"/>
            <a:ext cx="2705400" cy="2324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img.sparknotes.com/figures/4/4d7924c96427a340a0f1be4c7e650f7c/rel2.gif"/>
          <p:cNvPicPr/>
          <p:nvPr/>
        </p:nvPicPr>
        <p:blipFill>
          <a:blip r:embed="rId2"/>
          <a:stretch/>
        </p:blipFill>
        <p:spPr>
          <a:xfrm rot="725400">
            <a:off x="6705360" y="3276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09480" y="380880"/>
            <a:ext cx="80010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21337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429000" y="213372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640480" y="2666880"/>
            <a:ext cx="173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1295280" y="2743200"/>
            <a:ext cx="914400" cy="27183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3200400" y="2743200"/>
            <a:ext cx="914400" cy="271836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905120" y="3276720"/>
            <a:ext cx="1676160" cy="7596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"/>
          <p:cNvSpPr/>
          <p:nvPr/>
        </p:nvSpPr>
        <p:spPr>
          <a:xfrm flipV="1">
            <a:off x="1905120" y="4114440"/>
            <a:ext cx="1523880" cy="7621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2"/>
          <p:cNvSpPr/>
          <p:nvPr/>
        </p:nvSpPr>
        <p:spPr>
          <a:xfrm>
            <a:off x="1905120" y="3276720"/>
            <a:ext cx="1523880" cy="685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1905120" y="3276720"/>
            <a:ext cx="1600200" cy="1600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029200" y="1539720"/>
            <a:ext cx="30481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Function but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152388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42900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736240" y="2666880"/>
            <a:ext cx="171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1295280" y="2397240"/>
            <a:ext cx="914400" cy="323604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3200400" y="2320920"/>
            <a:ext cx="914400" cy="375300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Line 10"/>
          <p:cNvSpPr/>
          <p:nvPr/>
        </p:nvSpPr>
        <p:spPr>
          <a:xfrm flipV="1">
            <a:off x="1905120" y="3047760"/>
            <a:ext cx="1523880" cy="15228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Line 11"/>
          <p:cNvSpPr/>
          <p:nvPr/>
        </p:nvSpPr>
        <p:spPr>
          <a:xfrm flipV="1">
            <a:off x="1981080" y="3809880"/>
            <a:ext cx="1447920" cy="15264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1905120" y="4495680"/>
            <a:ext cx="1523880" cy="763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1981080" y="3962520"/>
            <a:ext cx="1524240" cy="11430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410080" y="1752480"/>
            <a:ext cx="2362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 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609480" y="304920"/>
            <a:ext cx="80010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1447920" y="3124080"/>
            <a:ext cx="10443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   -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 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  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 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968480" y="3200400"/>
            <a:ext cx="1440" cy="207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84200" y="3552840"/>
            <a:ext cx="11430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1371600" y="838080"/>
            <a:ext cx="43434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 the number and add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1066680" y="1523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n equati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word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1371600" y="1981080"/>
            <a:ext cx="19051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= 2x + 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1066680" y="26668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 table of valu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1066680" y="5410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 a set of ordered pair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1447920" y="5867280"/>
            <a:ext cx="64008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2, -1)  (-1,1)  (0,3)  (1, 5)  (2, 7) (3, 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876920" y="2057400"/>
            <a:ext cx="3733560" cy="2057400"/>
          </a:xfrm>
          <a:prstGeom prst="leftArrowCallout">
            <a:avLst>
              <a:gd name="adj1" fmla="val 25002"/>
              <a:gd name="adj2" fmla="val 25000"/>
              <a:gd name="adj3" fmla="val 30245"/>
              <a:gd name="adj4" fmla="val 66673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se all represent the SAME function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0"/>
          <p:cNvSpPr/>
          <p:nvPr/>
        </p:nvSpPr>
        <p:spPr>
          <a:xfrm>
            <a:off x="457200" y="682560"/>
            <a:ext cx="822960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tical Line Tes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tical 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 can draw goes through only 1 point then the relation is a 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http://www.algebra-class.com/image-files/vertical-line-answer-1.gif"/>
          <p:cNvPicPr/>
          <p:nvPr/>
        </p:nvPicPr>
        <p:blipFill>
          <a:blip r:embed="rId1"/>
          <a:stretch/>
        </p:blipFill>
        <p:spPr>
          <a:xfrm>
            <a:off x="685800" y="18288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vertical line test practice 2"/>
          <p:cNvPicPr/>
          <p:nvPr/>
        </p:nvPicPr>
        <p:blipFill>
          <a:blip r:embed="rId2"/>
          <a:stretch/>
        </p:blipFill>
        <p:spPr>
          <a:xfrm>
            <a:off x="4732200" y="1828800"/>
            <a:ext cx="2859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8600" y="1752480"/>
            <a:ext cx="8763120" cy="152424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a set of first elements in a relation (al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the x values). These are also call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independent varia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98400" y="3429000"/>
            <a:ext cx="767088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The second elements in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all of the y values). These are also call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dependen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2833920" y="2239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32400" y="2239920"/>
            <a:ext cx="526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275880" y="223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Tahoma"/>
              </a:rPr>
              <a:t>How would you use your calculator to solve 5</a:t>
            </a:r>
            <a:r>
              <a:rPr b="1" lang="en-CA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CA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number you entered is the </a:t>
            </a:r>
            <a:r>
              <a:rPr b="1" i="1" lang="en-CA" sz="3200" spc="-1" strike="noStrike">
                <a:solidFill>
                  <a:srgbClr val="000000"/>
                </a:solidFill>
                <a:latin typeface="Tahoma"/>
              </a:rPr>
              <a:t>input number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(or x-value on a graph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he result is the </a:t>
            </a:r>
            <a:r>
              <a:rPr b="1" i="1" lang="en-CA" sz="3200" spc="-1" strike="noStrike">
                <a:solidFill>
                  <a:srgbClr val="000000"/>
                </a:solidFill>
                <a:latin typeface="Tahoma"/>
              </a:rPr>
              <a:t>output number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 (or y-value on a graph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2286000" y="1604880"/>
            <a:ext cx="1600200" cy="685800"/>
          </a:xfrm>
          <a:prstGeom prst="downArrowCallout">
            <a:avLst>
              <a:gd name="adj1" fmla="val 58339"/>
              <a:gd name="adj2" fmla="val 58333"/>
              <a:gd name="adj3" fmla="val 16667"/>
              <a:gd name="adj4" fmla="val 66667"/>
            </a:avLst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5791320" y="1604880"/>
            <a:ext cx="1600200" cy="685800"/>
          </a:xfrm>
          <a:prstGeom prst="downArrowCallout">
            <a:avLst>
              <a:gd name="adj1" fmla="val 58339"/>
              <a:gd name="adj2" fmla="val 58333"/>
              <a:gd name="adj3" fmla="val 16667"/>
              <a:gd name="adj4" fmla="val 66667"/>
            </a:avLst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609480" y="228600"/>
            <a:ext cx="8153640" cy="121932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unc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a relation that give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ingl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p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number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values cannot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09480" y="2971800"/>
            <a:ext cx="81536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 are many ways to represent relation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09480" y="1600200"/>
            <a:ext cx="815364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rule that produces one or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put numbers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and y values may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5181480" y="3657600"/>
            <a:ext cx="3657600" cy="1523880"/>
          </a:xfrm>
          <a:prstGeom prst="wedgeRoundRectCallout">
            <a:avLst>
              <a:gd name="adj1" fmla="val -83375"/>
              <a:gd name="adj2" fmla="val 19064"/>
              <a:gd name="adj3" fmla="val 16667"/>
            </a:avLst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re all ways of showing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p between two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3428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Table of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A set of ordered pai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33520" y="380880"/>
            <a:ext cx="8305560" cy="41148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 values are always loc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right and y values a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the lef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y can be represented 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s, symbols or numb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990720" y="4800600"/>
            <a:ext cx="6858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presents a function as every input value (x) has only been used on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671400" y="855720"/>
            <a:ext cx="3124440" cy="289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pic>
        <p:nvPicPr>
          <p:cNvPr id="208" name="Picture 9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4572000" cy="914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533520" y="380880"/>
            <a:ext cx="8305560" cy="464832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s a rule that produces one or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put numbers for every valid input numb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 and y values may be repeate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s represents only a 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use the input value 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value of 2 was used twi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fore this relation is not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371600" y="5181480"/>
            <a:ext cx="662940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l functions are relations but not all relations are function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Picture 1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12408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pic>
        <p:nvPicPr>
          <p:cNvPr id="212" name="Picture 16" descr=""/>
          <p:cNvPicPr/>
          <p:nvPr/>
        </p:nvPicPr>
        <p:blipFill>
          <a:blip r:embed="rId2"/>
          <a:stretch/>
        </p:blipFill>
        <p:spPr>
          <a:xfrm>
            <a:off x="4343400" y="4092480"/>
            <a:ext cx="3124080" cy="7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477720"/>
            <a:ext cx="5562720" cy="622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sp>
        <p:nvSpPr>
          <p:cNvPr id="214" name="Text Box 3"/>
          <p:cNvSpPr/>
          <p:nvPr/>
        </p:nvSpPr>
        <p:spPr>
          <a:xfrm>
            <a:off x="5573880" y="800280"/>
            <a:ext cx="3429000" cy="55803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8160" y="0"/>
            <a:ext cx="5329080" cy="5562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e824e"/>
            </a:outerShdw>
          </a:effectLst>
        </p:spPr>
      </p:pic>
      <p:sp>
        <p:nvSpPr>
          <p:cNvPr id="216" name="Text Box 8"/>
          <p:cNvSpPr/>
          <p:nvPr/>
        </p:nvSpPr>
        <p:spPr>
          <a:xfrm>
            <a:off x="5400720" y="380880"/>
            <a:ext cx="3657600" cy="54558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457200" y="152280"/>
            <a:ext cx="80010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9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lations and functions can be shown man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fferent way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 these relations or function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52388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429000" y="1752480"/>
            <a:ext cx="45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647320" y="2666880"/>
            <a:ext cx="171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  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6553080" y="2743200"/>
            <a:ext cx="0" cy="23623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1295280" y="2320920"/>
            <a:ext cx="914400" cy="3753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3200400" y="2746440"/>
            <a:ext cx="914400" cy="2718360"/>
          </a:xfrm>
          <a:prstGeom prst="ellipse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905120" y="3048120"/>
            <a:ext cx="1600200" cy="30456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828800" y="3809880"/>
            <a:ext cx="1676520" cy="3049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1905120" y="4495680"/>
            <a:ext cx="1523880" cy="3049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Line 14"/>
          <p:cNvSpPr/>
          <p:nvPr/>
        </p:nvSpPr>
        <p:spPr>
          <a:xfrm flipV="1">
            <a:off x="1905120" y="4267080"/>
            <a:ext cx="1600200" cy="9907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5486400" y="1371600"/>
            <a:ext cx="2362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267080" y="5791320"/>
            <a:ext cx="41911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, 5), (2, 6), (3, 7), (4, 6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23:15:17Z</dcterms:created>
  <dc:creator>GMHS</dc:creator>
  <dc:description/>
  <dc:language>en-US</dc:language>
  <cp:lastModifiedBy>Noreen Elliott</cp:lastModifiedBy>
  <dcterms:modified xsi:type="dcterms:W3CDTF">2013-07-31T21:49:09Z</dcterms:modified>
  <cp:revision>34</cp:revision>
  <dc:subject/>
  <dc:title>PowerPoint Presentation</dc:title>
</cp:coreProperties>
</file>