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B8B-DF52-40E6-8D18-0165800B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883-790B-42AA-A401-198E34A4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E41-B0CC-40B8-A9B6-AB6CB7F9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5F1-AB9C-49F2-B271-D4BFDB03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9676-EEAB-4593-82E9-F0DEB8F9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5D7D-5D81-4D9F-BE36-41679415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4556-DB43-457C-B9A0-9A250A7C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7D66-840F-4CFB-B2DD-B90FAF46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251F-71C7-4F34-830F-7A03EC2E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A628-DF86-452C-AE51-183FDD88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94ED-D987-4108-B5CF-E2567A64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902-DF11-4189-B070-BE1A5891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876F-5C7C-48DD-86DB-B89AFA68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4BB6-433C-4C88-BB3A-7FC5B244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A31A-2286-4C0A-97C0-92EC0A48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0C2D-1ED2-4531-8F55-54107AE6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92B4-5A00-451F-A344-5D111173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865-A95C-4CBF-ABDE-7B40FB28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E79-1876-41D1-93B3-7B2271C7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55D-919C-44A1-89CC-5D612391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EBB-5229-4CCF-B815-894848EC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020-954D-4EFD-9650-088C1C2A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7703-36BD-4688-AF4C-F1EEAE10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57A-E0BA-4E75-A068-EDEECA23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" name="Group 6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Line 69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" name="Line 70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" name="Line 71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" name="Line 72"/>
            <p:cNvSpPr/>
            <p:nvPr/>
          </p:nvSpPr>
          <p:spPr>
            <a:xfrm>
              <a:off x="0" y="1219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" name="Line 73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" name="Line 74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" name="Line 75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" name="Line 76"/>
            <p:cNvSpPr/>
            <p:nvPr/>
          </p:nvSpPr>
          <p:spPr>
            <a:xfrm>
              <a:off x="0" y="24382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" name="Line 77"/>
            <p:cNvSpPr/>
            <p:nvPr/>
          </p:nvSpPr>
          <p:spPr>
            <a:xfrm>
              <a:off x="0" y="27432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" name="Line 78"/>
            <p:cNvSpPr/>
            <p:nvPr/>
          </p:nvSpPr>
          <p:spPr>
            <a:xfrm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" name="Line 79"/>
            <p:cNvSpPr/>
            <p:nvPr/>
          </p:nvSpPr>
          <p:spPr>
            <a:xfrm>
              <a:off x="0" y="33526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" name="Line 80"/>
            <p:cNvSpPr/>
            <p:nvPr/>
          </p:nvSpPr>
          <p:spPr>
            <a:xfrm>
              <a:off x="0" y="36576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" name="Line 81"/>
            <p:cNvSpPr/>
            <p:nvPr/>
          </p:nvSpPr>
          <p:spPr>
            <a:xfrm>
              <a:off x="0" y="39625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" name="Line 82"/>
            <p:cNvSpPr/>
            <p:nvPr/>
          </p:nvSpPr>
          <p:spPr>
            <a:xfrm>
              <a:off x="0" y="42670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" name="Line 83"/>
            <p:cNvSpPr/>
            <p:nvPr/>
          </p:nvSpPr>
          <p:spPr>
            <a:xfrm>
              <a:off x="0" y="45720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" name="Line 84"/>
            <p:cNvSpPr/>
            <p:nvPr/>
          </p:nvSpPr>
          <p:spPr>
            <a:xfrm>
              <a:off x="0" y="4876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" name="Line 85"/>
            <p:cNvSpPr/>
            <p:nvPr/>
          </p:nvSpPr>
          <p:spPr>
            <a:xfrm>
              <a:off x="0" y="5181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" name="Line 86"/>
            <p:cNvSpPr/>
            <p:nvPr/>
          </p:nvSpPr>
          <p:spPr>
            <a:xfrm>
              <a:off x="0" y="5486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" name="Line 87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" name="Line 88"/>
            <p:cNvSpPr/>
            <p:nvPr/>
          </p:nvSpPr>
          <p:spPr>
            <a:xfrm>
              <a:off x="0" y="6095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" name="Line 89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" name="Line 90"/>
            <p:cNvSpPr/>
            <p:nvPr/>
          </p:nvSpPr>
          <p:spPr>
            <a:xfrm>
              <a:off x="0" y="6705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" name="Line 91"/>
            <p:cNvSpPr/>
            <p:nvPr/>
          </p:nvSpPr>
          <p:spPr>
            <a:xfrm>
              <a:off x="304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" name="Line 92"/>
            <p:cNvSpPr/>
            <p:nvPr/>
          </p:nvSpPr>
          <p:spPr>
            <a:xfrm>
              <a:off x="609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" name="Line 93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" name="Line 94"/>
            <p:cNvSpPr/>
            <p:nvPr/>
          </p:nvSpPr>
          <p:spPr>
            <a:xfrm>
              <a:off x="1219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" name="Line 95"/>
            <p:cNvSpPr/>
            <p:nvPr/>
          </p:nvSpPr>
          <p:spPr>
            <a:xfrm>
              <a:off x="1523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" name="Line 96"/>
            <p:cNvSpPr/>
            <p:nvPr/>
          </p:nvSpPr>
          <p:spPr>
            <a:xfrm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" name="Line 97"/>
            <p:cNvSpPr/>
            <p:nvPr/>
          </p:nvSpPr>
          <p:spPr>
            <a:xfrm>
              <a:off x="2133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" name="Line 98"/>
            <p:cNvSpPr/>
            <p:nvPr/>
          </p:nvSpPr>
          <p:spPr>
            <a:xfrm>
              <a:off x="2438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" name="Line 99"/>
            <p:cNvSpPr/>
            <p:nvPr/>
          </p:nvSpPr>
          <p:spPr>
            <a:xfrm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" name="Line 100"/>
            <p:cNvSpPr/>
            <p:nvPr/>
          </p:nvSpPr>
          <p:spPr>
            <a:xfrm>
              <a:off x="3048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" name="Line 101"/>
            <p:cNvSpPr/>
            <p:nvPr/>
          </p:nvSpPr>
          <p:spPr>
            <a:xfrm>
              <a:off x="3352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" name="Line 102"/>
            <p:cNvSpPr/>
            <p:nvPr/>
          </p:nvSpPr>
          <p:spPr>
            <a:xfrm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" name="Line 103"/>
            <p:cNvSpPr/>
            <p:nvPr/>
          </p:nvSpPr>
          <p:spPr>
            <a:xfrm>
              <a:off x="3962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" name="Line 104"/>
            <p:cNvSpPr/>
            <p:nvPr/>
          </p:nvSpPr>
          <p:spPr>
            <a:xfrm>
              <a:off x="4267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" name="Line 105"/>
            <p:cNvSpPr/>
            <p:nvPr/>
          </p:nvSpPr>
          <p:spPr>
            <a:xfrm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" name="Line 106"/>
            <p:cNvSpPr/>
            <p:nvPr/>
          </p:nvSpPr>
          <p:spPr>
            <a:xfrm>
              <a:off x="4876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" name="Line 107"/>
            <p:cNvSpPr/>
            <p:nvPr/>
          </p:nvSpPr>
          <p:spPr>
            <a:xfrm>
              <a:off x="5181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" name="Line 108"/>
            <p:cNvSpPr/>
            <p:nvPr/>
          </p:nvSpPr>
          <p:spPr>
            <a:xfrm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" name="Line 109"/>
            <p:cNvSpPr/>
            <p:nvPr/>
          </p:nvSpPr>
          <p:spPr>
            <a:xfrm>
              <a:off x="5791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" name="Line 110"/>
            <p:cNvSpPr/>
            <p:nvPr/>
          </p:nvSpPr>
          <p:spPr>
            <a:xfrm>
              <a:off x="6095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" name="Line 111"/>
            <p:cNvSpPr/>
            <p:nvPr/>
          </p:nvSpPr>
          <p:spPr>
            <a:xfrm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" name="Line 112"/>
            <p:cNvSpPr/>
            <p:nvPr/>
          </p:nvSpPr>
          <p:spPr>
            <a:xfrm>
              <a:off x="6705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" name="Line 113"/>
            <p:cNvSpPr/>
            <p:nvPr/>
          </p:nvSpPr>
          <p:spPr>
            <a:xfrm>
              <a:off x="7010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" name="Line 114"/>
            <p:cNvSpPr/>
            <p:nvPr/>
          </p:nvSpPr>
          <p:spPr>
            <a:xfrm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" name="Line 115"/>
            <p:cNvSpPr/>
            <p:nvPr/>
          </p:nvSpPr>
          <p:spPr>
            <a:xfrm>
              <a:off x="7620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" name="Line 116"/>
            <p:cNvSpPr/>
            <p:nvPr/>
          </p:nvSpPr>
          <p:spPr>
            <a:xfrm>
              <a:off x="7924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" name="Line 117"/>
            <p:cNvSpPr/>
            <p:nvPr/>
          </p:nvSpPr>
          <p:spPr>
            <a:xfrm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" name="Line 118"/>
            <p:cNvSpPr/>
            <p:nvPr/>
          </p:nvSpPr>
          <p:spPr>
            <a:xfrm>
              <a:off x="8534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" name="Line 119"/>
            <p:cNvSpPr/>
            <p:nvPr/>
          </p:nvSpPr>
          <p:spPr>
            <a:xfrm>
              <a:off x="8839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94EE-2234-4DA6-92F2-5B1DDBC7F7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Line 6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5" name="Line 7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" name="Line 9"/>
            <p:cNvSpPr/>
            <p:nvPr/>
          </p:nvSpPr>
          <p:spPr>
            <a:xfrm>
              <a:off x="0" y="1219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8" name="Line 10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9" name="Line 11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1" name="Line 13"/>
            <p:cNvSpPr/>
            <p:nvPr/>
          </p:nvSpPr>
          <p:spPr>
            <a:xfrm>
              <a:off x="0" y="24382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2" name="Line 14"/>
            <p:cNvSpPr/>
            <p:nvPr/>
          </p:nvSpPr>
          <p:spPr>
            <a:xfrm>
              <a:off x="0" y="27432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3" name="Line 15"/>
            <p:cNvSpPr/>
            <p:nvPr/>
          </p:nvSpPr>
          <p:spPr>
            <a:xfrm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4" name="Line 16"/>
            <p:cNvSpPr/>
            <p:nvPr/>
          </p:nvSpPr>
          <p:spPr>
            <a:xfrm>
              <a:off x="0" y="33526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0" y="36576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0" y="39625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0" y="42670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>
              <a:off x="0" y="45720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>
              <a:off x="0" y="4876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>
              <a:off x="0" y="5181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>
              <a:off x="0" y="5486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0" y="6095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4" name="Line 26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5" name="Line 27"/>
            <p:cNvSpPr/>
            <p:nvPr/>
          </p:nvSpPr>
          <p:spPr>
            <a:xfrm>
              <a:off x="0" y="6705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6" name="Line 28"/>
            <p:cNvSpPr/>
            <p:nvPr/>
          </p:nvSpPr>
          <p:spPr>
            <a:xfrm>
              <a:off x="304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7" name="Line 29"/>
            <p:cNvSpPr/>
            <p:nvPr/>
          </p:nvSpPr>
          <p:spPr>
            <a:xfrm>
              <a:off x="609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" name="Line 30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9" name="Line 31"/>
            <p:cNvSpPr/>
            <p:nvPr/>
          </p:nvSpPr>
          <p:spPr>
            <a:xfrm>
              <a:off x="1219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0" name="Line 32"/>
            <p:cNvSpPr/>
            <p:nvPr/>
          </p:nvSpPr>
          <p:spPr>
            <a:xfrm>
              <a:off x="1523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1" name="Line 33"/>
            <p:cNvSpPr/>
            <p:nvPr/>
          </p:nvSpPr>
          <p:spPr>
            <a:xfrm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>
              <a:off x="2133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>
              <a:off x="2438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" name="Line 37"/>
            <p:cNvSpPr/>
            <p:nvPr/>
          </p:nvSpPr>
          <p:spPr>
            <a:xfrm>
              <a:off x="3048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" name="Line 38"/>
            <p:cNvSpPr/>
            <p:nvPr/>
          </p:nvSpPr>
          <p:spPr>
            <a:xfrm>
              <a:off x="3352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" name="Line 39"/>
            <p:cNvSpPr/>
            <p:nvPr/>
          </p:nvSpPr>
          <p:spPr>
            <a:xfrm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" name="Line 40"/>
            <p:cNvSpPr/>
            <p:nvPr/>
          </p:nvSpPr>
          <p:spPr>
            <a:xfrm>
              <a:off x="3962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" name="Line 41"/>
            <p:cNvSpPr/>
            <p:nvPr/>
          </p:nvSpPr>
          <p:spPr>
            <a:xfrm>
              <a:off x="4267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" name="Line 43"/>
            <p:cNvSpPr/>
            <p:nvPr/>
          </p:nvSpPr>
          <p:spPr>
            <a:xfrm>
              <a:off x="4876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2" name="Line 44"/>
            <p:cNvSpPr/>
            <p:nvPr/>
          </p:nvSpPr>
          <p:spPr>
            <a:xfrm>
              <a:off x="5181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3" name="Line 45"/>
            <p:cNvSpPr/>
            <p:nvPr/>
          </p:nvSpPr>
          <p:spPr>
            <a:xfrm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" name="Line 46"/>
            <p:cNvSpPr/>
            <p:nvPr/>
          </p:nvSpPr>
          <p:spPr>
            <a:xfrm>
              <a:off x="5791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" name="Line 47"/>
            <p:cNvSpPr/>
            <p:nvPr/>
          </p:nvSpPr>
          <p:spPr>
            <a:xfrm>
              <a:off x="6095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" name="Line 48"/>
            <p:cNvSpPr/>
            <p:nvPr/>
          </p:nvSpPr>
          <p:spPr>
            <a:xfrm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" name="Line 49"/>
            <p:cNvSpPr/>
            <p:nvPr/>
          </p:nvSpPr>
          <p:spPr>
            <a:xfrm>
              <a:off x="6705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" name="Line 50"/>
            <p:cNvSpPr/>
            <p:nvPr/>
          </p:nvSpPr>
          <p:spPr>
            <a:xfrm>
              <a:off x="7010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" name="Line 51"/>
            <p:cNvSpPr/>
            <p:nvPr/>
          </p:nvSpPr>
          <p:spPr>
            <a:xfrm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" name="Line 52"/>
            <p:cNvSpPr/>
            <p:nvPr/>
          </p:nvSpPr>
          <p:spPr>
            <a:xfrm>
              <a:off x="7620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" name="Line 53"/>
            <p:cNvSpPr/>
            <p:nvPr/>
          </p:nvSpPr>
          <p:spPr>
            <a:xfrm>
              <a:off x="7924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" name="Line 54"/>
            <p:cNvSpPr/>
            <p:nvPr/>
          </p:nvSpPr>
          <p:spPr>
            <a:xfrm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" name="Line 55"/>
            <p:cNvSpPr/>
            <p:nvPr/>
          </p:nvSpPr>
          <p:spPr>
            <a:xfrm>
              <a:off x="8534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" name="Line 56"/>
            <p:cNvSpPr/>
            <p:nvPr/>
          </p:nvSpPr>
          <p:spPr>
            <a:xfrm>
              <a:off x="8839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BB5A-1732-4E20-AA88-3D0DC90BCE4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1143000" y="152388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3d"/>
                  </a:outerShdw>
                </a:effectLst>
                <a:latin typeface="Akbar"/>
              </a:rPr>
              <a:t>Functions and relations 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3d"/>
                </a:outerShdw>
              </a:effectLst>
              <a:latin typeface="Akbar"/>
              <a:ea typeface="Akb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3d"/>
                  </a:outerShdw>
                </a:effectLst>
                <a:latin typeface="Akbar"/>
              </a:rPr>
              <a:t>Chapter 5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3d"/>
                </a:outerShdw>
              </a:effectLst>
              <a:latin typeface="Akbar"/>
              <a:ea typeface="Akbar"/>
            </a:endParaRPr>
          </a:p>
        </p:txBody>
      </p:sp>
      <p:pic>
        <p:nvPicPr>
          <p:cNvPr id="187" name="Picture 4" descr="http://www.ltcconline.net/greenl/courses/154/systfunc/functn6.gif"/>
          <p:cNvPicPr/>
          <p:nvPr/>
        </p:nvPicPr>
        <p:blipFill>
          <a:blip r:embed="rId1"/>
          <a:stretch/>
        </p:blipFill>
        <p:spPr>
          <a:xfrm rot="20835000">
            <a:off x="528120" y="3851280"/>
            <a:ext cx="2705400" cy="2324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img.sparknotes.com/figures/4/4d7924c96427a340a0f1be4c7e650f7c/rel2.gif"/>
          <p:cNvPicPr/>
          <p:nvPr/>
        </p:nvPicPr>
        <p:blipFill>
          <a:blip r:embed="rId2"/>
          <a:stretch/>
        </p:blipFill>
        <p:spPr>
          <a:xfrm rot="725400">
            <a:off x="6705360" y="3276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609480" y="380880"/>
            <a:ext cx="8001000" cy="4572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 these relations or function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523880" y="213372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429000" y="213372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640480" y="2666880"/>
            <a:ext cx="1730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  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6553080" y="27432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601992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1295280" y="2743200"/>
            <a:ext cx="914400" cy="271836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3200400" y="2743200"/>
            <a:ext cx="914400" cy="2718360"/>
          </a:xfrm>
          <a:prstGeom prst="ellipse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905120" y="3276720"/>
            <a:ext cx="1676160" cy="7596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Line 11"/>
          <p:cNvSpPr/>
          <p:nvPr/>
        </p:nvSpPr>
        <p:spPr>
          <a:xfrm flipV="1">
            <a:off x="1905120" y="4114440"/>
            <a:ext cx="1523880" cy="7621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Line 12"/>
          <p:cNvSpPr/>
          <p:nvPr/>
        </p:nvSpPr>
        <p:spPr>
          <a:xfrm>
            <a:off x="1905120" y="3276720"/>
            <a:ext cx="1523880" cy="6858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1905120" y="3276720"/>
            <a:ext cx="1600200" cy="1600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5029200" y="1539720"/>
            <a:ext cx="30481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 Function but 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1523880" y="175248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429000" y="175248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5736240" y="2666880"/>
            <a:ext cx="171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  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6553080" y="27432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601992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1295280" y="2397240"/>
            <a:ext cx="914400" cy="323604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3200400" y="2320920"/>
            <a:ext cx="914400" cy="3753000"/>
          </a:xfrm>
          <a:prstGeom prst="ellipse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Line 10"/>
          <p:cNvSpPr/>
          <p:nvPr/>
        </p:nvSpPr>
        <p:spPr>
          <a:xfrm flipV="1">
            <a:off x="1905120" y="3047760"/>
            <a:ext cx="1523880" cy="15228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Line 11"/>
          <p:cNvSpPr/>
          <p:nvPr/>
        </p:nvSpPr>
        <p:spPr>
          <a:xfrm flipV="1">
            <a:off x="1981080" y="3809880"/>
            <a:ext cx="1447920" cy="15264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Line 12"/>
          <p:cNvSpPr/>
          <p:nvPr/>
        </p:nvSpPr>
        <p:spPr>
          <a:xfrm flipV="1">
            <a:off x="1905120" y="4495680"/>
            <a:ext cx="1523880" cy="763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1981080" y="3962520"/>
            <a:ext cx="1524240" cy="11430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5410080" y="1752480"/>
            <a:ext cx="23623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 func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609480" y="304920"/>
            <a:ext cx="8001000" cy="4572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 these relations or function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1447920" y="3124080"/>
            <a:ext cx="104436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 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   -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  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   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  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1968480" y="3200400"/>
            <a:ext cx="1440" cy="207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384200" y="3552840"/>
            <a:ext cx="11430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1371600" y="838080"/>
            <a:ext cx="4343400" cy="82548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 the number and add 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1066680" y="1523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 an equati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word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1371600" y="1981080"/>
            <a:ext cx="19051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= 2x + 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1066680" y="26668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 a table of valu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1066680" y="54100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 a set of ordered pair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1447920" y="5867280"/>
            <a:ext cx="64008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-2, -1)  (-1,1)  (0,3)  (1, 5)  (2, 7) (3, 9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876920" y="2057400"/>
            <a:ext cx="3733560" cy="2057400"/>
          </a:xfrm>
          <a:prstGeom prst="leftArrowCallout">
            <a:avLst>
              <a:gd name="adj1" fmla="val 25002"/>
              <a:gd name="adj2" fmla="val 25000"/>
              <a:gd name="adj3" fmla="val 30245"/>
              <a:gd name="adj4" fmla="val 66673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These all represent the SAME function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0"/>
          <p:cNvSpPr/>
          <p:nvPr/>
        </p:nvSpPr>
        <p:spPr>
          <a:xfrm>
            <a:off x="457200" y="682560"/>
            <a:ext cx="8229600" cy="119124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rtical Line Test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ertical 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ou can draw goes through only 1 point then the relation is a func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4" descr="http://www.algebra-class.com/image-files/vertical-line-answer-1.gif"/>
          <p:cNvPicPr/>
          <p:nvPr/>
        </p:nvPicPr>
        <p:blipFill>
          <a:blip r:embed="rId1"/>
          <a:stretch/>
        </p:blipFill>
        <p:spPr>
          <a:xfrm>
            <a:off x="685800" y="1828800"/>
            <a:ext cx="2743200" cy="2755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vertical line test practice 2"/>
          <p:cNvPicPr/>
          <p:nvPr/>
        </p:nvPicPr>
        <p:blipFill>
          <a:blip r:embed="rId2"/>
          <a:stretch/>
        </p:blipFill>
        <p:spPr>
          <a:xfrm>
            <a:off x="4732200" y="1828800"/>
            <a:ext cx="28591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228600" y="1752480"/>
            <a:ext cx="8763120" cy="152424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omai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a set of first elements in a relation (al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 the x values). These are also called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independent varia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98400" y="3429000"/>
            <a:ext cx="767088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The second elements in a 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all of the y values). These are also call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dependen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5"/>
          <p:cNvSpPr/>
          <p:nvPr/>
        </p:nvSpPr>
        <p:spPr>
          <a:xfrm>
            <a:off x="2833920" y="2239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532400" y="2239920"/>
            <a:ext cx="5266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275880" y="2239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Tahoma"/>
              </a:rPr>
              <a:t>How would you use your calculator to solve 5</a:t>
            </a:r>
            <a:r>
              <a:rPr b="1" lang="en-CA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CA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3428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he number you entered is the </a:t>
            </a:r>
            <a:r>
              <a:rPr b="1" i="1" lang="en-CA" sz="3200" spc="-1" strike="noStrike">
                <a:solidFill>
                  <a:srgbClr val="000000"/>
                </a:solidFill>
                <a:latin typeface="Tahoma"/>
              </a:rPr>
              <a:t>input number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(or x-value on a graph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he result is the </a:t>
            </a:r>
            <a:r>
              <a:rPr b="1" i="1" lang="en-CA" sz="3200" spc="-1" strike="noStrike">
                <a:solidFill>
                  <a:srgbClr val="000000"/>
                </a:solidFill>
                <a:latin typeface="Tahoma"/>
              </a:rPr>
              <a:t>output number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(or y-value on a graph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2286000" y="1604880"/>
            <a:ext cx="1600200" cy="685800"/>
          </a:xfrm>
          <a:prstGeom prst="downArrowCallout">
            <a:avLst>
              <a:gd name="adj1" fmla="val 58339"/>
              <a:gd name="adj2" fmla="val 58333"/>
              <a:gd name="adj3" fmla="val 16667"/>
              <a:gd name="adj4" fmla="val 66667"/>
            </a:avLst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5791320" y="1604880"/>
            <a:ext cx="1600200" cy="685800"/>
          </a:xfrm>
          <a:prstGeom prst="downArrowCallout">
            <a:avLst>
              <a:gd name="adj1" fmla="val 58339"/>
              <a:gd name="adj2" fmla="val 58333"/>
              <a:gd name="adj3" fmla="val 16667"/>
              <a:gd name="adj4" fmla="val 66667"/>
            </a:avLst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609480" y="228600"/>
            <a:ext cx="8153640" cy="121932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a relation that gives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ingl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number for every valid input numb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x values cannot be repeate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09480" y="2971800"/>
            <a:ext cx="8153640" cy="45972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re are many ways to represent relation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609480" y="1600200"/>
            <a:ext cx="815364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s a rule that produces one or mo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put numbers for every valid input numb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x and y values may be repeate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5181480" y="3657600"/>
            <a:ext cx="3657600" cy="1523880"/>
          </a:xfrm>
          <a:prstGeom prst="wedgeRoundRectCallout">
            <a:avLst>
              <a:gd name="adj1" fmla="val -83375"/>
              <a:gd name="adj2" fmla="val 19064"/>
              <a:gd name="adj3" fmla="val 16667"/>
            </a:avLst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are all ways of showing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ip between two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3428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able of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A set of ordered pai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Map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533520" y="380880"/>
            <a:ext cx="8305560" cy="41148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 values are always locat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 the right and y values a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 the lef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y can be represented 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ds, symbols or numb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990720" y="4800600"/>
            <a:ext cx="6858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represents a function as every input value (x) has only been used onc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671400" y="855720"/>
            <a:ext cx="3124440" cy="2894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  <p:pic>
        <p:nvPicPr>
          <p:cNvPr id="208" name="Picture 9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4572000" cy="9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533520" y="380880"/>
            <a:ext cx="8305560" cy="464832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s a rule that produces one or mo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put numbers for every valid input numb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x and y values may be repeate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represents only a 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cause the input value o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-value of 2 was used twic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refore this relation is not 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371600" y="5181480"/>
            <a:ext cx="6629400" cy="10688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l functions are relations but not all relations are functions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1" name="Picture 15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124080" cy="2743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  <p:pic>
        <p:nvPicPr>
          <p:cNvPr id="212" name="Picture 16" descr=""/>
          <p:cNvPicPr/>
          <p:nvPr/>
        </p:nvPicPr>
        <p:blipFill>
          <a:blip r:embed="rId2"/>
          <a:stretch/>
        </p:blipFill>
        <p:spPr>
          <a:xfrm>
            <a:off x="4343400" y="4092480"/>
            <a:ext cx="3124080" cy="78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477720"/>
            <a:ext cx="5562720" cy="622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  <p:sp>
        <p:nvSpPr>
          <p:cNvPr id="214" name="Text Box 3"/>
          <p:cNvSpPr/>
          <p:nvPr/>
        </p:nvSpPr>
        <p:spPr>
          <a:xfrm>
            <a:off x="5573880" y="800280"/>
            <a:ext cx="3429000" cy="558036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8160" y="0"/>
            <a:ext cx="5329080" cy="5562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  <p:sp>
        <p:nvSpPr>
          <p:cNvPr id="216" name="Text Box 8"/>
          <p:cNvSpPr/>
          <p:nvPr/>
        </p:nvSpPr>
        <p:spPr>
          <a:xfrm>
            <a:off x="5400720" y="380880"/>
            <a:ext cx="3657600" cy="54558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457200" y="152280"/>
            <a:ext cx="80010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lations and functions can be shown man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fferent way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 these relations or function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523880" y="175248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429000" y="175248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5647320" y="2666880"/>
            <a:ext cx="1716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  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6553080" y="2743200"/>
            <a:ext cx="0" cy="23623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019920" y="3124080"/>
            <a:ext cx="1143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1295280" y="2320920"/>
            <a:ext cx="914400" cy="3753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3200400" y="2746440"/>
            <a:ext cx="914400" cy="2718360"/>
          </a:xfrm>
          <a:prstGeom prst="ellipse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905120" y="3048120"/>
            <a:ext cx="1600200" cy="30456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828800" y="3809880"/>
            <a:ext cx="1676520" cy="3049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1905120" y="4495680"/>
            <a:ext cx="1523880" cy="3049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Line 14"/>
          <p:cNvSpPr/>
          <p:nvPr/>
        </p:nvSpPr>
        <p:spPr>
          <a:xfrm flipV="1">
            <a:off x="1905120" y="4267080"/>
            <a:ext cx="1600200" cy="9907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5486400" y="1371600"/>
            <a:ext cx="23623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267080" y="5791320"/>
            <a:ext cx="41911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, 5), (2, 6), (3, 7), (4, 6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7T23:15:17Z</dcterms:created>
  <dc:creator>GMHS</dc:creator>
  <dc:description/>
  <dc:language>en-US</dc:language>
  <cp:lastModifiedBy>Noreen Elliott</cp:lastModifiedBy>
  <dcterms:modified xsi:type="dcterms:W3CDTF">2013-07-31T21:49:09Z</dcterms:modified>
  <cp:revision>34</cp:revision>
  <dc:subject/>
  <dc:title>PowerPoint Presentation</dc:title>
</cp:coreProperties>
</file>