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04E-AFBB-47B1-82FB-D7FC01AE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555-0424-474F-9095-40AE53F7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E42-7C84-49D7-9992-15C5665D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AFD-31D4-44F7-B519-0DB817D5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1328-42E0-4D56-9D4D-24941963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70E4-AD23-4D62-86B1-067A8C6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495-4258-4EFA-A864-186FD04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1356-AB46-419F-9C3E-337D756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A03A-E808-4C84-B8A3-DADC9AB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9B99-E795-4EA9-B859-25616A9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18A0-DFC4-432A-B88B-EECB415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81E-D693-43F1-B99C-0D3BA941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207D-6200-4107-9C7F-9F38D3D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9DD1-E14C-4515-AF88-E63AA28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3B06-9682-47AF-B99D-6C41558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96AF-CC9E-4663-87A1-4F3CFEBE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D7D6-F6EC-41BC-AC0B-031EA189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B67-BE8D-4D1C-AA58-3AAB239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A4B-A55B-483E-8D69-F6AE89B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472-688D-401E-B0EF-E789477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0A4-FB8E-482D-88AC-5C9BECC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2D3-2BAB-452E-B4CD-D3CD6D3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BEC-CF8B-4EB1-A93F-F5119C5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751-414C-4770-8A53-791EF3E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6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Line 69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7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71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Line 72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" name="Line 73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" name="Line 74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" name="Line 75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" name="Line 76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" name="Line 77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" name="Line 78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" name="Line 79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" name="Line 80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" name="Line 81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" name="Line 82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" name="Line 83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" name="Line 84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" name="Line 8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" name="Line 86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" name="Line 87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" name="Line 88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" name="Line 89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" name="Line 90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" name="Line 91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" name="Line 92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" name="Line 9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" name="Line 94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" name="Line 95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" name="Line 96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" name="Line 97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" name="Line 98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" name="Line 99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" name="Line 100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" name="Line 101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" name="Line 102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" name="Line 10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" name="Line 104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" name="Line 105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" name="Line 106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" name="Line 107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" name="Line 10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" name="Line 109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" name="Line 110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" name="Line 111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" name="Line 112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" name="Line 11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" name="Line 114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115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116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117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Line 118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" name="Line 119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86C6-6445-45EA-B75B-350448320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Line 6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" name="Line 45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" name="Line 52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0274-85FE-4BAD-A52B-EDA8CAE5F3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143000" y="152388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Functions and relations 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Chapter 5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</p:txBody>
      </p:sp>
      <p:pic>
        <p:nvPicPr>
          <p:cNvPr id="187" name="Picture 4" descr="http://www.ltcconline.net/greenl/courses/154/systfunc/functn6.gif"/>
          <p:cNvPicPr/>
          <p:nvPr/>
        </p:nvPicPr>
        <p:blipFill>
          <a:blip r:embed="rId1"/>
          <a:stretch/>
        </p:blipFill>
        <p:spPr>
          <a:xfrm rot="20835000">
            <a:off x="528120" y="3851280"/>
            <a:ext cx="2705400" cy="232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g.sparknotes.com/figures/4/4d7924c96427a340a0f1be4c7e650f7c/rel2.gif"/>
          <p:cNvPicPr/>
          <p:nvPr/>
        </p:nvPicPr>
        <p:blipFill>
          <a:blip r:embed="rId2"/>
          <a:stretch/>
        </p:blipFill>
        <p:spPr>
          <a:xfrm rot="725400">
            <a:off x="670536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38088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40480" y="2666880"/>
            <a:ext cx="173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295280" y="2743200"/>
            <a:ext cx="914400" cy="27183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00400" y="274320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905120" y="3276720"/>
            <a:ext cx="1676160" cy="759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"/>
          <p:cNvSpPr/>
          <p:nvPr/>
        </p:nvSpPr>
        <p:spPr>
          <a:xfrm flipV="1">
            <a:off x="1905120" y="4114440"/>
            <a:ext cx="1523880" cy="76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1905120" y="3276720"/>
            <a:ext cx="1523880" cy="685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1905120" y="3276720"/>
            <a:ext cx="1600200" cy="1600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029200" y="1539720"/>
            <a:ext cx="3048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 bu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736240" y="2666880"/>
            <a:ext cx="171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295280" y="2397240"/>
            <a:ext cx="914400" cy="323604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200400" y="2320920"/>
            <a:ext cx="914400" cy="375300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Line 10"/>
          <p:cNvSpPr/>
          <p:nvPr/>
        </p:nvSpPr>
        <p:spPr>
          <a:xfrm flipV="1">
            <a:off x="1905120" y="3047760"/>
            <a:ext cx="1523880" cy="1522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1981080" y="3809880"/>
            <a:ext cx="1447920" cy="15264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905120" y="4495680"/>
            <a:ext cx="1523880" cy="763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1981080" y="3962520"/>
            <a:ext cx="1524240" cy="11430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410080" y="1752480"/>
            <a:ext cx="2362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09480" y="30492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447920" y="3124080"/>
            <a:ext cx="10443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  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 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 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 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968480" y="3200400"/>
            <a:ext cx="144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84200" y="355284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371600" y="838080"/>
            <a:ext cx="4343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the number and add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066680" y="1523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n equati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word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371600" y="1981080"/>
            <a:ext cx="1905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2x +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066680" y="26668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table of valu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066680" y="5410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set of ordered pair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447920" y="5867280"/>
            <a:ext cx="6400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2, -1)  (-1,1)  (0,3)  (1, 5)  (2, 7) (3, 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876920" y="2057400"/>
            <a:ext cx="3733560" cy="2057400"/>
          </a:xfrm>
          <a:prstGeom prst="leftArrowCallout">
            <a:avLst>
              <a:gd name="adj1" fmla="val 25002"/>
              <a:gd name="adj2" fmla="val 25000"/>
              <a:gd name="adj3" fmla="val 30245"/>
              <a:gd name="adj4" fmla="val 66673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se all represent the SAME function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0"/>
          <p:cNvSpPr/>
          <p:nvPr/>
        </p:nvSpPr>
        <p:spPr>
          <a:xfrm>
            <a:off x="457200" y="682560"/>
            <a:ext cx="822960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Line Tes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 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 can draw goes through only 1 point then the relation is a 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http://www.algebra-class.com/image-files/vertical-line-answer-1.gif"/>
          <p:cNvPicPr/>
          <p:nvPr/>
        </p:nvPicPr>
        <p:blipFill>
          <a:blip r:embed="rId1"/>
          <a:stretch/>
        </p:blipFill>
        <p:spPr>
          <a:xfrm>
            <a:off x="685800" y="18288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vertical line test practice 2"/>
          <p:cNvPicPr/>
          <p:nvPr/>
        </p:nvPicPr>
        <p:blipFill>
          <a:blip r:embed="rId2"/>
          <a:stretch/>
        </p:blipFill>
        <p:spPr>
          <a:xfrm>
            <a:off x="4732200" y="182880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752480"/>
            <a:ext cx="8763120" cy="15242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a set of first elements in a relation (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the x values). These are also call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independent vari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8400" y="3429000"/>
            <a:ext cx="76708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The second elements in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all of the y values). These are also call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penden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283392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32400" y="2239920"/>
            <a:ext cx="52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75880" y="223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How would you use your calculator to solve 5</a:t>
            </a:r>
            <a:r>
              <a:rPr b="1" lang="en-CA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number you entered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in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x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result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out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y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228600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579132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609480" y="228600"/>
            <a:ext cx="8153640" cy="1219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 relation that give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ing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umber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values cannot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09480" y="2971800"/>
            <a:ext cx="8153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 are many ways to represent relation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9480" y="1600200"/>
            <a:ext cx="815364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81480" y="3657600"/>
            <a:ext cx="3657600" cy="1523880"/>
          </a:xfrm>
          <a:prstGeom prst="wedgeRoundRectCallout">
            <a:avLst>
              <a:gd name="adj1" fmla="val -83375"/>
              <a:gd name="adj2" fmla="val 19064"/>
              <a:gd name="adj3" fmla="val 16667"/>
            </a:avLst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all ways of show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p between two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able of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 set of ordered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3520" y="380880"/>
            <a:ext cx="8305560" cy="4114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values are always loc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right and y values a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lef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y can be represented 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s, symbols or numb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90720" y="4800600"/>
            <a:ext cx="685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a function as every input value (x) has only been used on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71400" y="855720"/>
            <a:ext cx="3124440" cy="289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33520" y="380880"/>
            <a:ext cx="8305560" cy="4648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only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use the input value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value of 2 was used twi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fore this relation is no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371600" y="5181480"/>
            <a:ext cx="66294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l functions are relations but not all relations are function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12408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4343400" y="4092480"/>
            <a:ext cx="3124080" cy="7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477720"/>
            <a:ext cx="5562720" cy="622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4" name="Text Box 3"/>
          <p:cNvSpPr/>
          <p:nvPr/>
        </p:nvSpPr>
        <p:spPr>
          <a:xfrm>
            <a:off x="5573880" y="800280"/>
            <a:ext cx="3429000" cy="55803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8160" y="0"/>
            <a:ext cx="5329080" cy="556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6" name="Text Box 8"/>
          <p:cNvSpPr/>
          <p:nvPr/>
        </p:nvSpPr>
        <p:spPr>
          <a:xfrm>
            <a:off x="5400720" y="380880"/>
            <a:ext cx="3657600" cy="54558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57200" y="152280"/>
            <a:ext cx="80010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ons and functions can be shown ma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 way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647320" y="2666880"/>
            <a:ext cx="171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295280" y="2320920"/>
            <a:ext cx="914400" cy="3753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0400" y="274644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905120" y="3048120"/>
            <a:ext cx="1600200" cy="3045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828800" y="3809880"/>
            <a:ext cx="167652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905120" y="4495680"/>
            <a:ext cx="152388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 flipV="1">
            <a:off x="1905120" y="4267080"/>
            <a:ext cx="1600200" cy="9907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5486400" y="1371600"/>
            <a:ext cx="2362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267080" y="5791320"/>
            <a:ext cx="4191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, 5), (2, 6), (3, 7), (4, 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3:15:17Z</dcterms:created>
  <dc:creator>GMHS</dc:creator>
  <dc:description/>
  <dc:language>en-US</dc:language>
  <cp:lastModifiedBy>Noreen Elliott</cp:lastModifiedBy>
  <dcterms:modified xsi:type="dcterms:W3CDTF">2013-07-31T21:49:09Z</dcterms:modified>
  <cp:revision>34</cp:revision>
  <dc:subject/>
  <dc:title>PowerPoint Presentation</dc:title>
</cp:coreProperties>
</file>