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8B0-8EAE-472E-BE3E-76C04BB4C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B31-0B71-42F1-A854-CDBE9CDC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4EA-4DED-4077-85FB-86A771A1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8AD8-8B5D-46A0-9BDF-36C6EDCBC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8CA-6ACC-4E20-9C7A-131FA4D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D77-1CAF-44FD-8C1B-0E01C19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99F-5ECA-4854-BF29-0C309F95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1FD-A523-4E37-9C64-14017173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7DA-7C89-49CA-9B41-A3C3D3A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F6F-0842-4B0C-81B8-28F777A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596-D7C8-4804-984F-75F6280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028-A5AB-4295-8266-208CD895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E5F-4E90-4437-872B-684481F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104-79F5-466B-993B-6D5DDB2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75F-E621-4F86-98F1-ED81FF7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637-261C-4735-ADE8-3EED347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9F9-AE59-4AC3-972D-E9177100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31T21:45:51Z</dcterms:modified>
  <cp:revision>25</cp:revision>
  <dc:subject/>
  <dc:title>Functions</dc:title>
</cp:coreProperties>
</file>