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997-7935-410C-A4D3-5863C0DFA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D5AA-6656-4E92-B061-C9CE6DC4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79B8-5A5C-4987-B99C-C67EB60C9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683C-F9D7-42DA-85F6-30E8461A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B88-A78E-4451-B6B2-77844CA9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9BA-85C6-4E7F-A2DA-66448CA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FE4-5025-4860-9403-AFB5AA5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4B0-23E6-4273-B640-C3D621F7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FA8-4E3D-400D-88FB-5C57937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782-2C88-4A42-8EEA-FDA79D42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645-18D6-486E-82FE-E46DEF85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D77-8A14-4FCA-B2BD-86373D6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BF6-1D3E-4C20-B4FE-47544D5B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7CF-DBC7-45C2-9E24-C436FA8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D67-9BA4-408F-BDAC-A906748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89D-33F7-4DEC-B617-1339149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CBA-ACF3-44BA-B268-1386353F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22T21:06:11Z</dcterms:modified>
  <cp:revision>25</cp:revision>
  <dc:subject/>
  <dc:title>Functions</dc:title>
</cp:coreProperties>
</file>