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3BE8-ADB3-475F-9D88-5D07E8AB9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01A0-A233-4A67-8F46-1159758EF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D7E-F2EB-41D6-BF51-566FF6856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4C77-2B48-45BB-A70E-8ACF5CF46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6BC-49A1-45B1-AD6A-9EE4D850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841-2F83-46FA-9C02-D2212B64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421-71C5-46B8-A17B-70031208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DE8-0E8A-4752-826B-C0985A4D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32C-2D87-4CDE-8D17-1D0B58F8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993-06CB-4CE2-B08D-909C266C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B3B-D5E5-4704-9BEB-6C848C7C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070-CD4D-4BDB-904E-5A89E1A4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71A-CC09-463B-86F6-05550B48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193-C139-491E-9C37-7AD15572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EB9-E9D5-4445-B04D-6AFA40EE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0F6-624F-4464-A530-DB79354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B9A1-A68C-43AE-AADF-18674442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117240"/>
            <a:ext cx="88390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7a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1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2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9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10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7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3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9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5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4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100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6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2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8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7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8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1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8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60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5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7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9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8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20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5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7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2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4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1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2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3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Noreen Elliott</cp:lastModifiedBy>
  <dcterms:modified xsi:type="dcterms:W3CDTF">2013-07-22T21:06:11Z</dcterms:modified>
  <cp:revision>25</cp:revision>
  <dc:subject/>
  <dc:title>Functions</dc:title>
</cp:coreProperties>
</file>