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C04E-F873-4BE7-9C1F-18BD6C4F8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57D5-1A20-4BB5-B7CC-BC9DF9C80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5A18-229A-4E7F-912E-5FD5CCD7C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9A74-148D-41B3-940E-48104A6EF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A58-51CB-49EB-AE69-D0D933B6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C81-A420-4467-8739-CB75D1A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32C-F339-4164-B599-087F2527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E32-28D3-4757-8B90-AE900805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055-CC21-4B0B-960F-A57435AC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828-95DC-4ED9-AAAC-29738CF5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A52-8E3A-4678-8A1D-60E64F50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2B1-FE87-4220-8FBD-7A2D599C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6FD-4AD7-4DAC-9331-1D089C2B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94E-9461-45CF-98B3-4E8DB5E0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5FD-9D0F-4E70-9BF9-145B8AF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E7D-0845-4BFA-97AE-DC1A0917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BA2B-1322-4DA3-ADA9-50344E37B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117240"/>
            <a:ext cx="88390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7a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1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2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9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10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7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3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9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5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4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100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6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2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8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7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8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1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3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8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60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5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7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9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8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20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5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7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2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4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1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2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3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Noreen Elliott</cp:lastModifiedBy>
  <dcterms:modified xsi:type="dcterms:W3CDTF">2013-07-22T21:06:11Z</dcterms:modified>
  <cp:revision>25</cp:revision>
  <dc:subject/>
  <dc:title>Functions</dc:title>
</cp:coreProperties>
</file>