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C2A-73D8-4442-B3C0-E7286A9E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3C7-53C9-491B-860F-FD7E753D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ACB-F105-4C7E-B93C-C43C94FB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85C-4257-4F4A-A1E3-9F49641F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75F8-A2FC-4C0D-926A-9FB48091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6717-5C0A-4627-B378-3C3F35AB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CDAF-78C6-417E-AE8F-4D611EBF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4AB4-EA74-436E-A4B9-5E73F7C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B9E3-3540-475A-9C99-C84F34C7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998E-AAD8-4A07-A804-16CA4E69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AEA2-8FDD-4817-A9C3-AB44D7D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5BB-4C73-4275-AD48-AA248FEF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A7BB-AB5C-4E1B-8DE9-9D7EF5E1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62E7-4D46-4C19-8EE5-CEB12182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342E-25CD-4611-9639-98AC31E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267F-CDAB-49B5-B465-9B6D4EC0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A4DB-BF44-4BA7-A820-E3C4BC59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FA6-EEB6-4E50-B3D5-137C2B93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292-86F9-4FEB-B154-0CED1D5E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1AC-9671-40BC-8136-CACFB306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5B0-0ADE-43A7-A274-09698650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F37-3657-4F59-A63C-62400E49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F23-D984-44EE-8BA6-B40B3A92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EF0-383A-44C7-834D-08617B4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A:\grapes.GIF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40B6-F26B-4E57-A240-9F1D34AB8B0C}" type="slidenum">
              <a:rPr b="0" lang="en-US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A:\grapes.GIF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4710-E695-4CFD-9DCD-B3DF228C10A1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hapter 11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Investigating Sequences and Serie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4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6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7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represents a general term (nth term) where n can be any number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7617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equences can continue forever. We can calculate as many terms as we want as long as we know the common difference in the sequence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next three terms in the sequence:                      2, 5, 8, 11, 14, __, __, __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, 5, 8, 11, 14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2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23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common difference i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!!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common difference (d), just subtract any term from the term that follows i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YI:  Common differences can be negative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I wanted to find the 50th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term of the  sequence 2, 5, 8, 11, 14, …?  Do I really want to add 3 continually until I get there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re is a formula for finding the nth term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see if we can figure the formula out on our own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,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just add 3 once. 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add 3 t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wice.  To get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add 3 t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hree times. 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relationship between the term we are finding and the number of times I have to add d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number of times I had to add is one less then the term I am looking for.   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if I wanted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then how many times would I have to add 3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9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f I wanted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9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how many times would I add 3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9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 need to take d, which is 3, and add it to my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which is 2, 49 times.  That’s a lot of adding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ut if we think back to elementary school, repetitive adding is just multiplication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 + 3 + 3 + 3 + 3 = 1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added five terms of three, that is the same as multiplying 5 and 3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add three forty-nine times we just multiply 3 and 49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1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Arithmet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quenc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back to our formula,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we start with 2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and add 3•49.  (3 is d and 49 is one less than the term we are looking for) So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= 149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 using this formula we can create a general formula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will become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so we can use it for any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is our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and 3 is our d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 + 3(49)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9 is one less than the term we are looking for.  So if I am using n as the term I am looking for, I multiply d by   n - 1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Formula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s my formula for finding any term in an arithmetic sequence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d(n-1)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ll you need to know to find any term is the first term in the sequence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 and the common differ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go back to our first example about the radio contest.  Suppose no one correctly answered the question for 15 days.  What would the prize be on day 16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d(n-1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want to fi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6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  What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?  What is d?  What is n-1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d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                n -1 = 16 - 1 =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6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50 + 150(15)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24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common difference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ubtract any term from the term after it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4 - 3 = -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d = -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Arithmetic Mean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terms between any two nonconsecutive terms of an arithmet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7, 10, 3, -4, -11, -18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etween 10 and -18 there are three arithmetic means 3, -4, -11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ree arithmetic means between 8 and 14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our sequence must look like 8, __, __, __, 14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n order to find the means we need to know the common difference.  We can use our formula to find i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68544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Every day a radio station asks a question for a prize of $150.  If the 5th caller does not answer correctly, the prize money increased by $150 each day until someone correctly answers their question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__, __, __, 1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4,  &amp; n = 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4 = 8 + d(5 - 1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4 = 8 + d(4)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ubtract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 = 4d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divide by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1.5 = 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__, __, __, 14 so to find our means we just add 1.5 starting with 8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, 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9.5, 11, 12.5,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1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dditional 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the __ term of the sequence -5, 2, 9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find ‘n’ which is the term number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-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and 7 is d.  Plug it in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dditional Exampl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5 + 7(n - 1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5 + 7n - 7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= -12 + 7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4 = 7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 = 1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2 is the 12th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2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Arithmet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ri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African-American celebration of Kwanzaa involves the lighting of candles every night for seven nights.  The first night one candle is lit and blown out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second night a new candle and the candle from the first night are lit and blown out.  The third night a new candle and the two candles from the second night are lit and blown out.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is process continues for the seven nights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want to know the total number of lightings  during the seven nights of celebration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irst night one candle was lit, the 2nd night two candles were lit, the 3rd night 3 candles were lit, etc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to find the total number of lightings we would add:     1 + 2 + 3 + 4 + 5 + 6 + 7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2 + 3 + 4 + 5 + 6 + 7 = 2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sum of the terms in a sequence.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Arithmetic 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the sum of the terms in an arithmetic sequence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Make a list of the prize amounts for a week        (Mon - Fri) if the contest starts on Monday and no one answers correctly all week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metic sequence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, 4, 6, 8, 10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Corresponding arith. series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+ 4 + 6 + 8 + 10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. Sequence: -8, -3, 2,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rith. Series: -8 + -3 + 2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s the symbol used to represent the first ‘n’ terms of a serie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iven the sequence 1, 11, 21, 31, 41, 51, 61, 71, …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add the first four terms 1 + 11 + 21 + 31 = 6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arithmetic sequence 1, 2, 3, 4, 5, 6, 7, 8, 9, 10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2 + 3 + 4 + 5 + 6 + 7 + 8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36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we wanted to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for the sequence in the last example. It would be a pain to have to list all the terms and try to add them up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figure out a formula!! :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et’s fin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sequence 1, 2, 3, 4, 5, 6, 7, 8, 9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If we add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n too different orders we get: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 + 2 + 3 + 4 + 5 + 6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S</a:t>
            </a:r>
            <a:r>
              <a:rPr b="0" lang="en-US" sz="4400" spc="-1" strike="noStrike" u="sng" baseline="-25000">
                <a:solidFill>
                  <a:srgbClr val="660066"/>
                </a:solidFill>
                <a:uFillTx/>
                <a:latin typeface="Comic Sans MS"/>
              </a:rPr>
              <a:t>7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 = 7 + 6 + 5 + 4 + 3 + 2 + 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 + 8 + 8 + 8 + 8 + 8 +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 + 2 + 3 + 4 + 5 + 6 + 7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S</a:t>
            </a:r>
            <a:r>
              <a:rPr b="0" lang="en-US" sz="4400" spc="-1" strike="noStrike" u="sng" baseline="-25000">
                <a:solidFill>
                  <a:srgbClr val="660066"/>
                </a:solidFill>
                <a:uFillTx/>
                <a:latin typeface="Comic Sans MS"/>
              </a:rPr>
              <a:t>7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Comic Sans MS"/>
              </a:rPr>
              <a:t> = 7 + 6 + 5 + 4 + 3 + 2 + 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8 + 8 + 8 + 8 + 8 + 8 + 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7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91" name="AutoShape 4"/>
          <p:cNvSpPr/>
          <p:nvPr/>
        </p:nvSpPr>
        <p:spPr>
          <a:xfrm rot="16200000">
            <a:off x="5448240" y="342720"/>
            <a:ext cx="533520" cy="609624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8760 h 6096240"/>
              <a:gd name="textAreaBottom" fmla="*/ 593748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114800" y="3809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7 sums of 8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Sum of Arithmet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do these numbers mean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7 is n, 8 is the sum of the first and last term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sum of the first 10 terms of the arithmetic series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6 a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5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0/2(6 + 51) = 5(57) = 28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sum of the first 50 terms of an arithmetic series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 and d = -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know n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and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= 50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??  We have to find it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 + -4(50 - 1) =          28 + -4(49) = 28 + -196 =      -16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n = 50,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8, &amp;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-168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(50/2)(28 + -168) = 25(-140) = -3500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Monday 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1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uesday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300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dnesday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4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rsday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6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riday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$75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write out a series and compute a sum can sometimes be very tedious.  Mathematicians often use the greek letter sigma &amp; summation notation to simplify this task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is means to find the sum of the sums n + 1 where we plug in the values 1 - 5 for n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05" name="Picture 19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20"/>
          <p:cNvSpPr/>
          <p:nvPr/>
        </p:nvSpPr>
        <p:spPr>
          <a:xfrm>
            <a:off x="213372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ast value of 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3434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rst value of 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5791320" y="1295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ormula used to find sequen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asically we want to find     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   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+ (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+ 1)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 + 3 + 4 + 5 + 6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ry: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rst we need to plug in the numbers 2 - 7 for x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2681280" cy="1206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2108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3(2)-2]+[3(3)-2]+[3(4)-2]+ [3(5)-2]+[3(6)-2]+[3(7)-2]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(6-2)+(9-2)+(12-2)+(15-2)+ (18-2)+ (21-2)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4 + 7 + 10 + 13 + 17 + 19 = 7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25905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3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Geometr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quenc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f your pay check started at $100 a week and doubled every week.  What would your salary be after four week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720" y="6854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tarting $100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one week - $2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two weeks - $4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three weeks - $8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fter four weeks - $1600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se values form a geometr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Sequence: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a sequence in which each term after the first is found by multiplying the previous term by a constant value called the common ratio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first five terms of the geometric sequence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 and common ratio (r) of 5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3, -15, -75, -375, -1875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Arithmetic Sequenc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se prize amounts form a sequence, more specifically each amount is a term in an arithmetic sequence.  To find the next term we just add $150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common ratio of the sequence 2, -4, 8, -16, 32, 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common ratio, divide any term by the previous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8 ÷ -4 = -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 = -2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Just like arithmetic sequences, there is a formula for finding any given term in a geometric sequence.  Let’s figure it out using the pay check example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o find the 5th term we look 100 and multiplied it by two four times.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peated multiplication is represented using exponents.  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quence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Basically we will take $100 and multiply it by 2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00•2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16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is the term we are looking for, 100 was our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2 is our common ratio, and 4 is n-1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us our formula for finding any term of a geometric sequence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•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n-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10th term of the geometric sequence with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000 and a common ratio of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2000• (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9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000 •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1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0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51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50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28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50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6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</a:t>
            </a:r>
            <a:r>
              <a:rPr b="1" lang="en-US" sz="4400" spc="-1" strike="noStrike" baseline="30000">
                <a:solidFill>
                  <a:srgbClr val="660066"/>
                </a:solidFill>
                <a:latin typeface="Comic Sans MS"/>
              </a:rPr>
              <a:t>125</a:t>
            </a:r>
            <a:r>
              <a:rPr b="1" lang="en-US" sz="4400" spc="-1" strike="noStrike">
                <a:solidFill>
                  <a:srgbClr val="660066"/>
                </a:solidFill>
                <a:latin typeface="Comic Sans MS"/>
              </a:rPr>
              <a:t>/</a:t>
            </a:r>
            <a:r>
              <a:rPr b="1" lang="en-US" sz="4400" spc="-1" strike="noStrike" baseline="-25000">
                <a:solidFill>
                  <a:srgbClr val="660066"/>
                </a:solidFill>
                <a:latin typeface="Comic Sans MS"/>
              </a:rPr>
              <a:t>3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he next two terms in the sequence -64, -16, -4 ..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64, -16, -4, __, __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find the common ratio so we divide any term by the previous term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16/-64 = 1/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So we multiply by 1/4 to find the next two term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ampl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64, -16, -4, -1, -1/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Just like with arithmetic sequences, the missing terms between two nonconsecutive terms in a geometric sequence are called 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means.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Looking at the geometric sequence 3, 12, 48, 192, 768 the geometric means between 3 and 768 are 12, 48, and 192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 two geometric means between -5 and 625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Sequence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 list of numbers in a specific order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Term: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each number in a sequence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e need to know the common ratio.  Since we only know nonconsecutive terms we will have to use the formula and work backward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2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, -5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625 = -5•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divide by -5</a:t>
            </a:r>
            <a:endParaRPr b="0" lang="en-US" sz="3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125 = 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take the cube root 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en-US" sz="3800" spc="-1" strike="noStrike">
                <a:solidFill>
                  <a:srgbClr val="660066"/>
                </a:solidFill>
                <a:latin typeface="Comic Sans MS"/>
              </a:rPr>
              <a:t>of both sides</a:t>
            </a:r>
            <a:endParaRPr b="0" lang="en-US" sz="3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 = 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Mea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6091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__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Now we just need to multiply by -5 to find the means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 • -5 = 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25, __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25 • -5 = -1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5, 25, -125, 62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ection 11-4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Geometric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Series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Geometric Series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- the sum of the terms of a geometric sequenc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eo. Sequence: 1, 3, 9, 27, 8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Geo. Series: 1+3 + 9 + 27 + 8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the sum of the geometric series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 + 3 + 9 + 27 + 81 = 121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ormula for the sum S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of the first n terms of a geometric series is given by  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76960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Fin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You can actually do it two ways.  Let’s use the old way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Plug in the numbers 1 - 4 for n and add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1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2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3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+ [-3(2)</a:t>
            </a:r>
            <a:r>
              <a:rPr b="0" lang="en-US" sz="4400" spc="-1" strike="noStrike" baseline="30000">
                <a:solidFill>
                  <a:srgbClr val="660066"/>
                </a:solidFill>
                <a:latin typeface="Comic Sans MS"/>
              </a:rPr>
              <a:t>4-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]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22640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[-3(1)] + [-3(2)] + [-3(4)] +   [-3(8)] =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-3 + -6 + -12 + -24 = -4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other method is to use the sum of geometric series formula.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               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us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, r = 2, n =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276360" cy="1200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31240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                 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us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= -3, r = 2, n = 4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276360" cy="120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3124080" cy="1550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4343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Defini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Arithmetic Sequence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: a sequence in which each term after the first term is found by adding a constant, called the common difference (d), to the previous term.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metric Serie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343400" cy="1428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1295280" y="2610000"/>
            <a:ext cx="4419720" cy="1352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1295280" y="4343400"/>
            <a:ext cx="73915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Explana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150, 300, 450, 600, 750…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The first term of our sequence is 150, we denote the first term a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What is 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?</a:t>
            </a:r>
            <a:r>
              <a:rPr b="0" lang="en-US" sz="4800" spc="-1" strike="noStrike">
                <a:solidFill>
                  <a:srgbClr val="660066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: 300 (a</a:t>
            </a:r>
            <a:r>
              <a:rPr b="0" lang="en-US" sz="4400" spc="-1" strike="noStrike" baseline="-25000">
                <a:solidFill>
                  <a:srgbClr val="660066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 represents the 2nd term in our sequenc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5:28:56Z</dcterms:created>
  <dc:creator>HCPS</dc:creator>
  <dc:description/>
  <dc:language>en-US</dc:language>
  <cp:lastModifiedBy>Noreen Elliott</cp:lastModifiedBy>
  <dcterms:modified xsi:type="dcterms:W3CDTF">2012-12-03T20:04:50Z</dcterms:modified>
  <cp:revision>20</cp:revision>
  <dc:subject/>
  <dc:title>Chapter 11</dc:title>
</cp:coreProperties>
</file>