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202-D7FD-4B70-8FF0-4940378A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7CC-C262-4638-AD82-4AA6EDC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5F3-F993-4D88-8207-ABC3A805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173-3D76-46FC-A58A-C6A158CE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FFF-1471-46C7-8973-B06171A8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F9E-938D-40D9-BC79-0D35252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FF8-D0C8-4FB1-9890-BA19A979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2B50-1A07-4A59-811A-4AACC51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8F1-63C5-45D8-BE27-4731FDF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147D-72B6-4AF7-A890-4C5F9679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B379-1E8E-4BC5-986E-66EDCBD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3BF-37B5-4195-B21A-2577DEA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61D4-37A7-45B5-94CC-58F1C34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15C3-012B-44DE-8382-9E0CE8B6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B77A-3381-4D4E-8EEB-A5CBBF5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A9EC-F00F-4F87-A809-78C1A9BD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8F92-A2EC-4FEA-AF84-D4378F1B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7AE-C693-4438-B2BB-DDFE656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481-10FE-41FC-9451-DCF2811C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615-8ADF-49AB-AA0A-EA79F04B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0344-1B23-47B1-A2E9-3A581B4B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3E2-D9EB-47C3-9866-FC8013E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FC7-EF0D-4CCC-A359-6697B47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4E9-9868-4209-B644-A721316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E40-25BA-448F-94E0-C18494A1C355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A:\grapes.GIF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CA1-D095-48D5-AAE6-859EF63E227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apter 1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Investigating Sequences and Seri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4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6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a general term (nth term) where n can be any numb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equences can continue forever. We can calculate as many terms as we want as long as we know the common difference in the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hree terms in the sequence:                      2, 5, 8, 11, 14, __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5, 8, 11, 14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3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common difference i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!!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difference (d), just subtract any term from the term that follows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YI:  Common differences can be negativ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I wanted to find the 50th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term of the  sequence 2, 5, 8, 11, 14, …?  Do I really want to add 3 continually until I get ther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re is a formula for finding the nth term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see if we can figure the formula out on our own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,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just add 3 on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wi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ree times.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relationship between the term we are finding and the number of times I have to add d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number of times I had to add is one less then the term I am looking for.  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en how many times would I have to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9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how many times would I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9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need to take d, which is 3, and add it to my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which is 2, 49 times.  That’s a lot of adding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ut if we think back to elementary school, repetitive adding is just multiplication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 + 3 + 3 + 3 + 3 = 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ed five terms of three, that is the same as multiplying 5 and 3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add three forty-nine times we just multiply 3 and 49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back to our formula,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e start with 2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add 3•49.  (3 is d and 49 is one less than the term we are looking for) So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= 149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using this formula we can create a general formula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ill become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so we can use it for any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i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nd 3 is our 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 is one less than the term we are looking for.  So if I am using n as the term I am looking for, I multiply d by   n - 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my formula for finding any term in an arithmet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ll you need to know to find any term is the first term in the sequence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the common differ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go back to our first example about the radio contest.  Suppose no one correctly answered the question for 15 days.  What would the prize be on day 16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 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  What is d?  What is n-1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d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                n -1 = 16 - 1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50 + 150(15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2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common differenc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any term from the term after it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4 - 3 = -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 = -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Mean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terms between any two nonconsecutive terms of an arithmet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etween 10 and -18 there are three arithmetic means 3, -4, -11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ree arithmetic means between 8 and 14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our sequence must look like 8, __, __, __, 14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n order to find the means we need to know the common difference.  We can use our formula to find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very day a radio station asks a question for a prize of $150.  If the 5th caller does not answer correctly, the prize money increased by $150 each day until someone correctly answers their question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4,  &amp; n = 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5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4)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 = 4d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ivide by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.5 = 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 so to find our means we just add 1.5 starting with 8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9.5, 11, 12.5,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__ term of the sequence -5, 2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‘n’ which is the term number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7 is d.  Plug it in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(n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n - 7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12 +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4 =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 = 1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12th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2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African-American celebration of Kwanzaa involves the lighting of candles every night for seven nights.  The first night one candle is lit and blown ou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second night a new candle and the candle from the first night are lit and blown out.  The third night a new candle and the two candles from the second night are lit and blown out.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process continues for the seven nights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know the total number of lightings  during the seven nights of celebration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night one candle was lit, the 2nd night two candles were lit, the 3rd night 3 candles were lit, etc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the total number of lightings we would add:     1 + 2 + 3 + 4 + 5 + 6 + 7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= 2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 sequence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Arithmet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n arithmetic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ake a list of the prize amounts for a week        (Mon - Fri) if the contest starts on Monday and no one answers correctly all wee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met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4, 6, 8,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Corresponding arith. series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4 + 6 + 8 +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quence: -8, -3, 2,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ries: -8 + -3 + 2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symbol used to represent the first ‘n’ terms of a serie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iven the sequence 1, 11, 21, 31, 41, 51, 61, 71, …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 the first four terms 1 + 11 + 21 + 31 = 6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arithmetic sequence 1, 2, 3, 4, 5, 6, 7, 8, 9, 10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+ 8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6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we wanted to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for the sequence in the last example. It would be a pain to have to list all the terms and try to add them up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gure out a formula!! :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sequence 1, 2, 3, 4, 5, 6, 7, 8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we ad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n too different orders we get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7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1" name="AutoShape 4"/>
          <p:cNvSpPr/>
          <p:nvPr/>
        </p:nvSpPr>
        <p:spPr>
          <a:xfrm rot="16200000">
            <a:off x="5448240" y="342720"/>
            <a:ext cx="533520" cy="6096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14800" y="3809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7 sums of 8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do these numbers mean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 is n, 8 is the sum of the first and last term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10 terms of the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6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5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/2(6 + 51) = 5(57) = 28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50 terms of an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and d = -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n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?  We have to find it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+ -4(50 - 1) =          28 + -4(49) = 28 + -196 =      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n 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&amp;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(50/2)(28 + -168) = 25(-140) = -3500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onday 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1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u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300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dn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4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rs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ri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write out a series and compute a sum can sometimes be very tedious.  Mathematicians often use the greek letter sigma &amp; summation notation to simplify this tas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means to find the sum of the sums n + 1 where we plug in the values 1 - 5 for 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05" name="Picture 19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"/>
          <p:cNvSpPr/>
          <p:nvPr/>
        </p:nvSpPr>
        <p:spPr>
          <a:xfrm>
            <a:off x="21337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343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r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579132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mula used to find seque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ant to find 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3 + 4 + 5 + 6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ry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rst we need to plug in the numbers 2 - 7 for x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2681280" cy="120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108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3(2)-2]+[3(3)-2]+[3(4)-2]+ [3(5)-2]+[3(6)-2]+[3(7)-2]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6-2)+(9-2)+(12-2)+(15-2)+ (18-2)+ (21-2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 + 7 + 10 + 13 + 17 + 19 = 7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25905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3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your pay check started at $100 a week and doubled every week.  What would your salary be after four week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tarting $100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one week - $2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wo weeks - $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hree weeks - $8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four weeks - $1600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values form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 sequence in which each term after the first is found by multiplying the previous term by a constant value called the common ratio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first five terms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 and common ratio (r) of 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, -15, -75, -375, -1875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prize amounts form a sequence, more specifically each amount is a term in an arithmetic sequence.  To find the next term we just add $150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common ratio of the sequence 2, -4, 8, -16, 32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ratio,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 ÷ -4 = -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 = -2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arithmetic sequences, there is a formula for finding any given term in a geometric sequence.  Let’s figure it out using the pay check exampl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5th term we look 100 and multiplied it by two four times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peated multiplication is represented using exponents.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ill take $100 and multiply it by 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0•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term we are looking for, 100 wa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2 is our common ratio, and 4 is n-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our formula for finding any term of a geometr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-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10th term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 and a common ratio of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• (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00 •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0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5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2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 baseline="30000">
                <a:solidFill>
                  <a:srgbClr val="660066"/>
                </a:solidFill>
                <a:latin typeface="Comic Sans MS"/>
              </a:rPr>
              <a:t>125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1" lang="en-US" sz="4400" spc="-1" strike="noStrike" baseline="-25000">
                <a:solidFill>
                  <a:srgbClr val="660066"/>
                </a:solidFill>
                <a:latin typeface="Comic Sans MS"/>
              </a:rPr>
              <a:t>3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wo terms in the sequence -64, -16, -4 ..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the common ratio so we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6/-64 = 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we multiply by 1/4 to find the next two term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-1, -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with arithmetic sequences, the missing terms between two nonconsecutive terms in a geometric sequence are called 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means.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ooking at the geometric sequence 3, 12, 48, 192, 768 the geometric means between 3 and 768 are 12, 48, and 192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wo geometric means between -5 and 62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Sequence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 list of numbers in a specific ord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Term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ach number in a sequence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the common ratio.  Since we only know nonconsecutive terms we will have to use the formula and work backward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= -5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divide by -5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25 = 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take the cube root 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of both sides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= 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ow we just need to multiply by -5 to find the mean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• -5 = 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5 • -5 = -1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-125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4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- the sum of the terms of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quence: 1, 3, 9, 27,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ries: 1+3 + 9 + 27 +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sum of the geometric serie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3 + 9 + 27 + 81 = 12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ormula for the sum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first n terms of a geometric series is given by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696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You can actually do it two ways.  Let’s use the old way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Plug in the numbers 1 - 4 for n and ad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 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2264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1)] + [-3(2)] + [-3(4)] +   [-3(8)]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 + -6 + -12 + -24 = -4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other method is to use the sum of geometric series formula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4343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Sequence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a sequence in which each term after the first term is found by adding a constant, called the common difference (d), to the previous term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343400" cy="14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1295280" y="2610000"/>
            <a:ext cx="44197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739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50, 300, 450, 600, 750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term of our sequence is 150, we denote the first term a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300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the 2nd term in our seque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8:56Z</dcterms:created>
  <dc:creator>HCPS</dc:creator>
  <dc:description/>
  <dc:language>en-US</dc:language>
  <cp:lastModifiedBy>Noreen Elliott</cp:lastModifiedBy>
  <dcterms:modified xsi:type="dcterms:W3CDTF">2012-12-03T20:04:50Z</dcterms:modified>
  <cp:revision>20</cp:revision>
  <dc:subject/>
  <dc:title>Chapter 11</dc:title>
</cp:coreProperties>
</file>