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549-1909-472B-BD32-03CA3882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690-141C-48E1-B37F-E5DFD747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2CE-BB03-4557-A90D-5D19CD7C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871-A0EF-4636-9DAF-57FD546C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4F7-9AA9-4E1B-8370-0C6E6780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1A7-106F-4947-9580-E1A5D1C7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09C-E408-45AE-B00C-8E084883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D08-7C5F-4D66-A51D-672C53BD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502-98C5-48CB-9B90-F9C5E5D1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A6D-21B7-4AEC-8ED6-E1924CE1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B80-67C5-4144-8608-845AC21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C59-D5EC-46A9-B880-8B87D4AE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16C8-F12D-4D33-B008-7DF12984A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Dimensional Analy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Dimensional Analy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6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4382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hours to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6680" y="2743200"/>
            <a:ext cx="7162560" cy="1739880"/>
            <a:chOff x="1066680" y="2743200"/>
            <a:chExt cx="7162560" cy="1739880"/>
          </a:xfrm>
        </p:grpSpPr>
        <p:sp>
          <p:nvSpPr>
            <p:cNvPr id="107" name=""/>
            <p:cNvSpPr/>
            <p:nvPr/>
          </p:nvSpPr>
          <p:spPr>
            <a:xfrm>
              <a:off x="4343400" y="365760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0 s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066680" y="2743200"/>
              <a:ext cx="7162560" cy="1519560"/>
              <a:chOff x="1066680" y="2743200"/>
              <a:chExt cx="7162560" cy="1519560"/>
            </a:xfrm>
          </p:grpSpPr>
          <p:sp>
            <p:nvSpPr>
              <p:cNvPr id="109" name=""/>
              <p:cNvSpPr/>
              <p:nvPr/>
            </p:nvSpPr>
            <p:spPr>
              <a:xfrm>
                <a:off x="6705360" y="31240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66680" y="2743200"/>
                <a:ext cx="7162560" cy="15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There are 60 seconds in 1 minute. To convert minutes to seconds, multiply the number of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minut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by           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762120" y="4648320"/>
            <a:ext cx="7924680" cy="1739880"/>
            <a:chOff x="762120" y="4648320"/>
            <a:chExt cx="7924680" cy="1739880"/>
          </a:xfrm>
        </p:grpSpPr>
        <p:sp>
          <p:nvSpPr>
            <p:cNvPr id="112" name=""/>
            <p:cNvSpPr/>
            <p:nvPr/>
          </p:nvSpPr>
          <p:spPr>
            <a:xfrm>
              <a:off x="762120" y="5562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da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4648320"/>
              <a:ext cx="762012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24 hours in 1 day. To convert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ours to days, multiply the number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hour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72260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average American uses 580 pounds of paper per year. Find the number of pounds of paper the average American uses per month, to the nearest te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Using Conversion Factors to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75904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blem gives the ratio 580 pounds to 1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e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sks for an answer in pounds pe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3657600"/>
            <a:ext cx="2666880" cy="764280"/>
            <a:chOff x="457200" y="3657600"/>
            <a:chExt cx="2666880" cy="764280"/>
          </a:xfrm>
        </p:grpSpPr>
        <p:sp>
          <p:nvSpPr>
            <p:cNvPr id="118" name=""/>
            <p:cNvSpPr/>
            <p:nvPr/>
          </p:nvSpPr>
          <p:spPr>
            <a:xfrm>
              <a:off x="457200" y="36576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580 lb 1 y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" y="4098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36576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 yr  12 m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81080" y="4086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73000" y="4038840"/>
              <a:ext cx="1000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33520" y="4495680"/>
            <a:ext cx="1600200" cy="764280"/>
            <a:chOff x="533520" y="4495680"/>
            <a:chExt cx="1600200" cy="764280"/>
          </a:xfrm>
        </p:grpSpPr>
        <p:sp>
          <p:nvSpPr>
            <p:cNvPr id="124" name=""/>
            <p:cNvSpPr/>
            <p:nvPr/>
          </p:nvSpPr>
          <p:spPr>
            <a:xfrm>
              <a:off x="838440" y="449568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580 lb 12 m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520" y="464832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43200" y="49086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33520" y="5324400"/>
            <a:ext cx="3352680" cy="429120"/>
            <a:chOff x="533520" y="5324400"/>
            <a:chExt cx="3352680" cy="429120"/>
          </a:xfrm>
        </p:grpSpPr>
        <p:sp>
          <p:nvSpPr>
            <p:cNvPr id="128" name=""/>
            <p:cNvSpPr/>
            <p:nvPr/>
          </p:nvSpPr>
          <p:spPr>
            <a:xfrm>
              <a:off x="533520" y="5324400"/>
              <a:ext cx="335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= 48.3 lb per mont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31720" y="538452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962520" y="3743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Multiply the ratio by the conversion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533412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Divide 580 by 1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759280"/>
            <a:ext cx="8077320" cy="764280"/>
            <a:chOff x="457200" y="5759280"/>
            <a:chExt cx="8077320" cy="764280"/>
          </a:xfrm>
        </p:grpSpPr>
        <p:sp>
          <p:nvSpPr>
            <p:cNvPr id="133" name=""/>
            <p:cNvSpPr/>
            <p:nvPr/>
          </p:nvSpPr>
          <p:spPr>
            <a:xfrm>
              <a:off x="457200" y="5759280"/>
              <a:ext cx="807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The average American uses 48.3 pounds of paper per month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2560" y="5835600"/>
              <a:ext cx="228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038480" y="4368960"/>
            <a:ext cx="4572000" cy="815040"/>
            <a:chOff x="4038480" y="4368960"/>
            <a:chExt cx="4572000" cy="815040"/>
          </a:xfrm>
        </p:grpSpPr>
        <p:sp>
          <p:nvSpPr>
            <p:cNvPr id="136" name=""/>
            <p:cNvSpPr/>
            <p:nvPr/>
          </p:nvSpPr>
          <p:spPr>
            <a:xfrm>
              <a:off x="4038480" y="4632480"/>
              <a:ext cx="419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3365ff"/>
                  </a:solidFill>
                  <a:latin typeface="Verdana"/>
                </a:rPr>
                <a:t>Cancel yr unit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391440" y="4368960"/>
              <a:ext cx="2219040" cy="815040"/>
              <a:chOff x="6391440" y="4368960"/>
              <a:chExt cx="2219040" cy="81504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6553080" y="4914720"/>
                <a:ext cx="456840" cy="228240"/>
              </a:xfrm>
              <a:prstGeom prst="line">
                <a:avLst/>
              </a:prstGeom>
              <a:ln w="9360">
                <a:solidFill>
                  <a:srgbClr val="336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391440" y="4368960"/>
                <a:ext cx="2219040" cy="815040"/>
                <a:chOff x="6391440" y="4368960"/>
                <a:chExt cx="2219040" cy="815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014240" y="4600440"/>
                  <a:ext cx="27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•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085160" y="4368960"/>
                  <a:ext cx="9144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719120" y="45846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=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848720" y="4419720"/>
                  <a:ext cx="761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lb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305840" y="4797360"/>
                  <a:ext cx="457200" cy="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391440" y="4416480"/>
                  <a:ext cx="9144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lb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7323120" y="4533840"/>
                  <a:ext cx="457200" cy="22824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600" y="14479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m drives his car 23,000 miles per year. Find the number of miles he drives per month, to the nearest m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682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gives the ratio 23,000 miles to 1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sks for an answer in miles pe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520" y="3657600"/>
            <a:ext cx="3352680" cy="825480"/>
            <a:chOff x="533520" y="3657600"/>
            <a:chExt cx="3352680" cy="825480"/>
          </a:xfrm>
        </p:grpSpPr>
        <p:sp>
          <p:nvSpPr>
            <p:cNvPr id="151" name=""/>
            <p:cNvSpPr/>
            <p:nvPr/>
          </p:nvSpPr>
          <p:spPr>
            <a:xfrm>
              <a:off x="533520" y="365760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3,000 mi 1 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4098960"/>
              <a:ext cx="161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590920" y="3657600"/>
              <a:ext cx="1295280" cy="825480"/>
              <a:chOff x="2590920" y="3657600"/>
              <a:chExt cx="1295280" cy="825480"/>
            </a:xfrm>
          </p:grpSpPr>
          <p:sp>
            <p:nvSpPr>
              <p:cNvPr id="154" name=""/>
              <p:cNvSpPr/>
              <p:nvPr/>
            </p:nvSpPr>
            <p:spPr>
              <a:xfrm>
                <a:off x="2590920" y="3657600"/>
                <a:ext cx="1295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yr  12 m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3200" y="4070520"/>
                <a:ext cx="106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414520" y="403848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57200" y="4495680"/>
            <a:ext cx="2513880" cy="825480"/>
            <a:chOff x="457200" y="4495680"/>
            <a:chExt cx="2513880" cy="825480"/>
          </a:xfrm>
        </p:grpSpPr>
        <p:sp>
          <p:nvSpPr>
            <p:cNvPr id="158" name=""/>
            <p:cNvSpPr/>
            <p:nvPr/>
          </p:nvSpPr>
          <p:spPr>
            <a:xfrm>
              <a:off x="936000" y="4495680"/>
              <a:ext cx="203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3,000 mi 12 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4648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00880" y="4908600"/>
              <a:ext cx="16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5410080"/>
            <a:ext cx="3352680" cy="459720"/>
            <a:chOff x="533520" y="5410080"/>
            <a:chExt cx="3352680" cy="459720"/>
          </a:xfrm>
        </p:grpSpPr>
        <p:sp>
          <p:nvSpPr>
            <p:cNvPr id="162" name=""/>
            <p:cNvSpPr/>
            <p:nvPr/>
          </p:nvSpPr>
          <p:spPr>
            <a:xfrm>
              <a:off x="533520" y="5410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1916.6 per mon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495680" y="3749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he ratio by the conversi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5425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23,000 by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019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 drives his car about 1917 miles per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495680" y="4384800"/>
            <a:ext cx="4572000" cy="876240"/>
            <a:chOff x="4495680" y="4384800"/>
            <a:chExt cx="4572000" cy="876240"/>
          </a:xfrm>
        </p:grpSpPr>
        <p:sp>
          <p:nvSpPr>
            <p:cNvPr id="168" name=""/>
            <p:cNvSpPr/>
            <p:nvPr/>
          </p:nvSpPr>
          <p:spPr>
            <a:xfrm>
              <a:off x="4495680" y="464832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Cancel yr uni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848640" y="4384800"/>
              <a:ext cx="2219040" cy="876240"/>
              <a:chOff x="6848640" y="4384800"/>
              <a:chExt cx="2219040" cy="876240"/>
            </a:xfrm>
          </p:grpSpPr>
          <p:sp>
            <p:nvSpPr>
              <p:cNvPr id="170" name=""/>
              <p:cNvSpPr/>
              <p:nvPr/>
            </p:nvSpPr>
            <p:spPr>
              <a:xfrm flipV="1">
                <a:off x="7010280" y="4930560"/>
                <a:ext cx="456840" cy="228600"/>
              </a:xfrm>
              <a:prstGeom prst="line">
                <a:avLst/>
              </a:prstGeom>
              <a:ln w="9360">
                <a:solidFill>
                  <a:srgbClr val="336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6848640" y="4384800"/>
                <a:ext cx="2219040" cy="876240"/>
                <a:chOff x="6848640" y="4384800"/>
                <a:chExt cx="2219040" cy="876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471440" y="4616280"/>
                  <a:ext cx="27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•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42360" y="4384800"/>
                  <a:ext cx="914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176320" y="46004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=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305920" y="4435560"/>
                  <a:ext cx="7617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m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763040" y="4813200"/>
                  <a:ext cx="457200" cy="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848640" y="4432320"/>
                  <a:ext cx="914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m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7780320" y="4549680"/>
                  <a:ext cx="457200" cy="22824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Problem Solving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3176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ar traveled 60 miles on a road in 2 hours. How many feet per second was the car trave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30360" y="1981080"/>
            <a:ext cx="11984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36480" y="1447920"/>
            <a:ext cx="4736160" cy="761760"/>
            <a:chOff x="636480" y="1447920"/>
            <a:chExt cx="4736160" cy="761760"/>
          </a:xfrm>
        </p:grpSpPr>
        <p:grpSp>
          <p:nvGrpSpPr>
            <p:cNvPr id="184" name=""/>
            <p:cNvGrpSpPr/>
            <p:nvPr/>
          </p:nvGrpSpPr>
          <p:grpSpPr>
            <a:xfrm>
              <a:off x="636480" y="1447920"/>
              <a:ext cx="761760" cy="761760"/>
              <a:chOff x="636480" y="1447920"/>
              <a:chExt cx="761760" cy="76176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6480" y="1447920"/>
                <a:ext cx="76176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757800" y="1465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713160" y="1522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219320" y="19810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is stated in unit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question asks f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units of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f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seco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You will need to use several convers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4267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t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038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8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50385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rs to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267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69440" y="581652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56545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00600" y="4962600"/>
            <a:ext cx="1295280" cy="678600"/>
            <a:chOff x="4800600" y="4962600"/>
            <a:chExt cx="1295280" cy="678600"/>
          </a:xfrm>
        </p:grpSpPr>
        <p:sp>
          <p:nvSpPr>
            <p:cNvPr id="200" name=""/>
            <p:cNvSpPr/>
            <p:nvPr/>
          </p:nvSpPr>
          <p:spPr>
            <a:xfrm>
              <a:off x="4800600" y="4962600"/>
              <a:ext cx="1295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16440" y="5283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y by each conversion factor separately,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he probl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ultiply by several conversion factors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62120" y="1600200"/>
            <a:ext cx="2788920" cy="647640"/>
            <a:chOff x="762120" y="1600200"/>
            <a:chExt cx="2788920" cy="647640"/>
          </a:xfrm>
        </p:grpSpPr>
        <p:grpSp>
          <p:nvGrpSpPr>
            <p:cNvPr id="204" name=""/>
            <p:cNvGrpSpPr/>
            <p:nvPr/>
          </p:nvGrpSpPr>
          <p:grpSpPr>
            <a:xfrm>
              <a:off x="762120" y="1600200"/>
              <a:ext cx="571320" cy="647640"/>
              <a:chOff x="762120" y="1600200"/>
              <a:chExt cx="571320" cy="64764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600200"/>
                <a:ext cx="5713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85240" y="1631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517040" y="16462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1600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convert 60 miles in 2 hours into a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33520" y="1066680"/>
            <a:ext cx="1791000" cy="704880"/>
            <a:chOff x="533520" y="1066680"/>
            <a:chExt cx="1791000" cy="704880"/>
          </a:xfrm>
        </p:grpSpPr>
        <p:sp>
          <p:nvSpPr>
            <p:cNvPr id="210" name=""/>
            <p:cNvSpPr/>
            <p:nvPr/>
          </p:nvSpPr>
          <p:spPr>
            <a:xfrm>
              <a:off x="1340640" y="11894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33520" y="1066680"/>
              <a:ext cx="704880" cy="704880"/>
              <a:chOff x="533520" y="1066680"/>
              <a:chExt cx="704880" cy="704880"/>
            </a:xfrm>
          </p:grpSpPr>
          <p:pic>
            <p:nvPicPr>
              <p:cNvPr id="2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10666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738000" y="1184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121932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6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89800" y="2514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24382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(60÷2)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÷2)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484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3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32767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ingle conversion factor to convert hours directly to sec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105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rs to second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90440" y="511956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84560" y="5013360"/>
            <a:ext cx="8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05320" y="5805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Set up the conversion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69840" y="4114800"/>
            <a:ext cx="4116960" cy="825480"/>
            <a:chOff x="4569840" y="4114800"/>
            <a:chExt cx="4116960" cy="825480"/>
          </a:xfrm>
        </p:grpSpPr>
        <p:sp>
          <p:nvSpPr>
            <p:cNvPr id="225" name=""/>
            <p:cNvSpPr/>
            <p:nvPr/>
          </p:nvSpPr>
          <p:spPr>
            <a:xfrm>
              <a:off x="4569840" y="4267080"/>
              <a:ext cx="25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inutes to sec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66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411480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04920" y="4191120"/>
            <a:ext cx="4114440" cy="678600"/>
            <a:chOff x="304920" y="4191120"/>
            <a:chExt cx="4114440" cy="678600"/>
          </a:xfrm>
        </p:grpSpPr>
        <p:sp>
          <p:nvSpPr>
            <p:cNvPr id="229" name=""/>
            <p:cNvSpPr/>
            <p:nvPr/>
          </p:nvSpPr>
          <p:spPr>
            <a:xfrm>
              <a:off x="304920" y="42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urs to min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68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124080" y="4191120"/>
              <a:ext cx="1295280" cy="678600"/>
              <a:chOff x="3124080" y="4191120"/>
              <a:chExt cx="1295280" cy="67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3124080" y="4191120"/>
                <a:ext cx="12952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0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39920" y="4511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3581280" y="5013360"/>
            <a:ext cx="1295640" cy="703800"/>
            <a:chOff x="3581280" y="5013360"/>
            <a:chExt cx="1295640" cy="703800"/>
          </a:xfrm>
        </p:grpSpPr>
        <p:sp>
          <p:nvSpPr>
            <p:cNvPr id="235" name=""/>
            <p:cNvSpPr/>
            <p:nvPr/>
          </p:nvSpPr>
          <p:spPr>
            <a:xfrm>
              <a:off x="3581280" y="50133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95840" y="53625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888880" y="4981680"/>
            <a:ext cx="1473840" cy="703800"/>
            <a:chOff x="5888880" y="4981680"/>
            <a:chExt cx="1473840" cy="703800"/>
          </a:xfrm>
        </p:grpSpPr>
        <p:sp>
          <p:nvSpPr>
            <p:cNvPr id="238" name=""/>
            <p:cNvSpPr/>
            <p:nvPr/>
          </p:nvSpPr>
          <p:spPr>
            <a:xfrm>
              <a:off x="6067440" y="498168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88880" y="5105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67600" y="53197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V="1">
            <a:off x="4086360" y="5396040"/>
            <a:ext cx="60948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257800" y="502884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19320" y="5715000"/>
            <a:ext cx="3733560" cy="703800"/>
            <a:chOff x="1219320" y="5715000"/>
            <a:chExt cx="3733560" cy="703800"/>
          </a:xfrm>
        </p:grpSpPr>
        <p:grpSp>
          <p:nvGrpSpPr>
            <p:cNvPr id="244" name=""/>
            <p:cNvGrpSpPr/>
            <p:nvPr/>
          </p:nvGrpSpPr>
          <p:grpSpPr>
            <a:xfrm>
              <a:off x="1219320" y="5715000"/>
              <a:ext cx="3733560" cy="703800"/>
              <a:chOff x="1219320" y="5715000"/>
              <a:chExt cx="3733560" cy="70380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1219320" y="5715000"/>
                <a:ext cx="2624400" cy="703800"/>
                <a:chOff x="1219320" y="5715000"/>
                <a:chExt cx="2624400" cy="7038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219320" y="5715000"/>
                  <a:ext cx="914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0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3480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438280" y="5715000"/>
                  <a:ext cx="12193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280 f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58236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3581280" y="57150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809880" y="60818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40440" y="11419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33520" y="1066680"/>
            <a:ext cx="704880" cy="704880"/>
            <a:chOff x="533520" y="1066680"/>
            <a:chExt cx="704880" cy="7048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38000" y="1184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219320" y="1676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include the numbers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133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what happens to the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95280" y="4419720"/>
            <a:ext cx="3213360" cy="825480"/>
            <a:chOff x="1295280" y="4419720"/>
            <a:chExt cx="3213360" cy="825480"/>
          </a:xfrm>
        </p:grpSpPr>
        <p:sp>
          <p:nvSpPr>
            <p:cNvPr id="259" name=""/>
            <p:cNvSpPr/>
            <p:nvPr/>
          </p:nvSpPr>
          <p:spPr>
            <a:xfrm>
              <a:off x="1295280" y="4419720"/>
              <a:ext cx="312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• 5280 ft • 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• 1 • 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4040" y="455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191120" y="4419720"/>
            <a:ext cx="2451240" cy="825480"/>
            <a:chOff x="4191120" y="4419720"/>
            <a:chExt cx="2451240" cy="825480"/>
          </a:xfrm>
        </p:grpSpPr>
        <p:sp>
          <p:nvSpPr>
            <p:cNvPr id="262" name=""/>
            <p:cNvSpPr/>
            <p:nvPr/>
          </p:nvSpPr>
          <p:spPr>
            <a:xfrm>
              <a:off x="4191120" y="441972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58,400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87760" y="452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324480" y="4419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5410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ar was traveling 44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570560" y="2743200"/>
            <a:ext cx="3690360" cy="825480"/>
            <a:chOff x="4570560" y="2743200"/>
            <a:chExt cx="3690360" cy="825480"/>
          </a:xfrm>
        </p:grpSpPr>
        <p:sp>
          <p:nvSpPr>
            <p:cNvPr id="267" name=""/>
            <p:cNvSpPr/>
            <p:nvPr/>
          </p:nvSpPr>
          <p:spPr>
            <a:xfrm>
              <a:off x="4570560" y="2895480"/>
              <a:ext cx="36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implify. Only     remai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5960" y="2743200"/>
              <a:ext cx="3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327640" y="37339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95280" y="2666880"/>
            <a:ext cx="2209680" cy="873000"/>
            <a:chOff x="1295280" y="2666880"/>
            <a:chExt cx="2209680" cy="873000"/>
          </a:xfrm>
        </p:grpSpPr>
        <p:sp>
          <p:nvSpPr>
            <p:cNvPr id="271" name=""/>
            <p:cNvSpPr/>
            <p:nvPr/>
          </p:nvSpPr>
          <p:spPr>
            <a:xfrm>
              <a:off x="1295280" y="271440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6120" y="28987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7040" y="26668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65520" y="28825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71440" y="271440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57200" y="30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08040" y="288216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285640" y="317124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1523880" y="317124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047760" y="286632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19320" y="3597120"/>
            <a:ext cx="4038480" cy="885960"/>
            <a:chOff x="1219320" y="3597120"/>
            <a:chExt cx="4038480" cy="885960"/>
          </a:xfrm>
        </p:grpSpPr>
        <p:sp>
          <p:nvSpPr>
            <p:cNvPr id="282" name=""/>
            <p:cNvSpPr/>
            <p:nvPr/>
          </p:nvSpPr>
          <p:spPr>
            <a:xfrm>
              <a:off x="238500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3256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219320" y="3597120"/>
              <a:ext cx="4038480" cy="885960"/>
              <a:chOff x="1219320" y="3597120"/>
              <a:chExt cx="4038480" cy="885960"/>
            </a:xfrm>
          </p:grpSpPr>
          <p:sp>
            <p:nvSpPr>
              <p:cNvPr id="285" name=""/>
              <p:cNvSpPr/>
              <p:nvPr/>
            </p:nvSpPr>
            <p:spPr>
              <a:xfrm>
                <a:off x="1219320" y="365760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0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38280" y="364500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80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86200" y="359712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98960" y="4022640"/>
                <a:ext cx="11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19320" y="1905120"/>
            <a:ext cx="670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ate of 44 ft/s is less than 50 ft/s.  A rate of 60 miles in 2 hours is 30 mi/h or 0.5 mi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066680"/>
            <a:ext cx="838080" cy="676440"/>
            <a:chOff x="457200" y="1066680"/>
            <a:chExt cx="838080" cy="67644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561600" y="1066680"/>
              <a:ext cx="676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57200" y="1218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38760" y="12942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35053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0.5 mi/min is less than 3000 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 s or 50 ft/s and 44 ft/s is less than 50 ft/s, then 44 ft/s is a reasonable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202896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train traveled 180 miles on a railroad track in 4 hours.  How many feet per second was the train trave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30360" y="1981080"/>
            <a:ext cx="11984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990720"/>
            <a:ext cx="815364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each unit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ump rope 192 times in 6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ur pounds of bananas for $2.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6 anchor bolts for $18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88 movies on 9 sh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17360" y="251388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2 jumps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82080" y="358056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$0.59/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4400" y="457128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$1.16/b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67320" y="556200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2 movies/sh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36480" y="1600200"/>
            <a:ext cx="4736160" cy="762120"/>
            <a:chOff x="636480" y="1600200"/>
            <a:chExt cx="4736160" cy="762120"/>
          </a:xfrm>
        </p:grpSpPr>
        <p:grpSp>
          <p:nvGrpSpPr>
            <p:cNvPr id="300" name=""/>
            <p:cNvGrpSpPr/>
            <p:nvPr/>
          </p:nvGrpSpPr>
          <p:grpSpPr>
            <a:xfrm>
              <a:off x="636480" y="1600200"/>
              <a:ext cx="761760" cy="762120"/>
              <a:chOff x="636480" y="1600200"/>
              <a:chExt cx="761760" cy="762120"/>
            </a:xfrm>
          </p:grpSpPr>
          <p:pic>
            <p:nvPicPr>
              <p:cNvPr id="3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648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75780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71316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219320" y="21337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is stated in unit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question asks f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units of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f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seco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You will need to use several convers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3733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t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4191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8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rs to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69440" y="587700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6156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5715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00600" y="5029200"/>
            <a:ext cx="1295280" cy="678600"/>
            <a:chOff x="4800600" y="5029200"/>
            <a:chExt cx="1295280" cy="678600"/>
          </a:xfrm>
        </p:grpSpPr>
        <p:sp>
          <p:nvSpPr>
            <p:cNvPr id="316" name=""/>
            <p:cNvSpPr/>
            <p:nvPr/>
          </p:nvSpPr>
          <p:spPr>
            <a:xfrm>
              <a:off x="4800600" y="5029200"/>
              <a:ext cx="1295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16440" y="53499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44792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y by each conversion factor separately,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he probl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ultiply by several conversion factors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62120" y="1600200"/>
            <a:ext cx="2788920" cy="647640"/>
            <a:chOff x="762120" y="1600200"/>
            <a:chExt cx="2788920" cy="647640"/>
          </a:xfrm>
        </p:grpSpPr>
        <p:grpSp>
          <p:nvGrpSpPr>
            <p:cNvPr id="320" name=""/>
            <p:cNvGrpSpPr/>
            <p:nvPr/>
          </p:nvGrpSpPr>
          <p:grpSpPr>
            <a:xfrm>
              <a:off x="762120" y="1600200"/>
              <a:ext cx="571320" cy="647640"/>
              <a:chOff x="762120" y="1600200"/>
              <a:chExt cx="571320" cy="647640"/>
            </a:xfrm>
          </p:grpSpPr>
          <p:pic>
            <p:nvPicPr>
              <p:cNvPr id="3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600200"/>
                <a:ext cx="5713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885240" y="1631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517040" y="16462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1600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convert 180 miles in 4 hours into a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33520" y="1066680"/>
            <a:ext cx="1791000" cy="704880"/>
            <a:chOff x="533520" y="1066680"/>
            <a:chExt cx="1791000" cy="704880"/>
          </a:xfrm>
        </p:grpSpPr>
        <p:sp>
          <p:nvSpPr>
            <p:cNvPr id="326" name=""/>
            <p:cNvSpPr/>
            <p:nvPr/>
          </p:nvSpPr>
          <p:spPr>
            <a:xfrm>
              <a:off x="1340640" y="11894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33520" y="1066680"/>
              <a:ext cx="704880" cy="704880"/>
              <a:chOff x="533520" y="1066680"/>
              <a:chExt cx="704880" cy="704880"/>
            </a:xfrm>
          </p:grpSpPr>
          <p:pic>
            <p:nvPicPr>
              <p:cNvPr id="3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10666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738000" y="1184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838080" y="2438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8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37520" y="2514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4382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(180 ÷ 4)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4 ÷ 4)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43440" y="2513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5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32767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ingle conversion factor to convert hours directly to sec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5105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rs to second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90440" y="511956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4560" y="5013360"/>
            <a:ext cx="8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05320" y="5805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Set up the conversion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569840" y="4114800"/>
            <a:ext cx="4116960" cy="825480"/>
            <a:chOff x="4569840" y="4114800"/>
            <a:chExt cx="4116960" cy="825480"/>
          </a:xfrm>
        </p:grpSpPr>
        <p:sp>
          <p:nvSpPr>
            <p:cNvPr id="341" name=""/>
            <p:cNvSpPr/>
            <p:nvPr/>
          </p:nvSpPr>
          <p:spPr>
            <a:xfrm>
              <a:off x="4569840" y="4267080"/>
              <a:ext cx="25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inutes to sec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866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91520" y="411480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04920" y="4191120"/>
            <a:ext cx="4114440" cy="678600"/>
            <a:chOff x="304920" y="4191120"/>
            <a:chExt cx="4114440" cy="678600"/>
          </a:xfrm>
        </p:grpSpPr>
        <p:sp>
          <p:nvSpPr>
            <p:cNvPr id="345" name=""/>
            <p:cNvSpPr/>
            <p:nvPr/>
          </p:nvSpPr>
          <p:spPr>
            <a:xfrm>
              <a:off x="304920" y="42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urs to min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68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124080" y="4191120"/>
              <a:ext cx="1295280" cy="678600"/>
              <a:chOff x="3124080" y="4191120"/>
              <a:chExt cx="1295280" cy="678600"/>
            </a:xfrm>
          </p:grpSpPr>
          <p:sp>
            <p:nvSpPr>
              <p:cNvPr id="348" name=""/>
              <p:cNvSpPr/>
              <p:nvPr/>
            </p:nvSpPr>
            <p:spPr>
              <a:xfrm>
                <a:off x="3124080" y="4191120"/>
                <a:ext cx="12952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0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139920" y="4511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3581280" y="5013360"/>
            <a:ext cx="1295640" cy="703800"/>
            <a:chOff x="3581280" y="5013360"/>
            <a:chExt cx="1295640" cy="703800"/>
          </a:xfrm>
        </p:grpSpPr>
        <p:sp>
          <p:nvSpPr>
            <p:cNvPr id="351" name=""/>
            <p:cNvSpPr/>
            <p:nvPr/>
          </p:nvSpPr>
          <p:spPr>
            <a:xfrm>
              <a:off x="3581280" y="50133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95840" y="53625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888880" y="4981680"/>
            <a:ext cx="1473840" cy="703800"/>
            <a:chOff x="5888880" y="4981680"/>
            <a:chExt cx="1473840" cy="703800"/>
          </a:xfrm>
        </p:grpSpPr>
        <p:sp>
          <p:nvSpPr>
            <p:cNvPr id="354" name=""/>
            <p:cNvSpPr/>
            <p:nvPr/>
          </p:nvSpPr>
          <p:spPr>
            <a:xfrm>
              <a:off x="6067440" y="498168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88880" y="5105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7600" y="53197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4086360" y="5396040"/>
            <a:ext cx="60948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257800" y="502884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5715000"/>
            <a:ext cx="3733560" cy="703800"/>
            <a:chOff x="1219320" y="5715000"/>
            <a:chExt cx="3733560" cy="703800"/>
          </a:xfrm>
        </p:grpSpPr>
        <p:grpSp>
          <p:nvGrpSpPr>
            <p:cNvPr id="360" name=""/>
            <p:cNvGrpSpPr/>
            <p:nvPr/>
          </p:nvGrpSpPr>
          <p:grpSpPr>
            <a:xfrm>
              <a:off x="1219320" y="5715000"/>
              <a:ext cx="3733560" cy="703800"/>
              <a:chOff x="1219320" y="5715000"/>
              <a:chExt cx="3733560" cy="7038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1219320" y="5715000"/>
                <a:ext cx="2624400" cy="703800"/>
                <a:chOff x="1219320" y="5715000"/>
                <a:chExt cx="2624400" cy="7038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219320" y="5715000"/>
                  <a:ext cx="914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5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13480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38280" y="5715000"/>
                  <a:ext cx="12193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280 f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58236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3581280" y="57150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3809880" y="60818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464120" y="11419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33520" y="1066680"/>
            <a:ext cx="704880" cy="704880"/>
            <a:chOff x="533520" y="1066680"/>
            <a:chExt cx="704880" cy="70488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38000" y="1184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219320" y="1676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include the numbers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2133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what happens to the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95280" y="4419720"/>
            <a:ext cx="3213360" cy="825480"/>
            <a:chOff x="1295280" y="4419720"/>
            <a:chExt cx="3213360" cy="825480"/>
          </a:xfrm>
        </p:grpSpPr>
        <p:sp>
          <p:nvSpPr>
            <p:cNvPr id="375" name=""/>
            <p:cNvSpPr/>
            <p:nvPr/>
          </p:nvSpPr>
          <p:spPr>
            <a:xfrm>
              <a:off x="1295280" y="4419720"/>
              <a:ext cx="312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 • 5280 ft • 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• 1 • 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54040" y="455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191120" y="4419720"/>
            <a:ext cx="2451240" cy="825480"/>
            <a:chOff x="4191120" y="4419720"/>
            <a:chExt cx="2451240" cy="825480"/>
          </a:xfrm>
        </p:grpSpPr>
        <p:sp>
          <p:nvSpPr>
            <p:cNvPr id="378" name=""/>
            <p:cNvSpPr/>
            <p:nvPr/>
          </p:nvSpPr>
          <p:spPr>
            <a:xfrm>
              <a:off x="4191120" y="441972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37,600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87760" y="452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400800" y="4419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6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5410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in was traveling 66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570560" y="2743200"/>
            <a:ext cx="3690360" cy="825480"/>
            <a:chOff x="4570560" y="2743200"/>
            <a:chExt cx="3690360" cy="825480"/>
          </a:xfrm>
        </p:grpSpPr>
        <p:sp>
          <p:nvSpPr>
            <p:cNvPr id="383" name=""/>
            <p:cNvSpPr/>
            <p:nvPr/>
          </p:nvSpPr>
          <p:spPr>
            <a:xfrm>
              <a:off x="4570560" y="2895480"/>
              <a:ext cx="36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implify. Only     remai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45960" y="2743200"/>
              <a:ext cx="3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327640" y="37339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95280" y="2666880"/>
            <a:ext cx="2209680" cy="873000"/>
            <a:chOff x="1295280" y="2666880"/>
            <a:chExt cx="2209680" cy="873000"/>
          </a:xfrm>
        </p:grpSpPr>
        <p:sp>
          <p:nvSpPr>
            <p:cNvPr id="387" name=""/>
            <p:cNvSpPr/>
            <p:nvPr/>
          </p:nvSpPr>
          <p:spPr>
            <a:xfrm>
              <a:off x="1295280" y="271440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86120" y="28987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7040" y="26668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65520" y="28825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71440" y="271440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57200" y="30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1508040" y="288216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285640" y="317124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523880" y="317124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047760" y="286632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219320" y="3597120"/>
            <a:ext cx="4038480" cy="885960"/>
            <a:chOff x="1219320" y="3597120"/>
            <a:chExt cx="4038480" cy="885960"/>
          </a:xfrm>
        </p:grpSpPr>
        <p:sp>
          <p:nvSpPr>
            <p:cNvPr id="398" name=""/>
            <p:cNvSpPr/>
            <p:nvPr/>
          </p:nvSpPr>
          <p:spPr>
            <a:xfrm>
              <a:off x="238500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3256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219320" y="3597120"/>
              <a:ext cx="4038480" cy="885960"/>
              <a:chOff x="1219320" y="3597120"/>
              <a:chExt cx="4038480" cy="885960"/>
            </a:xfrm>
          </p:grpSpPr>
          <p:sp>
            <p:nvSpPr>
              <p:cNvPr id="401" name=""/>
              <p:cNvSpPr/>
              <p:nvPr/>
            </p:nvSpPr>
            <p:spPr>
              <a:xfrm>
                <a:off x="1219320" y="365760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5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438280" y="364500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80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86200" y="359712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98960" y="4022640"/>
                <a:ext cx="11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219320" y="18288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ate of 66 ft/s is more than 50 ft/s.  A rate of 180 miles in 4 hours is 45 mi/h or 0.75 mi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57200" y="1066680"/>
            <a:ext cx="838080" cy="676440"/>
            <a:chOff x="457200" y="1066680"/>
            <a:chExt cx="838080" cy="67644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561600" y="1066680"/>
              <a:ext cx="676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7200" y="1218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238760" y="12942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5053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0.75 mi/min is more than 3000 ft/60 s or 50 ft/s and 66 ft/s is more than 50 ft/s, then 66 ft/s is a reasonable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Physical Scienc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57200" y="1828800"/>
            <a:ext cx="8237520" cy="1922760"/>
            <a:chOff x="457200" y="1828800"/>
            <a:chExt cx="8237520" cy="1922760"/>
          </a:xfrm>
        </p:grpSpPr>
        <p:sp>
          <p:nvSpPr>
            <p:cNvPr id="413" name=""/>
            <p:cNvSpPr/>
            <p:nvPr/>
          </p:nvSpPr>
          <p:spPr>
            <a:xfrm>
              <a:off x="457200" y="182880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 strobe lamp can be used to measure the speed of an object. The lamp flashes every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f a second. A camera records the object moving 52 cm between flashes. How fast is the object moving in m/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902360" y="2057400"/>
              <a:ext cx="619560" cy="703800"/>
              <a:chOff x="7902360" y="2057400"/>
              <a:chExt cx="619560" cy="703800"/>
            </a:xfrm>
          </p:grpSpPr>
          <p:sp>
            <p:nvSpPr>
              <p:cNvPr id="415" name=""/>
              <p:cNvSpPr/>
              <p:nvPr/>
            </p:nvSpPr>
            <p:spPr>
              <a:xfrm>
                <a:off x="7902360" y="2057400"/>
                <a:ext cx="61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01000" y="24098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3186000" y="4419720"/>
            <a:ext cx="3112920" cy="825480"/>
            <a:chOff x="3186000" y="4419720"/>
            <a:chExt cx="3112920" cy="825480"/>
          </a:xfrm>
        </p:grpSpPr>
        <p:sp>
          <p:nvSpPr>
            <p:cNvPr id="418" name=""/>
            <p:cNvSpPr/>
            <p:nvPr/>
          </p:nvSpPr>
          <p:spPr>
            <a:xfrm>
              <a:off x="4831920" y="4419720"/>
              <a:ext cx="146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distance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86000" y="45464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Use 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23960" y="4191120"/>
            <a:ext cx="2165400" cy="1191240"/>
            <a:chOff x="723960" y="4191120"/>
            <a:chExt cx="2165400" cy="1191240"/>
          </a:xfrm>
        </p:grpSpPr>
        <p:grpSp>
          <p:nvGrpSpPr>
            <p:cNvPr id="421" name=""/>
            <p:cNvGrpSpPr/>
            <p:nvPr/>
          </p:nvGrpSpPr>
          <p:grpSpPr>
            <a:xfrm>
              <a:off x="723960" y="4191120"/>
              <a:ext cx="2165400" cy="1191240"/>
              <a:chOff x="723960" y="4191120"/>
              <a:chExt cx="2165400" cy="1191240"/>
            </a:xfrm>
          </p:grpSpPr>
          <p:sp>
            <p:nvSpPr>
              <p:cNvPr id="422" name=""/>
              <p:cNvSpPr/>
              <p:nvPr/>
            </p:nvSpPr>
            <p:spPr>
              <a:xfrm>
                <a:off x="723960" y="419112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59200" y="472428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485720" y="50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ay help to eliminate the fraction      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010200" y="1631880"/>
            <a:ext cx="702000" cy="825480"/>
            <a:chOff x="6010200" y="1631880"/>
            <a:chExt cx="702000" cy="825480"/>
          </a:xfrm>
        </p:grpSpPr>
        <p:sp>
          <p:nvSpPr>
            <p:cNvPr id="428" name=""/>
            <p:cNvSpPr/>
            <p:nvPr/>
          </p:nvSpPr>
          <p:spPr>
            <a:xfrm>
              <a:off x="6010200" y="1631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02360" y="206064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181480" y="2819520"/>
            <a:ext cx="35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p and bottom by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49400" y="3809880"/>
            <a:ext cx="2165400" cy="825480"/>
            <a:chOff x="1949400" y="3809880"/>
            <a:chExt cx="2165400" cy="825480"/>
          </a:xfrm>
        </p:grpSpPr>
        <p:sp>
          <p:nvSpPr>
            <p:cNvPr id="432" name=""/>
            <p:cNvSpPr/>
            <p:nvPr/>
          </p:nvSpPr>
          <p:spPr>
            <a:xfrm>
              <a:off x="1949400" y="380988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2400" y="39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0880" y="2622600"/>
            <a:ext cx="2165400" cy="1191240"/>
            <a:chOff x="380880" y="2622600"/>
            <a:chExt cx="2165400" cy="1191240"/>
          </a:xfrm>
        </p:grpSpPr>
        <p:grpSp>
          <p:nvGrpSpPr>
            <p:cNvPr id="435" name=""/>
            <p:cNvGrpSpPr/>
            <p:nvPr/>
          </p:nvGrpSpPr>
          <p:grpSpPr>
            <a:xfrm>
              <a:off x="380880" y="2622600"/>
              <a:ext cx="2165400" cy="1191240"/>
              <a:chOff x="380880" y="2622600"/>
              <a:chExt cx="216540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08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16120" y="315576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1142640" y="3431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020320" y="2622600"/>
            <a:ext cx="2475360" cy="1191240"/>
            <a:chOff x="2020320" y="2622600"/>
            <a:chExt cx="2475360" cy="1191240"/>
          </a:xfrm>
        </p:grpSpPr>
        <p:sp>
          <p:nvSpPr>
            <p:cNvPr id="440" name=""/>
            <p:cNvSpPr/>
            <p:nvPr/>
          </p:nvSpPr>
          <p:spPr>
            <a:xfrm>
              <a:off x="202032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330280" y="2622600"/>
              <a:ext cx="2165400" cy="1191240"/>
              <a:chOff x="2330280" y="2622600"/>
              <a:chExt cx="2165400" cy="1191240"/>
            </a:xfrm>
          </p:grpSpPr>
          <p:sp>
            <p:nvSpPr>
              <p:cNvPr id="442" name=""/>
              <p:cNvSpPr/>
              <p:nvPr/>
            </p:nvSpPr>
            <p:spPr>
              <a:xfrm>
                <a:off x="23302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00 • 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854520" y="3048120"/>
                <a:ext cx="40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58000" y="312408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 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52680" y="33847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convert centimeters to 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82720" y="2362320"/>
            <a:ext cx="18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05520" y="3124080"/>
            <a:ext cx="35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Multiply by the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30080" y="3962520"/>
            <a:ext cx="2165400" cy="825480"/>
            <a:chOff x="730080" y="3962520"/>
            <a:chExt cx="2165400" cy="825480"/>
          </a:xfrm>
        </p:grpSpPr>
        <p:sp>
          <p:nvSpPr>
            <p:cNvPr id="451" name=""/>
            <p:cNvSpPr/>
            <p:nvPr/>
          </p:nvSpPr>
          <p:spPr>
            <a:xfrm>
              <a:off x="730080" y="396252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932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477520" y="3917880"/>
            <a:ext cx="1460880" cy="825480"/>
            <a:chOff x="2477520" y="3917880"/>
            <a:chExt cx="1460880" cy="825480"/>
          </a:xfrm>
        </p:grpSpPr>
        <p:sp>
          <p:nvSpPr>
            <p:cNvPr id="454" name=""/>
            <p:cNvSpPr/>
            <p:nvPr/>
          </p:nvSpPr>
          <p:spPr>
            <a:xfrm>
              <a:off x="2566800" y="39178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77520" y="40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80880" y="4952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traveling 52 m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801360" y="3124080"/>
            <a:ext cx="3726360" cy="1191240"/>
            <a:chOff x="801360" y="3124080"/>
            <a:chExt cx="3726360" cy="1191240"/>
          </a:xfrm>
        </p:grpSpPr>
        <p:sp>
          <p:nvSpPr>
            <p:cNvPr id="458" name=""/>
            <p:cNvSpPr/>
            <p:nvPr/>
          </p:nvSpPr>
          <p:spPr>
            <a:xfrm>
              <a:off x="914400" y="3154320"/>
              <a:ext cx="18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01360" y="3124080"/>
              <a:ext cx="3726360" cy="1191240"/>
              <a:chOff x="801360" y="3124080"/>
              <a:chExt cx="3726360" cy="119124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801360" y="3124080"/>
                <a:ext cx="3726360" cy="1191240"/>
                <a:chOff x="801360" y="3124080"/>
                <a:chExt cx="3726360" cy="11912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801360" y="3276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618640" y="3276360"/>
                  <a:ext cx="295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67240" y="3124080"/>
                  <a:ext cx="18604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 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00 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2971800" y="353664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57200" y="1828800"/>
            <a:ext cx="8237520" cy="1922760"/>
            <a:chOff x="457200" y="1828800"/>
            <a:chExt cx="8237520" cy="1922760"/>
          </a:xfrm>
        </p:grpSpPr>
        <p:sp>
          <p:nvSpPr>
            <p:cNvPr id="467" name=""/>
            <p:cNvSpPr/>
            <p:nvPr/>
          </p:nvSpPr>
          <p:spPr>
            <a:xfrm>
              <a:off x="457200" y="182880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 strobe lamp can be used to measure the speed of an object. The lamp flashes every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f a second. A camera records the object moving 65 cm between flashes. How fast is the object moving in m/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7902360" y="2057400"/>
              <a:ext cx="619560" cy="703800"/>
              <a:chOff x="7902360" y="2057400"/>
              <a:chExt cx="619560" cy="703800"/>
            </a:xfrm>
          </p:grpSpPr>
          <p:sp>
            <p:nvSpPr>
              <p:cNvPr id="469" name=""/>
              <p:cNvSpPr/>
              <p:nvPr/>
            </p:nvSpPr>
            <p:spPr>
              <a:xfrm>
                <a:off x="7902360" y="2057400"/>
                <a:ext cx="61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001000" y="24098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4938480" y="4191120"/>
            <a:ext cx="3113280" cy="825480"/>
            <a:chOff x="4938480" y="4191120"/>
            <a:chExt cx="3113280" cy="825480"/>
          </a:xfrm>
        </p:grpSpPr>
        <p:sp>
          <p:nvSpPr>
            <p:cNvPr id="472" name=""/>
            <p:cNvSpPr/>
            <p:nvPr/>
          </p:nvSpPr>
          <p:spPr>
            <a:xfrm>
              <a:off x="6584760" y="4191120"/>
              <a:ext cx="146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distance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8480" y="43178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Use 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23960" y="4191120"/>
            <a:ext cx="2165400" cy="1191240"/>
            <a:chOff x="723960" y="4191120"/>
            <a:chExt cx="2165400" cy="1191240"/>
          </a:xfrm>
        </p:grpSpPr>
        <p:grpSp>
          <p:nvGrpSpPr>
            <p:cNvPr id="475" name=""/>
            <p:cNvGrpSpPr/>
            <p:nvPr/>
          </p:nvGrpSpPr>
          <p:grpSpPr>
            <a:xfrm>
              <a:off x="723960" y="4191120"/>
              <a:ext cx="2165400" cy="1191240"/>
              <a:chOff x="723960" y="4191120"/>
              <a:chExt cx="2165400" cy="1191240"/>
            </a:xfrm>
          </p:grpSpPr>
          <p:sp>
            <p:nvSpPr>
              <p:cNvPr id="476" name=""/>
              <p:cNvSpPr/>
              <p:nvPr/>
            </p:nvSpPr>
            <p:spPr>
              <a:xfrm>
                <a:off x="723960" y="419112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59200" y="472428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1485720" y="50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ay help to eliminate the fraction      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010200" y="1631880"/>
            <a:ext cx="702000" cy="825480"/>
            <a:chOff x="6010200" y="1631880"/>
            <a:chExt cx="702000" cy="825480"/>
          </a:xfrm>
        </p:grpSpPr>
        <p:sp>
          <p:nvSpPr>
            <p:cNvPr id="482" name=""/>
            <p:cNvSpPr/>
            <p:nvPr/>
          </p:nvSpPr>
          <p:spPr>
            <a:xfrm>
              <a:off x="6010200" y="1631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02360" y="206064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181480" y="2819520"/>
            <a:ext cx="35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p and bottom by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949400" y="3809880"/>
            <a:ext cx="2165400" cy="825480"/>
            <a:chOff x="1949400" y="3809880"/>
            <a:chExt cx="2165400" cy="825480"/>
          </a:xfrm>
        </p:grpSpPr>
        <p:sp>
          <p:nvSpPr>
            <p:cNvPr id="486" name=""/>
            <p:cNvSpPr/>
            <p:nvPr/>
          </p:nvSpPr>
          <p:spPr>
            <a:xfrm>
              <a:off x="1949400" y="380988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12400" y="39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80880" y="2622600"/>
            <a:ext cx="2165400" cy="1191240"/>
            <a:chOff x="380880" y="2622600"/>
            <a:chExt cx="2165400" cy="1191240"/>
          </a:xfrm>
        </p:grpSpPr>
        <p:grpSp>
          <p:nvGrpSpPr>
            <p:cNvPr id="489" name=""/>
            <p:cNvGrpSpPr/>
            <p:nvPr/>
          </p:nvGrpSpPr>
          <p:grpSpPr>
            <a:xfrm>
              <a:off x="380880" y="2622600"/>
              <a:ext cx="2165400" cy="1191240"/>
              <a:chOff x="380880" y="2622600"/>
              <a:chExt cx="2165400" cy="1191240"/>
            </a:xfrm>
          </p:grpSpPr>
          <p:sp>
            <p:nvSpPr>
              <p:cNvPr id="490" name=""/>
              <p:cNvSpPr/>
              <p:nvPr/>
            </p:nvSpPr>
            <p:spPr>
              <a:xfrm>
                <a:off x="3808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716120" y="315576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1142640" y="3431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020320" y="2622600"/>
            <a:ext cx="2475360" cy="1191240"/>
            <a:chOff x="2020320" y="2622600"/>
            <a:chExt cx="2475360" cy="1191240"/>
          </a:xfrm>
        </p:grpSpPr>
        <p:sp>
          <p:nvSpPr>
            <p:cNvPr id="494" name=""/>
            <p:cNvSpPr/>
            <p:nvPr/>
          </p:nvSpPr>
          <p:spPr>
            <a:xfrm>
              <a:off x="202032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330280" y="2622600"/>
              <a:ext cx="2165400" cy="1191240"/>
              <a:chOff x="2330280" y="2622600"/>
              <a:chExt cx="2165400" cy="1191240"/>
            </a:xfrm>
          </p:grpSpPr>
          <p:sp>
            <p:nvSpPr>
              <p:cNvPr id="496" name=""/>
              <p:cNvSpPr/>
              <p:nvPr/>
            </p:nvSpPr>
            <p:spPr>
              <a:xfrm>
                <a:off x="23302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00 • 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54520" y="3048120"/>
                <a:ext cx="40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58000" y="312408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 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52680" y="33847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3880"/>
            <a:ext cx="8153280" cy="35053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lace each •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digit from 0 to 6 to make equivalent ratios. Use each digit only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7339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7339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133720" y="3657600"/>
            <a:ext cx="4800600" cy="947160"/>
            <a:chOff x="2133720" y="3657600"/>
            <a:chExt cx="4800600" cy="947160"/>
          </a:xfrm>
        </p:grpSpPr>
        <p:grpSp>
          <p:nvGrpSpPr>
            <p:cNvPr id="67" name=""/>
            <p:cNvGrpSpPr/>
            <p:nvPr/>
          </p:nvGrpSpPr>
          <p:grpSpPr>
            <a:xfrm>
              <a:off x="2133720" y="3657600"/>
              <a:ext cx="4800600" cy="947160"/>
              <a:chOff x="2133720" y="3657600"/>
              <a:chExt cx="4800600" cy="947160"/>
            </a:xfrm>
          </p:grpSpPr>
          <p:sp>
            <p:nvSpPr>
              <p:cNvPr id="68" name=""/>
              <p:cNvSpPr/>
              <p:nvPr/>
            </p:nvSpPr>
            <p:spPr>
              <a:xfrm>
                <a:off x="2133720" y="3886200"/>
                <a:ext cx="320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Possible answer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3657600"/>
                <a:ext cx="685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0000"/>
                    </a:solidFill>
                    <a:uFillTx/>
                    <a:latin typeface="Verdana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6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48520" y="3657600"/>
                <a:ext cx="685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67280" y="3809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6324480" y="411480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convert centimeters to 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82720" y="2362320"/>
            <a:ext cx="18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5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05520" y="3124080"/>
            <a:ext cx="35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Multiply by the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30080" y="3962520"/>
            <a:ext cx="2165400" cy="825480"/>
            <a:chOff x="730080" y="3962520"/>
            <a:chExt cx="2165400" cy="825480"/>
          </a:xfrm>
        </p:grpSpPr>
        <p:sp>
          <p:nvSpPr>
            <p:cNvPr id="505" name=""/>
            <p:cNvSpPr/>
            <p:nvPr/>
          </p:nvSpPr>
          <p:spPr>
            <a:xfrm>
              <a:off x="730080" y="396252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932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477520" y="3917880"/>
            <a:ext cx="1460880" cy="825480"/>
            <a:chOff x="2477520" y="3917880"/>
            <a:chExt cx="1460880" cy="825480"/>
          </a:xfrm>
        </p:grpSpPr>
        <p:sp>
          <p:nvSpPr>
            <p:cNvPr id="508" name=""/>
            <p:cNvSpPr/>
            <p:nvPr/>
          </p:nvSpPr>
          <p:spPr>
            <a:xfrm>
              <a:off x="2566800" y="39178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77520" y="40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80880" y="4952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traveling 65 m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01360" y="3124080"/>
            <a:ext cx="3726360" cy="1191240"/>
            <a:chOff x="801360" y="3124080"/>
            <a:chExt cx="3726360" cy="1191240"/>
          </a:xfrm>
        </p:grpSpPr>
        <p:sp>
          <p:nvSpPr>
            <p:cNvPr id="512" name=""/>
            <p:cNvSpPr/>
            <p:nvPr/>
          </p:nvSpPr>
          <p:spPr>
            <a:xfrm>
              <a:off x="914400" y="3154320"/>
              <a:ext cx="18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801360" y="3124080"/>
              <a:ext cx="3726360" cy="1191240"/>
              <a:chOff x="801360" y="3124080"/>
              <a:chExt cx="3726360" cy="11912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801360" y="3124080"/>
                <a:ext cx="3726360" cy="1191240"/>
                <a:chOff x="801360" y="3124080"/>
                <a:chExt cx="3726360" cy="11912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801360" y="3276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8640" y="3276360"/>
                  <a:ext cx="295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67240" y="3124080"/>
                  <a:ext cx="18604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 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00 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2971800" y="353664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1690920"/>
            <a:ext cx="88390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ilograms to gram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ints to gall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ou drive 136 miles from your house to your aunt’s house at the lake. You use 8 gallons of gas. H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yards does your car get to the gall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cheetah was timed running 200 yards in 6 seconds. What was the average speed in miles per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30840" y="2041560"/>
            <a:ext cx="11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00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36040" y="2651040"/>
            <a:ext cx="87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 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333560" y="42512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9,920 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64120" y="5867280"/>
            <a:ext cx="16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≈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8 mi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2133720"/>
            <a:ext cx="7772400" cy="1066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use one or more conversion factors to solve rate proble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209680"/>
            <a:ext cx="7162920" cy="762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versi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13539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of converting from one unit to another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mensional analys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it analys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o convert units, multiply by one or more ratios of equal quantities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version facto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388620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xample, to convert inches to feet you would use the ratio below as a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24080" y="5410080"/>
            <a:ext cx="1295640" cy="947160"/>
            <a:chOff x="3124080" y="5410080"/>
            <a:chExt cx="1295640" cy="947160"/>
          </a:xfrm>
        </p:grpSpPr>
        <p:sp>
          <p:nvSpPr>
            <p:cNvPr id="79" name=""/>
            <p:cNvSpPr/>
            <p:nvPr/>
          </p:nvSpPr>
          <p:spPr>
            <a:xfrm>
              <a:off x="3124080" y="5410080"/>
              <a:ext cx="129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 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2 i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4680" y="5867280"/>
              <a:ext cx="1067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2101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ing by a conversion factor is like multiplying by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58128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12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2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5812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1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488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93000" y="3733200"/>
            <a:ext cx="7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1300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3744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3581280"/>
            <a:ext cx="1295280" cy="947160"/>
            <a:chOff x="1600200" y="3581280"/>
            <a:chExt cx="1295280" cy="947160"/>
          </a:xfrm>
        </p:grpSpPr>
        <p:sp>
          <p:nvSpPr>
            <p:cNvPr id="89" name=""/>
            <p:cNvSpPr/>
            <p:nvPr/>
          </p:nvSpPr>
          <p:spPr>
            <a:xfrm>
              <a:off x="1600200" y="3581280"/>
              <a:ext cx="12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 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2 i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403848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838080" y="2076480"/>
            <a:ext cx="7238880" cy="2045880"/>
            <a:chOff x="838080" y="2076480"/>
            <a:chExt cx="7238880" cy="2045880"/>
          </a:xfrm>
        </p:grpSpPr>
        <p:sp>
          <p:nvSpPr>
            <p:cNvPr id="92" name=""/>
            <p:cNvSpPr/>
            <p:nvPr/>
          </p:nvSpPr>
          <p:spPr>
            <a:xfrm>
              <a:off x="843840" y="2557800"/>
              <a:ext cx="7233120" cy="156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e sure to put the units you are converting to in the numerator and the units you are converting from in the denomin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2076480"/>
              <a:ext cx="2526840" cy="4597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aution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Conversio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666880"/>
            <a:ext cx="7772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feet to y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pounds to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43000" y="3048120"/>
            <a:ext cx="7543800" cy="1206360"/>
            <a:chOff x="1143000" y="3048120"/>
            <a:chExt cx="7543800" cy="1206360"/>
          </a:xfrm>
        </p:grpSpPr>
        <p:sp>
          <p:nvSpPr>
            <p:cNvPr id="98" name=""/>
            <p:cNvSpPr/>
            <p:nvPr/>
          </p:nvSpPr>
          <p:spPr>
            <a:xfrm>
              <a:off x="6781680" y="342900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y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3000" y="3048120"/>
              <a:ext cx="754380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3 feet in 1 yard. To convert feet to yards, multiply the number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ee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219320" y="4572000"/>
            <a:ext cx="7543800" cy="1755720"/>
            <a:chOff x="1219320" y="4572000"/>
            <a:chExt cx="7543800" cy="1755720"/>
          </a:xfrm>
        </p:grpSpPr>
        <p:sp>
          <p:nvSpPr>
            <p:cNvPr id="101" name=""/>
            <p:cNvSpPr/>
            <p:nvPr/>
          </p:nvSpPr>
          <p:spPr>
            <a:xfrm>
              <a:off x="2895480" y="550224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 o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l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19320" y="4572000"/>
              <a:ext cx="754380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16 ounces in 1 pound. To convert pounds to ounces, multiply the number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pound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Manda Reid</cp:lastModifiedBy>
  <dcterms:modified xsi:type="dcterms:W3CDTF">2007-04-26T20:19:13Z</dcterms:modified>
  <cp:revision>61</cp:revision>
  <dc:subject/>
  <dc:title>Slide 1</dc:title>
</cp:coreProperties>
</file>