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FAE-8990-44F7-A439-96280A76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798-E637-4B5C-BB01-65B2B77C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0AE-355A-4FCD-B4C4-602A35E1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A94-6607-4F9F-AA31-E99D4B9E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3C6E-2623-497B-ABDF-1FB9D5D0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38E-FFA1-44CB-8DAB-7DCE4876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AC8-795E-41B7-97EE-E15B0F7F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1DBF-697B-4595-AF68-0CBC4777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6D51-4057-451A-9FB2-CCB952A3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ECFB-948F-459C-996D-D03F59BD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530-EE9C-482E-9666-10176E39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33B-8BBE-425B-A69D-6CDE1841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5DD5-395D-4DA4-9893-F02BC561D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512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Dimensional Analysi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04640" y="137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5-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Dimensional Analysi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530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629160" y="236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99360" y="30218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79920" y="36313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86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appropriate factor for each conver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4382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minutes to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hours to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066680" y="2743200"/>
            <a:ext cx="7162560" cy="1739880"/>
            <a:chOff x="1066680" y="2743200"/>
            <a:chExt cx="7162560" cy="1739880"/>
          </a:xfrm>
        </p:grpSpPr>
        <p:sp>
          <p:nvSpPr>
            <p:cNvPr id="107" name=""/>
            <p:cNvSpPr/>
            <p:nvPr/>
          </p:nvSpPr>
          <p:spPr>
            <a:xfrm>
              <a:off x="4343400" y="365760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0 se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066680" y="2743200"/>
              <a:ext cx="7162560" cy="1519560"/>
              <a:chOff x="1066680" y="2743200"/>
              <a:chExt cx="7162560" cy="1519560"/>
            </a:xfrm>
          </p:grpSpPr>
          <p:sp>
            <p:nvSpPr>
              <p:cNvPr id="109" name=""/>
              <p:cNvSpPr/>
              <p:nvPr/>
            </p:nvSpPr>
            <p:spPr>
              <a:xfrm>
                <a:off x="6705360" y="31240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066680" y="2743200"/>
                <a:ext cx="7162560" cy="151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There are 60 seconds in 1 minute. To convert minutes to seconds, multiply the number of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Verdana"/>
                  </a:rPr>
                  <a:t>minute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by           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762120" y="4648320"/>
            <a:ext cx="7924680" cy="1739880"/>
            <a:chOff x="762120" y="4648320"/>
            <a:chExt cx="7924680" cy="1739880"/>
          </a:xfrm>
        </p:grpSpPr>
        <p:sp>
          <p:nvSpPr>
            <p:cNvPr id="112" name=""/>
            <p:cNvSpPr/>
            <p:nvPr/>
          </p:nvSpPr>
          <p:spPr>
            <a:xfrm>
              <a:off x="762120" y="5562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 da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4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4648320"/>
              <a:ext cx="762012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re are 24 hours in 1 day. To convert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hours to days, multiply the number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hour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by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1722600"/>
            <a:ext cx="8915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average American uses 580 pounds of paper per year. Find the number of pounds of paper the average American uses per month, to the nearest ten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360" y="92880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Using Conversion Factors to Solv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75904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blem gives the ratio 580 pounds to 1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ye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asks for an answer in pounds pe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on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3657600"/>
            <a:ext cx="2666880" cy="764280"/>
            <a:chOff x="457200" y="3657600"/>
            <a:chExt cx="2666880" cy="764280"/>
          </a:xfrm>
        </p:grpSpPr>
        <p:sp>
          <p:nvSpPr>
            <p:cNvPr id="118" name=""/>
            <p:cNvSpPr/>
            <p:nvPr/>
          </p:nvSpPr>
          <p:spPr>
            <a:xfrm>
              <a:off x="457200" y="365760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580 lb 1 y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1960" y="40989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28800" y="365760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1 yr  12 m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81080" y="40863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73000" y="4038840"/>
              <a:ext cx="100080" cy="9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33520" y="4495680"/>
            <a:ext cx="1600200" cy="764280"/>
            <a:chOff x="533520" y="4495680"/>
            <a:chExt cx="1600200" cy="764280"/>
          </a:xfrm>
        </p:grpSpPr>
        <p:sp>
          <p:nvSpPr>
            <p:cNvPr id="124" name=""/>
            <p:cNvSpPr/>
            <p:nvPr/>
          </p:nvSpPr>
          <p:spPr>
            <a:xfrm>
              <a:off x="838440" y="449568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580 lb 12 m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3520" y="4648320"/>
              <a:ext cx="53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43200" y="49086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33520" y="5324400"/>
            <a:ext cx="3352680" cy="429120"/>
            <a:chOff x="533520" y="5324400"/>
            <a:chExt cx="3352680" cy="429120"/>
          </a:xfrm>
        </p:grpSpPr>
        <p:sp>
          <p:nvSpPr>
            <p:cNvPr id="128" name=""/>
            <p:cNvSpPr/>
            <p:nvPr/>
          </p:nvSpPr>
          <p:spPr>
            <a:xfrm>
              <a:off x="533520" y="5324400"/>
              <a:ext cx="3352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= 48.3 lb per mont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31720" y="538452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962520" y="37432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Multiply the ratio by the conversion fac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5334120"/>
            <a:ext cx="45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65ff"/>
                </a:solidFill>
                <a:latin typeface="Verdana"/>
              </a:rPr>
              <a:t>Divide 580 by 1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5759280"/>
            <a:ext cx="8077320" cy="764280"/>
            <a:chOff x="457200" y="5759280"/>
            <a:chExt cx="8077320" cy="764280"/>
          </a:xfrm>
        </p:grpSpPr>
        <p:sp>
          <p:nvSpPr>
            <p:cNvPr id="133" name=""/>
            <p:cNvSpPr/>
            <p:nvPr/>
          </p:nvSpPr>
          <p:spPr>
            <a:xfrm>
              <a:off x="457200" y="5759280"/>
              <a:ext cx="807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The average American uses 48.3 pounds of paper per month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62560" y="5835600"/>
              <a:ext cx="228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038480" y="4368960"/>
            <a:ext cx="4572000" cy="815040"/>
            <a:chOff x="4038480" y="4368960"/>
            <a:chExt cx="4572000" cy="815040"/>
          </a:xfrm>
        </p:grpSpPr>
        <p:sp>
          <p:nvSpPr>
            <p:cNvPr id="136" name=""/>
            <p:cNvSpPr/>
            <p:nvPr/>
          </p:nvSpPr>
          <p:spPr>
            <a:xfrm>
              <a:off x="4038480" y="4632480"/>
              <a:ext cx="4191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3365ff"/>
                  </a:solidFill>
                  <a:latin typeface="Verdana"/>
                </a:rPr>
                <a:t>Cancel yr units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391440" y="4368960"/>
              <a:ext cx="2219040" cy="815040"/>
              <a:chOff x="6391440" y="4368960"/>
              <a:chExt cx="2219040" cy="81504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6553080" y="4914720"/>
                <a:ext cx="456840" cy="228240"/>
              </a:xfrm>
              <a:prstGeom prst="line">
                <a:avLst/>
              </a:prstGeom>
              <a:ln w="9360">
                <a:solidFill>
                  <a:srgbClr val="336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6391440" y="4368960"/>
                <a:ext cx="2219040" cy="815040"/>
                <a:chOff x="6391440" y="4368960"/>
                <a:chExt cx="2219040" cy="8150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014240" y="4600440"/>
                  <a:ext cx="276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3365ff"/>
                      </a:solidFill>
                      <a:latin typeface="Verdana"/>
                    </a:rPr>
                    <a:t>•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085160" y="4368960"/>
                  <a:ext cx="9144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65ff"/>
                      </a:solidFill>
                      <a:latin typeface="Verdana"/>
                    </a:rPr>
                    <a:t>yr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65ff"/>
                      </a:solidFill>
                      <a:latin typeface="Verdana"/>
                    </a:rPr>
                    <a:t>m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719120" y="458460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3365ff"/>
                      </a:solidFill>
                      <a:latin typeface="Verdana"/>
                    </a:rPr>
                    <a:t>=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848720" y="4419720"/>
                  <a:ext cx="7617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 u="sng">
                      <a:solidFill>
                        <a:srgbClr val="3365ff"/>
                      </a:solidFill>
                      <a:uFillTx/>
                      <a:latin typeface="Verdana"/>
                    </a:rPr>
                    <a:t>lb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65ff"/>
                      </a:solidFill>
                      <a:latin typeface="Verdana"/>
                    </a:rPr>
                    <a:t>mo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305840" y="4797360"/>
                  <a:ext cx="457200" cy="0"/>
                </a:xfrm>
                <a:prstGeom prst="line">
                  <a:avLst/>
                </a:prstGeom>
                <a:ln w="9360">
                  <a:solidFill>
                    <a:srgbClr val="336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391440" y="4416480"/>
                  <a:ext cx="9144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 u="sng">
                      <a:solidFill>
                        <a:srgbClr val="3365ff"/>
                      </a:solidFill>
                      <a:uFillTx/>
                      <a:latin typeface="Verdana"/>
                    </a:rPr>
                    <a:t>lb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200" spc="-1" strike="noStrike">
                      <a:solidFill>
                        <a:srgbClr val="3365ff"/>
                      </a:solidFill>
                      <a:latin typeface="Verdana"/>
                    </a:rPr>
                    <a:t>yr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7323120" y="4533840"/>
                  <a:ext cx="457200" cy="228240"/>
                </a:xfrm>
                <a:prstGeom prst="line">
                  <a:avLst/>
                </a:prstGeom>
                <a:ln w="9360">
                  <a:solidFill>
                    <a:srgbClr val="336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5600" y="144792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am drives his car 23,000 miles per year. Find the number of miles he drives per month, to the nearest m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6827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blem gives the ratio 23,000 miles to 1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asks for an answer in miles pe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33520" y="3657600"/>
            <a:ext cx="3352680" cy="825480"/>
            <a:chOff x="533520" y="3657600"/>
            <a:chExt cx="3352680" cy="825480"/>
          </a:xfrm>
        </p:grpSpPr>
        <p:sp>
          <p:nvSpPr>
            <p:cNvPr id="151" name=""/>
            <p:cNvSpPr/>
            <p:nvPr/>
          </p:nvSpPr>
          <p:spPr>
            <a:xfrm>
              <a:off x="533520" y="365760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3,000 mi 1 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480" y="4098960"/>
              <a:ext cx="161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590920" y="3657600"/>
              <a:ext cx="1295280" cy="825480"/>
              <a:chOff x="2590920" y="3657600"/>
              <a:chExt cx="1295280" cy="825480"/>
            </a:xfrm>
          </p:grpSpPr>
          <p:sp>
            <p:nvSpPr>
              <p:cNvPr id="154" name=""/>
              <p:cNvSpPr/>
              <p:nvPr/>
            </p:nvSpPr>
            <p:spPr>
              <a:xfrm>
                <a:off x="2590920" y="3657600"/>
                <a:ext cx="1295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yr  12 m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43200" y="4070520"/>
                <a:ext cx="106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414520" y="4038480"/>
              <a:ext cx="100080" cy="10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57200" y="4495680"/>
            <a:ext cx="2513880" cy="825480"/>
            <a:chOff x="457200" y="4495680"/>
            <a:chExt cx="2513880" cy="825480"/>
          </a:xfrm>
        </p:grpSpPr>
        <p:sp>
          <p:nvSpPr>
            <p:cNvPr id="158" name=""/>
            <p:cNvSpPr/>
            <p:nvPr/>
          </p:nvSpPr>
          <p:spPr>
            <a:xfrm>
              <a:off x="936000" y="4495680"/>
              <a:ext cx="203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23,000 mi 12 m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46483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00880" y="4908600"/>
              <a:ext cx="167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33520" y="5410080"/>
            <a:ext cx="3352680" cy="459720"/>
            <a:chOff x="533520" y="5410080"/>
            <a:chExt cx="3352680" cy="459720"/>
          </a:xfrm>
        </p:grpSpPr>
        <p:sp>
          <p:nvSpPr>
            <p:cNvPr id="162" name=""/>
            <p:cNvSpPr/>
            <p:nvPr/>
          </p:nvSpPr>
          <p:spPr>
            <a:xfrm>
              <a:off x="533520" y="54100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 1916.6 per mon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5486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495680" y="3749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he ratio by the conversion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5425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23,000 by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6019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 drives his car about 1917 miles per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495680" y="4384800"/>
            <a:ext cx="4572000" cy="876240"/>
            <a:chOff x="4495680" y="4384800"/>
            <a:chExt cx="4572000" cy="876240"/>
          </a:xfrm>
        </p:grpSpPr>
        <p:sp>
          <p:nvSpPr>
            <p:cNvPr id="168" name=""/>
            <p:cNvSpPr/>
            <p:nvPr/>
          </p:nvSpPr>
          <p:spPr>
            <a:xfrm>
              <a:off x="4495680" y="464832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Cancel yr uni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6848640" y="4384800"/>
              <a:ext cx="2219040" cy="876240"/>
              <a:chOff x="6848640" y="4384800"/>
              <a:chExt cx="2219040" cy="876240"/>
            </a:xfrm>
          </p:grpSpPr>
          <p:sp>
            <p:nvSpPr>
              <p:cNvPr id="170" name=""/>
              <p:cNvSpPr/>
              <p:nvPr/>
            </p:nvSpPr>
            <p:spPr>
              <a:xfrm flipV="1">
                <a:off x="7010280" y="4930560"/>
                <a:ext cx="456840" cy="228600"/>
              </a:xfrm>
              <a:prstGeom prst="line">
                <a:avLst/>
              </a:prstGeom>
              <a:ln w="9360">
                <a:solidFill>
                  <a:srgbClr val="3365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6848640" y="4384800"/>
                <a:ext cx="2219040" cy="876240"/>
                <a:chOff x="6848640" y="4384800"/>
                <a:chExt cx="2219040" cy="8762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7471440" y="4616280"/>
                  <a:ext cx="276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3365ff"/>
                      </a:solidFill>
                      <a:latin typeface="Verdana"/>
                    </a:rPr>
                    <a:t>•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542360" y="4384800"/>
                  <a:ext cx="9144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65ff"/>
                      </a:solidFill>
                      <a:latin typeface="Verdana"/>
                    </a:rPr>
                    <a:t>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65ff"/>
                      </a:solidFill>
                      <a:latin typeface="Verdana"/>
                    </a:rPr>
                    <a:t>m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176320" y="460044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3365ff"/>
                      </a:solidFill>
                      <a:latin typeface="Verdana"/>
                    </a:rPr>
                    <a:t>=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305920" y="4435560"/>
                  <a:ext cx="7617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 u="sng">
                      <a:solidFill>
                        <a:srgbClr val="3365ff"/>
                      </a:solidFill>
                      <a:uFillTx/>
                      <a:latin typeface="Verdana"/>
                    </a:rPr>
                    <a:t>mi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65ff"/>
                      </a:solidFill>
                      <a:latin typeface="Verdana"/>
                    </a:rPr>
                    <a:t>m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763040" y="4813200"/>
                  <a:ext cx="457200" cy="0"/>
                </a:xfrm>
                <a:prstGeom prst="line">
                  <a:avLst/>
                </a:prstGeom>
                <a:ln w="9360">
                  <a:solidFill>
                    <a:srgbClr val="336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848640" y="4432320"/>
                  <a:ext cx="9144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 u="sng">
                      <a:solidFill>
                        <a:srgbClr val="3365ff"/>
                      </a:solidFill>
                      <a:uFillTx/>
                      <a:latin typeface="Verdana"/>
                    </a:rPr>
                    <a:t>mi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65ff"/>
                      </a:solidFill>
                      <a:latin typeface="Verdana"/>
                    </a:rPr>
                    <a:t>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7780320" y="4549680"/>
                  <a:ext cx="457200" cy="228240"/>
                </a:xfrm>
                <a:prstGeom prst="line">
                  <a:avLst/>
                </a:prstGeom>
                <a:ln w="9360">
                  <a:solidFill>
                    <a:srgbClr val="336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3: </a:t>
            </a:r>
            <a:r>
              <a:rPr b="0" lang="en-US" sz="2400" spc="-1" strike="noStrike">
                <a:solidFill>
                  <a:srgbClr val="993366"/>
                </a:solidFill>
                <a:latin typeface="Arial Black"/>
              </a:rPr>
              <a:t>Problem Solving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23176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ar traveled 60 miles on a road in 2 hours. How many feet per second was the car trave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5791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30360" y="1981080"/>
            <a:ext cx="11984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636480" y="1447920"/>
            <a:ext cx="4736160" cy="761760"/>
            <a:chOff x="636480" y="1447920"/>
            <a:chExt cx="4736160" cy="761760"/>
          </a:xfrm>
        </p:grpSpPr>
        <p:grpSp>
          <p:nvGrpSpPr>
            <p:cNvPr id="184" name=""/>
            <p:cNvGrpSpPr/>
            <p:nvPr/>
          </p:nvGrpSpPr>
          <p:grpSpPr>
            <a:xfrm>
              <a:off x="636480" y="1447920"/>
              <a:ext cx="761760" cy="761760"/>
              <a:chOff x="636480" y="1447920"/>
              <a:chExt cx="761760" cy="761760"/>
            </a:xfrm>
          </p:grpSpPr>
          <p:pic>
            <p:nvPicPr>
              <p:cNvPr id="1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36480" y="1447920"/>
                <a:ext cx="76176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757800" y="1465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713160" y="15224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219320" y="198108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blem is stated in units o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i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hou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question asks for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units of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fee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secon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You will need to use several conversion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3505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ortant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4267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et to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4495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40384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5280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5791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503856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rs to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2671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69440" y="5816520"/>
            <a:ext cx="31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utes to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609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56545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800600" y="4962600"/>
            <a:ext cx="1295280" cy="678600"/>
            <a:chOff x="4800600" y="4962600"/>
            <a:chExt cx="1295280" cy="678600"/>
          </a:xfrm>
        </p:grpSpPr>
        <p:sp>
          <p:nvSpPr>
            <p:cNvPr id="200" name=""/>
            <p:cNvSpPr/>
            <p:nvPr/>
          </p:nvSpPr>
          <p:spPr>
            <a:xfrm>
              <a:off x="4800600" y="4962600"/>
              <a:ext cx="12952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0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16440" y="5283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47920" y="22096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y by each conversion factor separately, 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 the probl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multiply by several conversion factors at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62120" y="1600200"/>
            <a:ext cx="2788920" cy="647640"/>
            <a:chOff x="762120" y="1600200"/>
            <a:chExt cx="2788920" cy="647640"/>
          </a:xfrm>
        </p:grpSpPr>
        <p:grpSp>
          <p:nvGrpSpPr>
            <p:cNvPr id="204" name=""/>
            <p:cNvGrpSpPr/>
            <p:nvPr/>
          </p:nvGrpSpPr>
          <p:grpSpPr>
            <a:xfrm>
              <a:off x="762120" y="1600200"/>
              <a:ext cx="571320" cy="647640"/>
              <a:chOff x="762120" y="1600200"/>
              <a:chExt cx="571320" cy="647640"/>
            </a:xfrm>
          </p:grpSpPr>
          <p:pic>
            <p:nvPicPr>
              <p:cNvPr id="20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600200"/>
                <a:ext cx="5713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885240" y="1631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1517040" y="164628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19320" y="1600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, convert 60 miles in 2 hours into a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33520" y="1066680"/>
            <a:ext cx="1791000" cy="704880"/>
            <a:chOff x="533520" y="1066680"/>
            <a:chExt cx="1791000" cy="704880"/>
          </a:xfrm>
        </p:grpSpPr>
        <p:sp>
          <p:nvSpPr>
            <p:cNvPr id="210" name=""/>
            <p:cNvSpPr/>
            <p:nvPr/>
          </p:nvSpPr>
          <p:spPr>
            <a:xfrm>
              <a:off x="1340640" y="118944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33520" y="1066680"/>
              <a:ext cx="704880" cy="704880"/>
              <a:chOff x="533520" y="1066680"/>
              <a:chExt cx="704880" cy="704880"/>
            </a:xfrm>
          </p:grpSpPr>
          <p:pic>
            <p:nvPicPr>
              <p:cNvPr id="2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106668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738000" y="11847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1219320" y="243828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60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89800" y="2514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24382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(60÷2)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2÷2)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24843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243828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30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32767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a single conversion factor to convert hours directly to seco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5105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urs to second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90440" y="511956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84560" y="5013360"/>
            <a:ext cx="8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0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05320" y="58053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5ff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3365ff"/>
                </a:solidFill>
                <a:latin typeface="Verdana"/>
              </a:rPr>
              <a:t>Set up the conversion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569840" y="4114800"/>
            <a:ext cx="4116960" cy="825480"/>
            <a:chOff x="4569840" y="4114800"/>
            <a:chExt cx="4116960" cy="825480"/>
          </a:xfrm>
        </p:grpSpPr>
        <p:sp>
          <p:nvSpPr>
            <p:cNvPr id="225" name=""/>
            <p:cNvSpPr/>
            <p:nvPr/>
          </p:nvSpPr>
          <p:spPr>
            <a:xfrm>
              <a:off x="4569840" y="4267080"/>
              <a:ext cx="250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inutes to sec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8660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91520" y="411480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04920" y="4191120"/>
            <a:ext cx="4114440" cy="678600"/>
            <a:chOff x="304920" y="4191120"/>
            <a:chExt cx="4114440" cy="678600"/>
          </a:xfrm>
        </p:grpSpPr>
        <p:sp>
          <p:nvSpPr>
            <p:cNvPr id="229" name=""/>
            <p:cNvSpPr/>
            <p:nvPr/>
          </p:nvSpPr>
          <p:spPr>
            <a:xfrm>
              <a:off x="304920" y="426708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ours to minu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66880" y="4495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3124080" y="4191120"/>
              <a:ext cx="1295280" cy="678600"/>
              <a:chOff x="3124080" y="4191120"/>
              <a:chExt cx="1295280" cy="67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3124080" y="4191120"/>
                <a:ext cx="129528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0 m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39920" y="451152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3581280" y="5013360"/>
            <a:ext cx="1295640" cy="703800"/>
            <a:chOff x="3581280" y="5013360"/>
            <a:chExt cx="1295640" cy="703800"/>
          </a:xfrm>
        </p:grpSpPr>
        <p:sp>
          <p:nvSpPr>
            <p:cNvPr id="235" name=""/>
            <p:cNvSpPr/>
            <p:nvPr/>
          </p:nvSpPr>
          <p:spPr>
            <a:xfrm>
              <a:off x="3581280" y="50133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60 m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95840" y="536256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888880" y="4981680"/>
            <a:ext cx="1473840" cy="703800"/>
            <a:chOff x="5888880" y="4981680"/>
            <a:chExt cx="1473840" cy="703800"/>
          </a:xfrm>
        </p:grpSpPr>
        <p:sp>
          <p:nvSpPr>
            <p:cNvPr id="238" name=""/>
            <p:cNvSpPr/>
            <p:nvPr/>
          </p:nvSpPr>
          <p:spPr>
            <a:xfrm>
              <a:off x="6067440" y="4981680"/>
              <a:ext cx="129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600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88880" y="5105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67600" y="531972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V="1">
            <a:off x="4086360" y="5396040"/>
            <a:ext cx="60948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257800" y="5028840"/>
            <a:ext cx="6094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219320" y="5715000"/>
            <a:ext cx="3733560" cy="703800"/>
            <a:chOff x="1219320" y="5715000"/>
            <a:chExt cx="3733560" cy="703800"/>
          </a:xfrm>
        </p:grpSpPr>
        <p:grpSp>
          <p:nvGrpSpPr>
            <p:cNvPr id="244" name=""/>
            <p:cNvGrpSpPr/>
            <p:nvPr/>
          </p:nvGrpSpPr>
          <p:grpSpPr>
            <a:xfrm>
              <a:off x="1219320" y="5715000"/>
              <a:ext cx="3733560" cy="703800"/>
              <a:chOff x="1219320" y="5715000"/>
              <a:chExt cx="3733560" cy="70380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1219320" y="5715000"/>
                <a:ext cx="2624400" cy="703800"/>
                <a:chOff x="1219320" y="5715000"/>
                <a:chExt cx="2624400" cy="7038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1219320" y="5715000"/>
                  <a:ext cx="9144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30 m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 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134800" y="5867640"/>
                  <a:ext cx="261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•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438280" y="5715000"/>
                  <a:ext cx="12193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5280 f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 m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582360" y="5867640"/>
                  <a:ext cx="261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•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3581280" y="5715000"/>
                <a:ext cx="1371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3600 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3809880" y="608184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40440" y="114192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33520" y="1066680"/>
            <a:ext cx="704880" cy="704880"/>
            <a:chOff x="533520" y="1066680"/>
            <a:chExt cx="704880" cy="70488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533520" y="1066680"/>
              <a:ext cx="70488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738000" y="1184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219320" y="1676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not include the numbers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2133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ice what happens to the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295280" y="4419720"/>
            <a:ext cx="3213360" cy="825480"/>
            <a:chOff x="1295280" y="4419720"/>
            <a:chExt cx="3213360" cy="825480"/>
          </a:xfrm>
        </p:grpSpPr>
        <p:sp>
          <p:nvSpPr>
            <p:cNvPr id="259" name=""/>
            <p:cNvSpPr/>
            <p:nvPr/>
          </p:nvSpPr>
          <p:spPr>
            <a:xfrm>
              <a:off x="1295280" y="4419720"/>
              <a:ext cx="312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30 • 5280 ft • 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• 1 • 36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54040" y="4552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191120" y="4419720"/>
            <a:ext cx="2451240" cy="825480"/>
            <a:chOff x="4191120" y="4419720"/>
            <a:chExt cx="2451240" cy="825480"/>
          </a:xfrm>
        </p:grpSpPr>
        <p:sp>
          <p:nvSpPr>
            <p:cNvPr id="262" name=""/>
            <p:cNvSpPr/>
            <p:nvPr/>
          </p:nvSpPr>
          <p:spPr>
            <a:xfrm>
              <a:off x="4191120" y="441972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58,400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87760" y="452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324480" y="44197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44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5410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ar was traveling 44 feet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570560" y="2743200"/>
            <a:ext cx="3690360" cy="825480"/>
            <a:chOff x="4570560" y="2743200"/>
            <a:chExt cx="3690360" cy="825480"/>
          </a:xfrm>
        </p:grpSpPr>
        <p:sp>
          <p:nvSpPr>
            <p:cNvPr id="267" name=""/>
            <p:cNvSpPr/>
            <p:nvPr/>
          </p:nvSpPr>
          <p:spPr>
            <a:xfrm>
              <a:off x="4570560" y="2895480"/>
              <a:ext cx="36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implify. Only     remai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45960" y="2743200"/>
              <a:ext cx="3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65ff"/>
                  </a:solidFill>
                  <a:uFillTx/>
                  <a:latin typeface="Verdana"/>
                </a:rPr>
                <a:t>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327640" y="37339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95280" y="2666880"/>
            <a:ext cx="2209680" cy="873000"/>
            <a:chOff x="1295280" y="2666880"/>
            <a:chExt cx="2209680" cy="873000"/>
          </a:xfrm>
        </p:grpSpPr>
        <p:sp>
          <p:nvSpPr>
            <p:cNvPr id="271" name=""/>
            <p:cNvSpPr/>
            <p:nvPr/>
          </p:nvSpPr>
          <p:spPr>
            <a:xfrm>
              <a:off x="1295280" y="271440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86120" y="289872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57040" y="266688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65520" y="288252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71440" y="2714400"/>
              <a:ext cx="53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57200" y="30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508040" y="2882160"/>
              <a:ext cx="45720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2285640" y="3171240"/>
              <a:ext cx="45720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1523880" y="3171240"/>
              <a:ext cx="457200" cy="228600"/>
            </a:xfrm>
            <a:prstGeom prst="line">
              <a:avLst/>
            </a:prstGeom>
            <a:ln w="9360">
              <a:solidFill>
                <a:srgbClr val="336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047760" y="2866320"/>
              <a:ext cx="457200" cy="228600"/>
            </a:xfrm>
            <a:prstGeom prst="line">
              <a:avLst/>
            </a:prstGeom>
            <a:ln w="9360">
              <a:solidFill>
                <a:srgbClr val="336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219320" y="3597120"/>
            <a:ext cx="4038480" cy="885960"/>
            <a:chOff x="1219320" y="3597120"/>
            <a:chExt cx="4038480" cy="885960"/>
          </a:xfrm>
        </p:grpSpPr>
        <p:sp>
          <p:nvSpPr>
            <p:cNvPr id="282" name=""/>
            <p:cNvSpPr/>
            <p:nvPr/>
          </p:nvSpPr>
          <p:spPr>
            <a:xfrm>
              <a:off x="2385000" y="378000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32560" y="378000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1219320" y="3597120"/>
              <a:ext cx="4038480" cy="885960"/>
              <a:chOff x="1219320" y="3597120"/>
              <a:chExt cx="4038480" cy="885960"/>
            </a:xfrm>
          </p:grpSpPr>
          <p:sp>
            <p:nvSpPr>
              <p:cNvPr id="285" name=""/>
              <p:cNvSpPr/>
              <p:nvPr/>
            </p:nvSpPr>
            <p:spPr>
              <a:xfrm>
                <a:off x="1219320" y="3657600"/>
                <a:ext cx="1371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30 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438280" y="3645000"/>
                <a:ext cx="1600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280 f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886200" y="3597120"/>
                <a:ext cx="1371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600 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98960" y="4022640"/>
                <a:ext cx="11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219320" y="1905120"/>
            <a:ext cx="670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rate of 44 ft/s is less than 50 ft/s.  A rate of 60 miles in 2 hours is 30 mi/h or 0.5 mi/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7200" y="1066680"/>
            <a:ext cx="838080" cy="676440"/>
            <a:chOff x="457200" y="1066680"/>
            <a:chExt cx="838080" cy="67644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561600" y="1066680"/>
              <a:ext cx="6760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457200" y="12182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38760" y="129420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350532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0.5 mi/min is less than 3000 f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0 s or 50 ft/s and 44 ft/s is less than 50 ft/s, then 44 ft/s is a reasonable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81080" y="202896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train traveled 180 miles on a railroad track in 4 hours.  How many feet per second was the train trave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76920" y="5791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30360" y="1981080"/>
            <a:ext cx="11984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990720"/>
            <a:ext cx="8153640" cy="52578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d each unit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Jump rope 192 times in 6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our pounds of bananas for $2.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6 anchor bolts for $18.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88 movies on 9 sh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17360" y="2513880"/>
            <a:ext cx="24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2 jumps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82080" y="3580560"/>
            <a:ext cx="15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$0.59/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04400" y="4571280"/>
            <a:ext cx="18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$1.16/bo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67320" y="5562000"/>
            <a:ext cx="28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32 movies/sh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636480" y="1600200"/>
            <a:ext cx="4736160" cy="762120"/>
            <a:chOff x="636480" y="1600200"/>
            <a:chExt cx="4736160" cy="762120"/>
          </a:xfrm>
        </p:grpSpPr>
        <p:grpSp>
          <p:nvGrpSpPr>
            <p:cNvPr id="300" name=""/>
            <p:cNvGrpSpPr/>
            <p:nvPr/>
          </p:nvGrpSpPr>
          <p:grpSpPr>
            <a:xfrm>
              <a:off x="636480" y="1600200"/>
              <a:ext cx="761760" cy="762120"/>
              <a:chOff x="636480" y="1600200"/>
              <a:chExt cx="761760" cy="762120"/>
            </a:xfrm>
          </p:grpSpPr>
          <p:pic>
            <p:nvPicPr>
              <p:cNvPr id="3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36480" y="1600200"/>
                <a:ext cx="7617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>
                <a:off x="757800" y="1618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713160" y="1675440"/>
              <a:ext cx="465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Understand the 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219320" y="21337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blem is stated in units o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i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hou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question asks for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 units of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fee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lang="en-US" sz="2400" spc="-1" strike="noStrike">
                <a:solidFill>
                  <a:srgbClr val="3365ff"/>
                </a:solidFill>
                <a:latin typeface="Verdana"/>
              </a:rPr>
              <a:t>secon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You will need to use several conversion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19320" y="3733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ortant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19320" y="4419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et to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33920" y="4191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5280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5791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19320" y="5105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rs to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69440" y="5877000"/>
            <a:ext cx="31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utes to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48320" y="6156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29200" y="5715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1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800600" y="5029200"/>
            <a:ext cx="1295280" cy="678600"/>
            <a:chOff x="4800600" y="5029200"/>
            <a:chExt cx="1295280" cy="678600"/>
          </a:xfrm>
        </p:grpSpPr>
        <p:sp>
          <p:nvSpPr>
            <p:cNvPr id="316" name=""/>
            <p:cNvSpPr/>
            <p:nvPr/>
          </p:nvSpPr>
          <p:spPr>
            <a:xfrm>
              <a:off x="4800600" y="5029200"/>
              <a:ext cx="12952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0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16440" y="53499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447920" y="22096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y by each conversion factor separately, 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plify the probl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multiply by several conversion factors at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762120" y="1600200"/>
            <a:ext cx="2788920" cy="647640"/>
            <a:chOff x="762120" y="1600200"/>
            <a:chExt cx="2788920" cy="647640"/>
          </a:xfrm>
        </p:grpSpPr>
        <p:grpSp>
          <p:nvGrpSpPr>
            <p:cNvPr id="320" name=""/>
            <p:cNvGrpSpPr/>
            <p:nvPr/>
          </p:nvGrpSpPr>
          <p:grpSpPr>
            <a:xfrm>
              <a:off x="762120" y="1600200"/>
              <a:ext cx="571320" cy="647640"/>
              <a:chOff x="762120" y="1600200"/>
              <a:chExt cx="571320" cy="647640"/>
            </a:xfrm>
          </p:grpSpPr>
          <p:pic>
            <p:nvPicPr>
              <p:cNvPr id="32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600200"/>
                <a:ext cx="5713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"/>
              <p:cNvSpPr/>
              <p:nvPr/>
            </p:nvSpPr>
            <p:spPr>
              <a:xfrm>
                <a:off x="885240" y="1631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517040" y="1646280"/>
              <a:ext cx="203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ke a Pl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19320" y="1600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, convert 180 miles in 4 hours into a unit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33520" y="1066680"/>
            <a:ext cx="1791000" cy="704880"/>
            <a:chOff x="533520" y="1066680"/>
            <a:chExt cx="1791000" cy="704880"/>
          </a:xfrm>
        </p:grpSpPr>
        <p:sp>
          <p:nvSpPr>
            <p:cNvPr id="326" name=""/>
            <p:cNvSpPr/>
            <p:nvPr/>
          </p:nvSpPr>
          <p:spPr>
            <a:xfrm>
              <a:off x="1340640" y="118944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533520" y="1066680"/>
              <a:ext cx="704880" cy="704880"/>
              <a:chOff x="533520" y="1066680"/>
              <a:chExt cx="704880" cy="704880"/>
            </a:xfrm>
          </p:grpSpPr>
          <p:pic>
            <p:nvPicPr>
              <p:cNvPr id="32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1066680"/>
                <a:ext cx="7048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738000" y="11847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>
            <a:off x="838080" y="24382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180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37520" y="2514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133720" y="24382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(180 ÷ 4)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4 ÷ 4)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43440" y="25131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67080" y="243828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45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19320" y="32767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a single conversion factor to convert hours directly to seco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5105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urs to second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90440" y="511956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84560" y="5013360"/>
            <a:ext cx="8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0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05320" y="58053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5ff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3365ff"/>
                </a:solidFill>
                <a:latin typeface="Verdana"/>
              </a:rPr>
              <a:t>Set up the conversion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569840" y="4114800"/>
            <a:ext cx="4116960" cy="825480"/>
            <a:chOff x="4569840" y="4114800"/>
            <a:chExt cx="4116960" cy="825480"/>
          </a:xfrm>
        </p:grpSpPr>
        <p:sp>
          <p:nvSpPr>
            <p:cNvPr id="341" name=""/>
            <p:cNvSpPr/>
            <p:nvPr/>
          </p:nvSpPr>
          <p:spPr>
            <a:xfrm>
              <a:off x="4569840" y="4267080"/>
              <a:ext cx="250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inutes to sec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8660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91520" y="411480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 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04920" y="4191120"/>
            <a:ext cx="4114440" cy="678600"/>
            <a:chOff x="304920" y="4191120"/>
            <a:chExt cx="4114440" cy="678600"/>
          </a:xfrm>
        </p:grpSpPr>
        <p:sp>
          <p:nvSpPr>
            <p:cNvPr id="345" name=""/>
            <p:cNvSpPr/>
            <p:nvPr/>
          </p:nvSpPr>
          <p:spPr>
            <a:xfrm>
              <a:off x="304920" y="426708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ours to minu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6880" y="44956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3124080" y="4191120"/>
              <a:ext cx="1295280" cy="678600"/>
              <a:chOff x="3124080" y="4191120"/>
              <a:chExt cx="1295280" cy="678600"/>
            </a:xfrm>
          </p:grpSpPr>
          <p:sp>
            <p:nvSpPr>
              <p:cNvPr id="348" name=""/>
              <p:cNvSpPr/>
              <p:nvPr/>
            </p:nvSpPr>
            <p:spPr>
              <a:xfrm>
                <a:off x="3124080" y="4191120"/>
                <a:ext cx="129528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60 m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139920" y="451152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3581280" y="5013360"/>
            <a:ext cx="1295640" cy="703800"/>
            <a:chOff x="3581280" y="5013360"/>
            <a:chExt cx="1295640" cy="703800"/>
          </a:xfrm>
        </p:grpSpPr>
        <p:sp>
          <p:nvSpPr>
            <p:cNvPr id="351" name=""/>
            <p:cNvSpPr/>
            <p:nvPr/>
          </p:nvSpPr>
          <p:spPr>
            <a:xfrm>
              <a:off x="3581280" y="50133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60 m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95840" y="536256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888880" y="4981680"/>
            <a:ext cx="1473840" cy="703800"/>
            <a:chOff x="5888880" y="4981680"/>
            <a:chExt cx="1473840" cy="703800"/>
          </a:xfrm>
        </p:grpSpPr>
        <p:sp>
          <p:nvSpPr>
            <p:cNvPr id="354" name=""/>
            <p:cNvSpPr/>
            <p:nvPr/>
          </p:nvSpPr>
          <p:spPr>
            <a:xfrm>
              <a:off x="6067440" y="4981680"/>
              <a:ext cx="129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1 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3600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88880" y="5105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67600" y="5319720"/>
              <a:ext cx="8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 flipV="1">
            <a:off x="4086360" y="5396040"/>
            <a:ext cx="60948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5257800" y="5028840"/>
            <a:ext cx="6094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19320" y="5715000"/>
            <a:ext cx="3733560" cy="703800"/>
            <a:chOff x="1219320" y="5715000"/>
            <a:chExt cx="3733560" cy="703800"/>
          </a:xfrm>
        </p:grpSpPr>
        <p:grpSp>
          <p:nvGrpSpPr>
            <p:cNvPr id="360" name=""/>
            <p:cNvGrpSpPr/>
            <p:nvPr/>
          </p:nvGrpSpPr>
          <p:grpSpPr>
            <a:xfrm>
              <a:off x="1219320" y="5715000"/>
              <a:ext cx="3733560" cy="703800"/>
              <a:chOff x="1219320" y="5715000"/>
              <a:chExt cx="3733560" cy="7038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1219320" y="5715000"/>
                <a:ext cx="2624400" cy="703800"/>
                <a:chOff x="1219320" y="5715000"/>
                <a:chExt cx="2624400" cy="7038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1219320" y="5715000"/>
                  <a:ext cx="9144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45 m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 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134800" y="5867640"/>
                  <a:ext cx="261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•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438280" y="5715000"/>
                  <a:ext cx="12193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 u="sng">
                      <a:solidFill>
                        <a:srgbClr val="000000"/>
                      </a:solidFill>
                      <a:uFillTx/>
                      <a:latin typeface="Verdana"/>
                    </a:rPr>
                    <a:t>5280 f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 mi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582360" y="5867640"/>
                  <a:ext cx="261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•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3581280" y="5715000"/>
                <a:ext cx="1371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3600 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3809880" y="608184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464120" y="114192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ve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33520" y="1066680"/>
            <a:ext cx="704880" cy="704880"/>
            <a:chOff x="533520" y="1066680"/>
            <a:chExt cx="704880" cy="704880"/>
          </a:xfrm>
        </p:grpSpPr>
        <p:pic>
          <p:nvPicPr>
            <p:cNvPr id="370" name="" descr=""/>
            <p:cNvPicPr/>
            <p:nvPr/>
          </p:nvPicPr>
          <p:blipFill>
            <a:blip r:embed="rId1"/>
            <a:stretch/>
          </p:blipFill>
          <p:spPr>
            <a:xfrm>
              <a:off x="533520" y="1066680"/>
              <a:ext cx="70488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38000" y="1184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219320" y="1676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not include the numbers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19320" y="2133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ice what happens to the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295280" y="4419720"/>
            <a:ext cx="3213360" cy="825480"/>
            <a:chOff x="1295280" y="4419720"/>
            <a:chExt cx="3213360" cy="825480"/>
          </a:xfrm>
        </p:grpSpPr>
        <p:sp>
          <p:nvSpPr>
            <p:cNvPr id="375" name=""/>
            <p:cNvSpPr/>
            <p:nvPr/>
          </p:nvSpPr>
          <p:spPr>
            <a:xfrm>
              <a:off x="1295280" y="4419720"/>
              <a:ext cx="312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45 • 5280 ft • 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• 1 • 36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54040" y="4552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191120" y="4419720"/>
            <a:ext cx="2451240" cy="825480"/>
            <a:chOff x="4191120" y="4419720"/>
            <a:chExt cx="2451240" cy="825480"/>
          </a:xfrm>
        </p:grpSpPr>
        <p:sp>
          <p:nvSpPr>
            <p:cNvPr id="378" name=""/>
            <p:cNvSpPr/>
            <p:nvPr/>
          </p:nvSpPr>
          <p:spPr>
            <a:xfrm>
              <a:off x="4191120" y="441972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237,600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6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87760" y="452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6400800" y="44197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66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47920" y="5410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rain was traveling 66 feet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570560" y="2743200"/>
            <a:ext cx="3690360" cy="825480"/>
            <a:chOff x="4570560" y="2743200"/>
            <a:chExt cx="3690360" cy="825480"/>
          </a:xfrm>
        </p:grpSpPr>
        <p:sp>
          <p:nvSpPr>
            <p:cNvPr id="383" name=""/>
            <p:cNvSpPr/>
            <p:nvPr/>
          </p:nvSpPr>
          <p:spPr>
            <a:xfrm>
              <a:off x="4570560" y="2895480"/>
              <a:ext cx="36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Arial"/>
                </a:rPr>
                <a:t> 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implify. Only     remai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45960" y="2743200"/>
              <a:ext cx="3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65ff"/>
                  </a:solidFill>
                  <a:uFillTx/>
                  <a:latin typeface="Verdana"/>
                </a:rPr>
                <a:t>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5327640" y="37339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295280" y="2666880"/>
            <a:ext cx="2209680" cy="873000"/>
            <a:chOff x="1295280" y="2666880"/>
            <a:chExt cx="2209680" cy="873000"/>
          </a:xfrm>
        </p:grpSpPr>
        <p:sp>
          <p:nvSpPr>
            <p:cNvPr id="387" name=""/>
            <p:cNvSpPr/>
            <p:nvPr/>
          </p:nvSpPr>
          <p:spPr>
            <a:xfrm>
              <a:off x="1295280" y="271440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86120" y="289872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57040" y="266688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65520" y="288252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71440" y="2714400"/>
              <a:ext cx="53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57200" y="30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1508040" y="2882160"/>
              <a:ext cx="45720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2285640" y="3171240"/>
              <a:ext cx="45720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523880" y="3171240"/>
              <a:ext cx="457200" cy="228600"/>
            </a:xfrm>
            <a:prstGeom prst="line">
              <a:avLst/>
            </a:prstGeom>
            <a:ln w="9360">
              <a:solidFill>
                <a:srgbClr val="336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047760" y="2866320"/>
              <a:ext cx="457200" cy="228600"/>
            </a:xfrm>
            <a:prstGeom prst="line">
              <a:avLst/>
            </a:prstGeom>
            <a:ln w="9360">
              <a:solidFill>
                <a:srgbClr val="336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219320" y="3597120"/>
            <a:ext cx="4038480" cy="885960"/>
            <a:chOff x="1219320" y="3597120"/>
            <a:chExt cx="4038480" cy="885960"/>
          </a:xfrm>
        </p:grpSpPr>
        <p:sp>
          <p:nvSpPr>
            <p:cNvPr id="398" name=""/>
            <p:cNvSpPr/>
            <p:nvPr/>
          </p:nvSpPr>
          <p:spPr>
            <a:xfrm>
              <a:off x="2385000" y="378000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32560" y="3780000"/>
              <a:ext cx="2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1219320" y="3597120"/>
              <a:ext cx="4038480" cy="885960"/>
              <a:chOff x="1219320" y="3597120"/>
              <a:chExt cx="4038480" cy="885960"/>
            </a:xfrm>
          </p:grpSpPr>
          <p:sp>
            <p:nvSpPr>
              <p:cNvPr id="401" name=""/>
              <p:cNvSpPr/>
              <p:nvPr/>
            </p:nvSpPr>
            <p:spPr>
              <a:xfrm>
                <a:off x="1219320" y="3657600"/>
                <a:ext cx="1371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45 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438280" y="3645000"/>
                <a:ext cx="1600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280 f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m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886200" y="3597120"/>
                <a:ext cx="1371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 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3600 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098960" y="4022640"/>
                <a:ext cx="112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219320" y="18288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rate of 66 ft/s is more than 50 ft/s.  A rate of 180 miles in 4 hours is 45 mi/h or 0.75 mi/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57200" y="1066680"/>
            <a:ext cx="838080" cy="676440"/>
            <a:chOff x="457200" y="1066680"/>
            <a:chExt cx="838080" cy="67644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561600" y="1066680"/>
              <a:ext cx="6760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57200" y="12182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238760" y="129420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9320" y="350532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0.75 mi/min is more than 3000 ft/60 s or 50 ft/s and 66 ft/s is more than 50 ft/s, then 66 ft/s is a reasonable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: </a:t>
            </a:r>
            <a:r>
              <a:rPr b="0" i="1" lang="en-US" sz="2400" spc="-1" strike="noStrike">
                <a:solidFill>
                  <a:srgbClr val="ff0000"/>
                </a:solidFill>
                <a:latin typeface="Arial Black"/>
              </a:rPr>
              <a:t>Physical Scienc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57200" y="1828800"/>
            <a:ext cx="8237520" cy="1922760"/>
            <a:chOff x="457200" y="1828800"/>
            <a:chExt cx="8237520" cy="1922760"/>
          </a:xfrm>
        </p:grpSpPr>
        <p:sp>
          <p:nvSpPr>
            <p:cNvPr id="413" name=""/>
            <p:cNvSpPr/>
            <p:nvPr/>
          </p:nvSpPr>
          <p:spPr>
            <a:xfrm>
              <a:off x="457200" y="1828800"/>
              <a:ext cx="8237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 strobe lamp can be used to measure the speed of an object. The lamp flashes every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f a second. A camera records the object moving 52 cm between flashes. How fast is the object moving in m/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902360" y="2057400"/>
              <a:ext cx="619560" cy="703800"/>
              <a:chOff x="7902360" y="2057400"/>
              <a:chExt cx="619560" cy="703800"/>
            </a:xfrm>
          </p:grpSpPr>
          <p:sp>
            <p:nvSpPr>
              <p:cNvPr id="415" name=""/>
              <p:cNvSpPr/>
              <p:nvPr/>
            </p:nvSpPr>
            <p:spPr>
              <a:xfrm>
                <a:off x="7902360" y="2057400"/>
                <a:ext cx="619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1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01000" y="240984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3186000" y="4419720"/>
            <a:ext cx="3112920" cy="825480"/>
            <a:chOff x="3186000" y="4419720"/>
            <a:chExt cx="3112920" cy="825480"/>
          </a:xfrm>
        </p:grpSpPr>
        <p:sp>
          <p:nvSpPr>
            <p:cNvPr id="418" name=""/>
            <p:cNvSpPr/>
            <p:nvPr/>
          </p:nvSpPr>
          <p:spPr>
            <a:xfrm>
              <a:off x="4831920" y="4419720"/>
              <a:ext cx="1467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65ff"/>
                  </a:solidFill>
                  <a:uFillTx/>
                  <a:latin typeface="Verdana"/>
                </a:rPr>
                <a:t>distance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86000" y="45464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Use rate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723960" y="4191120"/>
            <a:ext cx="2165400" cy="1191240"/>
            <a:chOff x="723960" y="4191120"/>
            <a:chExt cx="2165400" cy="1191240"/>
          </a:xfrm>
        </p:grpSpPr>
        <p:grpSp>
          <p:nvGrpSpPr>
            <p:cNvPr id="421" name=""/>
            <p:cNvGrpSpPr/>
            <p:nvPr/>
          </p:nvGrpSpPr>
          <p:grpSpPr>
            <a:xfrm>
              <a:off x="723960" y="4191120"/>
              <a:ext cx="2165400" cy="1191240"/>
              <a:chOff x="723960" y="4191120"/>
              <a:chExt cx="2165400" cy="1191240"/>
            </a:xfrm>
          </p:grpSpPr>
          <p:sp>
            <p:nvSpPr>
              <p:cNvPr id="422" name=""/>
              <p:cNvSpPr/>
              <p:nvPr/>
            </p:nvSpPr>
            <p:spPr>
              <a:xfrm>
                <a:off x="723960" y="419112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2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059200" y="472428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1485720" y="5000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04920" y="1828800"/>
            <a:ext cx="83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may help to eliminate the fraction      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6010200" y="1631880"/>
            <a:ext cx="702000" cy="825480"/>
            <a:chOff x="6010200" y="1631880"/>
            <a:chExt cx="702000" cy="825480"/>
          </a:xfrm>
        </p:grpSpPr>
        <p:sp>
          <p:nvSpPr>
            <p:cNvPr id="428" name=""/>
            <p:cNvSpPr/>
            <p:nvPr/>
          </p:nvSpPr>
          <p:spPr>
            <a:xfrm>
              <a:off x="6010200" y="163188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02360" y="2060640"/>
              <a:ext cx="5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181480" y="2819520"/>
            <a:ext cx="35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op and bottom by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49400" y="3809880"/>
            <a:ext cx="2165400" cy="825480"/>
            <a:chOff x="1949400" y="3809880"/>
            <a:chExt cx="2165400" cy="825480"/>
          </a:xfrm>
        </p:grpSpPr>
        <p:sp>
          <p:nvSpPr>
            <p:cNvPr id="432" name=""/>
            <p:cNvSpPr/>
            <p:nvPr/>
          </p:nvSpPr>
          <p:spPr>
            <a:xfrm>
              <a:off x="1949400" y="3809880"/>
              <a:ext cx="216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200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12400" y="39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80880" y="2622600"/>
            <a:ext cx="2165400" cy="1191240"/>
            <a:chOff x="380880" y="2622600"/>
            <a:chExt cx="2165400" cy="1191240"/>
          </a:xfrm>
        </p:grpSpPr>
        <p:grpSp>
          <p:nvGrpSpPr>
            <p:cNvPr id="435" name=""/>
            <p:cNvGrpSpPr/>
            <p:nvPr/>
          </p:nvGrpSpPr>
          <p:grpSpPr>
            <a:xfrm>
              <a:off x="380880" y="2622600"/>
              <a:ext cx="2165400" cy="1191240"/>
              <a:chOff x="380880" y="2622600"/>
              <a:chExt cx="2165400" cy="1191240"/>
            </a:xfrm>
          </p:grpSpPr>
          <p:sp>
            <p:nvSpPr>
              <p:cNvPr id="436" name=""/>
              <p:cNvSpPr/>
              <p:nvPr/>
            </p:nvSpPr>
            <p:spPr>
              <a:xfrm>
                <a:off x="380880" y="262260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52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716120" y="315576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1142640" y="34318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020320" y="2622600"/>
            <a:ext cx="2475360" cy="1191240"/>
            <a:chOff x="2020320" y="2622600"/>
            <a:chExt cx="2475360" cy="1191240"/>
          </a:xfrm>
        </p:grpSpPr>
        <p:sp>
          <p:nvSpPr>
            <p:cNvPr id="440" name=""/>
            <p:cNvSpPr/>
            <p:nvPr/>
          </p:nvSpPr>
          <p:spPr>
            <a:xfrm>
              <a:off x="2020320" y="2743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2330280" y="2622600"/>
              <a:ext cx="2165400" cy="1191240"/>
              <a:chOff x="2330280" y="2622600"/>
              <a:chExt cx="2165400" cy="1191240"/>
            </a:xfrm>
          </p:grpSpPr>
          <p:sp>
            <p:nvSpPr>
              <p:cNvPr id="442" name=""/>
              <p:cNvSpPr/>
              <p:nvPr/>
            </p:nvSpPr>
            <p:spPr>
              <a:xfrm>
                <a:off x="2330280" y="262260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00 • 52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854520" y="3048120"/>
                <a:ext cx="40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58000" y="312408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 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352680" y="338472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04920" y="1828800"/>
            <a:ext cx="83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convert centimeters to 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82720" y="2362320"/>
            <a:ext cx="186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520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05520" y="3124080"/>
            <a:ext cx="354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5ff"/>
                </a:solidFill>
                <a:latin typeface="Verdana"/>
              </a:rPr>
              <a:t>Multiply by the conversion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730080" y="3962520"/>
            <a:ext cx="2165400" cy="825480"/>
            <a:chOff x="730080" y="3962520"/>
            <a:chExt cx="2165400" cy="825480"/>
          </a:xfrm>
        </p:grpSpPr>
        <p:sp>
          <p:nvSpPr>
            <p:cNvPr id="451" name=""/>
            <p:cNvSpPr/>
            <p:nvPr/>
          </p:nvSpPr>
          <p:spPr>
            <a:xfrm>
              <a:off x="730080" y="3962520"/>
              <a:ext cx="216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200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9320" y="4114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477520" y="3917880"/>
            <a:ext cx="1460880" cy="825480"/>
            <a:chOff x="2477520" y="3917880"/>
            <a:chExt cx="1460880" cy="825480"/>
          </a:xfrm>
        </p:grpSpPr>
        <p:sp>
          <p:nvSpPr>
            <p:cNvPr id="454" name=""/>
            <p:cNvSpPr/>
            <p:nvPr/>
          </p:nvSpPr>
          <p:spPr>
            <a:xfrm>
              <a:off x="2566800" y="391788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2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77520" y="4070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80880" y="4952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bject is traveling 52 m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801360" y="3124080"/>
            <a:ext cx="3726360" cy="1191240"/>
            <a:chOff x="801360" y="3124080"/>
            <a:chExt cx="3726360" cy="1191240"/>
          </a:xfrm>
        </p:grpSpPr>
        <p:sp>
          <p:nvSpPr>
            <p:cNvPr id="458" name=""/>
            <p:cNvSpPr/>
            <p:nvPr/>
          </p:nvSpPr>
          <p:spPr>
            <a:xfrm>
              <a:off x="914400" y="3154320"/>
              <a:ext cx="186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5200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801360" y="3124080"/>
              <a:ext cx="3726360" cy="1191240"/>
              <a:chOff x="801360" y="3124080"/>
              <a:chExt cx="3726360" cy="119124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801360" y="3124080"/>
                <a:ext cx="3726360" cy="1191240"/>
                <a:chOff x="801360" y="3124080"/>
                <a:chExt cx="3726360" cy="119124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801360" y="32763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618640" y="3276360"/>
                  <a:ext cx="295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•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667240" y="3124080"/>
                  <a:ext cx="186048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 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00 c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2971800" y="353664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57200" y="1828800"/>
            <a:ext cx="8237520" cy="1922760"/>
            <a:chOff x="457200" y="1828800"/>
            <a:chExt cx="8237520" cy="1922760"/>
          </a:xfrm>
        </p:grpSpPr>
        <p:sp>
          <p:nvSpPr>
            <p:cNvPr id="467" name=""/>
            <p:cNvSpPr/>
            <p:nvPr/>
          </p:nvSpPr>
          <p:spPr>
            <a:xfrm>
              <a:off x="457200" y="1828800"/>
              <a:ext cx="8237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 strobe lamp can be used to measure the speed of an object. The lamp flashes every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f a second. A camera records the object moving 65 cm between flashes. How fast is the object moving in m/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7902360" y="2057400"/>
              <a:ext cx="619560" cy="703800"/>
              <a:chOff x="7902360" y="2057400"/>
              <a:chExt cx="619560" cy="703800"/>
            </a:xfrm>
          </p:grpSpPr>
          <p:sp>
            <p:nvSpPr>
              <p:cNvPr id="469" name=""/>
              <p:cNvSpPr/>
              <p:nvPr/>
            </p:nvSpPr>
            <p:spPr>
              <a:xfrm>
                <a:off x="7902360" y="2057400"/>
                <a:ext cx="619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1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001000" y="240984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4938480" y="4191120"/>
            <a:ext cx="3113280" cy="825480"/>
            <a:chOff x="4938480" y="4191120"/>
            <a:chExt cx="3113280" cy="825480"/>
          </a:xfrm>
        </p:grpSpPr>
        <p:sp>
          <p:nvSpPr>
            <p:cNvPr id="472" name=""/>
            <p:cNvSpPr/>
            <p:nvPr/>
          </p:nvSpPr>
          <p:spPr>
            <a:xfrm>
              <a:off x="6584760" y="4191120"/>
              <a:ext cx="1467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65ff"/>
                  </a:solidFill>
                  <a:uFillTx/>
                  <a:latin typeface="Verdana"/>
                </a:rPr>
                <a:t>distance</a:t>
              </a: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38480" y="43178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5ff"/>
                  </a:solidFill>
                  <a:latin typeface="Verdana"/>
                </a:rPr>
                <a:t>Use rate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23960" y="4191120"/>
            <a:ext cx="2165400" cy="1191240"/>
            <a:chOff x="723960" y="4191120"/>
            <a:chExt cx="2165400" cy="1191240"/>
          </a:xfrm>
        </p:grpSpPr>
        <p:grpSp>
          <p:nvGrpSpPr>
            <p:cNvPr id="475" name=""/>
            <p:cNvGrpSpPr/>
            <p:nvPr/>
          </p:nvGrpSpPr>
          <p:grpSpPr>
            <a:xfrm>
              <a:off x="723960" y="4191120"/>
              <a:ext cx="2165400" cy="1191240"/>
              <a:chOff x="723960" y="4191120"/>
              <a:chExt cx="2165400" cy="1191240"/>
            </a:xfrm>
          </p:grpSpPr>
          <p:sp>
            <p:nvSpPr>
              <p:cNvPr id="476" name=""/>
              <p:cNvSpPr/>
              <p:nvPr/>
            </p:nvSpPr>
            <p:spPr>
              <a:xfrm>
                <a:off x="723960" y="419112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65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059200" y="472428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1485720" y="5000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04920" y="1828800"/>
            <a:ext cx="83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may help to eliminate the fraction      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010200" y="1631880"/>
            <a:ext cx="702000" cy="825480"/>
            <a:chOff x="6010200" y="1631880"/>
            <a:chExt cx="702000" cy="825480"/>
          </a:xfrm>
        </p:grpSpPr>
        <p:sp>
          <p:nvSpPr>
            <p:cNvPr id="482" name=""/>
            <p:cNvSpPr/>
            <p:nvPr/>
          </p:nvSpPr>
          <p:spPr>
            <a:xfrm>
              <a:off x="6010200" y="1631880"/>
              <a:ext cx="70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102360" y="2060640"/>
              <a:ext cx="5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5181480" y="2819520"/>
            <a:ext cx="35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Multiply top and bottom by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949400" y="3809880"/>
            <a:ext cx="2165400" cy="825480"/>
            <a:chOff x="1949400" y="3809880"/>
            <a:chExt cx="2165400" cy="825480"/>
          </a:xfrm>
        </p:grpSpPr>
        <p:sp>
          <p:nvSpPr>
            <p:cNvPr id="486" name=""/>
            <p:cNvSpPr/>
            <p:nvPr/>
          </p:nvSpPr>
          <p:spPr>
            <a:xfrm>
              <a:off x="1949400" y="3809880"/>
              <a:ext cx="216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500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012400" y="39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80880" y="2622600"/>
            <a:ext cx="2165400" cy="1191240"/>
            <a:chOff x="380880" y="2622600"/>
            <a:chExt cx="2165400" cy="1191240"/>
          </a:xfrm>
        </p:grpSpPr>
        <p:grpSp>
          <p:nvGrpSpPr>
            <p:cNvPr id="489" name=""/>
            <p:cNvGrpSpPr/>
            <p:nvPr/>
          </p:nvGrpSpPr>
          <p:grpSpPr>
            <a:xfrm>
              <a:off x="380880" y="2622600"/>
              <a:ext cx="2165400" cy="1191240"/>
              <a:chOff x="380880" y="2622600"/>
              <a:chExt cx="2165400" cy="1191240"/>
            </a:xfrm>
          </p:grpSpPr>
          <p:sp>
            <p:nvSpPr>
              <p:cNvPr id="490" name=""/>
              <p:cNvSpPr/>
              <p:nvPr/>
            </p:nvSpPr>
            <p:spPr>
              <a:xfrm>
                <a:off x="380880" y="262260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65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716120" y="315576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1142640" y="34318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020320" y="2622600"/>
            <a:ext cx="2475360" cy="1191240"/>
            <a:chOff x="2020320" y="2622600"/>
            <a:chExt cx="2475360" cy="1191240"/>
          </a:xfrm>
        </p:grpSpPr>
        <p:sp>
          <p:nvSpPr>
            <p:cNvPr id="494" name=""/>
            <p:cNvSpPr/>
            <p:nvPr/>
          </p:nvSpPr>
          <p:spPr>
            <a:xfrm>
              <a:off x="2020320" y="2743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2330280" y="2622600"/>
              <a:ext cx="2165400" cy="1191240"/>
              <a:chOff x="2330280" y="2622600"/>
              <a:chExt cx="2165400" cy="1191240"/>
            </a:xfrm>
          </p:grpSpPr>
          <p:sp>
            <p:nvSpPr>
              <p:cNvPr id="496" name=""/>
              <p:cNvSpPr/>
              <p:nvPr/>
            </p:nvSpPr>
            <p:spPr>
              <a:xfrm>
                <a:off x="2330280" y="2622600"/>
                <a:ext cx="2165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100 • 65 c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854520" y="3048120"/>
                <a:ext cx="40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358000" y="312408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100 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352680" y="338472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523880"/>
            <a:ext cx="8153280" cy="35053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lace each •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a digit from 0 to 6 to make equivalent ratios. Use each digit only o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37339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•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•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37339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•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3809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133720" y="3657600"/>
            <a:ext cx="4800600" cy="947160"/>
            <a:chOff x="2133720" y="3657600"/>
            <a:chExt cx="4800600" cy="947160"/>
          </a:xfrm>
        </p:grpSpPr>
        <p:grpSp>
          <p:nvGrpSpPr>
            <p:cNvPr id="67" name=""/>
            <p:cNvGrpSpPr/>
            <p:nvPr/>
          </p:nvGrpSpPr>
          <p:grpSpPr>
            <a:xfrm>
              <a:off x="2133720" y="3657600"/>
              <a:ext cx="4800600" cy="947160"/>
              <a:chOff x="2133720" y="3657600"/>
              <a:chExt cx="4800600" cy="947160"/>
            </a:xfrm>
          </p:grpSpPr>
          <p:sp>
            <p:nvSpPr>
              <p:cNvPr id="68" name=""/>
              <p:cNvSpPr/>
              <p:nvPr/>
            </p:nvSpPr>
            <p:spPr>
              <a:xfrm>
                <a:off x="2133720" y="3886200"/>
                <a:ext cx="3200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Verdana"/>
                  </a:rPr>
                  <a:t>Possible answer: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34120" y="3657600"/>
                <a:ext cx="685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0000"/>
                    </a:solidFill>
                    <a:uFillTx/>
                    <a:latin typeface="Verdana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Verdana"/>
                  </a:rPr>
                  <a:t>6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248520" y="3657600"/>
                <a:ext cx="685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Verdana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Verdana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867280" y="38098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Verdana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6324480" y="411480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04920" y="1828800"/>
            <a:ext cx="83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convert centimeters to 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82720" y="2362320"/>
            <a:ext cx="186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650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105520" y="3124080"/>
            <a:ext cx="354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5ff"/>
                </a:solidFill>
                <a:latin typeface="Verdana"/>
              </a:rPr>
              <a:t>Multiply by the conversion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30080" y="3962520"/>
            <a:ext cx="2165400" cy="825480"/>
            <a:chOff x="730080" y="3962520"/>
            <a:chExt cx="2165400" cy="825480"/>
          </a:xfrm>
        </p:grpSpPr>
        <p:sp>
          <p:nvSpPr>
            <p:cNvPr id="505" name=""/>
            <p:cNvSpPr/>
            <p:nvPr/>
          </p:nvSpPr>
          <p:spPr>
            <a:xfrm>
              <a:off x="730080" y="3962520"/>
              <a:ext cx="216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500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00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9320" y="4114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477520" y="3917880"/>
            <a:ext cx="1460880" cy="825480"/>
            <a:chOff x="2477520" y="3917880"/>
            <a:chExt cx="1460880" cy="825480"/>
          </a:xfrm>
        </p:grpSpPr>
        <p:sp>
          <p:nvSpPr>
            <p:cNvPr id="508" name=""/>
            <p:cNvSpPr/>
            <p:nvPr/>
          </p:nvSpPr>
          <p:spPr>
            <a:xfrm>
              <a:off x="2566800" y="391788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5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477520" y="4070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380880" y="4952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bject is traveling 65 m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801360" y="3124080"/>
            <a:ext cx="3726360" cy="1191240"/>
            <a:chOff x="801360" y="3124080"/>
            <a:chExt cx="3726360" cy="1191240"/>
          </a:xfrm>
        </p:grpSpPr>
        <p:sp>
          <p:nvSpPr>
            <p:cNvPr id="512" name=""/>
            <p:cNvSpPr/>
            <p:nvPr/>
          </p:nvSpPr>
          <p:spPr>
            <a:xfrm>
              <a:off x="914400" y="3154320"/>
              <a:ext cx="186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6500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801360" y="3124080"/>
              <a:ext cx="3726360" cy="1191240"/>
              <a:chOff x="801360" y="3124080"/>
              <a:chExt cx="3726360" cy="119124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801360" y="3124080"/>
                <a:ext cx="3726360" cy="1191240"/>
                <a:chOff x="801360" y="3124080"/>
                <a:chExt cx="3726360" cy="119124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801360" y="32763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18640" y="3276360"/>
                  <a:ext cx="295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•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667240" y="3124080"/>
                  <a:ext cx="186048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 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100 c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"/>
              <p:cNvSpPr/>
              <p:nvPr/>
            </p:nvSpPr>
            <p:spPr>
              <a:xfrm>
                <a:off x="2971800" y="353664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04920" y="1690920"/>
            <a:ext cx="883908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appropriate factor for each conver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kilograms to gram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ints to gall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ou drive 136 miles from your house to your aunt’s house at the lake. You use 8 gallons of gas. How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yards does your car get to the gall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cheetah was timed running 200 yards in 6 seconds. What was the average speed in miles per ho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930840" y="2041560"/>
            <a:ext cx="11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100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36040" y="2651040"/>
            <a:ext cx="87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1 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333560" y="4251240"/>
            <a:ext cx="15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9,920 y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64120" y="5867280"/>
            <a:ext cx="16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≈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8 mi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2133720"/>
            <a:ext cx="7772400" cy="10666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use one or more conversion factors to solve rate problem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209680"/>
            <a:ext cx="7162920" cy="7621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versi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2120" y="135396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cess of converting from one unit to another i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mensional analysi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nit analysi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To convert units, multiply by one or more ratios of equal quantities call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nversion factor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388620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example, to convert inches to feet you would use the ratio below as a conversion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124080" y="5410080"/>
            <a:ext cx="1295640" cy="947160"/>
            <a:chOff x="3124080" y="5410080"/>
            <a:chExt cx="1295640" cy="947160"/>
          </a:xfrm>
        </p:grpSpPr>
        <p:sp>
          <p:nvSpPr>
            <p:cNvPr id="79" name=""/>
            <p:cNvSpPr/>
            <p:nvPr/>
          </p:nvSpPr>
          <p:spPr>
            <a:xfrm>
              <a:off x="3124080" y="5410080"/>
              <a:ext cx="1295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1 f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12 in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4680" y="5867280"/>
              <a:ext cx="1067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2101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ying by a conversion factor is like multiplying by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358128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12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2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358128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1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64880" y="3733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93000" y="3733200"/>
            <a:ext cx="7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13000" y="3733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37440" y="3733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00200" y="3581280"/>
            <a:ext cx="1295280" cy="947160"/>
            <a:chOff x="1600200" y="3581280"/>
            <a:chExt cx="1295280" cy="947160"/>
          </a:xfrm>
        </p:grpSpPr>
        <p:sp>
          <p:nvSpPr>
            <p:cNvPr id="89" name=""/>
            <p:cNvSpPr/>
            <p:nvPr/>
          </p:nvSpPr>
          <p:spPr>
            <a:xfrm>
              <a:off x="1600200" y="3581280"/>
              <a:ext cx="1295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1 f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12 in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6520" y="4038480"/>
              <a:ext cx="1143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838080" y="2076480"/>
            <a:ext cx="7238880" cy="2045880"/>
            <a:chOff x="838080" y="2076480"/>
            <a:chExt cx="7238880" cy="2045880"/>
          </a:xfrm>
        </p:grpSpPr>
        <p:sp>
          <p:nvSpPr>
            <p:cNvPr id="92" name=""/>
            <p:cNvSpPr/>
            <p:nvPr/>
          </p:nvSpPr>
          <p:spPr>
            <a:xfrm>
              <a:off x="843840" y="2557800"/>
              <a:ext cx="7233120" cy="156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Be sure to put the units you are converting to in the numerator and the units you are converting from in the denominat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2076480"/>
              <a:ext cx="2526840" cy="45972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Caution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1828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appropriate factor for each conver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360" y="91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Finding Conversion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666880"/>
            <a:ext cx="7772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feet to y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 pounds to ou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143000" y="3048120"/>
            <a:ext cx="7543800" cy="1206360"/>
            <a:chOff x="1143000" y="3048120"/>
            <a:chExt cx="7543800" cy="1206360"/>
          </a:xfrm>
        </p:grpSpPr>
        <p:sp>
          <p:nvSpPr>
            <p:cNvPr id="98" name=""/>
            <p:cNvSpPr/>
            <p:nvPr/>
          </p:nvSpPr>
          <p:spPr>
            <a:xfrm>
              <a:off x="6781680" y="3429000"/>
              <a:ext cx="12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 y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3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43000" y="3048120"/>
              <a:ext cx="754380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re are 3 feet in 1 yard. To convert feet to yards, multiply the number of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feet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by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219320" y="4572000"/>
            <a:ext cx="7543800" cy="1755720"/>
            <a:chOff x="1219320" y="4572000"/>
            <a:chExt cx="7543800" cy="1755720"/>
          </a:xfrm>
        </p:grpSpPr>
        <p:sp>
          <p:nvSpPr>
            <p:cNvPr id="101" name=""/>
            <p:cNvSpPr/>
            <p:nvPr/>
          </p:nvSpPr>
          <p:spPr>
            <a:xfrm>
              <a:off x="2895480" y="5502240"/>
              <a:ext cx="12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16 o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1 l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19320" y="4572000"/>
              <a:ext cx="754380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re are 16 ounces in 1 pound. To convert pounds to ounces, multiply the number of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pounds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by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Manda Reid</cp:lastModifiedBy>
  <dcterms:modified xsi:type="dcterms:W3CDTF">2007-04-26T20:19:13Z</dcterms:modified>
  <cp:revision>61</cp:revision>
  <dc:subject/>
  <dc:title>Slide 1</dc:title>
</cp:coreProperties>
</file>