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CF32-26D6-4099-A349-FB9B8BE45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063B-A54A-4BAF-B86F-3D41F435E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9F6D-84BE-419C-BFB0-4C4AA3BDB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BE0E-D3DC-49DC-B288-5FB6AC024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0123-C0D0-4576-8E1F-95E5E57EB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166B-387F-4219-82D8-85A84FAF6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E1A6-89B0-4FB1-B8B9-399B72881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5B08-49F6-4B71-AB2D-7420AC7A7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C527-95ED-47ED-B1EE-5684B74F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D49A-9C1E-4359-9AF2-B855DAA7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D28E-7852-4523-896D-D30A8702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1A0D-9B19-4A44-A295-455A8C42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52928-55C1-4916-83F8-27A98D3BCD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" descr=""/>
            <p:cNvPicPr/>
            <p:nvPr/>
          </p:nvPicPr>
          <p:blipFill>
            <a:blip r:embed="rId3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9512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5-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Ratios, Rates, and Unit Rat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6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404640" y="137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5-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371600" y="162720"/>
              <a:ext cx="777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Ratios, Rates, and Unit Rat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52280" y="655308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3629160" y="236160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2" action="ppaction://hlinksldjump"/>
          </p:cNvPr>
          <p:cNvSpPr/>
          <p:nvPr/>
        </p:nvSpPr>
        <p:spPr>
          <a:xfrm>
            <a:off x="3699360" y="3021840"/>
            <a:ext cx="34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3" action="ppaction://hlinksldjump"/>
          </p:cNvPr>
          <p:cNvSpPr/>
          <p:nvPr/>
        </p:nvSpPr>
        <p:spPr>
          <a:xfrm>
            <a:off x="3679920" y="363132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A: 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mistry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17845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ve cubic meters of copper has a mass of 44,800 kilograms. What is the density of copp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34960" y="5986800"/>
            <a:ext cx="549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pper has a density of 8,960  kg/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24360" y="3198960"/>
            <a:ext cx="15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44,800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890960" y="336852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Write a rate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76920" y="4130640"/>
            <a:ext cx="35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Divide to find kilograms per 1 m</a:t>
            </a:r>
            <a:r>
              <a:rPr b="0" i="1" lang="en-US" sz="2400" spc="-1" strike="noStrike" baseline="30000">
                <a:solidFill>
                  <a:srgbClr val="3365ff"/>
                </a:solidFill>
                <a:latin typeface="Verdana"/>
              </a:rPr>
              <a:t>3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37040" y="4129200"/>
            <a:ext cx="20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44,800 kg ÷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÷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74400" y="5119920"/>
            <a:ext cx="138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8,960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B: 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mistry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163188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piece of gold with a volume of 0.5 cubic meters weighs 9650 kilograms. What is the density of go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20200" y="5895000"/>
            <a:ext cx="529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ld has a density of 19,300  kg/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09240" y="3046680"/>
            <a:ext cx="13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9650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.5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90960" y="3216240"/>
            <a:ext cx="28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Write a rate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876920" y="3978360"/>
            <a:ext cx="35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Multiply to find kilograms per 1 m</a:t>
            </a:r>
            <a:r>
              <a:rPr b="0" i="1" lang="en-US" sz="2400" spc="-1" strike="noStrike" baseline="30000">
                <a:solidFill>
                  <a:srgbClr val="3365ff"/>
                </a:solidFill>
                <a:latin typeface="Verdana"/>
              </a:rPr>
              <a:t>3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76920" y="3976920"/>
            <a:ext cx="173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9650 kg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•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.5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43080" y="4967280"/>
            <a:ext cx="15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19,300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6002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ur cubic meters of precious metal has a mass of 18,128 kilograms. What is the density of the precious met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14960" y="5817240"/>
            <a:ext cx="649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ous metal has a density of 4,532 kg/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24360" y="3029040"/>
            <a:ext cx="15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18,128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90960" y="3198960"/>
            <a:ext cx="272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Write a rate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76920" y="3978360"/>
            <a:ext cx="35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Divide to find kilograms per 1 m</a:t>
            </a:r>
            <a:r>
              <a:rPr b="0" i="1" lang="en-US" sz="2400" spc="-1" strike="noStrike" baseline="30000">
                <a:solidFill>
                  <a:srgbClr val="3365ff"/>
                </a:solidFill>
                <a:latin typeface="Verdana"/>
              </a:rPr>
              <a:t>3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337040" y="3976920"/>
            <a:ext cx="20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18,128 kg ÷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÷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274400" y="4950000"/>
            <a:ext cx="138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4,532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147960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piece of gem stone with a volume of 0.25 cubic meters weighs 3540 kilograms. What is the density of the gem sto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04480" y="5895000"/>
            <a:ext cx="667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em stone has a density of 14,160 kg/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09240" y="3046680"/>
            <a:ext cx="13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3540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.25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90960" y="321624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Write a rate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76920" y="3978360"/>
            <a:ext cx="35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Multiply to find kilograms per 1 m</a:t>
            </a:r>
            <a:r>
              <a:rPr b="0" i="1" lang="en-US" sz="2400" spc="-1" strike="noStrike" baseline="30000">
                <a:solidFill>
                  <a:srgbClr val="3365ff"/>
                </a:solidFill>
                <a:latin typeface="Verdana"/>
              </a:rPr>
              <a:t>3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76920" y="3976920"/>
            <a:ext cx="173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3540 kg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•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.25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319400" y="4967280"/>
            <a:ext cx="15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14,160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57200" y="18288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imate each unit 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3A: Estimating Unit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867280" y="281772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Choose a number close to 468 that is divisible by 9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22849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68 students to 91 comp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55627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68 students to 91 computers is approximately 5 students per compu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051560" y="2998800"/>
            <a:ext cx="4668840" cy="828720"/>
            <a:chOff x="1051560" y="2998800"/>
            <a:chExt cx="4668840" cy="828720"/>
          </a:xfrm>
        </p:grpSpPr>
        <p:sp>
          <p:nvSpPr>
            <p:cNvPr id="155" name=""/>
            <p:cNvSpPr/>
            <p:nvPr/>
          </p:nvSpPr>
          <p:spPr>
            <a:xfrm>
              <a:off x="3240720" y="308808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51560" y="3002040"/>
              <a:ext cx="2154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468 stud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91 comput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566160" y="2998800"/>
              <a:ext cx="2154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455 stud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91 comput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3240720" y="4357800"/>
            <a:ext cx="2319840" cy="825480"/>
            <a:chOff x="3240720" y="4357800"/>
            <a:chExt cx="2319840" cy="825480"/>
          </a:xfrm>
        </p:grpSpPr>
        <p:sp>
          <p:nvSpPr>
            <p:cNvPr id="159" name=""/>
            <p:cNvSpPr/>
            <p:nvPr/>
          </p:nvSpPr>
          <p:spPr>
            <a:xfrm>
              <a:off x="3240720" y="449460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726360" y="4357800"/>
              <a:ext cx="1834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5 stud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 compu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5867280" y="418932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Divide to find students per compu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57200" y="18288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imate each unit 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3B: Estimating Unit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867280" y="281772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Choose a number close to 313 that is divisible by 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22849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13 feet in 8 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55627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13 feet to 8 seconds is approximately 39 feet per sec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326960" y="2998800"/>
            <a:ext cx="4120200" cy="828720"/>
            <a:chOff x="1326960" y="2998800"/>
            <a:chExt cx="4120200" cy="828720"/>
          </a:xfrm>
        </p:grpSpPr>
        <p:sp>
          <p:nvSpPr>
            <p:cNvPr id="168" name=""/>
            <p:cNvSpPr/>
            <p:nvPr/>
          </p:nvSpPr>
          <p:spPr>
            <a:xfrm>
              <a:off x="3240720" y="308808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326960" y="3002040"/>
              <a:ext cx="1605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313 fee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8 seco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41560" y="2998800"/>
              <a:ext cx="1605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312 fee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8 seco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3240720" y="4357800"/>
            <a:ext cx="2133000" cy="825480"/>
            <a:chOff x="3240720" y="4357800"/>
            <a:chExt cx="2133000" cy="825480"/>
          </a:xfrm>
        </p:grpSpPr>
        <p:sp>
          <p:nvSpPr>
            <p:cNvPr id="172" name=""/>
            <p:cNvSpPr/>
            <p:nvPr/>
          </p:nvSpPr>
          <p:spPr>
            <a:xfrm>
              <a:off x="3240720" y="449460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914280" y="4357800"/>
              <a:ext cx="1459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39 fee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 seco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5867280" y="4372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Divide to find feet per sec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33520" y="175248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imate each unit 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3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867280" y="281772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Choose a number close to 583 that is divisible by 8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22849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83 soccer players to 85 soccer b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55627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83 soccer players to 85 soccer balls is approximately 7 players per soccer b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992880" y="2998800"/>
            <a:ext cx="4787640" cy="828720"/>
            <a:chOff x="992880" y="2998800"/>
            <a:chExt cx="4787640" cy="828720"/>
          </a:xfrm>
        </p:grpSpPr>
        <p:sp>
          <p:nvSpPr>
            <p:cNvPr id="181" name=""/>
            <p:cNvSpPr/>
            <p:nvPr/>
          </p:nvSpPr>
          <p:spPr>
            <a:xfrm>
              <a:off x="3240720" y="308808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992880" y="3002040"/>
              <a:ext cx="2271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583 play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85 soccer bal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508920" y="2998800"/>
              <a:ext cx="2271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595 play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85 soccer bal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3240720" y="4357800"/>
            <a:ext cx="2381400" cy="825480"/>
            <a:chOff x="3240720" y="4357800"/>
            <a:chExt cx="2381400" cy="825480"/>
          </a:xfrm>
        </p:grpSpPr>
        <p:sp>
          <p:nvSpPr>
            <p:cNvPr id="185" name=""/>
            <p:cNvSpPr/>
            <p:nvPr/>
          </p:nvSpPr>
          <p:spPr>
            <a:xfrm>
              <a:off x="3240720" y="449460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70560" y="4357800"/>
              <a:ext cx="1951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7 play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 soccer bal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5867280" y="437184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Divide to find players per soccer b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457200" y="18288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imate each unit 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3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67280" y="281772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Choose a number close to 271 that is divisible by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22849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71 yards in 3 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" y="55627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71 yards to 3 hours is approximately 92 yards per ho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346040" y="2998800"/>
            <a:ext cx="4082040" cy="828720"/>
            <a:chOff x="1346040" y="2998800"/>
            <a:chExt cx="4082040" cy="828720"/>
          </a:xfrm>
        </p:grpSpPr>
        <p:sp>
          <p:nvSpPr>
            <p:cNvPr id="194" name=""/>
            <p:cNvSpPr/>
            <p:nvPr/>
          </p:nvSpPr>
          <p:spPr>
            <a:xfrm>
              <a:off x="3240720" y="308808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346040" y="3002040"/>
              <a:ext cx="1567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271 yar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 hou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860640" y="2998800"/>
              <a:ext cx="1567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276 yar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 hou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40720" y="4357800"/>
            <a:ext cx="2008080" cy="825480"/>
            <a:chOff x="3240720" y="4357800"/>
            <a:chExt cx="2008080" cy="825480"/>
          </a:xfrm>
        </p:grpSpPr>
        <p:sp>
          <p:nvSpPr>
            <p:cNvPr id="198" name=""/>
            <p:cNvSpPr/>
            <p:nvPr/>
          </p:nvSpPr>
          <p:spPr>
            <a:xfrm>
              <a:off x="3240720" y="449460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854880" y="4357800"/>
              <a:ext cx="1393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92 yar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 hou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5867280" y="4372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Divide to find yards per ho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609480" y="1828800"/>
            <a:ext cx="8305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Unit price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is a unit rate used to compare price per item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457200" y="182880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ens can be purchased in a 5-pack for $1.95 or a 15-pack for $6.20.  Which is the better bu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3360" y="109548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4A: Finding Unit Prices to Compar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324480" y="312408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Divide the price by the number of pe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2800" y="326088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price for 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mber of p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687560" y="3381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637080" y="3260880"/>
            <a:ext cx="95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$1.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39640" y="3381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10640" y="338184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$0.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2800" y="44802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price for 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mber of p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239640" y="46011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7080" y="4480200"/>
            <a:ext cx="95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$6.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53360" y="460116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215320" y="460116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$0.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" y="57150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better buy is the 5-pack for $1.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1600200"/>
            <a:ext cx="8153280" cy="38862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ivide. Round answers to the nearest ten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09960" y="274248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2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08680" y="2847240"/>
            <a:ext cx="68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3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6280" y="449496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23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996160" y="441900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23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914400" y="2606760"/>
            <a:ext cx="1143000" cy="947160"/>
            <a:chOff x="914400" y="2606760"/>
            <a:chExt cx="1143000" cy="947160"/>
          </a:xfrm>
        </p:grpSpPr>
        <p:sp>
          <p:nvSpPr>
            <p:cNvPr id="61" name=""/>
            <p:cNvSpPr/>
            <p:nvPr/>
          </p:nvSpPr>
          <p:spPr>
            <a:xfrm>
              <a:off x="1066680" y="3078000"/>
              <a:ext cx="79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14400" y="2606760"/>
              <a:ext cx="1143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420 1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834080" y="2668680"/>
            <a:ext cx="1143000" cy="520560"/>
            <a:chOff x="4834080" y="2668680"/>
            <a:chExt cx="1143000" cy="520560"/>
          </a:xfrm>
        </p:grpSpPr>
        <p:sp>
          <p:nvSpPr>
            <p:cNvPr id="64" name=""/>
            <p:cNvSpPr/>
            <p:nvPr/>
          </p:nvSpPr>
          <p:spPr>
            <a:xfrm>
              <a:off x="5073480" y="3138480"/>
              <a:ext cx="6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834080" y="266868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73 2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990720" y="4311720"/>
            <a:ext cx="1143000" cy="947160"/>
            <a:chOff x="990720" y="4311720"/>
            <a:chExt cx="1143000" cy="947160"/>
          </a:xfrm>
        </p:grpSpPr>
        <p:sp>
          <p:nvSpPr>
            <p:cNvPr id="67" name=""/>
            <p:cNvSpPr/>
            <p:nvPr/>
          </p:nvSpPr>
          <p:spPr>
            <a:xfrm>
              <a:off x="1143000" y="4782960"/>
              <a:ext cx="79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90720" y="4311720"/>
              <a:ext cx="1143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380 1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4800600" y="4267080"/>
            <a:ext cx="1143000" cy="947160"/>
            <a:chOff x="4800600" y="4267080"/>
            <a:chExt cx="1143000" cy="947160"/>
          </a:xfrm>
        </p:grpSpPr>
        <p:sp>
          <p:nvSpPr>
            <p:cNvPr id="70" name=""/>
            <p:cNvSpPr/>
            <p:nvPr/>
          </p:nvSpPr>
          <p:spPr>
            <a:xfrm>
              <a:off x="4952880" y="4738680"/>
              <a:ext cx="79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00600" y="4267080"/>
              <a:ext cx="1143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430 1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457200" y="182880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Jamie can buy a 15-oz jar of peanut butter for $2.19 or a 20-oz jar for $2.78.  Which is the better bu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3360" y="109548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4B: Finding Unit Prices to Compar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729680" y="342792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789720" y="3276720"/>
            <a:ext cx="95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$2.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68240" y="3399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085000" y="34279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$0.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468240" y="4618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42000" y="4510080"/>
            <a:ext cx="95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$2.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881960" y="464724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13600" y="464724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$0.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5715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better buy is the 20-oz jar for $2.7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606240" y="3198960"/>
            <a:ext cx="2808360" cy="825480"/>
            <a:chOff x="606240" y="3198960"/>
            <a:chExt cx="2808360" cy="825480"/>
          </a:xfrm>
        </p:grpSpPr>
        <p:sp>
          <p:nvSpPr>
            <p:cNvPr id="228" name=""/>
            <p:cNvSpPr/>
            <p:nvPr/>
          </p:nvSpPr>
          <p:spPr>
            <a:xfrm>
              <a:off x="606240" y="3198960"/>
              <a:ext cx="28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price for ja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number of ou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1400" y="364320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06240" y="4418280"/>
            <a:ext cx="2805120" cy="825480"/>
            <a:chOff x="606240" y="4418280"/>
            <a:chExt cx="2805120" cy="825480"/>
          </a:xfrm>
        </p:grpSpPr>
        <p:sp>
          <p:nvSpPr>
            <p:cNvPr id="231" name=""/>
            <p:cNvSpPr/>
            <p:nvPr/>
          </p:nvSpPr>
          <p:spPr>
            <a:xfrm>
              <a:off x="606240" y="4418280"/>
              <a:ext cx="28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price for ja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number of ou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47640" y="487692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6324480" y="312408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Divide the price by the number of ou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457200" y="182880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olf balls can be purchased in a 3-pack for $4.95 or a 12-pack for $18.95.  Which is the better bu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4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324480" y="312408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Divide the price by the number of b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32800" y="326088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price for 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mber of b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53360" y="338184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637080" y="3260880"/>
            <a:ext cx="95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$4.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39640" y="3381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210640" y="338184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$1.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32800" y="44802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price for 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mber of b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39640" y="46011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647160" y="4480200"/>
            <a:ext cx="113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$18.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753440" y="457092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215320" y="460116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$1.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" y="5715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better buy is the 12-pack for $18.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00"/>
                            </p:stCondLst>
                            <p:childTnLst>
                              <p:par>
                                <p:cTn id="6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4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" y="182880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John can buy a 24 oz bottle of ketchup for $2.19 or a 36 oz bottle for $3.79.  Which is the better bu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729680" y="342792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89720" y="3276720"/>
            <a:ext cx="95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$2.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468240" y="3399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085000" y="34279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$0.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68240" y="4618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942000" y="4510080"/>
            <a:ext cx="95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$3.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881960" y="464724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313600" y="464724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$0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" y="5715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better buy is the 24-oz bottle for $2.1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606240" y="3198960"/>
            <a:ext cx="2808360" cy="825480"/>
            <a:chOff x="606240" y="3198960"/>
            <a:chExt cx="2808360" cy="825480"/>
          </a:xfrm>
        </p:grpSpPr>
        <p:sp>
          <p:nvSpPr>
            <p:cNvPr id="260" name=""/>
            <p:cNvSpPr/>
            <p:nvPr/>
          </p:nvSpPr>
          <p:spPr>
            <a:xfrm>
              <a:off x="606240" y="3198960"/>
              <a:ext cx="28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price for bot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number of ou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71400" y="364320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606240" y="4418280"/>
            <a:ext cx="2805120" cy="825480"/>
            <a:chOff x="606240" y="4418280"/>
            <a:chExt cx="2805120" cy="825480"/>
          </a:xfrm>
        </p:grpSpPr>
        <p:sp>
          <p:nvSpPr>
            <p:cNvPr id="263" name=""/>
            <p:cNvSpPr/>
            <p:nvPr/>
          </p:nvSpPr>
          <p:spPr>
            <a:xfrm>
              <a:off x="606240" y="4418280"/>
              <a:ext cx="28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price for bot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number of ou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47640" y="487692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6324480" y="312408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Divide the price by the number of ou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500"/>
                            </p:stCondLst>
                            <p:childTnLst>
                              <p:par>
                                <p:cTn id="6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00"/>
                            </p:stCondLst>
                            <p:childTnLst>
                              <p:par>
                                <p:cTn id="6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500"/>
                            </p:stCondLst>
                            <p:childTnLst>
                              <p:par>
                                <p:cTn id="6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 Part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0880" y="1612800"/>
            <a:ext cx="792504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04640" indent="-4046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 penny has a mass of 2.5 g and a volume of approximately 0.360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the approximate density of a penn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eka can make 6 bracelets per half hour. How many bracelets can she make in 1 hou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imate the unit 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$2.22 for 6 sta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8 heartbeats in 6 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029200" y="471384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$0.37 per st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943600" y="236124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≈ 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6.94 g/cm</a:t>
            </a:r>
            <a:r>
              <a:rPr b="0" lang="en-US" sz="2400" spc="-1" strike="noStrike" baseline="30000">
                <a:solidFill>
                  <a:srgbClr val="ff33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105520" y="533304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1.3 beats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315200" y="3427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591560"/>
            <a:ext cx="79250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04640" indent="-404640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the better bu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 half dozen carnations for $4.75 or a dozen for $9.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pens for $5.16 or a ten-pack for $12.9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362320" y="27802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a do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38080" y="380736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They cost the s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1600200"/>
            <a:ext cx="7467480" cy="403848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re are 3 bags of flour for every 2 bags of sugar in a freight truck. A bag of flour weighs 60 pounds, and a bag of sugar weighs 80 pounds.  Which part of the truck’s cargo is heavier, the flour or the sug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489096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fl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80880" y="2438280"/>
            <a:ext cx="8382240" cy="76212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Verdana"/>
              </a:rPr>
              <a:t>Lear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to work with rates and ratio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Arial Black"/>
              </a:rPr>
              <a:t>Vocabul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1828800"/>
            <a:ext cx="7162920" cy="213372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nit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nit p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31687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t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81080" y="3016080"/>
            <a:ext cx="68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43876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4235400"/>
            <a:ext cx="175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90 m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19720" y="415908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65ff"/>
                </a:solidFill>
                <a:latin typeface="Verdana"/>
              </a:rPr>
              <a:t>Read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65ff"/>
                </a:solidFill>
                <a:latin typeface="Verdana"/>
              </a:rPr>
              <a:t>“</a:t>
            </a:r>
            <a:r>
              <a:rPr b="0" i="1" lang="en-US" sz="2800" spc="-1" strike="noStrike">
                <a:solidFill>
                  <a:srgbClr val="3365ff"/>
                </a:solidFill>
                <a:latin typeface="Verdana"/>
              </a:rPr>
              <a:t>90 miles per 3 hou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733560" y="4616280"/>
            <a:ext cx="533160" cy="0"/>
          </a:xfrm>
          <a:prstGeom prst="line">
            <a:avLst/>
          </a:prstGeom>
          <a:ln w="76320">
            <a:solidFill>
              <a:srgbClr val="3365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18730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rat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 comparison of two quantities that have different un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38080" y="12952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Unit rate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re rates in which the second quantity is 1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71600" y="45720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it ra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76720" y="441972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30 mile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 h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105520" y="45720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 30 mi/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838080" y="2286000"/>
            <a:ext cx="8077320" cy="947160"/>
            <a:chOff x="838080" y="2286000"/>
            <a:chExt cx="8077320" cy="947160"/>
          </a:xfrm>
        </p:grpSpPr>
        <p:sp>
          <p:nvSpPr>
            <p:cNvPr id="89" name=""/>
            <p:cNvSpPr/>
            <p:nvPr/>
          </p:nvSpPr>
          <p:spPr>
            <a:xfrm>
              <a:off x="838080" y="243828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The rati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590920" y="2286000"/>
              <a:ext cx="685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u="sng">
                  <a:solidFill>
                    <a:srgbClr val="000000"/>
                  </a:solidFill>
                  <a:uFillTx/>
                  <a:latin typeface="Verdana"/>
                </a:rPr>
                <a:t>9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276720" y="2438280"/>
              <a:ext cx="5638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can be simplified by dividing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3276720" y="3200400"/>
            <a:ext cx="68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33526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95680" y="3200400"/>
            <a:ext cx="68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1: Finding Unit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150660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eoff can type 30 words in half a minute. How many words can he type in 1 minu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53080" y="2971800"/>
            <a:ext cx="25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Write a rate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971800" y="387684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50292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off can type 60 words in one minu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38680" y="373392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Multiply to find words per minute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52680" y="37497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60 word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 minu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914400" y="2819520"/>
            <a:ext cx="1828800" cy="1191240"/>
            <a:chOff x="914400" y="2819520"/>
            <a:chExt cx="1828800" cy="1191240"/>
          </a:xfrm>
        </p:grpSpPr>
        <p:sp>
          <p:nvSpPr>
            <p:cNvPr id="103" name=""/>
            <p:cNvSpPr/>
            <p:nvPr/>
          </p:nvSpPr>
          <p:spPr>
            <a:xfrm>
              <a:off x="914400" y="281952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30 words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  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minut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90720" y="3139920"/>
              <a:ext cx="380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Verdan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914400" y="3749760"/>
            <a:ext cx="2666880" cy="825480"/>
            <a:chOff x="914400" y="3749760"/>
            <a:chExt cx="2666880" cy="825480"/>
          </a:xfrm>
        </p:grpSpPr>
        <p:sp>
          <p:nvSpPr>
            <p:cNvPr id="106" name=""/>
            <p:cNvSpPr/>
            <p:nvPr/>
          </p:nvSpPr>
          <p:spPr>
            <a:xfrm>
              <a:off x="914400" y="3749760"/>
              <a:ext cx="2666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30 words 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Verdana"/>
                </a:rPr>
                <a:t>•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 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minute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•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90720" y="4038480"/>
              <a:ext cx="380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Verdan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150660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enelope can type 90 words in 2 minutes. How many words can she type in 1 minu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28195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90 word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 minu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653080" y="2971800"/>
            <a:ext cx="26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Write a rate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24080" y="387684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14400" y="50292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nelope can type 45 words in one minu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374976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90 word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÷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 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2 minute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÷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38680" y="373392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Divide to find words per minute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05320" y="37497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45 word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 minu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8:20:28Z</dcterms:created>
  <dc:creator>HRW</dc:creator>
  <dc:description/>
  <dc:language>en-US</dc:language>
  <cp:lastModifiedBy>Manda Reid</cp:lastModifiedBy>
  <dcterms:modified xsi:type="dcterms:W3CDTF">2007-04-26T20:08:08Z</dcterms:modified>
  <cp:revision>64</cp:revision>
  <dc:subject/>
  <dc:title>Slide 1</dc:title>
</cp:coreProperties>
</file>