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43F-C27F-4482-AE7C-F7BDD78A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EAB-7E8D-4A1C-A62C-92215159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B93-C217-47AD-996C-9D93FF5F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565-666B-4CBD-BC5D-96E6B9B1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F52-9D6D-43A9-B255-5D3DF21E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810-740C-4932-A385-3AC71E3D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65C-A3D3-441C-924D-83453ABB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ADA-42C3-4E83-ABB2-3FD301A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FCA-4985-46B3-B20F-6936762F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0AE-F65C-4E1D-B8D2-307757F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7E2-3EA3-4BC9-A41B-0CACC51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DF1-F7B9-40DC-B932-12A6AF5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FAD1-CB24-4CC1-8B1E-E447C9401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, Rates, and Unit Ra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, Rates, and Unit Ra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str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78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ve cubic meters of copper has a mass of 44,800 kilograms. What is the density of co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4960" y="598680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per has a density of 8,960 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360" y="319896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,8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90960" y="33685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13064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7040" y="4129200"/>
            <a:ext cx="20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,800 kg ÷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÷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4400" y="511992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8,9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str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631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iece of gold with a volume of 0.5 cubic meters weighs 9650 kilograms. What is the density of g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0200" y="58950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ld has a density of 19,300 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09240" y="304668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65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32162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76920" y="39769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650 k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3080" y="49672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9,3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 cubic meters of precious metal has a mass of 18,128 kilograms. What is the density of the precious me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4960" y="58172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ous metal has a density of 4,532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360" y="302904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,128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90960" y="3198960"/>
            <a:ext cx="27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7040" y="3976920"/>
            <a:ext cx="20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,128 kg ÷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÷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74400" y="495000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,532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479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iece of gem stone with a volume of 0.25 cubic meters weighs 3540 kilograms. What is the density of the gem st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480" y="589500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em stone has a density of 14,160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09240" y="304668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54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90960" y="32162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76920" y="39769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540 k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19400" y="49672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4,1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Estimat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468 that is divisible by 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68 students to 91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68 students to 91 computers is approximately 5 students pe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51560" y="2998800"/>
            <a:ext cx="4668840" cy="828720"/>
            <a:chOff x="1051560" y="2998800"/>
            <a:chExt cx="4668840" cy="828720"/>
          </a:xfrm>
        </p:grpSpPr>
        <p:sp>
          <p:nvSpPr>
            <p:cNvPr id="155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51560" y="300204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68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1 compu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6160" y="299880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5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1 compu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240720" y="4357800"/>
            <a:ext cx="2319840" cy="825480"/>
            <a:chOff x="3240720" y="4357800"/>
            <a:chExt cx="2319840" cy="825480"/>
          </a:xfrm>
        </p:grpSpPr>
        <p:sp>
          <p:nvSpPr>
            <p:cNvPr id="159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6360" y="4357800"/>
              <a:ext cx="183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comp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867280" y="41893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students pe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Estimat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313 that is divisible by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13 feet in 8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3 feet to 8 seconds is approximately 39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26960" y="2998800"/>
            <a:ext cx="4120200" cy="828720"/>
            <a:chOff x="1326960" y="2998800"/>
            <a:chExt cx="4120200" cy="828720"/>
          </a:xfrm>
        </p:grpSpPr>
        <p:sp>
          <p:nvSpPr>
            <p:cNvPr id="168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6960" y="300204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13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 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41560" y="299880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12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 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40720" y="4357800"/>
            <a:ext cx="2133000" cy="825480"/>
            <a:chOff x="3240720" y="4357800"/>
            <a:chExt cx="2133000" cy="825480"/>
          </a:xfrm>
        </p:grpSpPr>
        <p:sp>
          <p:nvSpPr>
            <p:cNvPr id="172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4280" y="4357800"/>
              <a:ext cx="145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9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867280" y="4372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1752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583 that is divisible by 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83 soccer players to 85 soccer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83 soccer players to 85 soccer balls is approximately 7 players per soccer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92880" y="2998800"/>
            <a:ext cx="4787640" cy="828720"/>
            <a:chOff x="992880" y="2998800"/>
            <a:chExt cx="4787640" cy="828720"/>
          </a:xfrm>
        </p:grpSpPr>
        <p:sp>
          <p:nvSpPr>
            <p:cNvPr id="181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2880" y="3002040"/>
              <a:ext cx="22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83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5 soccer ba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8920" y="2998800"/>
              <a:ext cx="22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95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5 soccer ba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240720" y="4357800"/>
            <a:ext cx="2381400" cy="825480"/>
            <a:chOff x="3240720" y="4357800"/>
            <a:chExt cx="2381400" cy="825480"/>
          </a:xfrm>
        </p:grpSpPr>
        <p:sp>
          <p:nvSpPr>
            <p:cNvPr id="185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0560" y="4357800"/>
              <a:ext cx="195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7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occer b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867280" y="437184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players per soccer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271 that is divisibl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71 yards in 3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71 yards to 3 hours is approximately 92 yard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46040" y="2998800"/>
            <a:ext cx="4082040" cy="828720"/>
            <a:chOff x="1346040" y="2998800"/>
            <a:chExt cx="4082040" cy="828720"/>
          </a:xfrm>
        </p:grpSpPr>
        <p:sp>
          <p:nvSpPr>
            <p:cNvPr id="194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46040" y="300204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1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299880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6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40720" y="4357800"/>
            <a:ext cx="2008080" cy="825480"/>
            <a:chOff x="3240720" y="4357800"/>
            <a:chExt cx="2008080" cy="825480"/>
          </a:xfrm>
        </p:grpSpPr>
        <p:sp>
          <p:nvSpPr>
            <p:cNvPr id="198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4880" y="4357800"/>
              <a:ext cx="139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92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867280" y="4372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yard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18288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nit pri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a unit rate used to compare price per it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 can be purchased in a 5-pack for $1.95 or a 15-pack for $6.20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A: Finding Unit Prices to Comp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2800" y="326088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756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7080" y="32608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1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3964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0640" y="33818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2800" y="44802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39640" y="460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7080" y="448020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6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53360" y="46011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5320" y="4601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5-pack for $1.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de. Round answers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09960" y="27424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8680" y="284724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6280" y="44949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96160" y="4419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2606760"/>
            <a:ext cx="1143000" cy="947160"/>
            <a:chOff x="914400" y="2606760"/>
            <a:chExt cx="1143000" cy="947160"/>
          </a:xfrm>
        </p:grpSpPr>
        <p:sp>
          <p:nvSpPr>
            <p:cNvPr id="61" name=""/>
            <p:cNvSpPr/>
            <p:nvPr/>
          </p:nvSpPr>
          <p:spPr>
            <a:xfrm>
              <a:off x="1066680" y="307800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260676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420 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34080" y="2668680"/>
            <a:ext cx="1143000" cy="520560"/>
            <a:chOff x="4834080" y="2668680"/>
            <a:chExt cx="1143000" cy="520560"/>
          </a:xfrm>
        </p:grpSpPr>
        <p:sp>
          <p:nvSpPr>
            <p:cNvPr id="64" name=""/>
            <p:cNvSpPr/>
            <p:nvPr/>
          </p:nvSpPr>
          <p:spPr>
            <a:xfrm>
              <a:off x="5073480" y="3138480"/>
              <a:ext cx="6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34080" y="2668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73 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90720" y="4311720"/>
            <a:ext cx="1143000" cy="947160"/>
            <a:chOff x="990720" y="4311720"/>
            <a:chExt cx="1143000" cy="947160"/>
          </a:xfrm>
        </p:grpSpPr>
        <p:sp>
          <p:nvSpPr>
            <p:cNvPr id="67" name=""/>
            <p:cNvSpPr/>
            <p:nvPr/>
          </p:nvSpPr>
          <p:spPr>
            <a:xfrm>
              <a:off x="1143000" y="478296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90720" y="431172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80 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00600" y="4267080"/>
            <a:ext cx="1143000" cy="947160"/>
            <a:chOff x="4800600" y="4267080"/>
            <a:chExt cx="1143000" cy="947160"/>
          </a:xfrm>
        </p:grpSpPr>
        <p:sp>
          <p:nvSpPr>
            <p:cNvPr id="70" name=""/>
            <p:cNvSpPr/>
            <p:nvPr/>
          </p:nvSpPr>
          <p:spPr>
            <a:xfrm>
              <a:off x="4952880" y="473868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00600" y="426708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430 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ie can buy a 15-oz jar of peanut butter for $2.19 or a 20-oz jar for $2.78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B: Finding Unit Prices to Comp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9680" y="3427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89720" y="327672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68240" y="339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85000" y="3427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68240" y="46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42000" y="45100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1960" y="4647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13600" y="46472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20-oz jar for $2.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6240" y="3198960"/>
            <a:ext cx="2808360" cy="825480"/>
            <a:chOff x="606240" y="3198960"/>
            <a:chExt cx="2808360" cy="825480"/>
          </a:xfrm>
        </p:grpSpPr>
        <p:sp>
          <p:nvSpPr>
            <p:cNvPr id="228" name=""/>
            <p:cNvSpPr/>
            <p:nvPr/>
          </p:nvSpPr>
          <p:spPr>
            <a:xfrm>
              <a:off x="606240" y="319896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j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1400" y="3643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06240" y="4418280"/>
            <a:ext cx="2805120" cy="825480"/>
            <a:chOff x="606240" y="4418280"/>
            <a:chExt cx="2805120" cy="825480"/>
          </a:xfrm>
        </p:grpSpPr>
        <p:sp>
          <p:nvSpPr>
            <p:cNvPr id="231" name=""/>
            <p:cNvSpPr/>
            <p:nvPr/>
          </p:nvSpPr>
          <p:spPr>
            <a:xfrm>
              <a:off x="606240" y="441828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j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640" y="4876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olf balls can be purchased in a 3-pack for $4.95 or a 12-pack for $18.95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2800" y="326088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53360" y="3381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7080" y="32608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4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3964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10640" y="33818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2800" y="44802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39640" y="460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47160" y="4480200"/>
            <a:ext cx="11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18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53440" y="4570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15320" y="4601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12-pack for $18.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can buy a 24 oz bottle of ketchup for $2.19 or a 36 oz bottle for $3.79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29680" y="3427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9720" y="327672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68240" y="339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85000" y="3427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68240" y="46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42000" y="45100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3.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81960" y="4647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13600" y="46472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24-oz bottle for $2.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6240" y="3198960"/>
            <a:ext cx="2808360" cy="825480"/>
            <a:chOff x="606240" y="3198960"/>
            <a:chExt cx="2808360" cy="825480"/>
          </a:xfrm>
        </p:grpSpPr>
        <p:sp>
          <p:nvSpPr>
            <p:cNvPr id="260" name=""/>
            <p:cNvSpPr/>
            <p:nvPr/>
          </p:nvSpPr>
          <p:spPr>
            <a:xfrm>
              <a:off x="606240" y="319896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bo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1400" y="3643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6240" y="4418280"/>
            <a:ext cx="2805120" cy="825480"/>
            <a:chOff x="606240" y="4418280"/>
            <a:chExt cx="2805120" cy="825480"/>
          </a:xfrm>
        </p:grpSpPr>
        <p:sp>
          <p:nvSpPr>
            <p:cNvPr id="263" name=""/>
            <p:cNvSpPr/>
            <p:nvPr/>
          </p:nvSpPr>
          <p:spPr>
            <a:xfrm>
              <a:off x="606240" y="441828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bo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7640" y="4876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12800"/>
            <a:ext cx="7925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4640" indent="-404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penny has a mass of 2.5 g and a volume of approximately 0.36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approximate density of a pe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ka can make 6 bracelets per half hour. How many bracelets can she make in 1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the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$2.22 for 6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 heartbeats in 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4713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$0.37 per 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23612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≈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6.94 g/cm</a:t>
            </a:r>
            <a:r>
              <a:rPr b="0" lang="en-US" sz="2400" spc="-1" strike="noStrike" baseline="30000">
                <a:solidFill>
                  <a:srgbClr val="ff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53330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.3 beat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15200" y="342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59156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the better bu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half dozen carnations for $4.75 or a dozen for $9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pens for $5.16 or a ten-pack for $12.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2780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 do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8073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hey cost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600200"/>
            <a:ext cx="7467480" cy="4038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3 bags of flour for every 2 bags of sugar in a freight truck. A bag of flour weighs 60 pounds, and a bag of sugar weighs 80 pounds.  Which part of the truck’s cargo is heavier, the flour or the sug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48909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f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2438280"/>
            <a:ext cx="8382240" cy="762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work with rates and rati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828800"/>
            <a:ext cx="7162920" cy="2133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168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01608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38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2354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41590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Rea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90 miles per 3 hou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733560" y="4616280"/>
            <a:ext cx="533160" cy="0"/>
          </a:xfrm>
          <a:prstGeom prst="line">
            <a:avLst/>
          </a:prstGeom>
          <a:ln w="76320">
            <a:solidFill>
              <a:srgbClr val="336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873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comparison of two quantities that have different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295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it rat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rates in which the second quantity is 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572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 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419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0 mi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572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30 mi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2286000"/>
            <a:ext cx="8077320" cy="947160"/>
            <a:chOff x="838080" y="2286000"/>
            <a:chExt cx="8077320" cy="947160"/>
          </a:xfrm>
        </p:grpSpPr>
        <p:sp>
          <p:nvSpPr>
            <p:cNvPr id="89" name=""/>
            <p:cNvSpPr/>
            <p:nvPr/>
          </p:nvSpPr>
          <p:spPr>
            <a:xfrm>
              <a:off x="838080" y="2438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he rat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2286000"/>
              <a:ext cx="68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2438280"/>
              <a:ext cx="56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can be simplified by dividing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76720" y="320040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3352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320040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506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off can type 30 words in half a minute. How many words can he type in 1 min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53080" y="29718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8768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029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off can type 60 words in on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3733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words per minu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749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0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min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14400" y="2819520"/>
            <a:ext cx="1828800" cy="1191240"/>
            <a:chOff x="914400" y="2819520"/>
            <a:chExt cx="1828800" cy="1191240"/>
          </a:xfrm>
        </p:grpSpPr>
        <p:sp>
          <p:nvSpPr>
            <p:cNvPr id="103" name=""/>
            <p:cNvSpPr/>
            <p:nvPr/>
          </p:nvSpPr>
          <p:spPr>
            <a:xfrm>
              <a:off x="914400" y="281952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word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minu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3139920"/>
              <a:ext cx="3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14400" y="3749760"/>
            <a:ext cx="2666880" cy="825480"/>
            <a:chOff x="914400" y="3749760"/>
            <a:chExt cx="2666880" cy="825480"/>
          </a:xfrm>
        </p:grpSpPr>
        <p:sp>
          <p:nvSpPr>
            <p:cNvPr id="106" name=""/>
            <p:cNvSpPr/>
            <p:nvPr/>
          </p:nvSpPr>
          <p:spPr>
            <a:xfrm>
              <a:off x="914400" y="374976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words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•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minute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4038480"/>
              <a:ext cx="3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506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elope can type 90 words in 2 minutes. How many words can she type in 1 min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0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2971800"/>
            <a:ext cx="26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8768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5029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elope can type 45 words in on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7497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0 word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÷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 minut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733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words per minu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749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5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min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Manda Reid</cp:lastModifiedBy>
  <dcterms:modified xsi:type="dcterms:W3CDTF">2007-04-26T20:08:08Z</dcterms:modified>
  <cp:revision>64</cp:revision>
  <dc:subject/>
  <dc:title>Slide 1</dc:title>
</cp:coreProperties>
</file>