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85CD-64AA-4758-B24E-8D12E71A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EB9-1988-44E0-A95C-098E25F5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E66-F318-4519-B3D2-B9298189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EC9E-873E-4EAA-BE1A-70E966B2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EB1-92A4-44D8-B305-6C85834E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EEF-9D43-4D11-8E90-FBE4107B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EDE-635D-4211-910B-DEA6B1A7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A4C-59FC-462F-89E1-EF5284B6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2D7-3D96-49ED-BDD4-22F0B369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C35-BB4A-47A8-93BB-CEF3C082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976-79D1-48F9-8C98-B0E12219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C49-B80E-4708-9157-7769D210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B14E-B1C6-44AA-9597-696310072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ios, Rates, and Unit Ra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464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ios, Rates, and Unit Ra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A: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mistr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784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ve cubic meters of copper has a mass of 44,800 kilograms. What is the density of cop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4960" y="5986800"/>
            <a:ext cx="54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per has a density of 8,960 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4360" y="319896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4,80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90960" y="33685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13064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kilograms per 1 m</a:t>
            </a:r>
            <a:r>
              <a:rPr b="0" i="1" lang="en-US" sz="2400" spc="-1" strike="noStrike" baseline="30000">
                <a:solidFill>
                  <a:srgbClr val="3365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7040" y="4129200"/>
            <a:ext cx="20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4,800 kg ÷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÷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74400" y="5119920"/>
            <a:ext cx="13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8,96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B: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mistr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6318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iece of gold with a volume of 0.5 cubic meters weighs 9650 kilograms. What is the density of go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0200" y="589500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ld has a density of 19,300 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09240" y="3046680"/>
            <a:ext cx="13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965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90960" y="321624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39783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 find kilograms per 1 m</a:t>
            </a:r>
            <a:r>
              <a:rPr b="0" i="1" lang="en-US" sz="2400" spc="-1" strike="noStrike" baseline="30000">
                <a:solidFill>
                  <a:srgbClr val="3365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76920" y="3976920"/>
            <a:ext cx="17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9650 k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•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43080" y="496728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9,30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600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 cubic meters of precious metal has a mass of 18,128 kilograms. What is the density of the precious me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4960" y="5817240"/>
            <a:ext cx="64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ous metal has a density of 4,532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4360" y="302904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8,128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90960" y="3198960"/>
            <a:ext cx="27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39783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kilograms per 1 m</a:t>
            </a:r>
            <a:r>
              <a:rPr b="0" i="1" lang="en-US" sz="2400" spc="-1" strike="noStrike" baseline="30000">
                <a:solidFill>
                  <a:srgbClr val="3365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37040" y="3976920"/>
            <a:ext cx="20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8,128 kg ÷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÷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74400" y="4950000"/>
            <a:ext cx="13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,532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479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iece of gem stone with a volume of 0.25 cubic meters weighs 3540 kilograms. What is the density of the gem st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04480" y="5895000"/>
            <a:ext cx="66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em stone has a density of 14,160 k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09240" y="3046680"/>
            <a:ext cx="13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354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90960" y="32162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97836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 find kilograms per 1 m</a:t>
            </a:r>
            <a:r>
              <a:rPr b="0" i="1" lang="en-US" sz="2400" spc="-1" strike="noStrike" baseline="30000">
                <a:solidFill>
                  <a:srgbClr val="3365ff"/>
                </a:solidFill>
                <a:latin typeface="Verdana"/>
              </a:rPr>
              <a:t>3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76920" y="3976920"/>
            <a:ext cx="17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3540 k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•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.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19400" y="496728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4,160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each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A: Estimating Uni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817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hoose a number close to 468 that is divisible by 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228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68 students to 91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68 students to 91 computers is approximately 5 students per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51560" y="2998800"/>
            <a:ext cx="4668840" cy="828720"/>
            <a:chOff x="1051560" y="2998800"/>
            <a:chExt cx="4668840" cy="828720"/>
          </a:xfrm>
        </p:grpSpPr>
        <p:sp>
          <p:nvSpPr>
            <p:cNvPr id="155" name=""/>
            <p:cNvSpPr/>
            <p:nvPr/>
          </p:nvSpPr>
          <p:spPr>
            <a:xfrm>
              <a:off x="3240720" y="3088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51560" y="300204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68 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1 compu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66160" y="299880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55 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91 compu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240720" y="4357800"/>
            <a:ext cx="2319840" cy="825480"/>
            <a:chOff x="3240720" y="4357800"/>
            <a:chExt cx="2319840" cy="825480"/>
          </a:xfrm>
        </p:grpSpPr>
        <p:sp>
          <p:nvSpPr>
            <p:cNvPr id="159" name=""/>
            <p:cNvSpPr/>
            <p:nvPr/>
          </p:nvSpPr>
          <p:spPr>
            <a:xfrm>
              <a:off x="3240720" y="4494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26360" y="4357800"/>
              <a:ext cx="1834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 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compu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867280" y="41893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students per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each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B: Estimating Uni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817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hoose a number close to 313 that is divisible by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228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13 feet in 8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13 feet to 8 seconds is approximately 39 feet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26960" y="2998800"/>
            <a:ext cx="4120200" cy="828720"/>
            <a:chOff x="1326960" y="2998800"/>
            <a:chExt cx="4120200" cy="828720"/>
          </a:xfrm>
        </p:grpSpPr>
        <p:sp>
          <p:nvSpPr>
            <p:cNvPr id="168" name=""/>
            <p:cNvSpPr/>
            <p:nvPr/>
          </p:nvSpPr>
          <p:spPr>
            <a:xfrm>
              <a:off x="3240720" y="3088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26960" y="3002040"/>
              <a:ext cx="160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13 fe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 sec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41560" y="2998800"/>
              <a:ext cx="160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12 fe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 sec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240720" y="4357800"/>
            <a:ext cx="2133000" cy="825480"/>
            <a:chOff x="3240720" y="4357800"/>
            <a:chExt cx="2133000" cy="825480"/>
          </a:xfrm>
        </p:grpSpPr>
        <p:sp>
          <p:nvSpPr>
            <p:cNvPr id="172" name=""/>
            <p:cNvSpPr/>
            <p:nvPr/>
          </p:nvSpPr>
          <p:spPr>
            <a:xfrm>
              <a:off x="3240720" y="4494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14280" y="4357800"/>
              <a:ext cx="145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9 fe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eco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867280" y="4372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feet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3520" y="17524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each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2817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hoose a number close to 583 that is divisible by 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28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83 soccer players to 85 soccer 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5562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83 soccer players to 85 soccer balls is approximately 7 players per soccer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992880" y="2998800"/>
            <a:ext cx="4787640" cy="828720"/>
            <a:chOff x="992880" y="2998800"/>
            <a:chExt cx="4787640" cy="828720"/>
          </a:xfrm>
        </p:grpSpPr>
        <p:sp>
          <p:nvSpPr>
            <p:cNvPr id="181" name=""/>
            <p:cNvSpPr/>
            <p:nvPr/>
          </p:nvSpPr>
          <p:spPr>
            <a:xfrm>
              <a:off x="3240720" y="3088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92880" y="3002040"/>
              <a:ext cx="22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83 play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5 soccer ba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08920" y="2998800"/>
              <a:ext cx="22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95 play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85 soccer ba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240720" y="4357800"/>
            <a:ext cx="2381400" cy="825480"/>
            <a:chOff x="3240720" y="4357800"/>
            <a:chExt cx="2381400" cy="825480"/>
          </a:xfrm>
        </p:grpSpPr>
        <p:sp>
          <p:nvSpPr>
            <p:cNvPr id="185" name=""/>
            <p:cNvSpPr/>
            <p:nvPr/>
          </p:nvSpPr>
          <p:spPr>
            <a:xfrm>
              <a:off x="3240720" y="4494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70560" y="4357800"/>
              <a:ext cx="195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7 play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occer ba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867280" y="437184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players per soccer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each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8177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hoose a number close to 271 that is divisible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28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71 yards in 3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71 yards to 3 hours is approximately 92 yards per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346040" y="2998800"/>
            <a:ext cx="4082040" cy="828720"/>
            <a:chOff x="1346040" y="2998800"/>
            <a:chExt cx="4082040" cy="828720"/>
          </a:xfrm>
        </p:grpSpPr>
        <p:sp>
          <p:nvSpPr>
            <p:cNvPr id="194" name=""/>
            <p:cNvSpPr/>
            <p:nvPr/>
          </p:nvSpPr>
          <p:spPr>
            <a:xfrm>
              <a:off x="3240720" y="308808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46040" y="3002040"/>
              <a:ext cx="156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71 y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60640" y="2998800"/>
              <a:ext cx="156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76 y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40720" y="4357800"/>
            <a:ext cx="2008080" cy="825480"/>
            <a:chOff x="3240720" y="4357800"/>
            <a:chExt cx="2008080" cy="825480"/>
          </a:xfrm>
        </p:grpSpPr>
        <p:sp>
          <p:nvSpPr>
            <p:cNvPr id="198" name=""/>
            <p:cNvSpPr/>
            <p:nvPr/>
          </p:nvSpPr>
          <p:spPr>
            <a:xfrm>
              <a:off x="3240720" y="449460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54880" y="4357800"/>
              <a:ext cx="139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92 y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867280" y="4372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yards per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09480" y="18288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Unit pric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a unit rate used to compare price per it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s can be purchased in a 5-pack for $1.95 or a 15-pack for $6.20.  Which is the better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360" y="109548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A: Finding Unit Prices to Compar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he price by the number of p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2800" y="326088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ce fo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7560" y="338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7080" y="326088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1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39640" y="338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10640" y="33818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2800" y="44802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ce fo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39640" y="4601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7080" y="448020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6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53360" y="46011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15320" y="46011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5715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ter buy is the 5-pack for $1.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600200"/>
            <a:ext cx="8153280" cy="3886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vide. Round answers to the nearest te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09960" y="27424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08680" y="284724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6280" y="44949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3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96160" y="44190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3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914400" y="2606760"/>
            <a:ext cx="1143000" cy="947160"/>
            <a:chOff x="914400" y="2606760"/>
            <a:chExt cx="1143000" cy="947160"/>
          </a:xfrm>
        </p:grpSpPr>
        <p:sp>
          <p:nvSpPr>
            <p:cNvPr id="61" name=""/>
            <p:cNvSpPr/>
            <p:nvPr/>
          </p:nvSpPr>
          <p:spPr>
            <a:xfrm>
              <a:off x="1066680" y="3078000"/>
              <a:ext cx="79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4400" y="260676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420 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34080" y="2668680"/>
            <a:ext cx="1143000" cy="520560"/>
            <a:chOff x="4834080" y="2668680"/>
            <a:chExt cx="1143000" cy="520560"/>
          </a:xfrm>
        </p:grpSpPr>
        <p:sp>
          <p:nvSpPr>
            <p:cNvPr id="64" name=""/>
            <p:cNvSpPr/>
            <p:nvPr/>
          </p:nvSpPr>
          <p:spPr>
            <a:xfrm>
              <a:off x="5073480" y="3138480"/>
              <a:ext cx="6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34080" y="26686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73 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90720" y="4311720"/>
            <a:ext cx="1143000" cy="947160"/>
            <a:chOff x="990720" y="4311720"/>
            <a:chExt cx="1143000" cy="947160"/>
          </a:xfrm>
        </p:grpSpPr>
        <p:sp>
          <p:nvSpPr>
            <p:cNvPr id="67" name=""/>
            <p:cNvSpPr/>
            <p:nvPr/>
          </p:nvSpPr>
          <p:spPr>
            <a:xfrm>
              <a:off x="1143000" y="4782960"/>
              <a:ext cx="79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90720" y="431172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380 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800600" y="4267080"/>
            <a:ext cx="1143000" cy="947160"/>
            <a:chOff x="4800600" y="4267080"/>
            <a:chExt cx="1143000" cy="947160"/>
          </a:xfrm>
        </p:grpSpPr>
        <p:sp>
          <p:nvSpPr>
            <p:cNvPr id="70" name=""/>
            <p:cNvSpPr/>
            <p:nvPr/>
          </p:nvSpPr>
          <p:spPr>
            <a:xfrm>
              <a:off x="4952880" y="4738680"/>
              <a:ext cx="79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00600" y="426708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430 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mie can buy a 15-oz jar of peanut butter for $2.19 or a 20-oz jar for $2.78.  Which is the better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360" y="109548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B: Finding Unit Prices to Compar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29680" y="3427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89720" y="327672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2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68240" y="3399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85000" y="3427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68240" y="461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42000" y="451008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2.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81960" y="4647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13600" y="46472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ter buy is the 20-oz jar for $2.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06240" y="3198960"/>
            <a:ext cx="2808360" cy="825480"/>
            <a:chOff x="606240" y="3198960"/>
            <a:chExt cx="2808360" cy="825480"/>
          </a:xfrm>
        </p:grpSpPr>
        <p:sp>
          <p:nvSpPr>
            <p:cNvPr id="228" name=""/>
            <p:cNvSpPr/>
            <p:nvPr/>
          </p:nvSpPr>
          <p:spPr>
            <a:xfrm>
              <a:off x="606240" y="3198960"/>
              <a:ext cx="28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 for j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of ou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1400" y="3643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06240" y="4418280"/>
            <a:ext cx="2805120" cy="825480"/>
            <a:chOff x="606240" y="4418280"/>
            <a:chExt cx="2805120" cy="825480"/>
          </a:xfrm>
        </p:grpSpPr>
        <p:sp>
          <p:nvSpPr>
            <p:cNvPr id="231" name=""/>
            <p:cNvSpPr/>
            <p:nvPr/>
          </p:nvSpPr>
          <p:spPr>
            <a:xfrm>
              <a:off x="606240" y="4418280"/>
              <a:ext cx="28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 for j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of ou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7640" y="48769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32448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he price by the number of ou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olf balls can be purchased in a 3-pack for $4.95 or a 12-pack for $18.95.  Which is the better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he price by the number of 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2800" y="326088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ce fo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53360" y="3381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7080" y="326088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4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39640" y="338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10640" y="33818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1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2800" y="44802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ice for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39640" y="4601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47160" y="4480200"/>
            <a:ext cx="11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18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53440" y="4570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15320" y="46011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1.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ter buy is the 12-pack for $18.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ohn can buy a 24 oz bottle of ketchup for $2.19 or a 36 oz bottle for $3.79.  Which is the better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29680" y="3427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9720" y="327672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2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68240" y="3399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85000" y="3427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68240" y="461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42000" y="4510080"/>
            <a:ext cx="9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$3.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81960" y="4647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13600" y="46472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0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etter buy is the 24-oz bottle for $2.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6240" y="3198960"/>
            <a:ext cx="2808360" cy="825480"/>
            <a:chOff x="606240" y="3198960"/>
            <a:chExt cx="2808360" cy="825480"/>
          </a:xfrm>
        </p:grpSpPr>
        <p:sp>
          <p:nvSpPr>
            <p:cNvPr id="260" name=""/>
            <p:cNvSpPr/>
            <p:nvPr/>
          </p:nvSpPr>
          <p:spPr>
            <a:xfrm>
              <a:off x="606240" y="3198960"/>
              <a:ext cx="28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 for bo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of ou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1400" y="3643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06240" y="4418280"/>
            <a:ext cx="2805120" cy="825480"/>
            <a:chOff x="606240" y="4418280"/>
            <a:chExt cx="2805120" cy="825480"/>
          </a:xfrm>
        </p:grpSpPr>
        <p:sp>
          <p:nvSpPr>
            <p:cNvPr id="263" name=""/>
            <p:cNvSpPr/>
            <p:nvPr/>
          </p:nvSpPr>
          <p:spPr>
            <a:xfrm>
              <a:off x="606240" y="4418280"/>
              <a:ext cx="28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ice for bo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number of ou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7640" y="48769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324480" y="3124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he price by the number of ou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 Pa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12800"/>
            <a:ext cx="79250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4640" indent="-404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penny has a mass of 2.5 g and a volume of approximately 0.36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approximate density of a pen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ka can make 6 bracelets per half hour. How many bracelets can she make in 1 h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imate the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$2.22 for 6 st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 heartbeats in 6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47138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$0.37 per 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43600" y="23612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≈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6.94 g/cm</a:t>
            </a:r>
            <a:r>
              <a:rPr b="0" lang="en-US" sz="2400" spc="-1" strike="noStrike" baseline="30000">
                <a:solidFill>
                  <a:srgbClr val="ff33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533304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.3 beat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15200" y="342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59156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the better bu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half dozen carnations for $4.75 or a dozen for $9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pens for $5.16 or a ten-pack for $12.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2780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 do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38073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hey cost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600200"/>
            <a:ext cx="7467480" cy="40384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3 bags of flour for every 2 bags of sugar in a freight truck. A bag of flour weighs 60 pounds, and a bag of sugar weighs 80 pounds.  Which part of the truck’s cargo is heavier, the flour or the sug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489096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f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2438280"/>
            <a:ext cx="8382240" cy="7621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work with rates and ratio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828800"/>
            <a:ext cx="7162920" cy="21337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168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301608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387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42354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41590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Read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“</a:t>
            </a: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90 miles per 3 hou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733560" y="4616280"/>
            <a:ext cx="533160" cy="0"/>
          </a:xfrm>
          <a:prstGeom prst="line">
            <a:avLst/>
          </a:prstGeom>
          <a:ln w="76320">
            <a:solidFill>
              <a:srgbClr val="336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873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a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comparison of two quantities that have different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1295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nit rat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rates in which the second quantity is 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572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t r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4419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30 mi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45720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30 mi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8080" y="2286000"/>
            <a:ext cx="8077320" cy="947160"/>
            <a:chOff x="838080" y="2286000"/>
            <a:chExt cx="8077320" cy="947160"/>
          </a:xfrm>
        </p:grpSpPr>
        <p:sp>
          <p:nvSpPr>
            <p:cNvPr id="89" name=""/>
            <p:cNvSpPr/>
            <p:nvPr/>
          </p:nvSpPr>
          <p:spPr>
            <a:xfrm>
              <a:off x="838080" y="2438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The rat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0920" y="2286000"/>
              <a:ext cx="68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Verdana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76720" y="2438280"/>
              <a:ext cx="563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can be simplified by dividing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276720" y="320040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3352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3200400"/>
            <a:ext cx="6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Unit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5066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off can type 30 words in half a minute. How many words can he type in 1 min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53080" y="29718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8768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029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off can type 60 words in one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3733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 find words per minu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749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60 wor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min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14400" y="2819520"/>
            <a:ext cx="1828800" cy="1191240"/>
            <a:chOff x="914400" y="2819520"/>
            <a:chExt cx="1828800" cy="1191240"/>
          </a:xfrm>
        </p:grpSpPr>
        <p:sp>
          <p:nvSpPr>
            <p:cNvPr id="103" name=""/>
            <p:cNvSpPr/>
            <p:nvPr/>
          </p:nvSpPr>
          <p:spPr>
            <a:xfrm>
              <a:off x="914400" y="281952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0 word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minu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90720" y="3139920"/>
              <a:ext cx="38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914400" y="3749760"/>
            <a:ext cx="2666880" cy="825480"/>
            <a:chOff x="914400" y="3749760"/>
            <a:chExt cx="2666880" cy="825480"/>
          </a:xfrm>
        </p:grpSpPr>
        <p:sp>
          <p:nvSpPr>
            <p:cNvPr id="106" name=""/>
            <p:cNvSpPr/>
            <p:nvPr/>
          </p:nvSpPr>
          <p:spPr>
            <a:xfrm>
              <a:off x="914400" y="3749760"/>
              <a:ext cx="266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0 words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•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minute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90720" y="4038480"/>
              <a:ext cx="38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5066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nelope can type 90 words in 2 minutes. How many words can she type in 1 minu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819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90 wor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min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3080" y="2971800"/>
            <a:ext cx="26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a ra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38768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5029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elope can type 45 words in one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74976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90 word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÷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2 minut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3733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words per minute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3749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5 wor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min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Manda Reid</cp:lastModifiedBy>
  <dcterms:modified xsi:type="dcterms:W3CDTF">2007-04-26T20:08:08Z</dcterms:modified>
  <cp:revision>64</cp:revision>
  <dc:subject/>
  <dc:title>Slide 1</dc:title>
</cp:coreProperties>
</file>