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9035-7D53-462E-A4A7-B339287C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F02D-1DD7-4306-A03D-ED5751ED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0557-47CB-4137-A3AA-D2FA230F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B0E7-04DC-419E-AE94-7878C9DD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8AD0-C700-4CAD-8A14-66A832CC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9F54-61CA-4436-889E-B789C807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E8B0-BCE1-4A53-B203-A615781F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E221-C358-41AF-BBA9-3D713BBE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750-E51A-481E-80E5-EB42E306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6D4C-4835-422A-B1FB-F006552E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3A64-923B-4E59-ABC7-73E96FF8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6E3-71D5-4553-9583-F9A6B341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AE0A-6EAD-407D-B64C-235C25E52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12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Ratios and Propor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04640" y="137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Ratios and Propor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838080" y="1676520"/>
            <a:ext cx="746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tios that are equivalent are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roportion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r 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ropor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Equivalent ratios are identical when they are written in simplest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Determining Whether Two Ratios are in Pro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182880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 to tell whether the ratios form a prop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8760" y="4646880"/>
            <a:ext cx="2122920" cy="825480"/>
            <a:chOff x="788760" y="4646880"/>
            <a:chExt cx="2122920" cy="825480"/>
          </a:xfrm>
        </p:grpSpPr>
        <p:sp>
          <p:nvSpPr>
            <p:cNvPr id="205" name=""/>
            <p:cNvSpPr/>
            <p:nvPr/>
          </p:nvSpPr>
          <p:spPr>
            <a:xfrm>
              <a:off x="1316880" y="4646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8760" y="4724280"/>
              <a:ext cx="47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61120" y="48006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83560" y="4646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88040" y="2818080"/>
            <a:ext cx="2123640" cy="825480"/>
            <a:chOff x="788040" y="2818080"/>
            <a:chExt cx="2123640" cy="825480"/>
          </a:xfrm>
        </p:grpSpPr>
        <p:sp>
          <p:nvSpPr>
            <p:cNvPr id="210" name=""/>
            <p:cNvSpPr/>
            <p:nvPr/>
          </p:nvSpPr>
          <p:spPr>
            <a:xfrm>
              <a:off x="1316880" y="2818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88040" y="2895480"/>
              <a:ext cx="4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61120" y="29718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83560" y="2818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248520" y="2741760"/>
            <a:ext cx="2743200" cy="1589040"/>
            <a:chOff x="6248520" y="2741760"/>
            <a:chExt cx="2743200" cy="1589040"/>
          </a:xfrm>
        </p:grpSpPr>
        <p:sp>
          <p:nvSpPr>
            <p:cNvPr id="215" name=""/>
            <p:cNvSpPr/>
            <p:nvPr/>
          </p:nvSpPr>
          <p:spPr>
            <a:xfrm>
              <a:off x="6248520" y="2865240"/>
              <a:ext cx="2743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ratios are in propor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94960" y="27417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30760" y="289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07600" y="27417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371600" y="3228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52680" y="3233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24840" y="283392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132080" y="2833920"/>
            <a:ext cx="1370160" cy="825480"/>
            <a:chOff x="4132080" y="2833920"/>
            <a:chExt cx="1370160" cy="825480"/>
          </a:xfrm>
        </p:grpSpPr>
        <p:sp>
          <p:nvSpPr>
            <p:cNvPr id="223" name=""/>
            <p:cNvSpPr/>
            <p:nvPr/>
          </p:nvSpPr>
          <p:spPr>
            <a:xfrm>
              <a:off x="5147640" y="2987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4132080" y="2833920"/>
              <a:ext cx="1041480" cy="825480"/>
              <a:chOff x="4132080" y="2833920"/>
              <a:chExt cx="1041480" cy="825480"/>
            </a:xfrm>
          </p:grpSpPr>
          <p:sp>
            <p:nvSpPr>
              <p:cNvPr id="225" name=""/>
              <p:cNvSpPr/>
              <p:nvPr/>
            </p:nvSpPr>
            <p:spPr>
              <a:xfrm>
                <a:off x="4139640" y="28339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32080" y="3249360"/>
                <a:ext cx="10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"/>
          <p:cNvGrpSpPr/>
          <p:nvPr/>
        </p:nvGrpSpPr>
        <p:grpSpPr>
          <a:xfrm>
            <a:off x="3301200" y="2833920"/>
            <a:ext cx="829440" cy="825480"/>
            <a:chOff x="3301200" y="2833920"/>
            <a:chExt cx="829440" cy="825480"/>
          </a:xfrm>
        </p:grpSpPr>
        <p:grpSp>
          <p:nvGrpSpPr>
            <p:cNvPr id="228" name=""/>
            <p:cNvGrpSpPr/>
            <p:nvPr/>
          </p:nvGrpSpPr>
          <p:grpSpPr>
            <a:xfrm>
              <a:off x="3301200" y="2833920"/>
              <a:ext cx="528120" cy="825480"/>
              <a:chOff x="3301200" y="2833920"/>
              <a:chExt cx="528120" cy="825480"/>
            </a:xfrm>
          </p:grpSpPr>
          <p:sp>
            <p:nvSpPr>
              <p:cNvPr id="229" name=""/>
              <p:cNvSpPr/>
              <p:nvPr/>
            </p:nvSpPr>
            <p:spPr>
              <a:xfrm>
                <a:off x="3301200" y="283392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41520" y="32302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3776040" y="2987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421600" y="36561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129200" y="3656160"/>
            <a:ext cx="1370160" cy="825480"/>
            <a:chOff x="4129200" y="3656160"/>
            <a:chExt cx="1370160" cy="825480"/>
          </a:xfrm>
        </p:grpSpPr>
        <p:sp>
          <p:nvSpPr>
            <p:cNvPr id="234" name=""/>
            <p:cNvSpPr/>
            <p:nvPr/>
          </p:nvSpPr>
          <p:spPr>
            <a:xfrm>
              <a:off x="5144760" y="3809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129200" y="3656160"/>
              <a:ext cx="1041480" cy="825480"/>
              <a:chOff x="4129200" y="3656160"/>
              <a:chExt cx="1041480" cy="825480"/>
            </a:xfrm>
          </p:grpSpPr>
          <p:sp>
            <p:nvSpPr>
              <p:cNvPr id="236" name=""/>
              <p:cNvSpPr/>
              <p:nvPr/>
            </p:nvSpPr>
            <p:spPr>
              <a:xfrm>
                <a:off x="4136760" y="365616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8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29200" y="4071600"/>
                <a:ext cx="10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"/>
          <p:cNvGrpSpPr/>
          <p:nvPr/>
        </p:nvGrpSpPr>
        <p:grpSpPr>
          <a:xfrm>
            <a:off x="3298320" y="3656160"/>
            <a:ext cx="829440" cy="825480"/>
            <a:chOff x="3298320" y="3656160"/>
            <a:chExt cx="829440" cy="825480"/>
          </a:xfrm>
        </p:grpSpPr>
        <p:grpSp>
          <p:nvGrpSpPr>
            <p:cNvPr id="239" name=""/>
            <p:cNvGrpSpPr/>
            <p:nvPr/>
          </p:nvGrpSpPr>
          <p:grpSpPr>
            <a:xfrm>
              <a:off x="3298320" y="3656160"/>
              <a:ext cx="528120" cy="825480"/>
              <a:chOff x="3298320" y="3656160"/>
              <a:chExt cx="528120" cy="825480"/>
            </a:xfrm>
          </p:grpSpPr>
          <p:sp>
            <p:nvSpPr>
              <p:cNvPr id="240" name=""/>
              <p:cNvSpPr/>
              <p:nvPr/>
            </p:nvSpPr>
            <p:spPr>
              <a:xfrm>
                <a:off x="3298320" y="36561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338640" y="405252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3773160" y="3809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269320" y="466092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813120" y="4662720"/>
            <a:ext cx="1517760" cy="825480"/>
            <a:chOff x="3813120" y="4662720"/>
            <a:chExt cx="1517760" cy="825480"/>
          </a:xfrm>
        </p:grpSpPr>
        <p:sp>
          <p:nvSpPr>
            <p:cNvPr id="245" name=""/>
            <p:cNvSpPr/>
            <p:nvPr/>
          </p:nvSpPr>
          <p:spPr>
            <a:xfrm>
              <a:off x="4976280" y="486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3813120" y="4662720"/>
              <a:ext cx="1143000" cy="825480"/>
              <a:chOff x="3813120" y="4662720"/>
              <a:chExt cx="1143000" cy="825480"/>
            </a:xfrm>
          </p:grpSpPr>
          <p:sp>
            <p:nvSpPr>
              <p:cNvPr id="247" name=""/>
              <p:cNvSpPr/>
              <p:nvPr/>
            </p:nvSpPr>
            <p:spPr>
              <a:xfrm>
                <a:off x="3898800" y="46627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2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5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813120" y="51019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9" name=""/>
          <p:cNvGrpSpPr/>
          <p:nvPr/>
        </p:nvGrpSpPr>
        <p:grpSpPr>
          <a:xfrm>
            <a:off x="3011040" y="4646880"/>
            <a:ext cx="795960" cy="825480"/>
            <a:chOff x="3011040" y="4646880"/>
            <a:chExt cx="795960" cy="825480"/>
          </a:xfrm>
        </p:grpSpPr>
        <p:sp>
          <p:nvSpPr>
            <p:cNvPr id="250" name=""/>
            <p:cNvSpPr/>
            <p:nvPr/>
          </p:nvSpPr>
          <p:spPr>
            <a:xfrm>
              <a:off x="3011040" y="4646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52400" y="4800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272560" y="556128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795480" y="5577120"/>
            <a:ext cx="1517760" cy="825480"/>
            <a:chOff x="3795480" y="5577120"/>
            <a:chExt cx="1517760" cy="825480"/>
          </a:xfrm>
        </p:grpSpPr>
        <p:sp>
          <p:nvSpPr>
            <p:cNvPr id="254" name=""/>
            <p:cNvSpPr/>
            <p:nvPr/>
          </p:nvSpPr>
          <p:spPr>
            <a:xfrm>
              <a:off x="4958640" y="5776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3795480" y="5577120"/>
              <a:ext cx="1143000" cy="825480"/>
              <a:chOff x="3795480" y="5577120"/>
              <a:chExt cx="1143000" cy="82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3881160" y="55771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795480" y="60163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2993400" y="5561280"/>
            <a:ext cx="795960" cy="825480"/>
            <a:chOff x="2993400" y="5561280"/>
            <a:chExt cx="795960" cy="825480"/>
          </a:xfrm>
        </p:grpSpPr>
        <p:sp>
          <p:nvSpPr>
            <p:cNvPr id="259" name=""/>
            <p:cNvSpPr/>
            <p:nvPr/>
          </p:nvSpPr>
          <p:spPr>
            <a:xfrm>
              <a:off x="2993400" y="55612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34760" y="571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019920" y="4722840"/>
            <a:ext cx="2895480" cy="1543320"/>
            <a:chOff x="6019920" y="4722840"/>
            <a:chExt cx="2895480" cy="1543320"/>
          </a:xfrm>
        </p:grpSpPr>
        <p:sp>
          <p:nvSpPr>
            <p:cNvPr id="262" name=""/>
            <p:cNvSpPr/>
            <p:nvPr/>
          </p:nvSpPr>
          <p:spPr>
            <a:xfrm>
              <a:off x="6019920" y="4800600"/>
              <a:ext cx="2895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ratios are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not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n propor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66360" y="4722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41320" y="48783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79000" y="4722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52388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 to tell whether the ratios form a prop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60160" y="4799160"/>
            <a:ext cx="2122920" cy="825480"/>
            <a:chOff x="560160" y="4799160"/>
            <a:chExt cx="2122920" cy="825480"/>
          </a:xfrm>
        </p:grpSpPr>
        <p:sp>
          <p:nvSpPr>
            <p:cNvPr id="269" name=""/>
            <p:cNvSpPr/>
            <p:nvPr/>
          </p:nvSpPr>
          <p:spPr>
            <a:xfrm>
              <a:off x="1088280" y="47991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0160" y="4876560"/>
              <a:ext cx="47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32520" y="49528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54960" y="47991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943600" y="2741760"/>
            <a:ext cx="2743200" cy="1589040"/>
            <a:chOff x="5943600" y="2741760"/>
            <a:chExt cx="2743200" cy="1589040"/>
          </a:xfrm>
        </p:grpSpPr>
        <p:sp>
          <p:nvSpPr>
            <p:cNvPr id="274" name=""/>
            <p:cNvSpPr/>
            <p:nvPr/>
          </p:nvSpPr>
          <p:spPr>
            <a:xfrm>
              <a:off x="5943600" y="2865240"/>
              <a:ext cx="2743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ratios are in propor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90040" y="27417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25840" y="289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02680" y="27417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289840" y="283392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827520" y="2833920"/>
            <a:ext cx="1370160" cy="825480"/>
            <a:chOff x="3827520" y="2833920"/>
            <a:chExt cx="1370160" cy="825480"/>
          </a:xfrm>
        </p:grpSpPr>
        <p:sp>
          <p:nvSpPr>
            <p:cNvPr id="280" name=""/>
            <p:cNvSpPr/>
            <p:nvPr/>
          </p:nvSpPr>
          <p:spPr>
            <a:xfrm>
              <a:off x="4843080" y="2987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3827520" y="2833920"/>
              <a:ext cx="1041480" cy="825480"/>
              <a:chOff x="3827520" y="2833920"/>
              <a:chExt cx="1041480" cy="825480"/>
            </a:xfrm>
          </p:grpSpPr>
          <p:sp>
            <p:nvSpPr>
              <p:cNvPr id="282" name=""/>
              <p:cNvSpPr/>
              <p:nvPr/>
            </p:nvSpPr>
            <p:spPr>
              <a:xfrm>
                <a:off x="3835080" y="28339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5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827520" y="3249360"/>
                <a:ext cx="10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2996640" y="2833920"/>
            <a:ext cx="829440" cy="825480"/>
            <a:chOff x="2996640" y="2833920"/>
            <a:chExt cx="829440" cy="825480"/>
          </a:xfrm>
        </p:grpSpPr>
        <p:grpSp>
          <p:nvGrpSpPr>
            <p:cNvPr id="285" name=""/>
            <p:cNvGrpSpPr/>
            <p:nvPr/>
          </p:nvGrpSpPr>
          <p:grpSpPr>
            <a:xfrm>
              <a:off x="2996640" y="2833920"/>
              <a:ext cx="528120" cy="825480"/>
              <a:chOff x="2996640" y="2833920"/>
              <a:chExt cx="528120" cy="825480"/>
            </a:xfrm>
          </p:grpSpPr>
          <p:sp>
            <p:nvSpPr>
              <p:cNvPr id="286" name=""/>
              <p:cNvSpPr/>
              <p:nvPr/>
            </p:nvSpPr>
            <p:spPr>
              <a:xfrm>
                <a:off x="2996640" y="283392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036960" y="32302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3471480" y="2987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213880" y="36561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824280" y="3656160"/>
            <a:ext cx="1370160" cy="825480"/>
            <a:chOff x="3824280" y="3656160"/>
            <a:chExt cx="1370160" cy="825480"/>
          </a:xfrm>
        </p:grpSpPr>
        <p:sp>
          <p:nvSpPr>
            <p:cNvPr id="291" name=""/>
            <p:cNvSpPr/>
            <p:nvPr/>
          </p:nvSpPr>
          <p:spPr>
            <a:xfrm>
              <a:off x="4839840" y="3809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3824280" y="3656160"/>
              <a:ext cx="1041480" cy="825480"/>
              <a:chOff x="3824280" y="3656160"/>
              <a:chExt cx="1041480" cy="825480"/>
            </a:xfrm>
          </p:grpSpPr>
          <p:sp>
            <p:nvSpPr>
              <p:cNvPr id="293" name=""/>
              <p:cNvSpPr/>
              <p:nvPr/>
            </p:nvSpPr>
            <p:spPr>
              <a:xfrm>
                <a:off x="3831840" y="365616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5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824280" y="4071600"/>
                <a:ext cx="10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2993400" y="3656160"/>
            <a:ext cx="829440" cy="825480"/>
            <a:chOff x="2993400" y="3656160"/>
            <a:chExt cx="829440" cy="825480"/>
          </a:xfrm>
        </p:grpSpPr>
        <p:grpSp>
          <p:nvGrpSpPr>
            <p:cNvPr id="296" name=""/>
            <p:cNvGrpSpPr/>
            <p:nvPr/>
          </p:nvGrpSpPr>
          <p:grpSpPr>
            <a:xfrm>
              <a:off x="2993400" y="3656160"/>
              <a:ext cx="528120" cy="825480"/>
              <a:chOff x="2993400" y="3656160"/>
              <a:chExt cx="528120" cy="825480"/>
            </a:xfrm>
          </p:grpSpPr>
          <p:sp>
            <p:nvSpPr>
              <p:cNvPr id="297" name=""/>
              <p:cNvSpPr/>
              <p:nvPr/>
            </p:nvSpPr>
            <p:spPr>
              <a:xfrm>
                <a:off x="2993400" y="36561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033720" y="405252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3468240" y="3809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5269320" y="472284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813120" y="4662720"/>
            <a:ext cx="1517760" cy="825480"/>
            <a:chOff x="3813120" y="4662720"/>
            <a:chExt cx="1517760" cy="825480"/>
          </a:xfrm>
        </p:grpSpPr>
        <p:sp>
          <p:nvSpPr>
            <p:cNvPr id="302" name=""/>
            <p:cNvSpPr/>
            <p:nvPr/>
          </p:nvSpPr>
          <p:spPr>
            <a:xfrm>
              <a:off x="4976280" y="486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813120" y="4662720"/>
              <a:ext cx="1143000" cy="825480"/>
              <a:chOff x="3813120" y="4662720"/>
              <a:chExt cx="1143000" cy="825480"/>
            </a:xfrm>
          </p:grpSpPr>
          <p:sp>
            <p:nvSpPr>
              <p:cNvPr id="304" name=""/>
              <p:cNvSpPr/>
              <p:nvPr/>
            </p:nvSpPr>
            <p:spPr>
              <a:xfrm>
                <a:off x="3898800" y="46627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4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9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813120" y="51019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3011040" y="4646880"/>
            <a:ext cx="795960" cy="825480"/>
            <a:chOff x="3011040" y="4646880"/>
            <a:chExt cx="795960" cy="825480"/>
          </a:xfrm>
        </p:grpSpPr>
        <p:sp>
          <p:nvSpPr>
            <p:cNvPr id="307" name=""/>
            <p:cNvSpPr/>
            <p:nvPr/>
          </p:nvSpPr>
          <p:spPr>
            <a:xfrm>
              <a:off x="3011040" y="4646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52400" y="4800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5272560" y="556128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95480" y="5577120"/>
            <a:ext cx="1517760" cy="825480"/>
            <a:chOff x="3795480" y="5577120"/>
            <a:chExt cx="1517760" cy="825480"/>
          </a:xfrm>
        </p:grpSpPr>
        <p:sp>
          <p:nvSpPr>
            <p:cNvPr id="311" name=""/>
            <p:cNvSpPr/>
            <p:nvPr/>
          </p:nvSpPr>
          <p:spPr>
            <a:xfrm>
              <a:off x="4958640" y="5776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3795480" y="5577120"/>
              <a:ext cx="1143000" cy="825480"/>
              <a:chOff x="3795480" y="5577120"/>
              <a:chExt cx="1143000" cy="825480"/>
            </a:xfrm>
          </p:grpSpPr>
          <p:sp>
            <p:nvSpPr>
              <p:cNvPr id="313" name=""/>
              <p:cNvSpPr/>
              <p:nvPr/>
            </p:nvSpPr>
            <p:spPr>
              <a:xfrm>
                <a:off x="3881160" y="55771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795480" y="60163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2993400" y="5561280"/>
            <a:ext cx="795960" cy="825480"/>
            <a:chOff x="2993400" y="5561280"/>
            <a:chExt cx="795960" cy="825480"/>
          </a:xfrm>
        </p:grpSpPr>
        <p:sp>
          <p:nvSpPr>
            <p:cNvPr id="316" name=""/>
            <p:cNvSpPr/>
            <p:nvPr/>
          </p:nvSpPr>
          <p:spPr>
            <a:xfrm>
              <a:off x="2993400" y="55612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34760" y="571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19920" y="4722840"/>
            <a:ext cx="2895480" cy="1543320"/>
            <a:chOff x="6019920" y="4722840"/>
            <a:chExt cx="2895480" cy="1543320"/>
          </a:xfrm>
        </p:grpSpPr>
        <p:sp>
          <p:nvSpPr>
            <p:cNvPr id="319" name=""/>
            <p:cNvSpPr/>
            <p:nvPr/>
          </p:nvSpPr>
          <p:spPr>
            <a:xfrm>
              <a:off x="6019920" y="4800600"/>
              <a:ext cx="2895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ratios are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not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n propor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66360" y="4722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41320" y="48783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79000" y="4722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59440" y="2818080"/>
            <a:ext cx="2123640" cy="825480"/>
            <a:chOff x="559440" y="2818080"/>
            <a:chExt cx="2123640" cy="825480"/>
          </a:xfrm>
        </p:grpSpPr>
        <p:grpSp>
          <p:nvGrpSpPr>
            <p:cNvPr id="324" name=""/>
            <p:cNvGrpSpPr/>
            <p:nvPr/>
          </p:nvGrpSpPr>
          <p:grpSpPr>
            <a:xfrm>
              <a:off x="559440" y="2818080"/>
              <a:ext cx="2123640" cy="825480"/>
              <a:chOff x="559440" y="2818080"/>
              <a:chExt cx="2123640" cy="825480"/>
            </a:xfrm>
          </p:grpSpPr>
          <p:sp>
            <p:nvSpPr>
              <p:cNvPr id="325" name=""/>
              <p:cNvSpPr/>
              <p:nvPr/>
            </p:nvSpPr>
            <p:spPr>
              <a:xfrm>
                <a:off x="1088280" y="28180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9440" y="2895480"/>
                <a:ext cx="47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A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532520" y="297180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an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154960" y="28180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114560" y="3233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09680" y="3243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i="1" lang="en-US" sz="2400" spc="-1" strike="noStrike">
                <a:solidFill>
                  <a:srgbClr val="ff3300"/>
                </a:solidFill>
                <a:latin typeface="Arial Black"/>
              </a:rPr>
              <a:t>Earth Scienc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17524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t 4°C, four cubic feet of silver has the same mass as 42 cubic feet of water.  At 4°C, would 210 cubic feet of water have the same mass as 20 cubic feet of sil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80880" y="4570560"/>
            <a:ext cx="3079440" cy="825480"/>
            <a:chOff x="380880" y="4570560"/>
            <a:chExt cx="3079440" cy="825480"/>
          </a:xfrm>
        </p:grpSpPr>
        <p:sp>
          <p:nvSpPr>
            <p:cNvPr id="334" name=""/>
            <p:cNvSpPr/>
            <p:nvPr/>
          </p:nvSpPr>
          <p:spPr>
            <a:xfrm>
              <a:off x="499680" y="4570560"/>
              <a:ext cx="103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÷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2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÷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1668600" y="4646520"/>
              <a:ext cx="387360" cy="537480"/>
              <a:chOff x="1668600" y="4646520"/>
              <a:chExt cx="387360" cy="537480"/>
            </a:xfrm>
          </p:grpSpPr>
          <p:sp>
            <p:nvSpPr>
              <p:cNvPr id="336" name=""/>
              <p:cNvSpPr/>
              <p:nvPr/>
            </p:nvSpPr>
            <p:spPr>
              <a:xfrm>
                <a:off x="1668600" y="464652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01360" y="4724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2078640" y="4570560"/>
              <a:ext cx="138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0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÷ 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0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÷ 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0880" y="49672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43000" y="4971960"/>
              <a:ext cx="139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112040" y="5424480"/>
            <a:ext cx="1518840" cy="825480"/>
            <a:chOff x="1112040" y="5424480"/>
            <a:chExt cx="1518840" cy="825480"/>
          </a:xfrm>
        </p:grpSpPr>
        <p:sp>
          <p:nvSpPr>
            <p:cNvPr id="342" name=""/>
            <p:cNvSpPr/>
            <p:nvPr/>
          </p:nvSpPr>
          <p:spPr>
            <a:xfrm>
              <a:off x="1112040" y="54244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63200" y="5578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02760" y="54244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61720" y="5835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57120" y="5835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150200" y="3579840"/>
            <a:ext cx="1668960" cy="825480"/>
            <a:chOff x="1150200" y="3579840"/>
            <a:chExt cx="1668960" cy="825480"/>
          </a:xfrm>
        </p:grpSpPr>
        <p:sp>
          <p:nvSpPr>
            <p:cNvPr id="348" name=""/>
            <p:cNvSpPr/>
            <p:nvPr/>
          </p:nvSpPr>
          <p:spPr>
            <a:xfrm>
              <a:off x="1150200" y="357984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1664640" y="3630600"/>
              <a:ext cx="390960" cy="563040"/>
              <a:chOff x="1664640" y="3630600"/>
              <a:chExt cx="390960" cy="563040"/>
            </a:xfrm>
          </p:grpSpPr>
          <p:sp>
            <p:nvSpPr>
              <p:cNvPr id="350" name=""/>
              <p:cNvSpPr/>
              <p:nvPr/>
            </p:nvSpPr>
            <p:spPr>
              <a:xfrm>
                <a:off x="1664640" y="3630600"/>
                <a:ext cx="34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01000" y="3733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2074320" y="357984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57040" y="40053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43000" y="401004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724280" y="3427560"/>
            <a:ext cx="4572000" cy="2082960"/>
            <a:chOff x="4724280" y="3427560"/>
            <a:chExt cx="4572000" cy="2082960"/>
          </a:xfrm>
        </p:grpSpPr>
        <p:sp>
          <p:nvSpPr>
            <p:cNvPr id="356" name=""/>
            <p:cNvSpPr/>
            <p:nvPr/>
          </p:nvSpPr>
          <p:spPr>
            <a:xfrm>
              <a:off x="4724280" y="3511440"/>
              <a:ext cx="4572000" cy="19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0 cubic feet of water would have the same mass at 4°C as 20 cubic feet of silv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5715360" y="3427560"/>
              <a:ext cx="1502280" cy="825480"/>
              <a:chOff x="5715360" y="3427560"/>
              <a:chExt cx="1502280" cy="825480"/>
            </a:xfrm>
          </p:grpSpPr>
          <p:sp>
            <p:nvSpPr>
              <p:cNvPr id="358" name=""/>
              <p:cNvSpPr/>
              <p:nvPr/>
            </p:nvSpPr>
            <p:spPr>
              <a:xfrm>
                <a:off x="5715360" y="34275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62560" y="3581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89520" y="34275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68280" y="3838680"/>
                <a:ext cx="37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747480" y="3838680"/>
                <a:ext cx="37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35053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5238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t 4°C, two cubic feet of silver has the same mass as 21 cubic feet of water.  At 4°C, would 105 cubic feet of water have the same mass as 10 cubic feet of sil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874080" y="4418280"/>
            <a:ext cx="2277360" cy="826920"/>
            <a:chOff x="874080" y="4418280"/>
            <a:chExt cx="2277360" cy="826920"/>
          </a:xfrm>
        </p:grpSpPr>
        <p:grpSp>
          <p:nvGrpSpPr>
            <p:cNvPr id="367" name=""/>
            <p:cNvGrpSpPr/>
            <p:nvPr/>
          </p:nvGrpSpPr>
          <p:grpSpPr>
            <a:xfrm>
              <a:off x="874080" y="4418280"/>
              <a:ext cx="2208600" cy="826920"/>
              <a:chOff x="874080" y="4418280"/>
              <a:chExt cx="2208600" cy="82692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1378080" y="4494240"/>
                <a:ext cx="387360" cy="537480"/>
                <a:chOff x="1378080" y="4494240"/>
                <a:chExt cx="387360" cy="53748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1378080" y="44942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?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410840" y="45720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1874880" y="4418280"/>
                <a:ext cx="1207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5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"/>
              <p:cNvGrpSpPr/>
              <p:nvPr/>
            </p:nvGrpSpPr>
            <p:grpSpPr>
              <a:xfrm>
                <a:off x="874080" y="4419720"/>
                <a:ext cx="528120" cy="825480"/>
                <a:chOff x="874080" y="4419720"/>
                <a:chExt cx="528120" cy="82548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874080" y="4419720"/>
                  <a:ext cx="52812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2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84160" y="48448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5" name=""/>
            <p:cNvSpPr/>
            <p:nvPr/>
          </p:nvSpPr>
          <p:spPr>
            <a:xfrm>
              <a:off x="1752840" y="4819680"/>
              <a:ext cx="139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859680" y="5272200"/>
            <a:ext cx="1518840" cy="825480"/>
            <a:chOff x="859680" y="5272200"/>
            <a:chExt cx="1518840" cy="825480"/>
          </a:xfrm>
        </p:grpSpPr>
        <p:sp>
          <p:nvSpPr>
            <p:cNvPr id="377" name=""/>
            <p:cNvSpPr/>
            <p:nvPr/>
          </p:nvSpPr>
          <p:spPr>
            <a:xfrm>
              <a:off x="859680" y="527220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10840" y="542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50400" y="527220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09360" y="5683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04760" y="5683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859680" y="3427560"/>
            <a:ext cx="1668960" cy="825480"/>
            <a:chOff x="859680" y="3427560"/>
            <a:chExt cx="1668960" cy="825480"/>
          </a:xfrm>
        </p:grpSpPr>
        <p:sp>
          <p:nvSpPr>
            <p:cNvPr id="383" name=""/>
            <p:cNvSpPr/>
            <p:nvPr/>
          </p:nvSpPr>
          <p:spPr>
            <a:xfrm>
              <a:off x="859680" y="34275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1374120" y="3477960"/>
              <a:ext cx="390960" cy="562680"/>
              <a:chOff x="1374120" y="3477960"/>
              <a:chExt cx="390960" cy="562680"/>
            </a:xfrm>
          </p:grpSpPr>
          <p:sp>
            <p:nvSpPr>
              <p:cNvPr id="385" name=""/>
              <p:cNvSpPr/>
              <p:nvPr/>
            </p:nvSpPr>
            <p:spPr>
              <a:xfrm>
                <a:off x="1374120" y="3477960"/>
                <a:ext cx="34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10480" y="3580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1783800" y="342756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66520" y="3852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52480" y="385740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633920" y="3275280"/>
            <a:ext cx="4433760" cy="2082960"/>
            <a:chOff x="4633920" y="3275280"/>
            <a:chExt cx="4433760" cy="2082960"/>
          </a:xfrm>
        </p:grpSpPr>
        <p:sp>
          <p:nvSpPr>
            <p:cNvPr id="391" name=""/>
            <p:cNvSpPr/>
            <p:nvPr/>
          </p:nvSpPr>
          <p:spPr>
            <a:xfrm>
              <a:off x="4633920" y="3359160"/>
              <a:ext cx="4433760" cy="19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5 cubic feet of water would have the same mass at 4°C as 10 cubic feet of silv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5587560" y="3275280"/>
              <a:ext cx="1472400" cy="825480"/>
              <a:chOff x="5587560" y="3275280"/>
              <a:chExt cx="1472400" cy="825480"/>
            </a:xfrm>
          </p:grpSpPr>
          <p:sp>
            <p:nvSpPr>
              <p:cNvPr id="393" name=""/>
              <p:cNvSpPr/>
              <p:nvPr/>
            </p:nvSpPr>
            <p:spPr>
              <a:xfrm>
                <a:off x="5587560" y="32752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125760" y="34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31840" y="32752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646240" y="3686400"/>
                <a:ext cx="36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95560" y="3686400"/>
                <a:ext cx="36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3276720" y="4591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907000" y="4738680"/>
            <a:ext cx="1613520" cy="825480"/>
            <a:chOff x="2907000" y="4738680"/>
            <a:chExt cx="1613520" cy="825480"/>
          </a:xfrm>
        </p:grpSpPr>
        <p:sp>
          <p:nvSpPr>
            <p:cNvPr id="401" name=""/>
            <p:cNvSpPr/>
            <p:nvPr/>
          </p:nvSpPr>
          <p:spPr>
            <a:xfrm>
              <a:off x="2907000" y="473868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3300"/>
                  </a:solidFill>
                  <a:uFillTx/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56360" y="473868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3300"/>
                  </a:solidFill>
                  <a:uFillTx/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79160" y="487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04400" y="487548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; y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45720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wo ratios that are equivalent to each given ratio.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568440" y="2224080"/>
            <a:ext cx="896040" cy="825480"/>
            <a:chOff x="568440" y="2224080"/>
            <a:chExt cx="896040" cy="825480"/>
          </a:xfrm>
        </p:grpSpPr>
        <p:sp>
          <p:nvSpPr>
            <p:cNvPr id="407" name=""/>
            <p:cNvSpPr/>
            <p:nvPr/>
          </p:nvSpPr>
          <p:spPr>
            <a:xfrm>
              <a:off x="936360" y="2224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8440" y="230184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68440" y="3138480"/>
            <a:ext cx="896040" cy="825480"/>
            <a:chOff x="568440" y="3138480"/>
            <a:chExt cx="896040" cy="825480"/>
          </a:xfrm>
        </p:grpSpPr>
        <p:sp>
          <p:nvSpPr>
            <p:cNvPr id="410" name=""/>
            <p:cNvSpPr/>
            <p:nvPr/>
          </p:nvSpPr>
          <p:spPr>
            <a:xfrm>
              <a:off x="936360" y="31384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8440" y="321624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69160" y="4722840"/>
            <a:ext cx="895320" cy="825480"/>
            <a:chOff x="569160" y="4722840"/>
            <a:chExt cx="895320" cy="825480"/>
          </a:xfrm>
        </p:grpSpPr>
        <p:sp>
          <p:nvSpPr>
            <p:cNvPr id="413" name=""/>
            <p:cNvSpPr/>
            <p:nvPr/>
          </p:nvSpPr>
          <p:spPr>
            <a:xfrm>
              <a:off x="936360" y="472284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9160" y="480060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30280" y="5653080"/>
            <a:ext cx="896040" cy="825480"/>
            <a:chOff x="530280" y="5653080"/>
            <a:chExt cx="896040" cy="825480"/>
          </a:xfrm>
        </p:grpSpPr>
        <p:sp>
          <p:nvSpPr>
            <p:cNvPr id="416" name=""/>
            <p:cNvSpPr/>
            <p:nvPr/>
          </p:nvSpPr>
          <p:spPr>
            <a:xfrm>
              <a:off x="898200" y="5653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280" y="573084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976320" y="2635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90720" y="3549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3520" y="3886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 to tell whether the ratios form a prop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2224080"/>
            <a:ext cx="4114800" cy="852480"/>
            <a:chOff x="1905120" y="2224080"/>
            <a:chExt cx="4114800" cy="852480"/>
          </a:xfrm>
        </p:grpSpPr>
        <p:sp>
          <p:nvSpPr>
            <p:cNvPr id="422" name=""/>
            <p:cNvSpPr/>
            <p:nvPr/>
          </p:nvSpPr>
          <p:spPr>
            <a:xfrm>
              <a:off x="4637880" y="2224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1905120" y="2251080"/>
              <a:ext cx="4114800" cy="825480"/>
              <a:chOff x="1905120" y="2251080"/>
              <a:chExt cx="4114800" cy="825480"/>
            </a:xfrm>
          </p:grpSpPr>
          <p:sp>
            <p:nvSpPr>
              <p:cNvPr id="424" name=""/>
              <p:cNvSpPr/>
              <p:nvPr/>
            </p:nvSpPr>
            <p:spPr>
              <a:xfrm>
                <a:off x="5298480" y="22510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4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1905120" y="2361960"/>
                <a:ext cx="4114800" cy="459720"/>
                <a:chOff x="1905120" y="2361960"/>
                <a:chExt cx="4114800" cy="45972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905120" y="2361960"/>
                  <a:ext cx="4114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00"/>
                      </a:solidFill>
                      <a:latin typeface="Verdana"/>
                    </a:rPr>
                    <a:t>Possible answer:     ,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648320" y="2647800"/>
                  <a:ext cx="4572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8" name=""/>
          <p:cNvGrpSpPr/>
          <p:nvPr/>
        </p:nvGrpSpPr>
        <p:grpSpPr>
          <a:xfrm>
            <a:off x="1828800" y="3062520"/>
            <a:ext cx="4114800" cy="839880"/>
            <a:chOff x="1828800" y="3062520"/>
            <a:chExt cx="4114800" cy="839880"/>
          </a:xfrm>
        </p:grpSpPr>
        <p:sp>
          <p:nvSpPr>
            <p:cNvPr id="429" name=""/>
            <p:cNvSpPr/>
            <p:nvPr/>
          </p:nvSpPr>
          <p:spPr>
            <a:xfrm>
              <a:off x="4561920" y="306252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1828800" y="3076920"/>
              <a:ext cx="4114800" cy="825480"/>
              <a:chOff x="1828800" y="3076920"/>
              <a:chExt cx="4114800" cy="825480"/>
            </a:xfrm>
          </p:grpSpPr>
          <p:sp>
            <p:nvSpPr>
              <p:cNvPr id="431" name=""/>
              <p:cNvSpPr/>
              <p:nvPr/>
            </p:nvSpPr>
            <p:spPr>
              <a:xfrm>
                <a:off x="5279400" y="307692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6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1828800" y="3200400"/>
                <a:ext cx="4114800" cy="459720"/>
                <a:chOff x="1828800" y="3200400"/>
                <a:chExt cx="4114800" cy="4597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828800" y="3200400"/>
                  <a:ext cx="4114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00"/>
                      </a:solidFill>
                      <a:latin typeface="Verdana"/>
                    </a:rPr>
                    <a:t>Possible answer:      ,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572000" y="3486240"/>
                  <a:ext cx="4572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5" name=""/>
          <p:cNvSpPr/>
          <p:nvPr/>
        </p:nvSpPr>
        <p:spPr>
          <a:xfrm>
            <a:off x="1371600" y="483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2057400" y="4695840"/>
            <a:ext cx="609480" cy="825480"/>
            <a:chOff x="2057400" y="4695840"/>
            <a:chExt cx="609480" cy="825480"/>
          </a:xfrm>
        </p:grpSpPr>
        <p:sp>
          <p:nvSpPr>
            <p:cNvPr id="437" name=""/>
            <p:cNvSpPr/>
            <p:nvPr/>
          </p:nvSpPr>
          <p:spPr>
            <a:xfrm>
              <a:off x="2057400" y="4695840"/>
              <a:ext cx="60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 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57400" y="51051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1447920" y="5716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133720" y="5640480"/>
            <a:ext cx="609480" cy="825480"/>
            <a:chOff x="2133720" y="5640480"/>
            <a:chExt cx="609480" cy="825480"/>
          </a:xfrm>
        </p:grpSpPr>
        <p:sp>
          <p:nvSpPr>
            <p:cNvPr id="441" name=""/>
            <p:cNvSpPr/>
            <p:nvPr/>
          </p:nvSpPr>
          <p:spPr>
            <a:xfrm>
              <a:off x="2133720" y="5640480"/>
              <a:ext cx="60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8 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33720" y="60498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891160" y="5653080"/>
            <a:ext cx="1603440" cy="825480"/>
            <a:chOff x="2891160" y="5653080"/>
            <a:chExt cx="1603440" cy="825480"/>
          </a:xfrm>
        </p:grpSpPr>
        <p:sp>
          <p:nvSpPr>
            <p:cNvPr id="444" name=""/>
            <p:cNvSpPr/>
            <p:nvPr/>
          </p:nvSpPr>
          <p:spPr>
            <a:xfrm>
              <a:off x="2891160" y="565308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3300"/>
                  </a:solidFill>
                  <a:uFillTx/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53760" y="5653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3300"/>
                  </a:solidFill>
                  <a:uFillTx/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29480" y="57898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99720" y="5789880"/>
              <a:ext cx="79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; 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1676520"/>
            <a:ext cx="8305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ate poured 8 oz of juice from a 64 oz bottle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an poured 16 oz of juice from a 128 oz bottle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ratio of juice is missing from each bottle?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the ratios proportional?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936000" y="3352680"/>
            <a:ext cx="5115600" cy="871560"/>
            <a:chOff x="936000" y="3352680"/>
            <a:chExt cx="5115600" cy="871560"/>
          </a:xfrm>
        </p:grpSpPr>
        <p:sp>
          <p:nvSpPr>
            <p:cNvPr id="451" name=""/>
            <p:cNvSpPr/>
            <p:nvPr/>
          </p:nvSpPr>
          <p:spPr>
            <a:xfrm>
              <a:off x="936000" y="3367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85480" y="339876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47560" y="3504960"/>
              <a:ext cx="445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and       ; yes, both equ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61920" y="378144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49560" y="3809880"/>
              <a:ext cx="6858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5518080" y="3352680"/>
              <a:ext cx="533520" cy="825480"/>
              <a:chOff x="5518080" y="3352680"/>
              <a:chExt cx="533520" cy="825480"/>
            </a:xfrm>
          </p:grpSpPr>
          <p:sp>
            <p:nvSpPr>
              <p:cNvPr id="457" name=""/>
              <p:cNvSpPr/>
              <p:nvPr/>
            </p:nvSpPr>
            <p:spPr>
              <a:xfrm>
                <a:off x="5518080" y="3352680"/>
                <a:ext cx="533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1 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518080" y="3765240"/>
                <a:ext cx="3812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600200"/>
            <a:ext cx="8153280" cy="3886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each fraction in lowest 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44400" y="2741760"/>
            <a:ext cx="896040" cy="825480"/>
            <a:chOff x="644400" y="2741760"/>
            <a:chExt cx="896040" cy="825480"/>
          </a:xfrm>
        </p:grpSpPr>
        <p:sp>
          <p:nvSpPr>
            <p:cNvPr id="57" name=""/>
            <p:cNvSpPr/>
            <p:nvPr/>
          </p:nvSpPr>
          <p:spPr>
            <a:xfrm>
              <a:off x="1012320" y="27417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4400" y="28191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44400" y="4113360"/>
            <a:ext cx="896040" cy="825480"/>
            <a:chOff x="644400" y="4113360"/>
            <a:chExt cx="896040" cy="825480"/>
          </a:xfrm>
        </p:grpSpPr>
        <p:sp>
          <p:nvSpPr>
            <p:cNvPr id="60" name=""/>
            <p:cNvSpPr/>
            <p:nvPr/>
          </p:nvSpPr>
          <p:spPr>
            <a:xfrm>
              <a:off x="1012320" y="41133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4400" y="41907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759920" y="2741760"/>
            <a:ext cx="895320" cy="825480"/>
            <a:chOff x="4759920" y="2741760"/>
            <a:chExt cx="895320" cy="825480"/>
          </a:xfrm>
        </p:grpSpPr>
        <p:sp>
          <p:nvSpPr>
            <p:cNvPr id="63" name=""/>
            <p:cNvSpPr/>
            <p:nvPr/>
          </p:nvSpPr>
          <p:spPr>
            <a:xfrm>
              <a:off x="5127120" y="27417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59920" y="28191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759200" y="4113360"/>
            <a:ext cx="982800" cy="825480"/>
            <a:chOff x="4759200" y="4113360"/>
            <a:chExt cx="982800" cy="825480"/>
          </a:xfrm>
        </p:grpSpPr>
        <p:sp>
          <p:nvSpPr>
            <p:cNvPr id="66" name=""/>
            <p:cNvSpPr/>
            <p:nvPr/>
          </p:nvSpPr>
          <p:spPr>
            <a:xfrm>
              <a:off x="5040000" y="411336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59200" y="41907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937160" y="27417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60040" y="27417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92600" y="41133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60040" y="41133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600200"/>
            <a:ext cx="7467480" cy="2819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agazine has page numbers from 1 to 80. What fraction of those page numbers include the digit 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6320" y="3598920"/>
            <a:ext cx="5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find equivalent ratios to create propor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828800"/>
            <a:ext cx="7162920" cy="19810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valent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46280" y="946080"/>
            <a:ext cx="794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comparison of two quantities by division. In one rectangle, the ratio of shaded squares to unshaded squares is 7:5. In the other rectangle, the ratio is 28:20. Both rectangles have equivalent shaded areas. Ratios that make the same compariso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quivalent ratio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467480" cy="2590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28800" y="5867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: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28: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4038480"/>
            <a:ext cx="609480" cy="533520"/>
          </a:xfrm>
          <a:prstGeom prst="leftRightArrow">
            <a:avLst>
              <a:gd name="adj1" fmla="val 50000"/>
              <a:gd name="adj2" fmla="val 22741"/>
            </a:avLst>
          </a:prstGeom>
          <a:gradFill rotWithShape="0">
            <a:gsLst>
              <a:gs pos="0">
                <a:srgbClr val="ffff00"/>
              </a:gs>
              <a:gs pos="50000">
                <a:srgbClr val="bbe0e3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914400" y="1999080"/>
            <a:ext cx="7661160" cy="2179080"/>
            <a:chOff x="914400" y="1999080"/>
            <a:chExt cx="7661160" cy="2179080"/>
          </a:xfrm>
        </p:grpSpPr>
        <p:sp>
          <p:nvSpPr>
            <p:cNvPr id="83" name=""/>
            <p:cNvSpPr/>
            <p:nvPr/>
          </p:nvSpPr>
          <p:spPr>
            <a:xfrm>
              <a:off x="914400" y="2438280"/>
              <a:ext cx="7661160" cy="17398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Ratios can be written in several ways. 7 to 5, 7:5, and      name the same rati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14480" y="1999080"/>
              <a:ext cx="230976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ading Ma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2340000" y="2962440"/>
              <a:ext cx="574560" cy="825480"/>
              <a:chOff x="2340000" y="2962440"/>
              <a:chExt cx="574560" cy="825480"/>
            </a:xfrm>
          </p:grpSpPr>
          <p:sp>
            <p:nvSpPr>
              <p:cNvPr id="86" name=""/>
              <p:cNvSpPr/>
              <p:nvPr/>
            </p:nvSpPr>
            <p:spPr>
              <a:xfrm>
                <a:off x="2340000" y="2962440"/>
                <a:ext cx="574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7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398320" y="3386160"/>
                <a:ext cx="43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Equivalent R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57788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wo ratios that are equivalent to each given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6120" y="495288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74280" y="2529000"/>
            <a:ext cx="5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64200" y="335124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12960" y="4722840"/>
            <a:ext cx="70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72360" y="556128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8640" y="266688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40920" y="2513160"/>
            <a:ext cx="829440" cy="825480"/>
            <a:chOff x="1240920" y="2513160"/>
            <a:chExt cx="829440" cy="825480"/>
          </a:xfrm>
        </p:grpSpPr>
        <p:sp>
          <p:nvSpPr>
            <p:cNvPr id="97" name=""/>
            <p:cNvSpPr/>
            <p:nvPr/>
          </p:nvSpPr>
          <p:spPr>
            <a:xfrm>
              <a:off x="1715760" y="2666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240920" y="2513160"/>
              <a:ext cx="528120" cy="825480"/>
              <a:chOff x="1240920" y="2513160"/>
              <a:chExt cx="528120" cy="825480"/>
            </a:xfrm>
          </p:grpSpPr>
          <p:sp>
            <p:nvSpPr>
              <p:cNvPr id="99" name=""/>
              <p:cNvSpPr/>
              <p:nvPr/>
            </p:nvSpPr>
            <p:spPr>
              <a:xfrm>
                <a:off x="1240920" y="25131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281240" y="29242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2133720" y="2513160"/>
            <a:ext cx="1332000" cy="825480"/>
            <a:chOff x="2133720" y="2513160"/>
            <a:chExt cx="1332000" cy="825480"/>
          </a:xfrm>
        </p:grpSpPr>
        <p:sp>
          <p:nvSpPr>
            <p:cNvPr id="102" name=""/>
            <p:cNvSpPr/>
            <p:nvPr/>
          </p:nvSpPr>
          <p:spPr>
            <a:xfrm>
              <a:off x="3111120" y="2681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133720" y="2513160"/>
              <a:ext cx="984600" cy="825480"/>
              <a:chOff x="2133720" y="2513160"/>
              <a:chExt cx="984600" cy="825480"/>
            </a:xfrm>
          </p:grpSpPr>
          <p:sp>
            <p:nvSpPr>
              <p:cNvPr id="104" name=""/>
              <p:cNvSpPr/>
              <p:nvPr/>
            </p:nvSpPr>
            <p:spPr>
              <a:xfrm>
                <a:off x="2143800" y="2513160"/>
                <a:ext cx="974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33720" y="2938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2071800" y="3351240"/>
            <a:ext cx="1370160" cy="825480"/>
            <a:chOff x="2071800" y="3351240"/>
            <a:chExt cx="1370160" cy="825480"/>
          </a:xfrm>
        </p:grpSpPr>
        <p:sp>
          <p:nvSpPr>
            <p:cNvPr id="107" name=""/>
            <p:cNvSpPr/>
            <p:nvPr/>
          </p:nvSpPr>
          <p:spPr>
            <a:xfrm>
              <a:off x="3087360" y="350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071800" y="3351240"/>
              <a:ext cx="1041480" cy="825480"/>
              <a:chOff x="2071800" y="3351240"/>
              <a:chExt cx="1041480" cy="825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079360" y="335124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71800" y="3767040"/>
                <a:ext cx="10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1240920" y="3351240"/>
            <a:ext cx="829440" cy="825480"/>
            <a:chOff x="1240920" y="3351240"/>
            <a:chExt cx="829440" cy="825480"/>
          </a:xfrm>
        </p:grpSpPr>
        <p:grpSp>
          <p:nvGrpSpPr>
            <p:cNvPr id="112" name=""/>
            <p:cNvGrpSpPr/>
            <p:nvPr/>
          </p:nvGrpSpPr>
          <p:grpSpPr>
            <a:xfrm>
              <a:off x="1240920" y="3351240"/>
              <a:ext cx="528120" cy="825480"/>
              <a:chOff x="1240920" y="3351240"/>
              <a:chExt cx="528120" cy="825480"/>
            </a:xfrm>
          </p:grpSpPr>
          <p:sp>
            <p:nvSpPr>
              <p:cNvPr id="113" name=""/>
              <p:cNvSpPr/>
              <p:nvPr/>
            </p:nvSpPr>
            <p:spPr>
              <a:xfrm>
                <a:off x="1240920" y="335124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81240" y="37479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715760" y="350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648320" y="3352680"/>
            <a:ext cx="3733560" cy="1220760"/>
            <a:chOff x="4648320" y="3352680"/>
            <a:chExt cx="3733560" cy="1220760"/>
          </a:xfrm>
        </p:grpSpPr>
        <p:sp>
          <p:nvSpPr>
            <p:cNvPr id="117" name=""/>
            <p:cNvSpPr/>
            <p:nvPr/>
          </p:nvSpPr>
          <p:spPr>
            <a:xfrm>
              <a:off x="4648320" y="3352680"/>
              <a:ext cx="373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wo ratios equivalent to     are       and   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50440" y="37479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93440" y="37479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79000" y="37479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62320" y="415908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48320" y="4800600"/>
            <a:ext cx="3733560" cy="1220760"/>
            <a:chOff x="4648320" y="4800600"/>
            <a:chExt cx="3733560" cy="1220760"/>
          </a:xfrm>
        </p:grpSpPr>
        <p:sp>
          <p:nvSpPr>
            <p:cNvPr id="123" name=""/>
            <p:cNvSpPr/>
            <p:nvPr/>
          </p:nvSpPr>
          <p:spPr>
            <a:xfrm>
              <a:off x="4648320" y="4800600"/>
              <a:ext cx="373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wo ratios equivalent to     are       and   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50440" y="5195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06680" y="519588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79000" y="519588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2320" y="56070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043000" y="4662720"/>
            <a:ext cx="1517760" cy="825480"/>
            <a:chOff x="2043000" y="4662720"/>
            <a:chExt cx="1517760" cy="825480"/>
          </a:xfrm>
        </p:grpSpPr>
        <p:sp>
          <p:nvSpPr>
            <p:cNvPr id="129" name=""/>
            <p:cNvSpPr/>
            <p:nvPr/>
          </p:nvSpPr>
          <p:spPr>
            <a:xfrm>
              <a:off x="3206160" y="486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2043000" y="4662720"/>
              <a:ext cx="1143000" cy="825480"/>
              <a:chOff x="2043000" y="4662720"/>
              <a:chExt cx="1143000" cy="825480"/>
            </a:xfrm>
          </p:grpSpPr>
          <p:sp>
            <p:nvSpPr>
              <p:cNvPr id="131" name=""/>
              <p:cNvSpPr/>
              <p:nvPr/>
            </p:nvSpPr>
            <p:spPr>
              <a:xfrm>
                <a:off x="2158200" y="4662720"/>
                <a:ext cx="974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4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4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43000" y="51019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2136600" y="5519880"/>
            <a:ext cx="1557720" cy="825480"/>
            <a:chOff x="2136600" y="5519880"/>
            <a:chExt cx="1557720" cy="825480"/>
          </a:xfrm>
        </p:grpSpPr>
        <p:sp>
          <p:nvSpPr>
            <p:cNvPr id="134" name=""/>
            <p:cNvSpPr/>
            <p:nvPr/>
          </p:nvSpPr>
          <p:spPr>
            <a:xfrm>
              <a:off x="3339720" y="571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136600" y="5519880"/>
              <a:ext cx="1143000" cy="825480"/>
              <a:chOff x="2136600" y="5519880"/>
              <a:chExt cx="1143000" cy="825480"/>
            </a:xfrm>
          </p:grpSpPr>
          <p:sp>
            <p:nvSpPr>
              <p:cNvPr id="136" name=""/>
              <p:cNvSpPr/>
              <p:nvPr/>
            </p:nvSpPr>
            <p:spPr>
              <a:xfrm>
                <a:off x="2220480" y="551988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4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4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36600" y="59641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1240920" y="4722840"/>
            <a:ext cx="795960" cy="825480"/>
            <a:chOff x="1240920" y="4722840"/>
            <a:chExt cx="795960" cy="825480"/>
          </a:xfrm>
        </p:grpSpPr>
        <p:sp>
          <p:nvSpPr>
            <p:cNvPr id="139" name=""/>
            <p:cNvSpPr/>
            <p:nvPr/>
          </p:nvSpPr>
          <p:spPr>
            <a:xfrm>
              <a:off x="1240920" y="472284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2280" y="4876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240920" y="5561280"/>
            <a:ext cx="829440" cy="825480"/>
            <a:chOff x="1240920" y="5561280"/>
            <a:chExt cx="829440" cy="825480"/>
          </a:xfrm>
        </p:grpSpPr>
        <p:sp>
          <p:nvSpPr>
            <p:cNvPr id="142" name=""/>
            <p:cNvSpPr/>
            <p:nvPr/>
          </p:nvSpPr>
          <p:spPr>
            <a:xfrm>
              <a:off x="1240920" y="55612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15760" y="5699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648320" y="202896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or divide the numerator and denominator by the same nonzero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44792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wo ratios that are equivalent to each given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6120" y="495288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74280" y="2529000"/>
            <a:ext cx="5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64200" y="335124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99720" y="4722840"/>
            <a:ext cx="5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2360" y="557712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8640" y="266688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40920" y="2513160"/>
            <a:ext cx="829440" cy="825480"/>
            <a:chOff x="1240920" y="2513160"/>
            <a:chExt cx="829440" cy="825480"/>
          </a:xfrm>
        </p:grpSpPr>
        <p:sp>
          <p:nvSpPr>
            <p:cNvPr id="154" name=""/>
            <p:cNvSpPr/>
            <p:nvPr/>
          </p:nvSpPr>
          <p:spPr>
            <a:xfrm>
              <a:off x="1715760" y="2666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240920" y="2513160"/>
              <a:ext cx="528120" cy="825480"/>
              <a:chOff x="1240920" y="2513160"/>
              <a:chExt cx="528120" cy="825480"/>
            </a:xfrm>
          </p:grpSpPr>
          <p:sp>
            <p:nvSpPr>
              <p:cNvPr id="156" name=""/>
              <p:cNvSpPr/>
              <p:nvPr/>
            </p:nvSpPr>
            <p:spPr>
              <a:xfrm>
                <a:off x="1240920" y="25131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281240" y="29242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2133720" y="2513160"/>
            <a:ext cx="1332000" cy="825480"/>
            <a:chOff x="2133720" y="2513160"/>
            <a:chExt cx="1332000" cy="825480"/>
          </a:xfrm>
        </p:grpSpPr>
        <p:sp>
          <p:nvSpPr>
            <p:cNvPr id="159" name=""/>
            <p:cNvSpPr/>
            <p:nvPr/>
          </p:nvSpPr>
          <p:spPr>
            <a:xfrm>
              <a:off x="3111120" y="2681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2513160"/>
              <a:ext cx="984600" cy="825480"/>
              <a:chOff x="2133720" y="2513160"/>
              <a:chExt cx="984600" cy="8254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43800" y="2513160"/>
                <a:ext cx="974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33720" y="2938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2071800" y="3351240"/>
            <a:ext cx="1370160" cy="825480"/>
            <a:chOff x="2071800" y="3351240"/>
            <a:chExt cx="1370160" cy="825480"/>
          </a:xfrm>
        </p:grpSpPr>
        <p:sp>
          <p:nvSpPr>
            <p:cNvPr id="164" name=""/>
            <p:cNvSpPr/>
            <p:nvPr/>
          </p:nvSpPr>
          <p:spPr>
            <a:xfrm>
              <a:off x="3087360" y="350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071800" y="3351240"/>
              <a:ext cx="1041480" cy="825480"/>
              <a:chOff x="2071800" y="3351240"/>
              <a:chExt cx="1041480" cy="825480"/>
            </a:xfrm>
          </p:grpSpPr>
          <p:sp>
            <p:nvSpPr>
              <p:cNvPr id="166" name=""/>
              <p:cNvSpPr/>
              <p:nvPr/>
            </p:nvSpPr>
            <p:spPr>
              <a:xfrm>
                <a:off x="2079360" y="335124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071800" y="3767040"/>
                <a:ext cx="10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1240920" y="3351240"/>
            <a:ext cx="829440" cy="825480"/>
            <a:chOff x="1240920" y="3351240"/>
            <a:chExt cx="829440" cy="825480"/>
          </a:xfrm>
        </p:grpSpPr>
        <p:grpSp>
          <p:nvGrpSpPr>
            <p:cNvPr id="169" name=""/>
            <p:cNvGrpSpPr/>
            <p:nvPr/>
          </p:nvGrpSpPr>
          <p:grpSpPr>
            <a:xfrm>
              <a:off x="1240920" y="3351240"/>
              <a:ext cx="528120" cy="825480"/>
              <a:chOff x="1240920" y="3351240"/>
              <a:chExt cx="528120" cy="825480"/>
            </a:xfrm>
          </p:grpSpPr>
          <p:sp>
            <p:nvSpPr>
              <p:cNvPr id="170" name=""/>
              <p:cNvSpPr/>
              <p:nvPr/>
            </p:nvSpPr>
            <p:spPr>
              <a:xfrm>
                <a:off x="1240920" y="335124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81240" y="37479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715760" y="350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648320" y="3352680"/>
            <a:ext cx="3733560" cy="1220760"/>
            <a:chOff x="4648320" y="3352680"/>
            <a:chExt cx="3733560" cy="1220760"/>
          </a:xfrm>
        </p:grpSpPr>
        <p:sp>
          <p:nvSpPr>
            <p:cNvPr id="174" name=""/>
            <p:cNvSpPr/>
            <p:nvPr/>
          </p:nvSpPr>
          <p:spPr>
            <a:xfrm>
              <a:off x="4648320" y="3352680"/>
              <a:ext cx="373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wo ratios equivalent to     are       and   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50440" y="37479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93440" y="37479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79000" y="37479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62320" y="415908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648320" y="4800600"/>
            <a:ext cx="3733560" cy="1220760"/>
            <a:chOff x="4648320" y="4800600"/>
            <a:chExt cx="3733560" cy="1220760"/>
          </a:xfrm>
        </p:grpSpPr>
        <p:sp>
          <p:nvSpPr>
            <p:cNvPr id="180" name=""/>
            <p:cNvSpPr/>
            <p:nvPr/>
          </p:nvSpPr>
          <p:spPr>
            <a:xfrm>
              <a:off x="4648320" y="4800600"/>
              <a:ext cx="373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wo ratios equivalent to     are       and   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50440" y="5195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93440" y="5195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79000" y="519588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62320" y="56070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043000" y="4726080"/>
            <a:ext cx="1517760" cy="825480"/>
            <a:chOff x="2043000" y="4726080"/>
            <a:chExt cx="1517760" cy="825480"/>
          </a:xfrm>
        </p:grpSpPr>
        <p:sp>
          <p:nvSpPr>
            <p:cNvPr id="186" name=""/>
            <p:cNvSpPr/>
            <p:nvPr/>
          </p:nvSpPr>
          <p:spPr>
            <a:xfrm>
              <a:off x="3206160" y="4875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58200" y="4726080"/>
              <a:ext cx="97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•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•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43000" y="5102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136600" y="5523120"/>
            <a:ext cx="1557720" cy="825480"/>
            <a:chOff x="2136600" y="5523120"/>
            <a:chExt cx="1557720" cy="825480"/>
          </a:xfrm>
        </p:grpSpPr>
        <p:sp>
          <p:nvSpPr>
            <p:cNvPr id="190" name=""/>
            <p:cNvSpPr/>
            <p:nvPr/>
          </p:nvSpPr>
          <p:spPr>
            <a:xfrm>
              <a:off x="3339720" y="5718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136600" y="5523120"/>
              <a:ext cx="1143000" cy="825480"/>
              <a:chOff x="2136600" y="5523120"/>
              <a:chExt cx="1143000" cy="825480"/>
            </a:xfrm>
          </p:grpSpPr>
          <p:sp>
            <p:nvSpPr>
              <p:cNvPr id="192" name=""/>
              <p:cNvSpPr/>
              <p:nvPr/>
            </p:nvSpPr>
            <p:spPr>
              <a:xfrm>
                <a:off x="2220480" y="55231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2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136600" y="59673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"/>
          <p:cNvGrpSpPr/>
          <p:nvPr/>
        </p:nvGrpSpPr>
        <p:grpSpPr>
          <a:xfrm>
            <a:off x="1240920" y="4722840"/>
            <a:ext cx="795960" cy="825480"/>
            <a:chOff x="1240920" y="4722840"/>
            <a:chExt cx="795960" cy="825480"/>
          </a:xfrm>
        </p:grpSpPr>
        <p:sp>
          <p:nvSpPr>
            <p:cNvPr id="195" name=""/>
            <p:cNvSpPr/>
            <p:nvPr/>
          </p:nvSpPr>
          <p:spPr>
            <a:xfrm>
              <a:off x="1240920" y="472284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82280" y="4876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240920" y="5567400"/>
            <a:ext cx="829440" cy="825480"/>
            <a:chOff x="1240920" y="5567400"/>
            <a:chExt cx="829440" cy="825480"/>
          </a:xfrm>
        </p:grpSpPr>
        <p:sp>
          <p:nvSpPr>
            <p:cNvPr id="198" name=""/>
            <p:cNvSpPr/>
            <p:nvPr/>
          </p:nvSpPr>
          <p:spPr>
            <a:xfrm>
              <a:off x="1240920" y="556740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15760" y="5705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648320" y="195264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or divide the numerator and denominator by the same nonzero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6T19:55:05Z</dcterms:modified>
  <cp:revision>54</cp:revision>
  <dc:subject/>
  <dc:title>Slide 1</dc:title>
</cp:coreProperties>
</file>