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0F2-EE80-468B-A9B3-99D5F629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545-2FFB-4AC1-BBE5-022AAA3E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9AA-7B08-46F1-920F-7D64287A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1C9-C49C-4205-842F-28773E5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0F7-08C8-4296-8998-21F7091B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A9A-80DE-4482-A80C-50371321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AC9-D4AB-4B2B-A936-249FD21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255-8852-42F0-ABFB-4832B5D8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014-2A24-441E-A478-0DB7838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BB2-364C-4057-B9E7-32F6582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649-FE9A-4813-BB00-BC60549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6B7-3842-4257-A9B7-1673C71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588-C7E8-4636-9AB1-9FB2FBDA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676520"/>
            <a:ext cx="746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s that are equivalent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portion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Equivalent ratios are identical when they are written in simples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Determining Whether Two Ratios are in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8288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8760" y="4646880"/>
            <a:ext cx="2122920" cy="825480"/>
            <a:chOff x="788760" y="4646880"/>
            <a:chExt cx="2122920" cy="825480"/>
          </a:xfrm>
        </p:grpSpPr>
        <p:sp>
          <p:nvSpPr>
            <p:cNvPr id="205" name=""/>
            <p:cNvSpPr/>
            <p:nvPr/>
          </p:nvSpPr>
          <p:spPr>
            <a:xfrm>
              <a:off x="131688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8760" y="472428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1120" y="4800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356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88040" y="2818080"/>
            <a:ext cx="2123640" cy="825480"/>
            <a:chOff x="788040" y="2818080"/>
            <a:chExt cx="2123640" cy="825480"/>
          </a:xfrm>
        </p:grpSpPr>
        <p:sp>
          <p:nvSpPr>
            <p:cNvPr id="210" name=""/>
            <p:cNvSpPr/>
            <p:nvPr/>
          </p:nvSpPr>
          <p:spPr>
            <a:xfrm>
              <a:off x="131688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040" y="289548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1120" y="2971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356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48520" y="2741760"/>
            <a:ext cx="2743200" cy="1589040"/>
            <a:chOff x="6248520" y="2741760"/>
            <a:chExt cx="2743200" cy="1589040"/>
          </a:xfrm>
        </p:grpSpPr>
        <p:sp>
          <p:nvSpPr>
            <p:cNvPr id="215" name=""/>
            <p:cNvSpPr/>
            <p:nvPr/>
          </p:nvSpPr>
          <p:spPr>
            <a:xfrm>
              <a:off x="624852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9496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3076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760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3228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52680" y="323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24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32080" y="2833920"/>
            <a:ext cx="1370160" cy="825480"/>
            <a:chOff x="4132080" y="2833920"/>
            <a:chExt cx="1370160" cy="825480"/>
          </a:xfrm>
        </p:grpSpPr>
        <p:sp>
          <p:nvSpPr>
            <p:cNvPr id="223" name=""/>
            <p:cNvSpPr/>
            <p:nvPr/>
          </p:nvSpPr>
          <p:spPr>
            <a:xfrm>
              <a:off x="51476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32080" y="2833920"/>
              <a:ext cx="1041480" cy="825480"/>
              <a:chOff x="4132080" y="2833920"/>
              <a:chExt cx="1041480" cy="825480"/>
            </a:xfrm>
          </p:grpSpPr>
          <p:sp>
            <p:nvSpPr>
              <p:cNvPr id="225" name=""/>
              <p:cNvSpPr/>
              <p:nvPr/>
            </p:nvSpPr>
            <p:spPr>
              <a:xfrm>
                <a:off x="413964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32080" y="324936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301200" y="2833920"/>
            <a:ext cx="829440" cy="825480"/>
            <a:chOff x="3301200" y="2833920"/>
            <a:chExt cx="829440" cy="825480"/>
          </a:xfrm>
        </p:grpSpPr>
        <p:grpSp>
          <p:nvGrpSpPr>
            <p:cNvPr id="228" name=""/>
            <p:cNvGrpSpPr/>
            <p:nvPr/>
          </p:nvGrpSpPr>
          <p:grpSpPr>
            <a:xfrm>
              <a:off x="3301200" y="2833920"/>
              <a:ext cx="528120" cy="825480"/>
              <a:chOff x="3301200" y="2833920"/>
              <a:chExt cx="528120" cy="825480"/>
            </a:xfrm>
          </p:grpSpPr>
          <p:sp>
            <p:nvSpPr>
              <p:cNvPr id="229" name=""/>
              <p:cNvSpPr/>
              <p:nvPr/>
            </p:nvSpPr>
            <p:spPr>
              <a:xfrm>
                <a:off x="330120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152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7760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2160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29200" y="3656160"/>
            <a:ext cx="1370160" cy="825480"/>
            <a:chOff x="4129200" y="3656160"/>
            <a:chExt cx="1370160" cy="825480"/>
          </a:xfrm>
        </p:grpSpPr>
        <p:sp>
          <p:nvSpPr>
            <p:cNvPr id="234" name=""/>
            <p:cNvSpPr/>
            <p:nvPr/>
          </p:nvSpPr>
          <p:spPr>
            <a:xfrm>
              <a:off x="51447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129200" y="3656160"/>
              <a:ext cx="1041480" cy="825480"/>
              <a:chOff x="4129200" y="3656160"/>
              <a:chExt cx="1041480" cy="825480"/>
            </a:xfrm>
          </p:grpSpPr>
          <p:sp>
            <p:nvSpPr>
              <p:cNvPr id="236" name=""/>
              <p:cNvSpPr/>
              <p:nvPr/>
            </p:nvSpPr>
            <p:spPr>
              <a:xfrm>
                <a:off x="413676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9200" y="407160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3298320" y="3656160"/>
            <a:ext cx="829440" cy="825480"/>
            <a:chOff x="3298320" y="3656160"/>
            <a:chExt cx="829440" cy="825480"/>
          </a:xfrm>
        </p:grpSpPr>
        <p:grpSp>
          <p:nvGrpSpPr>
            <p:cNvPr id="239" name=""/>
            <p:cNvGrpSpPr/>
            <p:nvPr/>
          </p:nvGrpSpPr>
          <p:grpSpPr>
            <a:xfrm>
              <a:off x="3298320" y="3656160"/>
              <a:ext cx="528120" cy="825480"/>
              <a:chOff x="3298320" y="3656160"/>
              <a:chExt cx="528120" cy="82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329832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3864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7731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69320" y="4660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245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247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250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254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259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262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523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0160" y="4799160"/>
            <a:ext cx="2122920" cy="825480"/>
            <a:chOff x="560160" y="4799160"/>
            <a:chExt cx="2122920" cy="825480"/>
          </a:xfrm>
        </p:grpSpPr>
        <p:sp>
          <p:nvSpPr>
            <p:cNvPr id="269" name=""/>
            <p:cNvSpPr/>
            <p:nvPr/>
          </p:nvSpPr>
          <p:spPr>
            <a:xfrm>
              <a:off x="108828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160" y="487656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2520" y="495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96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943600" y="2741760"/>
            <a:ext cx="2743200" cy="1589040"/>
            <a:chOff x="5943600" y="2741760"/>
            <a:chExt cx="2743200" cy="1589040"/>
          </a:xfrm>
        </p:grpSpPr>
        <p:sp>
          <p:nvSpPr>
            <p:cNvPr id="274" name=""/>
            <p:cNvSpPr/>
            <p:nvPr/>
          </p:nvSpPr>
          <p:spPr>
            <a:xfrm>
              <a:off x="594360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9004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584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0268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289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27520" y="2833920"/>
            <a:ext cx="1370160" cy="825480"/>
            <a:chOff x="3827520" y="2833920"/>
            <a:chExt cx="1370160" cy="825480"/>
          </a:xfrm>
        </p:grpSpPr>
        <p:sp>
          <p:nvSpPr>
            <p:cNvPr id="280" name=""/>
            <p:cNvSpPr/>
            <p:nvPr/>
          </p:nvSpPr>
          <p:spPr>
            <a:xfrm>
              <a:off x="48430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27520" y="2833920"/>
              <a:ext cx="1041480" cy="825480"/>
              <a:chOff x="3827520" y="2833920"/>
              <a:chExt cx="1041480" cy="825480"/>
            </a:xfrm>
          </p:grpSpPr>
          <p:sp>
            <p:nvSpPr>
              <p:cNvPr id="282" name=""/>
              <p:cNvSpPr/>
              <p:nvPr/>
            </p:nvSpPr>
            <p:spPr>
              <a:xfrm>
                <a:off x="383508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27520" y="324936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996640" y="2833920"/>
            <a:ext cx="829440" cy="825480"/>
            <a:chOff x="2996640" y="2833920"/>
            <a:chExt cx="829440" cy="825480"/>
          </a:xfrm>
        </p:grpSpPr>
        <p:grpSp>
          <p:nvGrpSpPr>
            <p:cNvPr id="285" name=""/>
            <p:cNvGrpSpPr/>
            <p:nvPr/>
          </p:nvGrpSpPr>
          <p:grpSpPr>
            <a:xfrm>
              <a:off x="2996640" y="2833920"/>
              <a:ext cx="528120" cy="825480"/>
              <a:chOff x="2996640" y="2833920"/>
              <a:chExt cx="528120" cy="82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299664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696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4714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21388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24280" y="3656160"/>
            <a:ext cx="1370160" cy="825480"/>
            <a:chOff x="3824280" y="3656160"/>
            <a:chExt cx="1370160" cy="825480"/>
          </a:xfrm>
        </p:grpSpPr>
        <p:sp>
          <p:nvSpPr>
            <p:cNvPr id="291" name=""/>
            <p:cNvSpPr/>
            <p:nvPr/>
          </p:nvSpPr>
          <p:spPr>
            <a:xfrm>
              <a:off x="48398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24280" y="3656160"/>
              <a:ext cx="1041480" cy="825480"/>
              <a:chOff x="3824280" y="3656160"/>
              <a:chExt cx="1041480" cy="825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83184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24280" y="407160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2993400" y="3656160"/>
            <a:ext cx="829440" cy="825480"/>
            <a:chOff x="2993400" y="3656160"/>
            <a:chExt cx="829440" cy="825480"/>
          </a:xfrm>
        </p:grpSpPr>
        <p:grpSp>
          <p:nvGrpSpPr>
            <p:cNvPr id="296" name=""/>
            <p:cNvGrpSpPr/>
            <p:nvPr/>
          </p:nvGrpSpPr>
          <p:grpSpPr>
            <a:xfrm>
              <a:off x="2993400" y="3656160"/>
              <a:ext cx="528120" cy="825480"/>
              <a:chOff x="2993400" y="3656160"/>
              <a:chExt cx="528120" cy="825480"/>
            </a:xfrm>
          </p:grpSpPr>
          <p:sp>
            <p:nvSpPr>
              <p:cNvPr id="297" name=""/>
              <p:cNvSpPr/>
              <p:nvPr/>
            </p:nvSpPr>
            <p:spPr>
              <a:xfrm>
                <a:off x="299340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3372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4682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269320" y="47228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302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304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307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311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316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319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59440" y="2818080"/>
            <a:ext cx="2123640" cy="825480"/>
            <a:chOff x="559440" y="2818080"/>
            <a:chExt cx="2123640" cy="825480"/>
          </a:xfrm>
        </p:grpSpPr>
        <p:grpSp>
          <p:nvGrpSpPr>
            <p:cNvPr id="324" name=""/>
            <p:cNvGrpSpPr/>
            <p:nvPr/>
          </p:nvGrpSpPr>
          <p:grpSpPr>
            <a:xfrm>
              <a:off x="559440" y="2818080"/>
              <a:ext cx="2123640" cy="825480"/>
              <a:chOff x="559440" y="2818080"/>
              <a:chExt cx="2123640" cy="825480"/>
            </a:xfrm>
          </p:grpSpPr>
          <p:sp>
            <p:nvSpPr>
              <p:cNvPr id="325" name=""/>
              <p:cNvSpPr/>
              <p:nvPr/>
            </p:nvSpPr>
            <p:spPr>
              <a:xfrm>
                <a:off x="108828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440" y="28954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2520" y="29718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5496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114560" y="323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324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</a:rPr>
              <a:t>Earth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7524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four cubic feet of silver has the same mass as 42 cubic feet of water.  At 4°C, would 210 cubic feet of water have the same mass as 2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4570560"/>
            <a:ext cx="3079440" cy="825480"/>
            <a:chOff x="380880" y="4570560"/>
            <a:chExt cx="3079440" cy="825480"/>
          </a:xfrm>
        </p:grpSpPr>
        <p:sp>
          <p:nvSpPr>
            <p:cNvPr id="334" name=""/>
            <p:cNvSpPr/>
            <p:nvPr/>
          </p:nvSpPr>
          <p:spPr>
            <a:xfrm>
              <a:off x="499680" y="4570560"/>
              <a:ext cx="10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668600" y="4646520"/>
              <a:ext cx="387360" cy="537480"/>
              <a:chOff x="1668600" y="4646520"/>
              <a:chExt cx="387360" cy="537480"/>
            </a:xfrm>
          </p:grpSpPr>
          <p:sp>
            <p:nvSpPr>
              <p:cNvPr id="336" name=""/>
              <p:cNvSpPr/>
              <p:nvPr/>
            </p:nvSpPr>
            <p:spPr>
              <a:xfrm>
                <a:off x="1668600" y="46465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136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78640" y="45705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4967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49719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12040" y="5424480"/>
            <a:ext cx="1518840" cy="825480"/>
            <a:chOff x="1112040" y="5424480"/>
            <a:chExt cx="1518840" cy="825480"/>
          </a:xfrm>
        </p:grpSpPr>
        <p:sp>
          <p:nvSpPr>
            <p:cNvPr id="342" name=""/>
            <p:cNvSpPr/>
            <p:nvPr/>
          </p:nvSpPr>
          <p:spPr>
            <a:xfrm>
              <a:off x="111204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63200" y="557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276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17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571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150200" y="3579840"/>
            <a:ext cx="1668960" cy="825480"/>
            <a:chOff x="1150200" y="3579840"/>
            <a:chExt cx="1668960" cy="825480"/>
          </a:xfrm>
        </p:grpSpPr>
        <p:sp>
          <p:nvSpPr>
            <p:cNvPr id="348" name=""/>
            <p:cNvSpPr/>
            <p:nvPr/>
          </p:nvSpPr>
          <p:spPr>
            <a:xfrm>
              <a:off x="1150200" y="3579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664640" y="3630600"/>
              <a:ext cx="390960" cy="563040"/>
              <a:chOff x="1664640" y="3630600"/>
              <a:chExt cx="390960" cy="563040"/>
            </a:xfrm>
          </p:grpSpPr>
          <p:sp>
            <p:nvSpPr>
              <p:cNvPr id="350" name=""/>
              <p:cNvSpPr/>
              <p:nvPr/>
            </p:nvSpPr>
            <p:spPr>
              <a:xfrm>
                <a:off x="1664640" y="363060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01000" y="3733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74320" y="357984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040" y="4005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3000" y="40100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4280" y="3427560"/>
            <a:ext cx="4572000" cy="2082960"/>
            <a:chOff x="4724280" y="3427560"/>
            <a:chExt cx="4572000" cy="2082960"/>
          </a:xfrm>
        </p:grpSpPr>
        <p:sp>
          <p:nvSpPr>
            <p:cNvPr id="356" name=""/>
            <p:cNvSpPr/>
            <p:nvPr/>
          </p:nvSpPr>
          <p:spPr>
            <a:xfrm>
              <a:off x="4724280" y="3511440"/>
              <a:ext cx="457200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cubic feet of water would have the same mass at 4°C as 2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715360" y="3427560"/>
              <a:ext cx="1502280" cy="825480"/>
              <a:chOff x="5715360" y="3427560"/>
              <a:chExt cx="1502280" cy="825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71536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25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8952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82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474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35053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two cubic feet of silver has the same mass as 21 cubic feet of water.  At 4°C, would 105 cubic feet of water have the same mass as 1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74080" y="4418280"/>
            <a:ext cx="2277360" cy="826920"/>
            <a:chOff x="874080" y="4418280"/>
            <a:chExt cx="2277360" cy="826920"/>
          </a:xfrm>
        </p:grpSpPr>
        <p:grpSp>
          <p:nvGrpSpPr>
            <p:cNvPr id="367" name=""/>
            <p:cNvGrpSpPr/>
            <p:nvPr/>
          </p:nvGrpSpPr>
          <p:grpSpPr>
            <a:xfrm>
              <a:off x="874080" y="4418280"/>
              <a:ext cx="2208600" cy="826920"/>
              <a:chOff x="874080" y="4418280"/>
              <a:chExt cx="2208600" cy="8269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378080" y="4494240"/>
                <a:ext cx="387360" cy="537480"/>
                <a:chOff x="1378080" y="4494240"/>
                <a:chExt cx="387360" cy="537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378080" y="44942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?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10840" y="4572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1874880" y="4418280"/>
                <a:ext cx="120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874080" y="4419720"/>
                <a:ext cx="528120" cy="825480"/>
                <a:chOff x="874080" y="4419720"/>
                <a:chExt cx="528120" cy="825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74080" y="44197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84160" y="4844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1752840" y="481968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59680" y="5272200"/>
            <a:ext cx="1518840" cy="825480"/>
            <a:chOff x="859680" y="5272200"/>
            <a:chExt cx="1518840" cy="825480"/>
          </a:xfrm>
        </p:grpSpPr>
        <p:sp>
          <p:nvSpPr>
            <p:cNvPr id="377" name=""/>
            <p:cNvSpPr/>
            <p:nvPr/>
          </p:nvSpPr>
          <p:spPr>
            <a:xfrm>
              <a:off x="85968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0840" y="54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5040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93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47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59680" y="3427560"/>
            <a:ext cx="1668960" cy="825480"/>
            <a:chOff x="859680" y="3427560"/>
            <a:chExt cx="1668960" cy="825480"/>
          </a:xfrm>
        </p:grpSpPr>
        <p:sp>
          <p:nvSpPr>
            <p:cNvPr id="383" name=""/>
            <p:cNvSpPr/>
            <p:nvPr/>
          </p:nvSpPr>
          <p:spPr>
            <a:xfrm>
              <a:off x="859680" y="34275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374120" y="3477960"/>
              <a:ext cx="390960" cy="562680"/>
              <a:chOff x="1374120" y="3477960"/>
              <a:chExt cx="390960" cy="56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1374120" y="347796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10480" y="358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783800" y="34275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6520" y="385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8574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633920" y="3275280"/>
            <a:ext cx="4433760" cy="2082960"/>
            <a:chOff x="4633920" y="3275280"/>
            <a:chExt cx="4433760" cy="2082960"/>
          </a:xfrm>
        </p:grpSpPr>
        <p:sp>
          <p:nvSpPr>
            <p:cNvPr id="391" name=""/>
            <p:cNvSpPr/>
            <p:nvPr/>
          </p:nvSpPr>
          <p:spPr>
            <a:xfrm>
              <a:off x="4633920" y="3359160"/>
              <a:ext cx="443376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 cubic feet of water would have the same mass at 4°C as 1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587560" y="3275280"/>
              <a:ext cx="1472400" cy="825480"/>
              <a:chOff x="5587560" y="3275280"/>
              <a:chExt cx="1472400" cy="825480"/>
            </a:xfrm>
          </p:grpSpPr>
          <p:sp>
            <p:nvSpPr>
              <p:cNvPr id="393" name=""/>
              <p:cNvSpPr/>
              <p:nvPr/>
            </p:nvSpPr>
            <p:spPr>
              <a:xfrm>
                <a:off x="558756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25760" y="34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3184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4624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9556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3276720" y="45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07000" y="4738680"/>
            <a:ext cx="1613520" cy="825480"/>
            <a:chOff x="2907000" y="4738680"/>
            <a:chExt cx="1613520" cy="825480"/>
          </a:xfrm>
        </p:grpSpPr>
        <p:sp>
          <p:nvSpPr>
            <p:cNvPr id="401" name=""/>
            <p:cNvSpPr/>
            <p:nvPr/>
          </p:nvSpPr>
          <p:spPr>
            <a:xfrm>
              <a:off x="290700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5636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79160" y="487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4400" y="4875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5720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8440" y="2224080"/>
            <a:ext cx="896040" cy="825480"/>
            <a:chOff x="568440" y="2224080"/>
            <a:chExt cx="896040" cy="825480"/>
          </a:xfrm>
        </p:grpSpPr>
        <p:sp>
          <p:nvSpPr>
            <p:cNvPr id="407" name=""/>
            <p:cNvSpPr/>
            <p:nvPr/>
          </p:nvSpPr>
          <p:spPr>
            <a:xfrm>
              <a:off x="93636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440" y="2301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8440" y="3138480"/>
            <a:ext cx="896040" cy="825480"/>
            <a:chOff x="568440" y="3138480"/>
            <a:chExt cx="896040" cy="825480"/>
          </a:xfrm>
        </p:grpSpPr>
        <p:sp>
          <p:nvSpPr>
            <p:cNvPr id="410" name=""/>
            <p:cNvSpPr/>
            <p:nvPr/>
          </p:nvSpPr>
          <p:spPr>
            <a:xfrm>
              <a:off x="936360" y="3138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440" y="3216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9160" y="4722840"/>
            <a:ext cx="895320" cy="825480"/>
            <a:chOff x="569160" y="4722840"/>
            <a:chExt cx="895320" cy="825480"/>
          </a:xfrm>
        </p:grpSpPr>
        <p:sp>
          <p:nvSpPr>
            <p:cNvPr id="413" name=""/>
            <p:cNvSpPr/>
            <p:nvPr/>
          </p:nvSpPr>
          <p:spPr>
            <a:xfrm>
              <a:off x="93636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9160" y="4800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0280" y="5653080"/>
            <a:ext cx="896040" cy="825480"/>
            <a:chOff x="530280" y="5653080"/>
            <a:chExt cx="896040" cy="825480"/>
          </a:xfrm>
        </p:grpSpPr>
        <p:sp>
          <p:nvSpPr>
            <p:cNvPr id="416" name=""/>
            <p:cNvSpPr/>
            <p:nvPr/>
          </p:nvSpPr>
          <p:spPr>
            <a:xfrm>
              <a:off x="89820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280" y="5730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6320" y="263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549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224080"/>
            <a:ext cx="4114800" cy="852480"/>
            <a:chOff x="1905120" y="2224080"/>
            <a:chExt cx="4114800" cy="852480"/>
          </a:xfrm>
        </p:grpSpPr>
        <p:sp>
          <p:nvSpPr>
            <p:cNvPr id="422" name=""/>
            <p:cNvSpPr/>
            <p:nvPr/>
          </p:nvSpPr>
          <p:spPr>
            <a:xfrm>
              <a:off x="463788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905120" y="2251080"/>
              <a:ext cx="4114800" cy="825480"/>
              <a:chOff x="1905120" y="2251080"/>
              <a:chExt cx="4114800" cy="825480"/>
            </a:xfrm>
          </p:grpSpPr>
          <p:sp>
            <p:nvSpPr>
              <p:cNvPr id="424" name=""/>
              <p:cNvSpPr/>
              <p:nvPr/>
            </p:nvSpPr>
            <p:spPr>
              <a:xfrm>
                <a:off x="5298480" y="2251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905120" y="2361960"/>
                <a:ext cx="4114800" cy="459720"/>
                <a:chOff x="1905120" y="2361960"/>
                <a:chExt cx="4114800" cy="4597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905120" y="236196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48320" y="264780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1828800" y="3062520"/>
            <a:ext cx="4114800" cy="839880"/>
            <a:chOff x="1828800" y="3062520"/>
            <a:chExt cx="4114800" cy="839880"/>
          </a:xfrm>
        </p:grpSpPr>
        <p:sp>
          <p:nvSpPr>
            <p:cNvPr id="429" name=""/>
            <p:cNvSpPr/>
            <p:nvPr/>
          </p:nvSpPr>
          <p:spPr>
            <a:xfrm>
              <a:off x="4561920" y="306252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828800" y="3076920"/>
              <a:ext cx="4114800" cy="825480"/>
              <a:chOff x="1828800" y="3076920"/>
              <a:chExt cx="4114800" cy="825480"/>
            </a:xfrm>
          </p:grpSpPr>
          <p:sp>
            <p:nvSpPr>
              <p:cNvPr id="431" name=""/>
              <p:cNvSpPr/>
              <p:nvPr/>
            </p:nvSpPr>
            <p:spPr>
              <a:xfrm>
                <a:off x="5279400" y="3076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1828800" y="3200400"/>
                <a:ext cx="4114800" cy="459720"/>
                <a:chOff x="1828800" y="3200400"/>
                <a:chExt cx="4114800" cy="45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828800" y="320040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2000" y="348624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1371600" y="48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057400" y="4695840"/>
            <a:ext cx="609480" cy="825480"/>
            <a:chOff x="2057400" y="4695840"/>
            <a:chExt cx="609480" cy="825480"/>
          </a:xfrm>
        </p:grpSpPr>
        <p:sp>
          <p:nvSpPr>
            <p:cNvPr id="437" name=""/>
            <p:cNvSpPr/>
            <p:nvPr/>
          </p:nvSpPr>
          <p:spPr>
            <a:xfrm>
              <a:off x="2057400" y="4695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57400" y="5105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447920" y="5716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33720" y="5640480"/>
            <a:ext cx="609480" cy="825480"/>
            <a:chOff x="2133720" y="5640480"/>
            <a:chExt cx="609480" cy="825480"/>
          </a:xfrm>
        </p:grpSpPr>
        <p:sp>
          <p:nvSpPr>
            <p:cNvPr id="441" name=""/>
            <p:cNvSpPr/>
            <p:nvPr/>
          </p:nvSpPr>
          <p:spPr>
            <a:xfrm>
              <a:off x="2133720" y="564048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6049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891160" y="5653080"/>
            <a:ext cx="1603440" cy="825480"/>
            <a:chOff x="2891160" y="5653080"/>
            <a:chExt cx="1603440" cy="825480"/>
          </a:xfrm>
        </p:grpSpPr>
        <p:sp>
          <p:nvSpPr>
            <p:cNvPr id="444" name=""/>
            <p:cNvSpPr/>
            <p:nvPr/>
          </p:nvSpPr>
          <p:spPr>
            <a:xfrm>
              <a:off x="2891160" y="56530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376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9480" y="578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99720" y="578988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76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e poured 8 oz of juice from a 64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an poured 16 oz of juice from a 128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ratio of juice is missing from each bottle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ratios proportional?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36000" y="3352680"/>
            <a:ext cx="5115600" cy="871560"/>
            <a:chOff x="936000" y="3352680"/>
            <a:chExt cx="5115600" cy="871560"/>
          </a:xfrm>
        </p:grpSpPr>
        <p:sp>
          <p:nvSpPr>
            <p:cNvPr id="451" name=""/>
            <p:cNvSpPr/>
            <p:nvPr/>
          </p:nvSpPr>
          <p:spPr>
            <a:xfrm>
              <a:off x="936000" y="3367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85480" y="33987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560" y="350496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and       ; yes, both equ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1920" y="37814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49560" y="380988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18080" y="3352680"/>
              <a:ext cx="533520" cy="825480"/>
              <a:chOff x="5518080" y="3352680"/>
              <a:chExt cx="533520" cy="825480"/>
            </a:xfrm>
          </p:grpSpPr>
          <p:sp>
            <p:nvSpPr>
              <p:cNvPr id="457" name=""/>
              <p:cNvSpPr/>
              <p:nvPr/>
            </p:nvSpPr>
            <p:spPr>
              <a:xfrm>
                <a:off x="5518080" y="3352680"/>
                <a:ext cx="53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1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18080" y="3765240"/>
                <a:ext cx="381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fraction in lowest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4400" y="2741760"/>
            <a:ext cx="896040" cy="825480"/>
            <a:chOff x="644400" y="2741760"/>
            <a:chExt cx="896040" cy="825480"/>
          </a:xfrm>
        </p:grpSpPr>
        <p:sp>
          <p:nvSpPr>
            <p:cNvPr id="57" name=""/>
            <p:cNvSpPr/>
            <p:nvPr/>
          </p:nvSpPr>
          <p:spPr>
            <a:xfrm>
              <a:off x="10123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4400" y="4113360"/>
            <a:ext cx="896040" cy="825480"/>
            <a:chOff x="644400" y="4113360"/>
            <a:chExt cx="896040" cy="825480"/>
          </a:xfrm>
        </p:grpSpPr>
        <p:sp>
          <p:nvSpPr>
            <p:cNvPr id="60" name=""/>
            <p:cNvSpPr/>
            <p:nvPr/>
          </p:nvSpPr>
          <p:spPr>
            <a:xfrm>
              <a:off x="1012320" y="41133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44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59920" y="2741760"/>
            <a:ext cx="895320" cy="825480"/>
            <a:chOff x="4759920" y="2741760"/>
            <a:chExt cx="895320" cy="825480"/>
          </a:xfrm>
        </p:grpSpPr>
        <p:sp>
          <p:nvSpPr>
            <p:cNvPr id="63" name=""/>
            <p:cNvSpPr/>
            <p:nvPr/>
          </p:nvSpPr>
          <p:spPr>
            <a:xfrm>
              <a:off x="51271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5992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59200" y="4113360"/>
            <a:ext cx="982800" cy="825480"/>
            <a:chOff x="4759200" y="4113360"/>
            <a:chExt cx="982800" cy="825480"/>
          </a:xfrm>
        </p:grpSpPr>
        <p:sp>
          <p:nvSpPr>
            <p:cNvPr id="66" name=""/>
            <p:cNvSpPr/>
            <p:nvPr/>
          </p:nvSpPr>
          <p:spPr>
            <a:xfrm>
              <a:off x="5040000" y="41133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92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3716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6004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9260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6004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gazine has page numbers from 1 to 80. What fraction of those page numbers include the digit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320" y="359892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equivalent ratios to create propor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7162920" cy="1981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valen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6280" y="94608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omparison of two quantities by division. In one rectangle, the ratio of shaded squares to unshaded squares is 7:5. In the other rectangle, the ratio is 28:20. Both rectangles have equivalent shaded areas. Ratios that make the same compariso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quivalent ratio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: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8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038480"/>
            <a:ext cx="609480" cy="533520"/>
          </a:xfrm>
          <a:prstGeom prst="leftRightArrow">
            <a:avLst>
              <a:gd name="adj1" fmla="val 50000"/>
              <a:gd name="adj2" fmla="val 22741"/>
            </a:avLst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14400" y="1999080"/>
            <a:ext cx="7661160" cy="2179080"/>
            <a:chOff x="914400" y="1999080"/>
            <a:chExt cx="7661160" cy="2179080"/>
          </a:xfrm>
        </p:grpSpPr>
        <p:sp>
          <p:nvSpPr>
            <p:cNvPr id="83" name=""/>
            <p:cNvSpPr/>
            <p:nvPr/>
          </p:nvSpPr>
          <p:spPr>
            <a:xfrm>
              <a:off x="914400" y="2438280"/>
              <a:ext cx="7661160" cy="17398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atios can be written in several ways. 7 to 5, 7:5, and      name the same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4480" y="199908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340000" y="2962440"/>
              <a:ext cx="574560" cy="825480"/>
              <a:chOff x="2340000" y="2962440"/>
              <a:chExt cx="574560" cy="825480"/>
            </a:xfrm>
          </p:grpSpPr>
          <p:sp>
            <p:nvSpPr>
              <p:cNvPr id="86" name=""/>
              <p:cNvSpPr/>
              <p:nvPr/>
            </p:nvSpPr>
            <p:spPr>
              <a:xfrm>
                <a:off x="2340000" y="2962440"/>
                <a:ext cx="574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98320" y="3386160"/>
                <a:ext cx="43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Equivalen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77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2960" y="4722840"/>
            <a:ext cx="7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23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97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99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02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07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12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17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23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6680" y="5195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043000" y="4662720"/>
            <a:ext cx="1517760" cy="825480"/>
            <a:chOff x="2043000" y="4662720"/>
            <a:chExt cx="1517760" cy="825480"/>
          </a:xfrm>
        </p:grpSpPr>
        <p:sp>
          <p:nvSpPr>
            <p:cNvPr id="129" name=""/>
            <p:cNvSpPr/>
            <p:nvPr/>
          </p:nvSpPr>
          <p:spPr>
            <a:xfrm>
              <a:off x="320616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43000" y="4662720"/>
              <a:ext cx="1143000" cy="825480"/>
              <a:chOff x="2043000" y="4662720"/>
              <a:chExt cx="1143000" cy="825480"/>
            </a:xfrm>
          </p:grpSpPr>
          <p:sp>
            <p:nvSpPr>
              <p:cNvPr id="131" name=""/>
              <p:cNvSpPr/>
              <p:nvPr/>
            </p:nvSpPr>
            <p:spPr>
              <a:xfrm>
                <a:off x="2158200" y="466272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00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2136600" y="5519880"/>
            <a:ext cx="1557720" cy="825480"/>
            <a:chOff x="2136600" y="5519880"/>
            <a:chExt cx="1557720" cy="825480"/>
          </a:xfrm>
        </p:grpSpPr>
        <p:sp>
          <p:nvSpPr>
            <p:cNvPr id="134" name=""/>
            <p:cNvSpPr/>
            <p:nvPr/>
          </p:nvSpPr>
          <p:spPr>
            <a:xfrm>
              <a:off x="333972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136600" y="5519880"/>
              <a:ext cx="1143000" cy="825480"/>
              <a:chOff x="2136600" y="5519880"/>
              <a:chExt cx="1143000" cy="825480"/>
            </a:xfrm>
          </p:grpSpPr>
          <p:sp>
            <p:nvSpPr>
              <p:cNvPr id="136" name=""/>
              <p:cNvSpPr/>
              <p:nvPr/>
            </p:nvSpPr>
            <p:spPr>
              <a:xfrm>
                <a:off x="2220480" y="551988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6600" y="5964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39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0920" y="5561280"/>
            <a:ext cx="829440" cy="825480"/>
            <a:chOff x="1240920" y="5561280"/>
            <a:chExt cx="829440" cy="825480"/>
          </a:xfrm>
        </p:grpSpPr>
        <p:sp>
          <p:nvSpPr>
            <p:cNvPr id="142" name=""/>
            <p:cNvSpPr/>
            <p:nvPr/>
          </p:nvSpPr>
          <p:spPr>
            <a:xfrm>
              <a:off x="124092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5760" y="56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648320" y="20289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9720" y="472284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360" y="55771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154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156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59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64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69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74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80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3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43000" y="4726080"/>
            <a:ext cx="1517760" cy="825480"/>
            <a:chOff x="2043000" y="4726080"/>
            <a:chExt cx="1517760" cy="825480"/>
          </a:xfrm>
        </p:grpSpPr>
        <p:sp>
          <p:nvSpPr>
            <p:cNvPr id="186" name=""/>
            <p:cNvSpPr/>
            <p:nvPr/>
          </p:nvSpPr>
          <p:spPr>
            <a:xfrm>
              <a:off x="3206160" y="487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8200" y="4726080"/>
              <a:ext cx="97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3000" y="510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6600" y="5523120"/>
            <a:ext cx="1557720" cy="825480"/>
            <a:chOff x="2136600" y="5523120"/>
            <a:chExt cx="1557720" cy="825480"/>
          </a:xfrm>
        </p:grpSpPr>
        <p:sp>
          <p:nvSpPr>
            <p:cNvPr id="190" name=""/>
            <p:cNvSpPr/>
            <p:nvPr/>
          </p:nvSpPr>
          <p:spPr>
            <a:xfrm>
              <a:off x="3339720" y="5718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36600" y="5523120"/>
              <a:ext cx="1143000" cy="825480"/>
              <a:chOff x="2136600" y="5523120"/>
              <a:chExt cx="1143000" cy="82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480" y="5523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6600" y="5967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95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40920" y="5567400"/>
            <a:ext cx="829440" cy="825480"/>
            <a:chOff x="1240920" y="5567400"/>
            <a:chExt cx="829440" cy="825480"/>
          </a:xfrm>
        </p:grpSpPr>
        <p:sp>
          <p:nvSpPr>
            <p:cNvPr id="198" name=""/>
            <p:cNvSpPr/>
            <p:nvPr/>
          </p:nvSpPr>
          <p:spPr>
            <a:xfrm>
              <a:off x="1240920" y="55674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5760" y="570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648320" y="195264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9:55:05Z</dcterms:modified>
  <cp:revision>54</cp:revision>
  <dc:subject/>
  <dc:title>Slide 1</dc:title>
</cp:coreProperties>
</file>