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71B-CC89-434D-9093-DD3EF912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946-B50A-45FB-BAC8-F7279A75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750-4647-4261-92F3-3A8D82D7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F99-DF06-4F83-8894-3FD0D534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55D-B7AB-4E16-BBCD-1554D32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05E-A31A-4A9E-9500-C0246D99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1D8-3B40-436A-B3EC-478DA581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67C-0B30-424C-BBC3-1D1795DF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F3E-E025-4737-B9D8-27C036F0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7C7-4B2D-419C-82EB-E1395990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48F-0E07-464A-89F8-7E0ECD0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572-4766-49E5-B752-DE49A4A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3F2-0432-42FB-B4AB-995957D6E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 and Propor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1676520"/>
            <a:ext cx="746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s that are equivalent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portion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opor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Equivalent ratios are identical when they are written in simplest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360" y="9129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Determining Whether Two Ratios are in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8288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8760" y="4646880"/>
            <a:ext cx="2122920" cy="825480"/>
            <a:chOff x="788760" y="4646880"/>
            <a:chExt cx="2122920" cy="825480"/>
          </a:xfrm>
        </p:grpSpPr>
        <p:sp>
          <p:nvSpPr>
            <p:cNvPr id="205" name=""/>
            <p:cNvSpPr/>
            <p:nvPr/>
          </p:nvSpPr>
          <p:spPr>
            <a:xfrm>
              <a:off x="131688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8760" y="472428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1120" y="48006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8356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88040" y="2818080"/>
            <a:ext cx="2123640" cy="825480"/>
            <a:chOff x="788040" y="2818080"/>
            <a:chExt cx="2123640" cy="825480"/>
          </a:xfrm>
        </p:grpSpPr>
        <p:sp>
          <p:nvSpPr>
            <p:cNvPr id="210" name=""/>
            <p:cNvSpPr/>
            <p:nvPr/>
          </p:nvSpPr>
          <p:spPr>
            <a:xfrm>
              <a:off x="131688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040" y="289548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61120" y="2971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83560" y="2818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48520" y="2741760"/>
            <a:ext cx="2743200" cy="1589040"/>
            <a:chOff x="6248520" y="2741760"/>
            <a:chExt cx="2743200" cy="1589040"/>
          </a:xfrm>
        </p:grpSpPr>
        <p:sp>
          <p:nvSpPr>
            <p:cNvPr id="215" name=""/>
            <p:cNvSpPr/>
            <p:nvPr/>
          </p:nvSpPr>
          <p:spPr>
            <a:xfrm>
              <a:off x="624852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9496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3076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760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371600" y="3228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52680" y="323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24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132080" y="2833920"/>
            <a:ext cx="1370160" cy="825480"/>
            <a:chOff x="4132080" y="2833920"/>
            <a:chExt cx="1370160" cy="825480"/>
          </a:xfrm>
        </p:grpSpPr>
        <p:sp>
          <p:nvSpPr>
            <p:cNvPr id="223" name=""/>
            <p:cNvSpPr/>
            <p:nvPr/>
          </p:nvSpPr>
          <p:spPr>
            <a:xfrm>
              <a:off x="51476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132080" y="2833920"/>
              <a:ext cx="1041480" cy="825480"/>
              <a:chOff x="4132080" y="2833920"/>
              <a:chExt cx="1041480" cy="825480"/>
            </a:xfrm>
          </p:grpSpPr>
          <p:sp>
            <p:nvSpPr>
              <p:cNvPr id="225" name=""/>
              <p:cNvSpPr/>
              <p:nvPr/>
            </p:nvSpPr>
            <p:spPr>
              <a:xfrm>
                <a:off x="413964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32080" y="324936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301200" y="2833920"/>
            <a:ext cx="829440" cy="825480"/>
            <a:chOff x="3301200" y="2833920"/>
            <a:chExt cx="829440" cy="825480"/>
          </a:xfrm>
        </p:grpSpPr>
        <p:grpSp>
          <p:nvGrpSpPr>
            <p:cNvPr id="228" name=""/>
            <p:cNvGrpSpPr/>
            <p:nvPr/>
          </p:nvGrpSpPr>
          <p:grpSpPr>
            <a:xfrm>
              <a:off x="3301200" y="2833920"/>
              <a:ext cx="528120" cy="825480"/>
              <a:chOff x="3301200" y="2833920"/>
              <a:chExt cx="528120" cy="825480"/>
            </a:xfrm>
          </p:grpSpPr>
          <p:sp>
            <p:nvSpPr>
              <p:cNvPr id="229" name=""/>
              <p:cNvSpPr/>
              <p:nvPr/>
            </p:nvSpPr>
            <p:spPr>
              <a:xfrm>
                <a:off x="330120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152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77604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42160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129200" y="3656160"/>
            <a:ext cx="1370160" cy="825480"/>
            <a:chOff x="4129200" y="3656160"/>
            <a:chExt cx="1370160" cy="825480"/>
          </a:xfrm>
        </p:grpSpPr>
        <p:sp>
          <p:nvSpPr>
            <p:cNvPr id="234" name=""/>
            <p:cNvSpPr/>
            <p:nvPr/>
          </p:nvSpPr>
          <p:spPr>
            <a:xfrm>
              <a:off x="51447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129200" y="3656160"/>
              <a:ext cx="1041480" cy="825480"/>
              <a:chOff x="4129200" y="3656160"/>
              <a:chExt cx="1041480" cy="825480"/>
            </a:xfrm>
          </p:grpSpPr>
          <p:sp>
            <p:nvSpPr>
              <p:cNvPr id="236" name=""/>
              <p:cNvSpPr/>
              <p:nvPr/>
            </p:nvSpPr>
            <p:spPr>
              <a:xfrm>
                <a:off x="413676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9200" y="407160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3298320" y="3656160"/>
            <a:ext cx="829440" cy="825480"/>
            <a:chOff x="3298320" y="3656160"/>
            <a:chExt cx="829440" cy="825480"/>
          </a:xfrm>
        </p:grpSpPr>
        <p:grpSp>
          <p:nvGrpSpPr>
            <p:cNvPr id="239" name=""/>
            <p:cNvGrpSpPr/>
            <p:nvPr/>
          </p:nvGrpSpPr>
          <p:grpSpPr>
            <a:xfrm>
              <a:off x="3298320" y="3656160"/>
              <a:ext cx="528120" cy="825480"/>
              <a:chOff x="3298320" y="3656160"/>
              <a:chExt cx="528120" cy="825480"/>
            </a:xfrm>
          </p:grpSpPr>
          <p:sp>
            <p:nvSpPr>
              <p:cNvPr id="240" name=""/>
              <p:cNvSpPr/>
              <p:nvPr/>
            </p:nvSpPr>
            <p:spPr>
              <a:xfrm>
                <a:off x="329832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3864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77316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269320" y="4660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245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247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250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254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259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262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523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60160" y="4799160"/>
            <a:ext cx="2122920" cy="825480"/>
            <a:chOff x="560160" y="4799160"/>
            <a:chExt cx="2122920" cy="825480"/>
          </a:xfrm>
        </p:grpSpPr>
        <p:sp>
          <p:nvSpPr>
            <p:cNvPr id="269" name=""/>
            <p:cNvSpPr/>
            <p:nvPr/>
          </p:nvSpPr>
          <p:spPr>
            <a:xfrm>
              <a:off x="108828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0160" y="4876560"/>
              <a:ext cx="47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32520" y="495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54960" y="47991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943600" y="2741760"/>
            <a:ext cx="2743200" cy="1589040"/>
            <a:chOff x="5943600" y="2741760"/>
            <a:chExt cx="2743200" cy="1589040"/>
          </a:xfrm>
        </p:grpSpPr>
        <p:sp>
          <p:nvSpPr>
            <p:cNvPr id="274" name=""/>
            <p:cNvSpPr/>
            <p:nvPr/>
          </p:nvSpPr>
          <p:spPr>
            <a:xfrm>
              <a:off x="5943600" y="2865240"/>
              <a:ext cx="274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9004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2584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02680" y="27417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289840" y="28339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27520" y="2833920"/>
            <a:ext cx="1370160" cy="825480"/>
            <a:chOff x="3827520" y="2833920"/>
            <a:chExt cx="1370160" cy="825480"/>
          </a:xfrm>
        </p:grpSpPr>
        <p:sp>
          <p:nvSpPr>
            <p:cNvPr id="280" name=""/>
            <p:cNvSpPr/>
            <p:nvPr/>
          </p:nvSpPr>
          <p:spPr>
            <a:xfrm>
              <a:off x="48430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827520" y="2833920"/>
              <a:ext cx="1041480" cy="825480"/>
              <a:chOff x="3827520" y="2833920"/>
              <a:chExt cx="1041480" cy="825480"/>
            </a:xfrm>
          </p:grpSpPr>
          <p:sp>
            <p:nvSpPr>
              <p:cNvPr id="282" name=""/>
              <p:cNvSpPr/>
              <p:nvPr/>
            </p:nvSpPr>
            <p:spPr>
              <a:xfrm>
                <a:off x="3835080" y="28339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27520" y="324936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2996640" y="2833920"/>
            <a:ext cx="829440" cy="825480"/>
            <a:chOff x="2996640" y="2833920"/>
            <a:chExt cx="829440" cy="825480"/>
          </a:xfrm>
        </p:grpSpPr>
        <p:grpSp>
          <p:nvGrpSpPr>
            <p:cNvPr id="285" name=""/>
            <p:cNvGrpSpPr/>
            <p:nvPr/>
          </p:nvGrpSpPr>
          <p:grpSpPr>
            <a:xfrm>
              <a:off x="2996640" y="2833920"/>
              <a:ext cx="528120" cy="825480"/>
              <a:chOff x="2996640" y="2833920"/>
              <a:chExt cx="528120" cy="825480"/>
            </a:xfrm>
          </p:grpSpPr>
          <p:sp>
            <p:nvSpPr>
              <p:cNvPr id="286" name=""/>
              <p:cNvSpPr/>
              <p:nvPr/>
            </p:nvSpPr>
            <p:spPr>
              <a:xfrm>
                <a:off x="2996640" y="2833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36960" y="3230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471480" y="2987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213880" y="36561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824280" y="3656160"/>
            <a:ext cx="1370160" cy="825480"/>
            <a:chOff x="3824280" y="3656160"/>
            <a:chExt cx="1370160" cy="825480"/>
          </a:xfrm>
        </p:grpSpPr>
        <p:sp>
          <p:nvSpPr>
            <p:cNvPr id="291" name=""/>
            <p:cNvSpPr/>
            <p:nvPr/>
          </p:nvSpPr>
          <p:spPr>
            <a:xfrm>
              <a:off x="48398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824280" y="3656160"/>
              <a:ext cx="1041480" cy="825480"/>
              <a:chOff x="3824280" y="3656160"/>
              <a:chExt cx="1041480" cy="825480"/>
            </a:xfrm>
          </p:grpSpPr>
          <p:sp>
            <p:nvSpPr>
              <p:cNvPr id="293" name=""/>
              <p:cNvSpPr/>
              <p:nvPr/>
            </p:nvSpPr>
            <p:spPr>
              <a:xfrm>
                <a:off x="3831840" y="365616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24280" y="4071600"/>
                <a:ext cx="100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2993400" y="3656160"/>
            <a:ext cx="829440" cy="825480"/>
            <a:chOff x="2993400" y="3656160"/>
            <a:chExt cx="829440" cy="825480"/>
          </a:xfrm>
        </p:grpSpPr>
        <p:grpSp>
          <p:nvGrpSpPr>
            <p:cNvPr id="296" name=""/>
            <p:cNvGrpSpPr/>
            <p:nvPr/>
          </p:nvGrpSpPr>
          <p:grpSpPr>
            <a:xfrm>
              <a:off x="2993400" y="3656160"/>
              <a:ext cx="528120" cy="825480"/>
              <a:chOff x="2993400" y="3656160"/>
              <a:chExt cx="528120" cy="825480"/>
            </a:xfrm>
          </p:grpSpPr>
          <p:sp>
            <p:nvSpPr>
              <p:cNvPr id="297" name=""/>
              <p:cNvSpPr/>
              <p:nvPr/>
            </p:nvSpPr>
            <p:spPr>
              <a:xfrm>
                <a:off x="2993400" y="3656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33720" y="405252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468240" y="3809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269320" y="47228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13120" y="4662720"/>
            <a:ext cx="1517760" cy="825480"/>
            <a:chOff x="3813120" y="4662720"/>
            <a:chExt cx="1517760" cy="825480"/>
          </a:xfrm>
        </p:grpSpPr>
        <p:sp>
          <p:nvSpPr>
            <p:cNvPr id="302" name=""/>
            <p:cNvSpPr/>
            <p:nvPr/>
          </p:nvSpPr>
          <p:spPr>
            <a:xfrm>
              <a:off x="497628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13120" y="4662720"/>
              <a:ext cx="1143000" cy="825480"/>
              <a:chOff x="3813120" y="4662720"/>
              <a:chExt cx="1143000" cy="825480"/>
            </a:xfrm>
          </p:grpSpPr>
          <p:sp>
            <p:nvSpPr>
              <p:cNvPr id="304" name=""/>
              <p:cNvSpPr/>
              <p:nvPr/>
            </p:nvSpPr>
            <p:spPr>
              <a:xfrm>
                <a:off x="3898800" y="46627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1312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3011040" y="4646880"/>
            <a:ext cx="795960" cy="825480"/>
            <a:chOff x="3011040" y="4646880"/>
            <a:chExt cx="795960" cy="825480"/>
          </a:xfrm>
        </p:grpSpPr>
        <p:sp>
          <p:nvSpPr>
            <p:cNvPr id="307" name=""/>
            <p:cNvSpPr/>
            <p:nvPr/>
          </p:nvSpPr>
          <p:spPr>
            <a:xfrm>
              <a:off x="3011040" y="4646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52400" y="4800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2725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95480" y="5577120"/>
            <a:ext cx="1517760" cy="825480"/>
            <a:chOff x="3795480" y="5577120"/>
            <a:chExt cx="1517760" cy="825480"/>
          </a:xfrm>
        </p:grpSpPr>
        <p:sp>
          <p:nvSpPr>
            <p:cNvPr id="311" name=""/>
            <p:cNvSpPr/>
            <p:nvPr/>
          </p:nvSpPr>
          <p:spPr>
            <a:xfrm>
              <a:off x="4958640" y="57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795480" y="5577120"/>
              <a:ext cx="1143000" cy="825480"/>
              <a:chOff x="3795480" y="5577120"/>
              <a:chExt cx="1143000" cy="825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881160" y="5577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795480" y="6016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2993400" y="5561280"/>
            <a:ext cx="795960" cy="825480"/>
            <a:chOff x="2993400" y="5561280"/>
            <a:chExt cx="795960" cy="825480"/>
          </a:xfrm>
        </p:grpSpPr>
        <p:sp>
          <p:nvSpPr>
            <p:cNvPr id="316" name=""/>
            <p:cNvSpPr/>
            <p:nvPr/>
          </p:nvSpPr>
          <p:spPr>
            <a:xfrm>
              <a:off x="299340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3476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019920" y="4722840"/>
            <a:ext cx="2895480" cy="1543320"/>
            <a:chOff x="6019920" y="4722840"/>
            <a:chExt cx="2895480" cy="1543320"/>
          </a:xfrm>
        </p:grpSpPr>
        <p:sp>
          <p:nvSpPr>
            <p:cNvPr id="319" name=""/>
            <p:cNvSpPr/>
            <p:nvPr/>
          </p:nvSpPr>
          <p:spPr>
            <a:xfrm>
              <a:off x="6019920" y="4800600"/>
              <a:ext cx="2895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ratios are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no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n propor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636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1320" y="48783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79000" y="472284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59440" y="2818080"/>
            <a:ext cx="2123640" cy="825480"/>
            <a:chOff x="559440" y="2818080"/>
            <a:chExt cx="2123640" cy="825480"/>
          </a:xfrm>
        </p:grpSpPr>
        <p:grpSp>
          <p:nvGrpSpPr>
            <p:cNvPr id="324" name=""/>
            <p:cNvGrpSpPr/>
            <p:nvPr/>
          </p:nvGrpSpPr>
          <p:grpSpPr>
            <a:xfrm>
              <a:off x="559440" y="2818080"/>
              <a:ext cx="2123640" cy="825480"/>
              <a:chOff x="559440" y="2818080"/>
              <a:chExt cx="2123640" cy="825480"/>
            </a:xfrm>
          </p:grpSpPr>
          <p:sp>
            <p:nvSpPr>
              <p:cNvPr id="325" name=""/>
              <p:cNvSpPr/>
              <p:nvPr/>
            </p:nvSpPr>
            <p:spPr>
              <a:xfrm>
                <a:off x="108828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9440" y="28954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32520" y="29718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54960" y="2818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114560" y="323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3243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</a:rPr>
              <a:t>Earth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17524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four cubic feet of silver has the same mass as 42 cubic feet of water.  At 4°C, would 210 cubic feet of water have the same mass as 2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80880" y="4570560"/>
            <a:ext cx="3079440" cy="825480"/>
            <a:chOff x="380880" y="4570560"/>
            <a:chExt cx="3079440" cy="825480"/>
          </a:xfrm>
        </p:grpSpPr>
        <p:sp>
          <p:nvSpPr>
            <p:cNvPr id="334" name=""/>
            <p:cNvSpPr/>
            <p:nvPr/>
          </p:nvSpPr>
          <p:spPr>
            <a:xfrm>
              <a:off x="499680" y="4570560"/>
              <a:ext cx="10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668600" y="4646520"/>
              <a:ext cx="387360" cy="537480"/>
              <a:chOff x="1668600" y="4646520"/>
              <a:chExt cx="387360" cy="537480"/>
            </a:xfrm>
          </p:grpSpPr>
          <p:sp>
            <p:nvSpPr>
              <p:cNvPr id="336" name=""/>
              <p:cNvSpPr/>
              <p:nvPr/>
            </p:nvSpPr>
            <p:spPr>
              <a:xfrm>
                <a:off x="1668600" y="4646520"/>
                <a:ext cx="33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01360" y="4724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078640" y="4570560"/>
              <a:ext cx="13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÷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880" y="4967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43000" y="497196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112040" y="5424480"/>
            <a:ext cx="1518840" cy="825480"/>
            <a:chOff x="1112040" y="5424480"/>
            <a:chExt cx="1518840" cy="825480"/>
          </a:xfrm>
        </p:grpSpPr>
        <p:sp>
          <p:nvSpPr>
            <p:cNvPr id="342" name=""/>
            <p:cNvSpPr/>
            <p:nvPr/>
          </p:nvSpPr>
          <p:spPr>
            <a:xfrm>
              <a:off x="111204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63200" y="5578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2760" y="5424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17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57120" y="5835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150200" y="3579840"/>
            <a:ext cx="1668960" cy="825480"/>
            <a:chOff x="1150200" y="3579840"/>
            <a:chExt cx="1668960" cy="825480"/>
          </a:xfrm>
        </p:grpSpPr>
        <p:sp>
          <p:nvSpPr>
            <p:cNvPr id="348" name=""/>
            <p:cNvSpPr/>
            <p:nvPr/>
          </p:nvSpPr>
          <p:spPr>
            <a:xfrm>
              <a:off x="1150200" y="3579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664640" y="3630600"/>
              <a:ext cx="390960" cy="563040"/>
              <a:chOff x="1664640" y="3630600"/>
              <a:chExt cx="390960" cy="563040"/>
            </a:xfrm>
          </p:grpSpPr>
          <p:sp>
            <p:nvSpPr>
              <p:cNvPr id="350" name=""/>
              <p:cNvSpPr/>
              <p:nvPr/>
            </p:nvSpPr>
            <p:spPr>
              <a:xfrm>
                <a:off x="1664640" y="363060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01000" y="3733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074320" y="357984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7040" y="4005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43000" y="40100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24280" y="3427560"/>
            <a:ext cx="4572000" cy="2082960"/>
            <a:chOff x="4724280" y="3427560"/>
            <a:chExt cx="4572000" cy="2082960"/>
          </a:xfrm>
        </p:grpSpPr>
        <p:sp>
          <p:nvSpPr>
            <p:cNvPr id="356" name=""/>
            <p:cNvSpPr/>
            <p:nvPr/>
          </p:nvSpPr>
          <p:spPr>
            <a:xfrm>
              <a:off x="4724280" y="3511440"/>
              <a:ext cx="457200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0 cubic feet of water would have the same mass at 4°C as 2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715360" y="3427560"/>
              <a:ext cx="1502280" cy="825480"/>
              <a:chOff x="5715360" y="3427560"/>
              <a:chExt cx="1502280" cy="825480"/>
            </a:xfrm>
          </p:grpSpPr>
          <p:sp>
            <p:nvSpPr>
              <p:cNvPr id="358" name=""/>
              <p:cNvSpPr/>
              <p:nvPr/>
            </p:nvSpPr>
            <p:spPr>
              <a:xfrm>
                <a:off x="571536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6256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89520" y="34275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82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47480" y="383868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35053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523880"/>
            <a:ext cx="794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 4°C, two cubic feet of silver has the same mass as 21 cubic feet of water.  At 4°C, would 105 cubic feet of water have the same mass as 10 cubic feet of sil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74080" y="4418280"/>
            <a:ext cx="2277360" cy="826920"/>
            <a:chOff x="874080" y="4418280"/>
            <a:chExt cx="2277360" cy="826920"/>
          </a:xfrm>
        </p:grpSpPr>
        <p:grpSp>
          <p:nvGrpSpPr>
            <p:cNvPr id="367" name=""/>
            <p:cNvGrpSpPr/>
            <p:nvPr/>
          </p:nvGrpSpPr>
          <p:grpSpPr>
            <a:xfrm>
              <a:off x="874080" y="4418280"/>
              <a:ext cx="2208600" cy="826920"/>
              <a:chOff x="874080" y="4418280"/>
              <a:chExt cx="2208600" cy="8269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1378080" y="4494240"/>
                <a:ext cx="387360" cy="537480"/>
                <a:chOff x="1378080" y="4494240"/>
                <a:chExt cx="387360" cy="537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378080" y="44942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?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410840" y="4572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1874880" y="4418280"/>
                <a:ext cx="1207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5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874080" y="4419720"/>
                <a:ext cx="528120" cy="825480"/>
                <a:chOff x="874080" y="4419720"/>
                <a:chExt cx="528120" cy="825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74080" y="4419720"/>
                  <a:ext cx="52812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84160" y="48448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1752840" y="4819680"/>
              <a:ext cx="13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59680" y="5272200"/>
            <a:ext cx="1518840" cy="825480"/>
            <a:chOff x="859680" y="5272200"/>
            <a:chExt cx="1518840" cy="825480"/>
          </a:xfrm>
        </p:grpSpPr>
        <p:sp>
          <p:nvSpPr>
            <p:cNvPr id="377" name=""/>
            <p:cNvSpPr/>
            <p:nvPr/>
          </p:nvSpPr>
          <p:spPr>
            <a:xfrm>
              <a:off x="85968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10840" y="54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50400" y="52722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93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4760" y="5683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59680" y="3427560"/>
            <a:ext cx="1668960" cy="825480"/>
            <a:chOff x="859680" y="3427560"/>
            <a:chExt cx="1668960" cy="825480"/>
          </a:xfrm>
        </p:grpSpPr>
        <p:sp>
          <p:nvSpPr>
            <p:cNvPr id="383" name=""/>
            <p:cNvSpPr/>
            <p:nvPr/>
          </p:nvSpPr>
          <p:spPr>
            <a:xfrm>
              <a:off x="859680" y="34275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1374120" y="3477960"/>
              <a:ext cx="390960" cy="562680"/>
              <a:chOff x="1374120" y="3477960"/>
              <a:chExt cx="390960" cy="562680"/>
            </a:xfrm>
          </p:grpSpPr>
          <p:sp>
            <p:nvSpPr>
              <p:cNvPr id="385" name=""/>
              <p:cNvSpPr/>
              <p:nvPr/>
            </p:nvSpPr>
            <p:spPr>
              <a:xfrm>
                <a:off x="1374120" y="3477960"/>
                <a:ext cx="34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10480" y="358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783800" y="34275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6520" y="3852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52480" y="385740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633920" y="3275280"/>
            <a:ext cx="4433760" cy="2082960"/>
            <a:chOff x="4633920" y="3275280"/>
            <a:chExt cx="4433760" cy="2082960"/>
          </a:xfrm>
        </p:grpSpPr>
        <p:sp>
          <p:nvSpPr>
            <p:cNvPr id="391" name=""/>
            <p:cNvSpPr/>
            <p:nvPr/>
          </p:nvSpPr>
          <p:spPr>
            <a:xfrm>
              <a:off x="4633920" y="3359160"/>
              <a:ext cx="443376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nce              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5 cubic feet of water would have the same mass at 4°C as 10 cubic feet of silv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5587560" y="3275280"/>
              <a:ext cx="1472400" cy="825480"/>
              <a:chOff x="5587560" y="3275280"/>
              <a:chExt cx="1472400" cy="825480"/>
            </a:xfrm>
          </p:grpSpPr>
          <p:sp>
            <p:nvSpPr>
              <p:cNvPr id="393" name=""/>
              <p:cNvSpPr/>
              <p:nvPr/>
            </p:nvSpPr>
            <p:spPr>
              <a:xfrm>
                <a:off x="558756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25760" y="34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31840" y="32752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4624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95560" y="3686400"/>
                <a:ext cx="36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3276720" y="459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07000" y="4738680"/>
            <a:ext cx="1613520" cy="825480"/>
            <a:chOff x="2907000" y="4738680"/>
            <a:chExt cx="1613520" cy="825480"/>
          </a:xfrm>
        </p:grpSpPr>
        <p:sp>
          <p:nvSpPr>
            <p:cNvPr id="401" name=""/>
            <p:cNvSpPr/>
            <p:nvPr/>
          </p:nvSpPr>
          <p:spPr>
            <a:xfrm>
              <a:off x="290700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56360" y="47386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79160" y="487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04400" y="487548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5720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568440" y="2224080"/>
            <a:ext cx="896040" cy="825480"/>
            <a:chOff x="568440" y="2224080"/>
            <a:chExt cx="896040" cy="825480"/>
          </a:xfrm>
        </p:grpSpPr>
        <p:sp>
          <p:nvSpPr>
            <p:cNvPr id="407" name=""/>
            <p:cNvSpPr/>
            <p:nvPr/>
          </p:nvSpPr>
          <p:spPr>
            <a:xfrm>
              <a:off x="93636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440" y="2301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68440" y="3138480"/>
            <a:ext cx="896040" cy="825480"/>
            <a:chOff x="568440" y="3138480"/>
            <a:chExt cx="896040" cy="825480"/>
          </a:xfrm>
        </p:grpSpPr>
        <p:sp>
          <p:nvSpPr>
            <p:cNvPr id="410" name=""/>
            <p:cNvSpPr/>
            <p:nvPr/>
          </p:nvSpPr>
          <p:spPr>
            <a:xfrm>
              <a:off x="936360" y="31384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8440" y="32162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69160" y="4722840"/>
            <a:ext cx="895320" cy="825480"/>
            <a:chOff x="569160" y="4722840"/>
            <a:chExt cx="895320" cy="825480"/>
          </a:xfrm>
        </p:grpSpPr>
        <p:sp>
          <p:nvSpPr>
            <p:cNvPr id="413" name=""/>
            <p:cNvSpPr/>
            <p:nvPr/>
          </p:nvSpPr>
          <p:spPr>
            <a:xfrm>
              <a:off x="93636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9160" y="48006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30280" y="5653080"/>
            <a:ext cx="896040" cy="825480"/>
            <a:chOff x="530280" y="5653080"/>
            <a:chExt cx="896040" cy="825480"/>
          </a:xfrm>
        </p:grpSpPr>
        <p:sp>
          <p:nvSpPr>
            <p:cNvPr id="416" name=""/>
            <p:cNvSpPr/>
            <p:nvPr/>
          </p:nvSpPr>
          <p:spPr>
            <a:xfrm>
              <a:off x="89820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280" y="5730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976320" y="2635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3549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o tell whether the ratios form a prop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224080"/>
            <a:ext cx="4114800" cy="852480"/>
            <a:chOff x="1905120" y="2224080"/>
            <a:chExt cx="4114800" cy="852480"/>
          </a:xfrm>
        </p:grpSpPr>
        <p:sp>
          <p:nvSpPr>
            <p:cNvPr id="422" name=""/>
            <p:cNvSpPr/>
            <p:nvPr/>
          </p:nvSpPr>
          <p:spPr>
            <a:xfrm>
              <a:off x="4637880" y="2224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905120" y="2251080"/>
              <a:ext cx="4114800" cy="825480"/>
              <a:chOff x="1905120" y="2251080"/>
              <a:chExt cx="4114800" cy="825480"/>
            </a:xfrm>
          </p:grpSpPr>
          <p:sp>
            <p:nvSpPr>
              <p:cNvPr id="424" name=""/>
              <p:cNvSpPr/>
              <p:nvPr/>
            </p:nvSpPr>
            <p:spPr>
              <a:xfrm>
                <a:off x="5298480" y="2251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4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1905120" y="2361960"/>
                <a:ext cx="4114800" cy="459720"/>
                <a:chOff x="1905120" y="2361960"/>
                <a:chExt cx="4114800" cy="4597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1905120" y="236196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48320" y="264780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8" name=""/>
          <p:cNvGrpSpPr/>
          <p:nvPr/>
        </p:nvGrpSpPr>
        <p:grpSpPr>
          <a:xfrm>
            <a:off x="1828800" y="3062520"/>
            <a:ext cx="4114800" cy="839880"/>
            <a:chOff x="1828800" y="3062520"/>
            <a:chExt cx="4114800" cy="839880"/>
          </a:xfrm>
        </p:grpSpPr>
        <p:sp>
          <p:nvSpPr>
            <p:cNvPr id="429" name=""/>
            <p:cNvSpPr/>
            <p:nvPr/>
          </p:nvSpPr>
          <p:spPr>
            <a:xfrm>
              <a:off x="4561920" y="306252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828800" y="3076920"/>
              <a:ext cx="4114800" cy="825480"/>
              <a:chOff x="1828800" y="3076920"/>
              <a:chExt cx="4114800" cy="825480"/>
            </a:xfrm>
          </p:grpSpPr>
          <p:sp>
            <p:nvSpPr>
              <p:cNvPr id="431" name=""/>
              <p:cNvSpPr/>
              <p:nvPr/>
            </p:nvSpPr>
            <p:spPr>
              <a:xfrm>
                <a:off x="5279400" y="307692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3300"/>
                    </a:solidFill>
                    <a:uFillTx/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6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1828800" y="3200400"/>
                <a:ext cx="4114800" cy="459720"/>
                <a:chOff x="1828800" y="3200400"/>
                <a:chExt cx="4114800" cy="4597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828800" y="3200400"/>
                  <a:ext cx="4114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3300"/>
                      </a:solidFill>
                      <a:latin typeface="Verdana"/>
                    </a:rPr>
                    <a:t>Possible answer:      ,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72000" y="3486240"/>
                  <a:ext cx="457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5" name=""/>
          <p:cNvSpPr/>
          <p:nvPr/>
        </p:nvSpPr>
        <p:spPr>
          <a:xfrm>
            <a:off x="1371600" y="483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2057400" y="4695840"/>
            <a:ext cx="609480" cy="825480"/>
            <a:chOff x="2057400" y="4695840"/>
            <a:chExt cx="609480" cy="825480"/>
          </a:xfrm>
        </p:grpSpPr>
        <p:sp>
          <p:nvSpPr>
            <p:cNvPr id="437" name=""/>
            <p:cNvSpPr/>
            <p:nvPr/>
          </p:nvSpPr>
          <p:spPr>
            <a:xfrm>
              <a:off x="2057400" y="469584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57400" y="5105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447920" y="5716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133720" y="5640480"/>
            <a:ext cx="609480" cy="825480"/>
            <a:chOff x="2133720" y="5640480"/>
            <a:chExt cx="609480" cy="825480"/>
          </a:xfrm>
        </p:grpSpPr>
        <p:sp>
          <p:nvSpPr>
            <p:cNvPr id="441" name=""/>
            <p:cNvSpPr/>
            <p:nvPr/>
          </p:nvSpPr>
          <p:spPr>
            <a:xfrm>
              <a:off x="2133720" y="564048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8 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6049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891160" y="5653080"/>
            <a:ext cx="1603440" cy="825480"/>
            <a:chOff x="2891160" y="5653080"/>
            <a:chExt cx="1603440" cy="825480"/>
          </a:xfrm>
        </p:grpSpPr>
        <p:sp>
          <p:nvSpPr>
            <p:cNvPr id="444" name=""/>
            <p:cNvSpPr/>
            <p:nvPr/>
          </p:nvSpPr>
          <p:spPr>
            <a:xfrm>
              <a:off x="2891160" y="56530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3760" y="5653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33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9480" y="57898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99720" y="5789880"/>
              <a:ext cx="79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; 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76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te poured 8 oz of juice from a 64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an poured 16 oz of juice from a 128 oz bott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ratio of juice is missing from each bottle?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the ratios proportional?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936000" y="3352680"/>
            <a:ext cx="5115600" cy="871560"/>
            <a:chOff x="936000" y="3352680"/>
            <a:chExt cx="5115600" cy="871560"/>
          </a:xfrm>
        </p:grpSpPr>
        <p:sp>
          <p:nvSpPr>
            <p:cNvPr id="451" name=""/>
            <p:cNvSpPr/>
            <p:nvPr/>
          </p:nvSpPr>
          <p:spPr>
            <a:xfrm>
              <a:off x="936000" y="33670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85480" y="33987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47560" y="3504960"/>
              <a:ext cx="44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and       ; yes, both equ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61920" y="378144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49560" y="3809880"/>
              <a:ext cx="68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518080" y="3352680"/>
              <a:ext cx="533520" cy="825480"/>
              <a:chOff x="5518080" y="3352680"/>
              <a:chExt cx="533520" cy="825480"/>
            </a:xfrm>
          </p:grpSpPr>
          <p:sp>
            <p:nvSpPr>
              <p:cNvPr id="457" name=""/>
              <p:cNvSpPr/>
              <p:nvPr/>
            </p:nvSpPr>
            <p:spPr>
              <a:xfrm>
                <a:off x="5518080" y="3352680"/>
                <a:ext cx="533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1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518080" y="3765240"/>
                <a:ext cx="381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each fraction in lowest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44400" y="2741760"/>
            <a:ext cx="896040" cy="825480"/>
            <a:chOff x="644400" y="2741760"/>
            <a:chExt cx="896040" cy="825480"/>
          </a:xfrm>
        </p:grpSpPr>
        <p:sp>
          <p:nvSpPr>
            <p:cNvPr id="57" name=""/>
            <p:cNvSpPr/>
            <p:nvPr/>
          </p:nvSpPr>
          <p:spPr>
            <a:xfrm>
              <a:off x="10123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44400" y="4113360"/>
            <a:ext cx="896040" cy="825480"/>
            <a:chOff x="644400" y="4113360"/>
            <a:chExt cx="896040" cy="825480"/>
          </a:xfrm>
        </p:grpSpPr>
        <p:sp>
          <p:nvSpPr>
            <p:cNvPr id="60" name=""/>
            <p:cNvSpPr/>
            <p:nvPr/>
          </p:nvSpPr>
          <p:spPr>
            <a:xfrm>
              <a:off x="1012320" y="41133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44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759920" y="2741760"/>
            <a:ext cx="895320" cy="825480"/>
            <a:chOff x="4759920" y="2741760"/>
            <a:chExt cx="895320" cy="825480"/>
          </a:xfrm>
        </p:grpSpPr>
        <p:sp>
          <p:nvSpPr>
            <p:cNvPr id="63" name=""/>
            <p:cNvSpPr/>
            <p:nvPr/>
          </p:nvSpPr>
          <p:spPr>
            <a:xfrm>
              <a:off x="5127120" y="27417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59920" y="28191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59200" y="4113360"/>
            <a:ext cx="982800" cy="825480"/>
            <a:chOff x="4759200" y="4113360"/>
            <a:chExt cx="982800" cy="825480"/>
          </a:xfrm>
        </p:grpSpPr>
        <p:sp>
          <p:nvSpPr>
            <p:cNvPr id="66" name=""/>
            <p:cNvSpPr/>
            <p:nvPr/>
          </p:nvSpPr>
          <p:spPr>
            <a:xfrm>
              <a:off x="5040000" y="411336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59200" y="4190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93716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60040" y="27417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9260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60040" y="411336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600200"/>
            <a:ext cx="746748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gazine has page numbers from 1 to 80. What fraction of those page numbers include the digit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6320" y="359892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equivalent ratios to create propor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7162920" cy="1981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valent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46280" y="94608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comparison of two quantities by division. In one rectangle, the ratio of shaded squares to unshaded squares is 7:5. In the other rectangle, the ratio is 28:20. Both rectangles have equivalent shaded areas. Ratios that make the same compariso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quivalent ratio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46748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: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8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038480"/>
            <a:ext cx="609480" cy="533520"/>
          </a:xfrm>
          <a:prstGeom prst="leftRightArrow">
            <a:avLst>
              <a:gd name="adj1" fmla="val 50000"/>
              <a:gd name="adj2" fmla="val 22741"/>
            </a:avLst>
          </a:prstGeom>
          <a:gradFill rotWithShape="0">
            <a:gsLst>
              <a:gs pos="0">
                <a:srgbClr val="ffff00"/>
              </a:gs>
              <a:gs pos="50000">
                <a:srgbClr val="bbe0e3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14400" y="1999080"/>
            <a:ext cx="7661160" cy="2179080"/>
            <a:chOff x="914400" y="1999080"/>
            <a:chExt cx="7661160" cy="2179080"/>
          </a:xfrm>
        </p:grpSpPr>
        <p:sp>
          <p:nvSpPr>
            <p:cNvPr id="83" name=""/>
            <p:cNvSpPr/>
            <p:nvPr/>
          </p:nvSpPr>
          <p:spPr>
            <a:xfrm>
              <a:off x="914400" y="2438280"/>
              <a:ext cx="7661160" cy="17398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atios can be written in several ways. 7 to 5, 7:5, and      name the same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14480" y="1999080"/>
              <a:ext cx="230976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ad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340000" y="2962440"/>
              <a:ext cx="574560" cy="825480"/>
              <a:chOff x="2340000" y="2962440"/>
              <a:chExt cx="574560" cy="825480"/>
            </a:xfrm>
          </p:grpSpPr>
          <p:sp>
            <p:nvSpPr>
              <p:cNvPr id="86" name=""/>
              <p:cNvSpPr/>
              <p:nvPr/>
            </p:nvSpPr>
            <p:spPr>
              <a:xfrm>
                <a:off x="2340000" y="2962440"/>
                <a:ext cx="574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7 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98320" y="3386160"/>
                <a:ext cx="43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Equivalent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57788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12960" y="4722840"/>
            <a:ext cx="7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2360" y="556128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97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99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02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07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12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13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17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23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6680" y="5195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043000" y="4662720"/>
            <a:ext cx="1517760" cy="825480"/>
            <a:chOff x="2043000" y="4662720"/>
            <a:chExt cx="1517760" cy="825480"/>
          </a:xfrm>
        </p:grpSpPr>
        <p:sp>
          <p:nvSpPr>
            <p:cNvPr id="129" name=""/>
            <p:cNvSpPr/>
            <p:nvPr/>
          </p:nvSpPr>
          <p:spPr>
            <a:xfrm>
              <a:off x="3206160" y="48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043000" y="4662720"/>
              <a:ext cx="1143000" cy="825480"/>
              <a:chOff x="2043000" y="4662720"/>
              <a:chExt cx="1143000" cy="825480"/>
            </a:xfrm>
          </p:grpSpPr>
          <p:sp>
            <p:nvSpPr>
              <p:cNvPr id="131" name=""/>
              <p:cNvSpPr/>
              <p:nvPr/>
            </p:nvSpPr>
            <p:spPr>
              <a:xfrm>
                <a:off x="2158200" y="466272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43000" y="51019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2136600" y="5519880"/>
            <a:ext cx="1557720" cy="825480"/>
            <a:chOff x="2136600" y="5519880"/>
            <a:chExt cx="1557720" cy="825480"/>
          </a:xfrm>
        </p:grpSpPr>
        <p:sp>
          <p:nvSpPr>
            <p:cNvPr id="134" name=""/>
            <p:cNvSpPr/>
            <p:nvPr/>
          </p:nvSpPr>
          <p:spPr>
            <a:xfrm>
              <a:off x="3339720" y="5715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136600" y="5519880"/>
              <a:ext cx="1143000" cy="825480"/>
              <a:chOff x="2136600" y="5519880"/>
              <a:chExt cx="1143000" cy="825480"/>
            </a:xfrm>
          </p:grpSpPr>
          <p:sp>
            <p:nvSpPr>
              <p:cNvPr id="136" name=""/>
              <p:cNvSpPr/>
              <p:nvPr/>
            </p:nvSpPr>
            <p:spPr>
              <a:xfrm>
                <a:off x="2220480" y="551988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24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36600" y="5964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39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40920" y="5561280"/>
            <a:ext cx="829440" cy="825480"/>
            <a:chOff x="1240920" y="5561280"/>
            <a:chExt cx="829440" cy="825480"/>
          </a:xfrm>
        </p:grpSpPr>
        <p:sp>
          <p:nvSpPr>
            <p:cNvPr id="142" name=""/>
            <p:cNvSpPr/>
            <p:nvPr/>
          </p:nvSpPr>
          <p:spPr>
            <a:xfrm>
              <a:off x="1240920" y="55612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5760" y="569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648320" y="20289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44792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wo ratios that are equivalent to each given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6120" y="495288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74280" y="252900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4200" y="335124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9720" y="4722840"/>
            <a:ext cx="5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360" y="55771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8640" y="266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40920" y="2513160"/>
            <a:ext cx="829440" cy="825480"/>
            <a:chOff x="1240920" y="2513160"/>
            <a:chExt cx="829440" cy="825480"/>
          </a:xfrm>
        </p:grpSpPr>
        <p:sp>
          <p:nvSpPr>
            <p:cNvPr id="154" name=""/>
            <p:cNvSpPr/>
            <p:nvPr/>
          </p:nvSpPr>
          <p:spPr>
            <a:xfrm>
              <a:off x="1715760" y="2666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40920" y="2513160"/>
              <a:ext cx="528120" cy="825480"/>
              <a:chOff x="1240920" y="2513160"/>
              <a:chExt cx="528120" cy="825480"/>
            </a:xfrm>
          </p:grpSpPr>
          <p:sp>
            <p:nvSpPr>
              <p:cNvPr id="156" name=""/>
              <p:cNvSpPr/>
              <p:nvPr/>
            </p:nvSpPr>
            <p:spPr>
              <a:xfrm>
                <a:off x="1240920" y="251316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81240" y="29242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2133720" y="2513160"/>
            <a:ext cx="1332000" cy="825480"/>
            <a:chOff x="2133720" y="2513160"/>
            <a:chExt cx="1332000" cy="825480"/>
          </a:xfrm>
        </p:grpSpPr>
        <p:sp>
          <p:nvSpPr>
            <p:cNvPr id="159" name=""/>
            <p:cNvSpPr/>
            <p:nvPr/>
          </p:nvSpPr>
          <p:spPr>
            <a:xfrm>
              <a:off x="3111120" y="26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2513160"/>
              <a:ext cx="984600" cy="825480"/>
              <a:chOff x="2133720" y="2513160"/>
              <a:chExt cx="984600" cy="8254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43800" y="2513160"/>
                <a:ext cx="97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•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33720" y="29383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2071800" y="3351240"/>
            <a:ext cx="1370160" cy="825480"/>
            <a:chOff x="2071800" y="3351240"/>
            <a:chExt cx="1370160" cy="825480"/>
          </a:xfrm>
        </p:grpSpPr>
        <p:sp>
          <p:nvSpPr>
            <p:cNvPr id="164" name=""/>
            <p:cNvSpPr/>
            <p:nvPr/>
          </p:nvSpPr>
          <p:spPr>
            <a:xfrm>
              <a:off x="30873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071800" y="3351240"/>
              <a:ext cx="1041480" cy="825480"/>
              <a:chOff x="2071800" y="3351240"/>
              <a:chExt cx="1041480" cy="825480"/>
            </a:xfrm>
          </p:grpSpPr>
          <p:sp>
            <p:nvSpPr>
              <p:cNvPr id="166" name=""/>
              <p:cNvSpPr/>
              <p:nvPr/>
            </p:nvSpPr>
            <p:spPr>
              <a:xfrm>
                <a:off x="2079360" y="335124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71800" y="3767040"/>
                <a:ext cx="10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1240920" y="3351240"/>
            <a:ext cx="829440" cy="825480"/>
            <a:chOff x="1240920" y="3351240"/>
            <a:chExt cx="829440" cy="825480"/>
          </a:xfrm>
        </p:grpSpPr>
        <p:grpSp>
          <p:nvGrpSpPr>
            <p:cNvPr id="169" name=""/>
            <p:cNvGrpSpPr/>
            <p:nvPr/>
          </p:nvGrpSpPr>
          <p:grpSpPr>
            <a:xfrm>
              <a:off x="1240920" y="3351240"/>
              <a:ext cx="528120" cy="825480"/>
              <a:chOff x="1240920" y="3351240"/>
              <a:chExt cx="528120" cy="825480"/>
            </a:xfrm>
          </p:grpSpPr>
          <p:sp>
            <p:nvSpPr>
              <p:cNvPr id="170" name=""/>
              <p:cNvSpPr/>
              <p:nvPr/>
            </p:nvSpPr>
            <p:spPr>
              <a:xfrm>
                <a:off x="1240920" y="335124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81240" y="3747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715760" y="3505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48320" y="3352680"/>
            <a:ext cx="3733560" cy="1220760"/>
            <a:chOff x="4648320" y="3352680"/>
            <a:chExt cx="3733560" cy="1220760"/>
          </a:xfrm>
        </p:grpSpPr>
        <p:sp>
          <p:nvSpPr>
            <p:cNvPr id="174" name=""/>
            <p:cNvSpPr/>
            <p:nvPr/>
          </p:nvSpPr>
          <p:spPr>
            <a:xfrm>
              <a:off x="4648320" y="335268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50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3440" y="374796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79000" y="374796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62320" y="41590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48320" y="4800600"/>
            <a:ext cx="3733560" cy="1220760"/>
            <a:chOff x="4648320" y="4800600"/>
            <a:chExt cx="3733560" cy="1220760"/>
          </a:xfrm>
        </p:grpSpPr>
        <p:sp>
          <p:nvSpPr>
            <p:cNvPr id="180" name=""/>
            <p:cNvSpPr/>
            <p:nvPr/>
          </p:nvSpPr>
          <p:spPr>
            <a:xfrm>
              <a:off x="4648320" y="4800600"/>
              <a:ext cx="373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wo ratios equivalent to     are       and   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50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3440" y="519588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9000" y="519588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62320" y="560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43000" y="4726080"/>
            <a:ext cx="1517760" cy="825480"/>
            <a:chOff x="2043000" y="4726080"/>
            <a:chExt cx="1517760" cy="825480"/>
          </a:xfrm>
        </p:grpSpPr>
        <p:sp>
          <p:nvSpPr>
            <p:cNvPr id="186" name=""/>
            <p:cNvSpPr/>
            <p:nvPr/>
          </p:nvSpPr>
          <p:spPr>
            <a:xfrm>
              <a:off x="3206160" y="4875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8200" y="4726080"/>
              <a:ext cx="97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2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 </a:t>
              </a:r>
              <a:r>
                <a:rPr b="0" lang="en-US" sz="2400" spc="-1" strike="noStrike">
                  <a:solidFill>
                    <a:srgbClr val="ff3300"/>
                  </a:solidFill>
                  <a:latin typeface="Verdana"/>
                </a:rPr>
                <a:t>•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43000" y="5102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36600" y="5523120"/>
            <a:ext cx="1557720" cy="825480"/>
            <a:chOff x="2136600" y="5523120"/>
            <a:chExt cx="1557720" cy="825480"/>
          </a:xfrm>
        </p:grpSpPr>
        <p:sp>
          <p:nvSpPr>
            <p:cNvPr id="190" name=""/>
            <p:cNvSpPr/>
            <p:nvPr/>
          </p:nvSpPr>
          <p:spPr>
            <a:xfrm>
              <a:off x="3339720" y="5718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136600" y="5523120"/>
              <a:ext cx="1143000" cy="825480"/>
              <a:chOff x="2136600" y="5523120"/>
              <a:chExt cx="1143000" cy="8254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20480" y="5523120"/>
                <a:ext cx="1033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2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6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Verdana"/>
                  </a:rPr>
                  <a:t>÷ 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36600" y="59673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240920" y="4722840"/>
            <a:ext cx="795960" cy="825480"/>
            <a:chOff x="1240920" y="4722840"/>
            <a:chExt cx="795960" cy="825480"/>
          </a:xfrm>
        </p:grpSpPr>
        <p:sp>
          <p:nvSpPr>
            <p:cNvPr id="195" name=""/>
            <p:cNvSpPr/>
            <p:nvPr/>
          </p:nvSpPr>
          <p:spPr>
            <a:xfrm>
              <a:off x="1240920" y="472284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82280" y="4876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40920" y="5567400"/>
            <a:ext cx="829440" cy="825480"/>
            <a:chOff x="1240920" y="5567400"/>
            <a:chExt cx="829440" cy="825480"/>
          </a:xfrm>
        </p:grpSpPr>
        <p:sp>
          <p:nvSpPr>
            <p:cNvPr id="198" name=""/>
            <p:cNvSpPr/>
            <p:nvPr/>
          </p:nvSpPr>
          <p:spPr>
            <a:xfrm>
              <a:off x="1240920" y="5567400"/>
              <a:ext cx="52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5760" y="5705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648320" y="195264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or divide the numerator and denominator by the same nonzero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stevenh</cp:lastModifiedBy>
  <dcterms:modified xsi:type="dcterms:W3CDTF">2006-04-26T19:55:05Z</dcterms:modified>
  <cp:revision>54</cp:revision>
  <dc:subject/>
  <dc:title>Slide 1</dc:title>
</cp:coreProperties>
</file>