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62D2-CE35-40B0-B23B-2164CCE08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62C4-3636-48EB-814B-087687A0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2905-D8A2-42B2-B16B-BEC438EFA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51D7-710B-41C7-AC3F-A6E149180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467E-B3A6-4F8F-8C3A-848D5545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3E4E-A312-4732-A25D-8A887285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3AE7-0C42-436B-9978-159000CC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0230-C7A8-417E-9231-7AA1531D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A037-5AD2-4C9A-923E-878CC5AB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22C8-43BC-4111-8406-20BDD976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63D7-F813-47AB-84AF-93E4EA8C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8ED7-2812-47F1-A865-4D6383E1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2C41-1770-49E6-B130-DCB3D5AEC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9900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quares and Square Root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" Target=""/><Relationship Id="rId4" Type="http://schemas.openxmlformats.org/officeDocument/2006/relationships/slide" Target="slide3.xml"/><Relationship Id="rId5" Type="http://schemas.openxmlformats.org/officeDocument/2006/relationships/slide" Target="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05360" y="13392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4-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1609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quares and Square Ro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65502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ours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3629160" y="2333520"/>
            <a:ext cx="1759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hlinkClick r:id="rId2" action="ppaction://hlinksldjump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3699360" y="2993760"/>
            <a:ext cx="3400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hlinkClick r:id="rId4" action="ppaction://hlinksldjump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5" action="ppaction://hlinksldjump"/>
          </p:cNvPr>
          <p:cNvSpPr/>
          <p:nvPr/>
        </p:nvSpPr>
        <p:spPr>
          <a:xfrm>
            <a:off x="3679920" y="3603240"/>
            <a:ext cx="3566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hlinkClick r:id="rId6" action="ppaction://hlinksldjump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777960" y="3510000"/>
            <a:ext cx="58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80280" y="4640400"/>
            <a:ext cx="44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window is 13 inches w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00280" y="2259000"/>
            <a:ext cx="798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the square root of 169 to find the width of the window. Use the positive square root; a negative length has no mean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: </a:t>
            </a:r>
            <a:r>
              <a:rPr b="0" i="1" lang="en-US" sz="2400" spc="-1" strike="noStrike">
                <a:solidFill>
                  <a:srgbClr val="ff0000"/>
                </a:solidFill>
                <a:latin typeface="Arial Black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82640" y="1428840"/>
            <a:ext cx="80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square window has an area of 169 square inches. How wide is the wind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002600" y="4038480"/>
            <a:ext cx="2133000" cy="459720"/>
            <a:chOff x="1002600" y="4038480"/>
            <a:chExt cx="2133000" cy="459720"/>
          </a:xfrm>
        </p:grpSpPr>
        <p:sp>
          <p:nvSpPr>
            <p:cNvPr id="239" name=""/>
            <p:cNvSpPr/>
            <p:nvPr/>
          </p:nvSpPr>
          <p:spPr>
            <a:xfrm>
              <a:off x="1002600" y="4038480"/>
              <a:ext cx="21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o   169  = 13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1422000" y="4119120"/>
              <a:ext cx="700560" cy="244800"/>
              <a:chOff x="1422000" y="4119120"/>
              <a:chExt cx="700560" cy="244800"/>
            </a:xfrm>
          </p:grpSpPr>
          <p:sp>
            <p:nvSpPr>
              <p:cNvPr id="241" name=""/>
              <p:cNvSpPr/>
              <p:nvPr/>
            </p:nvSpPr>
            <p:spPr>
              <a:xfrm flipH="1">
                <a:off x="1643040" y="4124160"/>
                <a:ext cx="479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>
                <a:off x="1525680" y="4119120"/>
                <a:ext cx="12240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 flipV="1">
                <a:off x="1461960" y="4225680"/>
                <a:ext cx="6804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1422000" y="4232160"/>
                <a:ext cx="4788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5" name=""/>
          <p:cNvGrpSpPr/>
          <p:nvPr/>
        </p:nvGrpSpPr>
        <p:grpSpPr>
          <a:xfrm>
            <a:off x="938160" y="5189400"/>
            <a:ext cx="6862680" cy="1282680"/>
            <a:chOff x="938160" y="5189400"/>
            <a:chExt cx="6862680" cy="1282680"/>
          </a:xfrm>
        </p:grpSpPr>
        <p:sp>
          <p:nvSpPr>
            <p:cNvPr id="246" name=""/>
            <p:cNvSpPr/>
            <p:nvPr/>
          </p:nvSpPr>
          <p:spPr>
            <a:xfrm>
              <a:off x="938160" y="5646600"/>
              <a:ext cx="6862680" cy="82548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area of a square i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is the length of a sid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938160" y="5189400"/>
              <a:ext cx="2819520" cy="457200"/>
            </a:xfrm>
            <a:prstGeom prst="roundRect">
              <a:avLst>
                <a:gd name="adj" fmla="val 8333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Remember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5094000" y="5738400"/>
              <a:ext cx="575640" cy="244800"/>
              <a:chOff x="5094000" y="5738400"/>
              <a:chExt cx="575640" cy="244800"/>
            </a:xfrm>
          </p:grpSpPr>
          <p:sp>
            <p:nvSpPr>
              <p:cNvPr id="249" name=""/>
              <p:cNvSpPr/>
              <p:nvPr/>
            </p:nvSpPr>
            <p:spPr>
              <a:xfrm flipH="1">
                <a:off x="5314320" y="5743440"/>
                <a:ext cx="3553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5197320" y="5738400"/>
                <a:ext cx="121680" cy="244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 flipV="1">
                <a:off x="5133240" y="5844960"/>
                <a:ext cx="68040" cy="1382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5094000" y="5851440"/>
                <a:ext cx="47160" cy="23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028160" y="5744520"/>
              <a:ext cx="785520" cy="244440"/>
              <a:chOff x="1028160" y="5744520"/>
              <a:chExt cx="785520" cy="244440"/>
            </a:xfrm>
          </p:grpSpPr>
          <p:sp>
            <p:nvSpPr>
              <p:cNvPr id="254" name=""/>
              <p:cNvSpPr/>
              <p:nvPr/>
            </p:nvSpPr>
            <p:spPr>
              <a:xfrm flipH="1">
                <a:off x="1286280" y="5749920"/>
                <a:ext cx="5274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149120" y="5744520"/>
                <a:ext cx="142920" cy="244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flipV="1">
                <a:off x="1074600" y="5851080"/>
                <a:ext cx="79560" cy="137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1028160" y="5857560"/>
                <a:ext cx="55800" cy="241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843120" y="2682720"/>
            <a:ext cx="776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the square root of 16 to find the width of the table. Use the positive square root; a negative length has no mea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00280" y="90684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11080" y="1366920"/>
            <a:ext cx="811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square shaped kitchen table has an area of 16 square feet. Will it fit through a van door that has a 5 foot wide ope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25480" y="4662360"/>
            <a:ext cx="766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 the table is 4 feet wide, which is less than 5 feet, so it will fit through the van d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267920" y="3952800"/>
            <a:ext cx="1377000" cy="459720"/>
            <a:chOff x="1267920" y="3952800"/>
            <a:chExt cx="1377000" cy="459720"/>
          </a:xfrm>
        </p:grpSpPr>
        <p:sp>
          <p:nvSpPr>
            <p:cNvPr id="263" name=""/>
            <p:cNvSpPr/>
            <p:nvPr/>
          </p:nvSpPr>
          <p:spPr>
            <a:xfrm>
              <a:off x="1401840" y="3952800"/>
              <a:ext cx="12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6 =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1523520" y="4047840"/>
              <a:ext cx="335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1387440" y="4042800"/>
              <a:ext cx="14148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 flipV="1">
              <a:off x="1314000" y="4149360"/>
              <a:ext cx="79560" cy="13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1267920" y="4155840"/>
              <a:ext cx="55800" cy="2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71280" y="912960"/>
            <a:ext cx="86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A: Evaluating Expressions Involving Square Ro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7880" y="191448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valuate the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781520" y="3112920"/>
            <a:ext cx="43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Evaluate the square ro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00600" y="4578480"/>
            <a:ext cx="35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Ad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50040" y="452124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76840" y="3898800"/>
            <a:ext cx="36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Multip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22040" y="3841920"/>
            <a:ext cx="12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8 +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660240" y="2476440"/>
            <a:ext cx="2911680" cy="459720"/>
            <a:chOff x="660240" y="2476440"/>
            <a:chExt cx="2911680" cy="459720"/>
          </a:xfrm>
        </p:grpSpPr>
        <p:sp>
          <p:nvSpPr>
            <p:cNvPr id="276" name=""/>
            <p:cNvSpPr/>
            <p:nvPr/>
          </p:nvSpPr>
          <p:spPr>
            <a:xfrm>
              <a:off x="660240" y="2476440"/>
              <a:ext cx="291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3  36 + 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1504440" y="2565000"/>
              <a:ext cx="558720" cy="244800"/>
              <a:chOff x="1504440" y="2565000"/>
              <a:chExt cx="558720" cy="244800"/>
            </a:xfrm>
          </p:grpSpPr>
          <p:sp>
            <p:nvSpPr>
              <p:cNvPr id="278" name=""/>
              <p:cNvSpPr/>
              <p:nvPr/>
            </p:nvSpPr>
            <p:spPr>
              <a:xfrm flipH="1">
                <a:off x="1725120" y="2570040"/>
                <a:ext cx="338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1608120" y="2565000"/>
                <a:ext cx="1220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 flipV="1">
                <a:off x="1544400" y="2671560"/>
                <a:ext cx="6804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1504440" y="2678040"/>
                <a:ext cx="4788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2" name=""/>
          <p:cNvGrpSpPr/>
          <p:nvPr/>
        </p:nvGrpSpPr>
        <p:grpSpPr>
          <a:xfrm>
            <a:off x="1418760" y="3117960"/>
            <a:ext cx="2782800" cy="459720"/>
            <a:chOff x="1418760" y="3117960"/>
            <a:chExt cx="2782800" cy="459720"/>
          </a:xfrm>
        </p:grpSpPr>
        <p:sp>
          <p:nvSpPr>
            <p:cNvPr id="283" name=""/>
            <p:cNvSpPr/>
            <p:nvPr/>
          </p:nvSpPr>
          <p:spPr>
            <a:xfrm>
              <a:off x="1466640" y="3117960"/>
              <a:ext cx="273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  36 + 7 = 3(6) + 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1418760" y="3192480"/>
              <a:ext cx="558720" cy="244800"/>
              <a:chOff x="1418760" y="3192480"/>
              <a:chExt cx="558720" cy="244800"/>
            </a:xfrm>
          </p:grpSpPr>
          <p:sp>
            <p:nvSpPr>
              <p:cNvPr id="285" name=""/>
              <p:cNvSpPr/>
              <p:nvPr/>
            </p:nvSpPr>
            <p:spPr>
              <a:xfrm flipH="1">
                <a:off x="1639440" y="3197520"/>
                <a:ext cx="338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1522440" y="3192480"/>
                <a:ext cx="1220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 flipV="1">
                <a:off x="1458720" y="3299040"/>
                <a:ext cx="6804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1418760" y="3305520"/>
                <a:ext cx="4788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71280" y="912960"/>
            <a:ext cx="86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B: Evaluating Expressions Involving Square Ro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73120" y="188604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valuate the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14240" y="2743200"/>
            <a:ext cx="29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+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062000" y="2600280"/>
            <a:ext cx="1913040" cy="825480"/>
            <a:chOff x="1062000" y="2600280"/>
            <a:chExt cx="1913040" cy="825480"/>
          </a:xfrm>
        </p:grpSpPr>
        <p:sp>
          <p:nvSpPr>
            <p:cNvPr id="293" name=""/>
            <p:cNvSpPr/>
            <p:nvPr/>
          </p:nvSpPr>
          <p:spPr>
            <a:xfrm flipH="1">
              <a:off x="1282320" y="2619360"/>
              <a:ext cx="50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1165320" y="2604960"/>
              <a:ext cx="122040" cy="750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 flipV="1">
              <a:off x="1101600" y="2931840"/>
              <a:ext cx="68400" cy="42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062000" y="2951280"/>
              <a:ext cx="4752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219320" y="2600280"/>
              <a:ext cx="125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25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  16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152800" y="2600280"/>
              <a:ext cx="82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  4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85800" y="3695760"/>
            <a:ext cx="2911320" cy="825480"/>
            <a:chOff x="685800" y="3695760"/>
            <a:chExt cx="2911320" cy="825480"/>
          </a:xfrm>
        </p:grpSpPr>
        <p:grpSp>
          <p:nvGrpSpPr>
            <p:cNvPr id="300" name=""/>
            <p:cNvGrpSpPr/>
            <p:nvPr/>
          </p:nvGrpSpPr>
          <p:grpSpPr>
            <a:xfrm>
              <a:off x="1195560" y="3695760"/>
              <a:ext cx="1412640" cy="755640"/>
              <a:chOff x="1195560" y="3695760"/>
              <a:chExt cx="1412640" cy="755640"/>
            </a:xfrm>
          </p:grpSpPr>
          <p:sp>
            <p:nvSpPr>
              <p:cNvPr id="301" name=""/>
              <p:cNvSpPr/>
              <p:nvPr/>
            </p:nvSpPr>
            <p:spPr>
              <a:xfrm flipH="1">
                <a:off x="1415880" y="3714840"/>
                <a:ext cx="462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8520" y="3700440"/>
                <a:ext cx="122400" cy="750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 flipV="1">
                <a:off x="1234800" y="4027320"/>
                <a:ext cx="68040" cy="424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1195560" y="4046400"/>
                <a:ext cx="4752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352520" y="3695760"/>
                <a:ext cx="125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25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  16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2286000" y="3695760"/>
              <a:ext cx="82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4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85800" y="3827520"/>
              <a:ext cx="291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2883240" y="3630600"/>
            <a:ext cx="2838240" cy="825480"/>
            <a:chOff x="2883240" y="3630600"/>
            <a:chExt cx="2838240" cy="825480"/>
          </a:xfrm>
        </p:grpSpPr>
        <p:sp>
          <p:nvSpPr>
            <p:cNvPr id="309" name=""/>
            <p:cNvSpPr/>
            <p:nvPr/>
          </p:nvSpPr>
          <p:spPr>
            <a:xfrm>
              <a:off x="4898880" y="3630600"/>
              <a:ext cx="822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4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2883240" y="3825720"/>
              <a:ext cx="2201400" cy="464760"/>
              <a:chOff x="2883240" y="3825720"/>
              <a:chExt cx="2201400" cy="464760"/>
            </a:xfrm>
          </p:grpSpPr>
          <p:sp>
            <p:nvSpPr>
              <p:cNvPr id="311" name=""/>
              <p:cNvSpPr/>
              <p:nvPr/>
            </p:nvSpPr>
            <p:spPr>
              <a:xfrm>
                <a:off x="2883240" y="3830760"/>
                <a:ext cx="171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=               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354480" y="3825720"/>
                <a:ext cx="173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.5625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3" name=""/>
              <p:cNvGrpSpPr/>
              <p:nvPr/>
            </p:nvGrpSpPr>
            <p:grpSpPr>
              <a:xfrm>
                <a:off x="2999880" y="3863880"/>
                <a:ext cx="1573560" cy="370080"/>
                <a:chOff x="2999880" y="3863880"/>
                <a:chExt cx="1573560" cy="370080"/>
              </a:xfrm>
            </p:grpSpPr>
            <p:sp>
              <p:nvSpPr>
                <p:cNvPr id="314" name=""/>
                <p:cNvSpPr/>
                <p:nvPr/>
              </p:nvSpPr>
              <p:spPr>
                <a:xfrm flipH="1">
                  <a:off x="3478320" y="3871800"/>
                  <a:ext cx="10951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V="1">
                  <a:off x="3224160" y="3863880"/>
                  <a:ext cx="265320" cy="370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H="1" flipV="1">
                  <a:off x="3086280" y="4024440"/>
                  <a:ext cx="147600" cy="209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H="1">
                  <a:off x="2999880" y="4033800"/>
                  <a:ext cx="103320" cy="36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18" name=""/>
          <p:cNvSpPr/>
          <p:nvPr/>
        </p:nvSpPr>
        <p:spPr>
          <a:xfrm>
            <a:off x="2790720" y="4962600"/>
            <a:ext cx="82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311120" y="5162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19920" y="4646520"/>
            <a:ext cx="278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Evaluate the square roo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41040" y="472608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.25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97240" y="4586400"/>
            <a:ext cx="82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4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953400" y="3695760"/>
            <a:ext cx="82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451480" y="3666960"/>
            <a:ext cx="2948760" cy="780120"/>
            <a:chOff x="5451480" y="3666960"/>
            <a:chExt cx="2948760" cy="780120"/>
          </a:xfrm>
        </p:grpSpPr>
        <p:grpSp>
          <p:nvGrpSpPr>
            <p:cNvPr id="325" name=""/>
            <p:cNvGrpSpPr/>
            <p:nvPr/>
          </p:nvGrpSpPr>
          <p:grpSpPr>
            <a:xfrm>
              <a:off x="6055920" y="3696840"/>
              <a:ext cx="565200" cy="750240"/>
              <a:chOff x="6055920" y="3696840"/>
              <a:chExt cx="565200" cy="750240"/>
            </a:xfrm>
          </p:grpSpPr>
          <p:sp>
            <p:nvSpPr>
              <p:cNvPr id="326" name=""/>
              <p:cNvSpPr/>
              <p:nvPr/>
            </p:nvSpPr>
            <p:spPr>
              <a:xfrm flipH="1">
                <a:off x="6278760" y="3711240"/>
                <a:ext cx="342360" cy="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6160320" y="3696840"/>
                <a:ext cx="123480" cy="74988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 flipV="1">
                <a:off x="6095880" y="4023000"/>
                <a:ext cx="68760" cy="42408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6055920" y="4042800"/>
                <a:ext cx="48240" cy="7272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5451480" y="3666960"/>
              <a:ext cx="2948760" cy="610560"/>
              <a:chOff x="5451480" y="3666960"/>
              <a:chExt cx="2948760" cy="610560"/>
            </a:xfrm>
          </p:grpSpPr>
          <p:sp>
            <p:nvSpPr>
              <p:cNvPr id="331" name=""/>
              <p:cNvSpPr/>
              <p:nvPr/>
            </p:nvSpPr>
            <p:spPr>
              <a:xfrm>
                <a:off x="6173280" y="3666960"/>
                <a:ext cx="127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 u="sng">
                    <a:solidFill>
                      <a:srgbClr val="3366ff"/>
                    </a:solidFill>
                    <a:uFillTx/>
                    <a:latin typeface="Verdana"/>
                  </a:rPr>
                  <a:t>25</a:t>
                </a:r>
                <a:r>
                  <a:rPr b="0" i="1" lang="en-US" sz="2400" spc="-1" strike="noStrike">
                    <a:solidFill>
                      <a:srgbClr val="3366ff"/>
                    </a:solidFill>
                    <a:latin typeface="Verdana"/>
                  </a:rPr>
                  <a:t>   16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451480" y="3817800"/>
                <a:ext cx="294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3366ff"/>
                    </a:solidFill>
                    <a:latin typeface="Verdana"/>
                  </a:rPr>
                  <a:t>	</a:t>
                </a:r>
                <a:r>
                  <a:rPr b="0" i="1" lang="en-US" sz="2400" spc="-1" strike="noStrike">
                    <a:solidFill>
                      <a:srgbClr val="3366ff"/>
                    </a:solidFill>
                    <a:latin typeface="Verdana"/>
                  </a:rPr>
                  <a:t>  </a:t>
                </a:r>
                <a:r>
                  <a:rPr b="0" i="1" lang="en-US" sz="2400" spc="-1" strike="noStrike">
                    <a:solidFill>
                      <a:srgbClr val="3366ff"/>
                    </a:solidFill>
                    <a:latin typeface="Verdana"/>
                  </a:rPr>
                  <a:t>= 1.5625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3" name=""/>
          <p:cNvSpPr/>
          <p:nvPr/>
        </p:nvSpPr>
        <p:spPr>
          <a:xfrm>
            <a:off x="2654640" y="568800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22800" y="5710320"/>
            <a:ext cx="27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Ad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92120" y="140508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valuate the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772160" y="2913120"/>
            <a:ext cx="43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Evaluate the square ro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91240" y="4282920"/>
            <a:ext cx="35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Ad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88480" y="428292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3603600"/>
            <a:ext cx="36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Multip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60120" y="3603600"/>
            <a:ext cx="12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0 +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790560" y="2171880"/>
            <a:ext cx="3035160" cy="459720"/>
            <a:chOff x="790560" y="2171880"/>
            <a:chExt cx="3035160" cy="459720"/>
          </a:xfrm>
        </p:grpSpPr>
        <p:sp>
          <p:nvSpPr>
            <p:cNvPr id="343" name=""/>
            <p:cNvSpPr/>
            <p:nvPr/>
          </p:nvSpPr>
          <p:spPr>
            <a:xfrm>
              <a:off x="790560" y="2171880"/>
              <a:ext cx="303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2   25 +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1371600" y="2252160"/>
              <a:ext cx="624960" cy="244800"/>
              <a:chOff x="1371600" y="2252160"/>
              <a:chExt cx="624960" cy="244800"/>
            </a:xfrm>
          </p:grpSpPr>
          <p:sp>
            <p:nvSpPr>
              <p:cNvPr id="345" name=""/>
              <p:cNvSpPr/>
              <p:nvPr/>
            </p:nvSpPr>
            <p:spPr>
              <a:xfrm flipH="1">
                <a:off x="1618560" y="2257200"/>
                <a:ext cx="378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1487160" y="2252160"/>
                <a:ext cx="1364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 flipV="1">
                <a:off x="1415880" y="2358720"/>
                <a:ext cx="7596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>
                <a:off x="1371600" y="2365200"/>
                <a:ext cx="5328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9" name=""/>
          <p:cNvGrpSpPr/>
          <p:nvPr/>
        </p:nvGrpSpPr>
        <p:grpSpPr>
          <a:xfrm>
            <a:off x="1342800" y="2917800"/>
            <a:ext cx="2782800" cy="459720"/>
            <a:chOff x="1342800" y="2917800"/>
            <a:chExt cx="2782800" cy="459720"/>
          </a:xfrm>
        </p:grpSpPr>
        <p:sp>
          <p:nvSpPr>
            <p:cNvPr id="350" name=""/>
            <p:cNvSpPr/>
            <p:nvPr/>
          </p:nvSpPr>
          <p:spPr>
            <a:xfrm>
              <a:off x="1390680" y="2917800"/>
              <a:ext cx="273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  25 + 4 = 2(5) +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1342800" y="3011040"/>
              <a:ext cx="558720" cy="244800"/>
              <a:chOff x="1342800" y="3011040"/>
              <a:chExt cx="558720" cy="244800"/>
            </a:xfrm>
          </p:grpSpPr>
          <p:sp>
            <p:nvSpPr>
              <p:cNvPr id="352" name=""/>
              <p:cNvSpPr/>
              <p:nvPr/>
            </p:nvSpPr>
            <p:spPr>
              <a:xfrm flipH="1">
                <a:off x="1563480" y="3016080"/>
                <a:ext cx="338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1446480" y="3011040"/>
                <a:ext cx="1220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 flipV="1">
                <a:off x="1382760" y="3117600"/>
                <a:ext cx="6804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1342800" y="3124080"/>
                <a:ext cx="4788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33480" y="913320"/>
            <a:ext cx="90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92000" y="1419120"/>
            <a:ext cx="82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valuate the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946160" y="2322360"/>
            <a:ext cx="29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+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243080" y="2190600"/>
            <a:ext cx="1913040" cy="825480"/>
            <a:chOff x="1243080" y="2190600"/>
            <a:chExt cx="1913040" cy="825480"/>
          </a:xfrm>
        </p:grpSpPr>
        <p:sp>
          <p:nvSpPr>
            <p:cNvPr id="360" name=""/>
            <p:cNvSpPr/>
            <p:nvPr/>
          </p:nvSpPr>
          <p:spPr>
            <a:xfrm flipH="1">
              <a:off x="1463400" y="2209680"/>
              <a:ext cx="484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1346040" y="2195280"/>
              <a:ext cx="122400" cy="75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1282680" y="2522160"/>
              <a:ext cx="68400" cy="42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1243080" y="2541600"/>
              <a:ext cx="4752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400040" y="2190600"/>
              <a:ext cx="125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8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2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333520" y="2190600"/>
              <a:ext cx="822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  4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704880" y="3286080"/>
            <a:ext cx="2911320" cy="825480"/>
            <a:chOff x="704880" y="3286080"/>
            <a:chExt cx="2911320" cy="825480"/>
          </a:xfrm>
        </p:grpSpPr>
        <p:grpSp>
          <p:nvGrpSpPr>
            <p:cNvPr id="367" name=""/>
            <p:cNvGrpSpPr/>
            <p:nvPr/>
          </p:nvGrpSpPr>
          <p:grpSpPr>
            <a:xfrm>
              <a:off x="1213920" y="3286080"/>
              <a:ext cx="1913400" cy="825480"/>
              <a:chOff x="1213920" y="3286080"/>
              <a:chExt cx="1913400" cy="825480"/>
            </a:xfrm>
          </p:grpSpPr>
          <p:grpSp>
            <p:nvGrpSpPr>
              <p:cNvPr id="368" name=""/>
              <p:cNvGrpSpPr/>
              <p:nvPr/>
            </p:nvGrpSpPr>
            <p:grpSpPr>
              <a:xfrm>
                <a:off x="1213920" y="3286080"/>
                <a:ext cx="1413360" cy="825480"/>
                <a:chOff x="1213920" y="3286080"/>
                <a:chExt cx="1413360" cy="825480"/>
              </a:xfrm>
            </p:grpSpPr>
            <p:sp>
              <p:nvSpPr>
                <p:cNvPr id="369" name=""/>
                <p:cNvSpPr/>
                <p:nvPr/>
              </p:nvSpPr>
              <p:spPr>
                <a:xfrm flipH="1">
                  <a:off x="1434600" y="3305160"/>
                  <a:ext cx="428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V="1">
                  <a:off x="1317600" y="3290760"/>
                  <a:ext cx="122400" cy="750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H="1" flipV="1">
                  <a:off x="1253880" y="3617640"/>
                  <a:ext cx="68040" cy="423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flipH="1">
                  <a:off x="1213920" y="3637080"/>
                  <a:ext cx="47880" cy="7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371600" y="3286080"/>
                  <a:ext cx="125568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18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      </a:t>
                  </a:r>
                  <a:r>
                    <a:rPr b="0" lang="en-US" sz="2400" spc="-1" strike="noStrike">
                      <a:solidFill>
                        <a:srgbClr val="ffffff"/>
                      </a:solidFill>
                      <a:latin typeface="Verdana"/>
                    </a:rPr>
                    <a:t>t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2 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4" name=""/>
              <p:cNvSpPr/>
              <p:nvPr/>
            </p:nvSpPr>
            <p:spPr>
              <a:xfrm>
                <a:off x="2305080" y="3286080"/>
                <a:ext cx="822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  4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704880" y="3417840"/>
              <a:ext cx="291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2790720" y="4962600"/>
            <a:ext cx="82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311120" y="5162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137120" y="3306600"/>
            <a:ext cx="82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4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920680" y="342108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     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173400" y="34164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51360" y="4322880"/>
            <a:ext cx="42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Evaluate the square roo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859120" y="43164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3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07000" y="4176720"/>
            <a:ext cx="82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4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4346640" y="3257640"/>
            <a:ext cx="2948760" cy="780120"/>
            <a:chOff x="4346640" y="3257640"/>
            <a:chExt cx="2948760" cy="780120"/>
          </a:xfrm>
        </p:grpSpPr>
        <p:grpSp>
          <p:nvGrpSpPr>
            <p:cNvPr id="385" name=""/>
            <p:cNvGrpSpPr/>
            <p:nvPr/>
          </p:nvGrpSpPr>
          <p:grpSpPr>
            <a:xfrm>
              <a:off x="4951080" y="3287520"/>
              <a:ext cx="565200" cy="750240"/>
              <a:chOff x="4951080" y="3287520"/>
              <a:chExt cx="565200" cy="750240"/>
            </a:xfrm>
          </p:grpSpPr>
          <p:sp>
            <p:nvSpPr>
              <p:cNvPr id="386" name=""/>
              <p:cNvSpPr/>
              <p:nvPr/>
            </p:nvSpPr>
            <p:spPr>
              <a:xfrm flipH="1">
                <a:off x="5173920" y="3301920"/>
                <a:ext cx="342360" cy="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5055480" y="3287520"/>
                <a:ext cx="123480" cy="74988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 flipV="1">
                <a:off x="4991040" y="3613680"/>
                <a:ext cx="68760" cy="42408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>
                <a:off x="4951080" y="3633480"/>
                <a:ext cx="48240" cy="7272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4346640" y="3257640"/>
              <a:ext cx="2948760" cy="610560"/>
              <a:chOff x="4346640" y="3257640"/>
              <a:chExt cx="2948760" cy="610560"/>
            </a:xfrm>
          </p:grpSpPr>
          <p:sp>
            <p:nvSpPr>
              <p:cNvPr id="391" name=""/>
              <p:cNvSpPr/>
              <p:nvPr/>
            </p:nvSpPr>
            <p:spPr>
              <a:xfrm>
                <a:off x="5068440" y="3257640"/>
                <a:ext cx="127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 u="sng">
                    <a:solidFill>
                      <a:srgbClr val="3366ff"/>
                    </a:solidFill>
                    <a:uFillTx/>
                    <a:latin typeface="Verdana"/>
                  </a:rPr>
                  <a:t>18</a:t>
                </a:r>
                <a:r>
                  <a:rPr b="0" i="1" lang="en-US" sz="2400" spc="-1" strike="noStrike">
                    <a:solidFill>
                      <a:srgbClr val="3366ff"/>
                    </a:solidFill>
                    <a:latin typeface="Verdana"/>
                  </a:rPr>
                  <a:t>    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Verdana"/>
                  </a:rPr>
                  <a:t>t</a:t>
                </a:r>
                <a:r>
                  <a:rPr b="0" i="1" lang="en-US" sz="2400" spc="-1" strike="noStrike">
                    <a:solidFill>
                      <a:srgbClr val="3366ff"/>
                    </a:solidFill>
                    <a:latin typeface="Verdana"/>
                  </a:rPr>
                  <a:t>2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346640" y="3408480"/>
                <a:ext cx="294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3366ff"/>
                    </a:solidFill>
                    <a:latin typeface="Verdana"/>
                  </a:rPr>
                  <a:t>	</a:t>
                </a:r>
                <a:r>
                  <a:rPr b="0" i="1" lang="en-US" sz="2400" spc="-1" strike="noStrike">
                    <a:solidFill>
                      <a:srgbClr val="3366ff"/>
                    </a:solidFill>
                    <a:latin typeface="Verdana"/>
                  </a:rPr>
                  <a:t>  </a:t>
                </a:r>
                <a:r>
                  <a:rPr b="0" i="1" lang="en-US" sz="2400" spc="-1" strike="noStrike">
                    <a:solidFill>
                      <a:srgbClr val="3366ff"/>
                    </a:solidFill>
                    <a:latin typeface="Verdana"/>
                  </a:rPr>
                  <a:t>= 9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3" name=""/>
          <p:cNvSpPr/>
          <p:nvPr/>
        </p:nvSpPr>
        <p:spPr>
          <a:xfrm>
            <a:off x="2806920" y="527832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917960" y="530064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Ad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3123720" y="3454560"/>
            <a:ext cx="491760" cy="369360"/>
            <a:chOff x="3123720" y="3454560"/>
            <a:chExt cx="491760" cy="369360"/>
          </a:xfrm>
        </p:grpSpPr>
        <p:sp>
          <p:nvSpPr>
            <p:cNvPr id="396" name=""/>
            <p:cNvSpPr/>
            <p:nvPr/>
          </p:nvSpPr>
          <p:spPr>
            <a:xfrm flipH="1">
              <a:off x="3317760" y="3461400"/>
              <a:ext cx="297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3214800" y="3454560"/>
              <a:ext cx="107280" cy="36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flipV="1">
              <a:off x="3159000" y="3614760"/>
              <a:ext cx="59760" cy="20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3123720" y="3624840"/>
              <a:ext cx="42120" cy="3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359160" y="5129280"/>
            <a:ext cx="82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4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838080" y="9133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62120" y="1676520"/>
            <a:ext cx="761976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two square roots of each nu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81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valuate each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 16 + 1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  9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  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165400" y="2120760"/>
            <a:ext cx="1839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738440" y="2195640"/>
            <a:ext cx="631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US" sz="2600" spc="-1" strike="noStrike">
                <a:solidFill>
                  <a:srgbClr val="ff0000"/>
                </a:solidFill>
                <a:latin typeface="Verdana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772960" y="2195640"/>
            <a:ext cx="82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US" sz="2600" spc="-1" strike="noStrike">
                <a:solidFill>
                  <a:srgbClr val="ff0000"/>
                </a:solidFill>
                <a:latin typeface="Verdana"/>
              </a:rPr>
              <a:t>5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083040" y="3916440"/>
            <a:ext cx="55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Verdana"/>
              </a:rPr>
              <a:t>1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439760" y="3916440"/>
            <a:ext cx="369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Verdana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30080" y="4854600"/>
            <a:ext cx="810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s. Estefan wants to put a fence around 3 sides of a square garden that has an area of 225 f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How much fencing does she n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317240" y="5978520"/>
            <a:ext cx="8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Verdana"/>
              </a:rPr>
              <a:t>45 f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1509480" y="4000320"/>
            <a:ext cx="551880" cy="244440"/>
            <a:chOff x="1509480" y="4000320"/>
            <a:chExt cx="551880" cy="244440"/>
          </a:xfrm>
        </p:grpSpPr>
        <p:sp>
          <p:nvSpPr>
            <p:cNvPr id="411" name=""/>
            <p:cNvSpPr/>
            <p:nvPr/>
          </p:nvSpPr>
          <p:spPr>
            <a:xfrm flipH="1">
              <a:off x="1729800" y="4005360"/>
              <a:ext cx="331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1612800" y="4000320"/>
              <a:ext cx="12168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 flipV="1">
              <a:off x="1548720" y="4106520"/>
              <a:ext cx="68040" cy="13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1509480" y="4113360"/>
              <a:ext cx="47160" cy="2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5133600" y="4006440"/>
            <a:ext cx="457200" cy="244440"/>
            <a:chOff x="5133600" y="4006440"/>
            <a:chExt cx="457200" cy="244440"/>
          </a:xfrm>
        </p:grpSpPr>
        <p:sp>
          <p:nvSpPr>
            <p:cNvPr id="416" name=""/>
            <p:cNvSpPr/>
            <p:nvPr/>
          </p:nvSpPr>
          <p:spPr>
            <a:xfrm flipH="1">
              <a:off x="5316480" y="4011480"/>
              <a:ext cx="274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5219280" y="4006440"/>
              <a:ext cx="10080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 flipV="1">
              <a:off x="5166360" y="4112640"/>
              <a:ext cx="56520" cy="13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5133600" y="4119480"/>
              <a:ext cx="39240" cy="2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6203880" y="4005000"/>
            <a:ext cx="552600" cy="244440"/>
            <a:chOff x="6203880" y="4005000"/>
            <a:chExt cx="552600" cy="244440"/>
          </a:xfrm>
        </p:grpSpPr>
        <p:sp>
          <p:nvSpPr>
            <p:cNvPr id="421" name=""/>
            <p:cNvSpPr/>
            <p:nvPr/>
          </p:nvSpPr>
          <p:spPr>
            <a:xfrm flipH="1">
              <a:off x="6424560" y="4010040"/>
              <a:ext cx="331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6307200" y="4005000"/>
              <a:ext cx="12204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 flipV="1">
              <a:off x="6243480" y="4111200"/>
              <a:ext cx="68400" cy="13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6203880" y="4118040"/>
              <a:ext cx="47520" cy="2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60" y="1519200"/>
            <a:ext cx="6997680" cy="4359960"/>
          </a:xfrm>
          <a:prstGeom prst="rect">
            <a:avLst/>
          </a:prstGeom>
          <a:noFill/>
          <a:ln w="9360">
            <a:solidFill>
              <a:srgbClr val="d3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 Black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mpl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41640" y="269244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00600" y="2689200"/>
            <a:ext cx="8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6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08240" y="3535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14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96080" y="352584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2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44600" y="4403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77760" y="2678040"/>
            <a:ext cx="673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5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74960" y="3557520"/>
            <a:ext cx="4694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1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15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47880" y="4414680"/>
            <a:ext cx="207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2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58680" y="1371600"/>
            <a:ext cx="7479000" cy="37846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hakespearean sonnet is a poem made up of 3 quatrains (4 lines each), and a couplet (2 lines). Each line is in iambic pentameter (which means it has 5 iambic feet). So, how many iambic feet long is a Shakespearean sonne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1760" y="457668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47720" y="2176560"/>
            <a:ext cx="7661160" cy="6300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Verdana"/>
              </a:rPr>
              <a:t>Lear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o find square root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6554880"/>
            <a:ext cx="9144000" cy="304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9400" y="655704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ours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840" y="83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4-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 Black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1828800"/>
            <a:ext cx="7162920" cy="14479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ncipal square ro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ect squ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762120"/>
            <a:ext cx="75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nk about the relationship between the area of a square and the length of one of its si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9960" y="2886120"/>
            <a:ext cx="75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king the square root of a number is the inverse of squaring the nu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1760" y="4406760"/>
            <a:ext cx="856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25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ery positive number has two square roots, one positive and one negative. One square root of 16 is 4, since 4 • 4 = 16. The other square root of 16 is –4, since (–4) • (–4) is also 16. You can write the square roots of 16 as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±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, meaning “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lus or minu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”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1800360"/>
            <a:ext cx="47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a = 36 square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de length =    36 = 6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725640" y="2250720"/>
            <a:ext cx="575640" cy="244800"/>
            <a:chOff x="3725640" y="2250720"/>
            <a:chExt cx="575640" cy="244800"/>
          </a:xfrm>
        </p:grpSpPr>
        <p:sp>
          <p:nvSpPr>
            <p:cNvPr id="78" name=""/>
            <p:cNvSpPr/>
            <p:nvPr/>
          </p:nvSpPr>
          <p:spPr>
            <a:xfrm flipH="1">
              <a:off x="3945960" y="2255760"/>
              <a:ext cx="355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3828960" y="2250720"/>
              <a:ext cx="12168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3764880" y="2357280"/>
              <a:ext cx="68040" cy="13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3725640" y="2363760"/>
              <a:ext cx="47160" cy="2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353960" y="3753000"/>
            <a:ext cx="4373640" cy="520560"/>
            <a:chOff x="1353960" y="3753000"/>
            <a:chExt cx="4373640" cy="520560"/>
          </a:xfrm>
        </p:grpSpPr>
        <p:sp>
          <p:nvSpPr>
            <p:cNvPr id="83" name=""/>
            <p:cNvSpPr/>
            <p:nvPr/>
          </p:nvSpPr>
          <p:spPr>
            <a:xfrm>
              <a:off x="1353960" y="3753000"/>
              <a:ext cx="437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36                36 =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4165560" y="3820680"/>
              <a:ext cx="576360" cy="244800"/>
              <a:chOff x="4165560" y="3820680"/>
              <a:chExt cx="576360" cy="244800"/>
            </a:xfrm>
          </p:grpSpPr>
          <p:sp>
            <p:nvSpPr>
              <p:cNvPr id="85" name=""/>
              <p:cNvSpPr/>
              <p:nvPr/>
            </p:nvSpPr>
            <p:spPr>
              <a:xfrm flipH="1">
                <a:off x="4386240" y="3825720"/>
                <a:ext cx="355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4268880" y="3820680"/>
                <a:ext cx="1220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 flipV="1">
                <a:off x="4205160" y="3927240"/>
                <a:ext cx="6840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4165560" y="3933720"/>
                <a:ext cx="4752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2905200"/>
            <a:ext cx="809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umbers 16, 36, and 49 are examples of perfect squares.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erfect squar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number that has integers as its square roots. Other perfect squares include 1, 4, 9, 25, 64, and 8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762120"/>
            <a:ext cx="80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you press the       key on a calculator, only the nonnegative square root appears. This is called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rincipal square ro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nu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946320" y="864720"/>
            <a:ext cx="575640" cy="244800"/>
            <a:chOff x="3946320" y="864720"/>
            <a:chExt cx="575640" cy="244800"/>
          </a:xfrm>
        </p:grpSpPr>
        <p:sp>
          <p:nvSpPr>
            <p:cNvPr id="92" name=""/>
            <p:cNvSpPr/>
            <p:nvPr/>
          </p:nvSpPr>
          <p:spPr>
            <a:xfrm flipH="1">
              <a:off x="4166640" y="869760"/>
              <a:ext cx="355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4049640" y="864720"/>
              <a:ext cx="12168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3985560" y="971280"/>
              <a:ext cx="68040" cy="13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3946320" y="977760"/>
              <a:ext cx="47160" cy="2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443320" y="2236680"/>
            <a:ext cx="3821040" cy="429120"/>
            <a:chOff x="2443320" y="2236680"/>
            <a:chExt cx="3821040" cy="429120"/>
          </a:xfrm>
        </p:grpSpPr>
        <p:sp>
          <p:nvSpPr>
            <p:cNvPr id="97" name=""/>
            <p:cNvSpPr/>
            <p:nvPr/>
          </p:nvSpPr>
          <p:spPr>
            <a:xfrm>
              <a:off x="2443320" y="2236680"/>
              <a:ext cx="3821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b2823"/>
                  </a:solidFill>
                  <a:latin typeface="Verdana"/>
                </a:rPr>
                <a:t>+  </a:t>
              </a: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16 = 4     </a:t>
              </a:r>
              <a:r>
                <a:rPr b="0" lang="en-US" sz="2200" spc="-1" strike="noStrike">
                  <a:solidFill>
                    <a:srgbClr val="ff0000"/>
                  </a:solidFill>
                  <a:latin typeface="Verdana"/>
                </a:rPr>
                <a:t>–  </a:t>
              </a: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16 = –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2713320" y="2306160"/>
              <a:ext cx="576360" cy="244800"/>
              <a:chOff x="2713320" y="2306160"/>
              <a:chExt cx="576360" cy="244800"/>
            </a:xfrm>
          </p:grpSpPr>
          <p:sp>
            <p:nvSpPr>
              <p:cNvPr id="99" name=""/>
              <p:cNvSpPr/>
              <p:nvPr/>
            </p:nvSpPr>
            <p:spPr>
              <a:xfrm flipH="1">
                <a:off x="2934000" y="2311200"/>
                <a:ext cx="355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2816640" y="2306160"/>
                <a:ext cx="1220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 flipV="1">
                <a:off x="2752920" y="2412720"/>
                <a:ext cx="6840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2713320" y="2419200"/>
                <a:ext cx="4752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4604040" y="2314080"/>
              <a:ext cx="576360" cy="244800"/>
              <a:chOff x="4604040" y="2314080"/>
              <a:chExt cx="576360" cy="244800"/>
            </a:xfrm>
          </p:grpSpPr>
          <p:sp>
            <p:nvSpPr>
              <p:cNvPr id="104" name=""/>
              <p:cNvSpPr/>
              <p:nvPr/>
            </p:nvSpPr>
            <p:spPr>
              <a:xfrm flipH="1">
                <a:off x="4824720" y="2319120"/>
                <a:ext cx="355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4707360" y="2314080"/>
                <a:ext cx="1220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 flipV="1">
                <a:off x="4643640" y="2420640"/>
                <a:ext cx="6840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4604040" y="2427120"/>
                <a:ext cx="4752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" name=""/>
          <p:cNvGrpSpPr/>
          <p:nvPr/>
        </p:nvGrpSpPr>
        <p:grpSpPr>
          <a:xfrm>
            <a:off x="728640" y="4846680"/>
            <a:ext cx="6862680" cy="1282680"/>
            <a:chOff x="728640" y="4846680"/>
            <a:chExt cx="6862680" cy="1282680"/>
          </a:xfrm>
        </p:grpSpPr>
        <p:sp>
          <p:nvSpPr>
            <p:cNvPr id="109" name=""/>
            <p:cNvSpPr/>
            <p:nvPr/>
          </p:nvSpPr>
          <p:spPr>
            <a:xfrm>
              <a:off x="728640" y="5303880"/>
              <a:ext cx="6862680" cy="825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9 is not the same as –  49.  A negative number has no real square roo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8640" y="4846680"/>
              <a:ext cx="2819520" cy="457200"/>
            </a:xfrm>
            <a:prstGeom prst="roundRect">
              <a:avLst>
                <a:gd name="adj" fmla="val 8333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Caution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4884480" y="5395680"/>
              <a:ext cx="575640" cy="244800"/>
              <a:chOff x="4884480" y="5395680"/>
              <a:chExt cx="575640" cy="244800"/>
            </a:xfrm>
          </p:grpSpPr>
          <p:sp>
            <p:nvSpPr>
              <p:cNvPr id="112" name=""/>
              <p:cNvSpPr/>
              <p:nvPr/>
            </p:nvSpPr>
            <p:spPr>
              <a:xfrm flipH="1">
                <a:off x="5104800" y="5400720"/>
                <a:ext cx="355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4987800" y="5395680"/>
                <a:ext cx="1216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flipV="1">
                <a:off x="4923720" y="5502240"/>
                <a:ext cx="6804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4884480" y="5508720"/>
                <a:ext cx="4716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818640" y="5401800"/>
              <a:ext cx="785520" cy="244440"/>
              <a:chOff x="818640" y="5401800"/>
              <a:chExt cx="785520" cy="244440"/>
            </a:xfrm>
          </p:grpSpPr>
          <p:sp>
            <p:nvSpPr>
              <p:cNvPr id="117" name=""/>
              <p:cNvSpPr/>
              <p:nvPr/>
            </p:nvSpPr>
            <p:spPr>
              <a:xfrm flipH="1">
                <a:off x="1076760" y="5407200"/>
                <a:ext cx="52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939600" y="5401800"/>
                <a:ext cx="14292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 flipV="1">
                <a:off x="865080" y="5508360"/>
                <a:ext cx="79560" cy="137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818640" y="5514840"/>
                <a:ext cx="55800" cy="2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7239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: 1 Finding the Positive and Negative Square Roots of a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8160" y="1467000"/>
            <a:ext cx="83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two square roots of each nu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75040" y="2368440"/>
            <a:ext cx="506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7 is a square root, since 7 • 7 = 4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78280" y="2816280"/>
            <a:ext cx="562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–</a:t>
            </a: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7 is also a square root, si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 –</a:t>
            </a: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7 • –7 = 4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41560" y="3884760"/>
            <a:ext cx="59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10 is a square root, since 10 • 10 = 1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02040" y="4351320"/>
            <a:ext cx="614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–</a:t>
            </a: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10 is also a square root, si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–</a:t>
            </a: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10 • –10 = 1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743040" y="2817720"/>
            <a:ext cx="1882080" cy="473760"/>
            <a:chOff x="743040" y="2817720"/>
            <a:chExt cx="1882080" cy="473760"/>
          </a:xfrm>
        </p:grpSpPr>
        <p:sp>
          <p:nvSpPr>
            <p:cNvPr id="128" name=""/>
            <p:cNvSpPr/>
            <p:nvPr/>
          </p:nvSpPr>
          <p:spPr>
            <a:xfrm>
              <a:off x="1248120" y="2817720"/>
              <a:ext cx="137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9   = –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3040" y="2831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1125360" y="2893320"/>
              <a:ext cx="576360" cy="244800"/>
              <a:chOff x="1125360" y="2893320"/>
              <a:chExt cx="576360" cy="244800"/>
            </a:xfrm>
          </p:grpSpPr>
          <p:sp>
            <p:nvSpPr>
              <p:cNvPr id="131" name=""/>
              <p:cNvSpPr/>
              <p:nvPr/>
            </p:nvSpPr>
            <p:spPr>
              <a:xfrm flipH="1">
                <a:off x="1346040" y="2898360"/>
                <a:ext cx="355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1228680" y="2893320"/>
                <a:ext cx="1220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flipV="1">
                <a:off x="1164960" y="2999880"/>
                <a:ext cx="6840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1125360" y="3006360"/>
                <a:ext cx="4752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5" name=""/>
          <p:cNvGrpSpPr/>
          <p:nvPr/>
        </p:nvGrpSpPr>
        <p:grpSpPr>
          <a:xfrm>
            <a:off x="1127160" y="2370240"/>
            <a:ext cx="1333440" cy="459720"/>
            <a:chOff x="1127160" y="2370240"/>
            <a:chExt cx="1333440" cy="459720"/>
          </a:xfrm>
        </p:grpSpPr>
        <p:sp>
          <p:nvSpPr>
            <p:cNvPr id="136" name=""/>
            <p:cNvSpPr/>
            <p:nvPr/>
          </p:nvSpPr>
          <p:spPr>
            <a:xfrm>
              <a:off x="1252800" y="2370240"/>
              <a:ext cx="120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9   = 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127160" y="2442960"/>
              <a:ext cx="576360" cy="244800"/>
              <a:chOff x="1127160" y="2442960"/>
              <a:chExt cx="576360" cy="244800"/>
            </a:xfrm>
          </p:grpSpPr>
          <p:sp>
            <p:nvSpPr>
              <p:cNvPr id="138" name=""/>
              <p:cNvSpPr/>
              <p:nvPr/>
            </p:nvSpPr>
            <p:spPr>
              <a:xfrm flipH="1">
                <a:off x="1347840" y="2448000"/>
                <a:ext cx="355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1230480" y="2442960"/>
                <a:ext cx="1220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 flipV="1">
                <a:off x="1166760" y="2549520"/>
                <a:ext cx="6840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1127160" y="2556000"/>
                <a:ext cx="4752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" name=""/>
          <p:cNvGrpSpPr/>
          <p:nvPr/>
        </p:nvGrpSpPr>
        <p:grpSpPr>
          <a:xfrm>
            <a:off x="1071720" y="3887640"/>
            <a:ext cx="1472400" cy="459720"/>
            <a:chOff x="1071720" y="3887640"/>
            <a:chExt cx="1472400" cy="459720"/>
          </a:xfrm>
        </p:grpSpPr>
        <p:sp>
          <p:nvSpPr>
            <p:cNvPr id="143" name=""/>
            <p:cNvSpPr/>
            <p:nvPr/>
          </p:nvSpPr>
          <p:spPr>
            <a:xfrm>
              <a:off x="1168560" y="3887640"/>
              <a:ext cx="137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 =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1071720" y="3974400"/>
              <a:ext cx="699120" cy="244800"/>
              <a:chOff x="1071720" y="3974400"/>
              <a:chExt cx="699120" cy="244800"/>
            </a:xfrm>
          </p:grpSpPr>
          <p:sp>
            <p:nvSpPr>
              <p:cNvPr id="145" name=""/>
              <p:cNvSpPr/>
              <p:nvPr/>
            </p:nvSpPr>
            <p:spPr>
              <a:xfrm flipH="1">
                <a:off x="1291680" y="3979440"/>
                <a:ext cx="479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1174680" y="3974400"/>
                <a:ext cx="1220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 flipV="1">
                <a:off x="1111320" y="4080960"/>
                <a:ext cx="6768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1071720" y="4087440"/>
                <a:ext cx="4752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9" name=""/>
          <p:cNvGrpSpPr/>
          <p:nvPr/>
        </p:nvGrpSpPr>
        <p:grpSpPr>
          <a:xfrm>
            <a:off x="693720" y="4348080"/>
            <a:ext cx="2021400" cy="469440"/>
            <a:chOff x="693720" y="4348080"/>
            <a:chExt cx="2021400" cy="469440"/>
          </a:xfrm>
        </p:grpSpPr>
        <p:sp>
          <p:nvSpPr>
            <p:cNvPr id="150" name=""/>
            <p:cNvSpPr/>
            <p:nvPr/>
          </p:nvSpPr>
          <p:spPr>
            <a:xfrm>
              <a:off x="1170360" y="4348080"/>
              <a:ext cx="154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 = –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3720" y="4357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1074240" y="4427280"/>
              <a:ext cx="700560" cy="244800"/>
              <a:chOff x="1074240" y="4427280"/>
              <a:chExt cx="700560" cy="244800"/>
            </a:xfrm>
          </p:grpSpPr>
          <p:sp>
            <p:nvSpPr>
              <p:cNvPr id="153" name=""/>
              <p:cNvSpPr/>
              <p:nvPr/>
            </p:nvSpPr>
            <p:spPr>
              <a:xfrm flipH="1">
                <a:off x="1295280" y="4432320"/>
                <a:ext cx="479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1177920" y="4427280"/>
                <a:ext cx="12240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 flipV="1">
                <a:off x="1114200" y="4533840"/>
                <a:ext cx="6804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1074240" y="4540320"/>
                <a:ext cx="4788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7" name=""/>
          <p:cNvSpPr/>
          <p:nvPr/>
        </p:nvSpPr>
        <p:spPr>
          <a:xfrm>
            <a:off x="657360" y="1838160"/>
            <a:ext cx="1923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. 4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57360" y="3362400"/>
            <a:ext cx="1923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. 1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7360" y="4838760"/>
            <a:ext cx="1923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C. 22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13200" y="5348160"/>
            <a:ext cx="61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15 is a square root, since 15 • 15 = 22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888840" y="5361120"/>
            <a:ext cx="1657800" cy="459720"/>
            <a:chOff x="888840" y="5361120"/>
            <a:chExt cx="1657800" cy="459720"/>
          </a:xfrm>
        </p:grpSpPr>
        <p:sp>
          <p:nvSpPr>
            <p:cNvPr id="162" name=""/>
            <p:cNvSpPr/>
            <p:nvPr/>
          </p:nvSpPr>
          <p:spPr>
            <a:xfrm>
              <a:off x="1000440" y="5361120"/>
              <a:ext cx="154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25   = 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888840" y="5446440"/>
              <a:ext cx="699120" cy="244800"/>
              <a:chOff x="888840" y="5446440"/>
              <a:chExt cx="699120" cy="244800"/>
            </a:xfrm>
          </p:grpSpPr>
          <p:sp>
            <p:nvSpPr>
              <p:cNvPr id="164" name=""/>
              <p:cNvSpPr/>
              <p:nvPr/>
            </p:nvSpPr>
            <p:spPr>
              <a:xfrm flipH="1">
                <a:off x="1108800" y="5451480"/>
                <a:ext cx="479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>
                <a:off x="991800" y="5446440"/>
                <a:ext cx="1220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flipV="1">
                <a:off x="928440" y="5553000"/>
                <a:ext cx="6768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888840" y="5559480"/>
                <a:ext cx="4752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8" name=""/>
          <p:cNvGrpSpPr/>
          <p:nvPr/>
        </p:nvGrpSpPr>
        <p:grpSpPr>
          <a:xfrm>
            <a:off x="495360" y="5827680"/>
            <a:ext cx="2221200" cy="473760"/>
            <a:chOff x="495360" y="5827680"/>
            <a:chExt cx="2221200" cy="473760"/>
          </a:xfrm>
        </p:grpSpPr>
        <p:sp>
          <p:nvSpPr>
            <p:cNvPr id="169" name=""/>
            <p:cNvSpPr/>
            <p:nvPr/>
          </p:nvSpPr>
          <p:spPr>
            <a:xfrm>
              <a:off x="1001160" y="5827680"/>
              <a:ext cx="171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25   = –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5360" y="5841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879480" y="5909760"/>
              <a:ext cx="699120" cy="244800"/>
              <a:chOff x="879480" y="5909760"/>
              <a:chExt cx="699120" cy="244800"/>
            </a:xfrm>
          </p:grpSpPr>
          <p:sp>
            <p:nvSpPr>
              <p:cNvPr id="172" name=""/>
              <p:cNvSpPr/>
              <p:nvPr/>
            </p:nvSpPr>
            <p:spPr>
              <a:xfrm flipH="1">
                <a:off x="1099440" y="5914800"/>
                <a:ext cx="479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982440" y="5909760"/>
                <a:ext cx="1220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flipV="1">
                <a:off x="919080" y="6016320"/>
                <a:ext cx="6768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879480" y="6022800"/>
                <a:ext cx="4752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" name=""/>
          <p:cNvSpPr/>
          <p:nvPr/>
        </p:nvSpPr>
        <p:spPr>
          <a:xfrm>
            <a:off x="3006720" y="5808600"/>
            <a:ext cx="590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–</a:t>
            </a: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15 is also a square roo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since –15 • –15 = 22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57360" y="1838160"/>
            <a:ext cx="1923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. 2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9068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6280" y="2300400"/>
            <a:ext cx="63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5 is a square root, since 5 • 5 = 2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17720" y="2701800"/>
            <a:ext cx="570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–</a:t>
            </a: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5 is also a square root, si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–</a:t>
            </a: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5 • –5 = 2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1760" y="3798720"/>
            <a:ext cx="57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12 is a square root, since 12 • 12 = 14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71640" y="4275000"/>
            <a:ext cx="63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–</a:t>
            </a: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12 is also a square root, si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–</a:t>
            </a: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12 • –12 = 14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752400" y="2693880"/>
            <a:ext cx="1882080" cy="473760"/>
            <a:chOff x="752400" y="2693880"/>
            <a:chExt cx="1882080" cy="473760"/>
          </a:xfrm>
        </p:grpSpPr>
        <p:sp>
          <p:nvSpPr>
            <p:cNvPr id="184" name=""/>
            <p:cNvSpPr/>
            <p:nvPr/>
          </p:nvSpPr>
          <p:spPr>
            <a:xfrm>
              <a:off x="1257480" y="2693880"/>
              <a:ext cx="137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5   = –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2400" y="2707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1134720" y="2769480"/>
              <a:ext cx="576360" cy="244800"/>
              <a:chOff x="1134720" y="2769480"/>
              <a:chExt cx="576360" cy="244800"/>
            </a:xfrm>
          </p:grpSpPr>
          <p:sp>
            <p:nvSpPr>
              <p:cNvPr id="187" name=""/>
              <p:cNvSpPr/>
              <p:nvPr/>
            </p:nvSpPr>
            <p:spPr>
              <a:xfrm flipH="1">
                <a:off x="1355400" y="2774520"/>
                <a:ext cx="355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1238040" y="2769480"/>
                <a:ext cx="1220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 flipV="1">
                <a:off x="1174320" y="2876040"/>
                <a:ext cx="6840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1134720" y="2882520"/>
                <a:ext cx="4752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1136520" y="2303640"/>
            <a:ext cx="1333440" cy="459720"/>
            <a:chOff x="1136520" y="2303640"/>
            <a:chExt cx="1333440" cy="459720"/>
          </a:xfrm>
        </p:grpSpPr>
        <p:sp>
          <p:nvSpPr>
            <p:cNvPr id="192" name=""/>
            <p:cNvSpPr/>
            <p:nvPr/>
          </p:nvSpPr>
          <p:spPr>
            <a:xfrm>
              <a:off x="1262160" y="2303640"/>
              <a:ext cx="120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5   =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1136520" y="2376360"/>
              <a:ext cx="576360" cy="244800"/>
              <a:chOff x="1136520" y="2376360"/>
              <a:chExt cx="576360" cy="244800"/>
            </a:xfrm>
          </p:grpSpPr>
          <p:sp>
            <p:nvSpPr>
              <p:cNvPr id="194" name=""/>
              <p:cNvSpPr/>
              <p:nvPr/>
            </p:nvSpPr>
            <p:spPr>
              <a:xfrm flipH="1">
                <a:off x="1357200" y="2381400"/>
                <a:ext cx="355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1239840" y="2376360"/>
                <a:ext cx="1220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flipV="1">
                <a:off x="1176120" y="2482920"/>
                <a:ext cx="6840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1136520" y="2489400"/>
                <a:ext cx="4752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8" name=""/>
          <p:cNvGrpSpPr/>
          <p:nvPr/>
        </p:nvGrpSpPr>
        <p:grpSpPr>
          <a:xfrm>
            <a:off x="1128600" y="3830760"/>
            <a:ext cx="1472400" cy="459720"/>
            <a:chOff x="1128600" y="3830760"/>
            <a:chExt cx="1472400" cy="459720"/>
          </a:xfrm>
        </p:grpSpPr>
        <p:sp>
          <p:nvSpPr>
            <p:cNvPr id="199" name=""/>
            <p:cNvSpPr/>
            <p:nvPr/>
          </p:nvSpPr>
          <p:spPr>
            <a:xfrm>
              <a:off x="1225440" y="3830760"/>
              <a:ext cx="137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44 = 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1128600" y="3917520"/>
              <a:ext cx="699120" cy="244800"/>
              <a:chOff x="1128600" y="3917520"/>
              <a:chExt cx="699120" cy="244800"/>
            </a:xfrm>
          </p:grpSpPr>
          <p:sp>
            <p:nvSpPr>
              <p:cNvPr id="201" name=""/>
              <p:cNvSpPr/>
              <p:nvPr/>
            </p:nvSpPr>
            <p:spPr>
              <a:xfrm flipH="1">
                <a:off x="1348560" y="3922560"/>
                <a:ext cx="479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1231560" y="3917520"/>
                <a:ext cx="1220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flipV="1">
                <a:off x="1168200" y="4024080"/>
                <a:ext cx="6768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1128600" y="4030560"/>
                <a:ext cx="4752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5" name=""/>
          <p:cNvGrpSpPr/>
          <p:nvPr/>
        </p:nvGrpSpPr>
        <p:grpSpPr>
          <a:xfrm>
            <a:off x="722520" y="4290840"/>
            <a:ext cx="2021400" cy="469440"/>
            <a:chOff x="722520" y="4290840"/>
            <a:chExt cx="2021400" cy="469440"/>
          </a:xfrm>
        </p:grpSpPr>
        <p:sp>
          <p:nvSpPr>
            <p:cNvPr id="206" name=""/>
            <p:cNvSpPr/>
            <p:nvPr/>
          </p:nvSpPr>
          <p:spPr>
            <a:xfrm>
              <a:off x="1199160" y="4290840"/>
              <a:ext cx="154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44 = –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2520" y="4300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1103040" y="4370040"/>
              <a:ext cx="700560" cy="244800"/>
              <a:chOff x="1103040" y="4370040"/>
              <a:chExt cx="700560" cy="244800"/>
            </a:xfrm>
          </p:grpSpPr>
          <p:sp>
            <p:nvSpPr>
              <p:cNvPr id="209" name=""/>
              <p:cNvSpPr/>
              <p:nvPr/>
            </p:nvSpPr>
            <p:spPr>
              <a:xfrm flipH="1">
                <a:off x="1324080" y="4375080"/>
                <a:ext cx="479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1206720" y="4370040"/>
                <a:ext cx="12240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 flipV="1">
                <a:off x="1143000" y="4476600"/>
                <a:ext cx="6804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1103040" y="4483080"/>
                <a:ext cx="4788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" name=""/>
          <p:cNvSpPr/>
          <p:nvPr/>
        </p:nvSpPr>
        <p:spPr>
          <a:xfrm>
            <a:off x="668160" y="1467000"/>
            <a:ext cx="83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two square roots of each nu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57360" y="3362400"/>
            <a:ext cx="1923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. 14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57360" y="4838760"/>
            <a:ext cx="1923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C. 28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079640" y="5256360"/>
            <a:ext cx="1657800" cy="459720"/>
            <a:chOff x="1079640" y="5256360"/>
            <a:chExt cx="1657800" cy="459720"/>
          </a:xfrm>
        </p:grpSpPr>
        <p:sp>
          <p:nvSpPr>
            <p:cNvPr id="217" name=""/>
            <p:cNvSpPr/>
            <p:nvPr/>
          </p:nvSpPr>
          <p:spPr>
            <a:xfrm>
              <a:off x="1191240" y="5256360"/>
              <a:ext cx="154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89   = 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1079640" y="5341680"/>
              <a:ext cx="699120" cy="244800"/>
              <a:chOff x="1079640" y="5341680"/>
              <a:chExt cx="699120" cy="244800"/>
            </a:xfrm>
          </p:grpSpPr>
          <p:sp>
            <p:nvSpPr>
              <p:cNvPr id="219" name=""/>
              <p:cNvSpPr/>
              <p:nvPr/>
            </p:nvSpPr>
            <p:spPr>
              <a:xfrm flipH="1">
                <a:off x="1299600" y="5346720"/>
                <a:ext cx="479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1182600" y="5341680"/>
                <a:ext cx="1220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 flipV="1">
                <a:off x="1119240" y="5448240"/>
                <a:ext cx="6768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1079640" y="5454720"/>
                <a:ext cx="4752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3" name=""/>
          <p:cNvGrpSpPr/>
          <p:nvPr/>
        </p:nvGrpSpPr>
        <p:grpSpPr>
          <a:xfrm>
            <a:off x="676440" y="5732640"/>
            <a:ext cx="2221200" cy="473760"/>
            <a:chOff x="676440" y="5732640"/>
            <a:chExt cx="2221200" cy="473760"/>
          </a:xfrm>
        </p:grpSpPr>
        <p:sp>
          <p:nvSpPr>
            <p:cNvPr id="224" name=""/>
            <p:cNvSpPr/>
            <p:nvPr/>
          </p:nvSpPr>
          <p:spPr>
            <a:xfrm>
              <a:off x="1182240" y="5732640"/>
              <a:ext cx="171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89   = –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6440" y="5746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1060560" y="5814720"/>
              <a:ext cx="699120" cy="244800"/>
              <a:chOff x="1060560" y="5814720"/>
              <a:chExt cx="699120" cy="244800"/>
            </a:xfrm>
          </p:grpSpPr>
          <p:sp>
            <p:nvSpPr>
              <p:cNvPr id="227" name=""/>
              <p:cNvSpPr/>
              <p:nvPr/>
            </p:nvSpPr>
            <p:spPr>
              <a:xfrm flipH="1">
                <a:off x="1280520" y="5819760"/>
                <a:ext cx="479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>
                <a:off x="1163520" y="5814720"/>
                <a:ext cx="1220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 flipV="1">
                <a:off x="1100160" y="5921280"/>
                <a:ext cx="6768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1060560" y="5927760"/>
                <a:ext cx="4752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1" name=""/>
          <p:cNvSpPr/>
          <p:nvPr/>
        </p:nvSpPr>
        <p:spPr>
          <a:xfrm>
            <a:off x="2990880" y="5186520"/>
            <a:ext cx="58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17 is a square root, since 17 • 17 = 28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09960" y="5729400"/>
            <a:ext cx="595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–</a:t>
            </a: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17 is also a square root, si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–</a:t>
            </a: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17 • –17 = 28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13:56:17Z</dcterms:created>
  <dc:creator/>
  <dc:description/>
  <dc:language>en-US</dc:language>
  <cp:lastModifiedBy>stevenh</cp:lastModifiedBy>
  <dcterms:modified xsi:type="dcterms:W3CDTF">2006-04-26T19:01:56Z</dcterms:modified>
  <cp:revision>98</cp:revision>
  <dc:subject/>
  <dc:title>PowerPoint Presentation</dc:title>
</cp:coreProperties>
</file>