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EC4B-01D6-4254-B18F-9DD36FC8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AA49-439B-4779-BC76-14D96908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6E77-C307-4AF1-B0B5-A9BE4515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50EC-2E6D-4EE5-AB7C-58278BD7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6FA5-63E4-4DDA-BD09-BF778B49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FFF-BD94-48FD-8A96-367CE6AD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19C-975C-4D2C-8059-AD5FD897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21D-0D7F-4A26-AD15-918F99FF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8D9-90C3-45F9-A510-1464904E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9948-320F-45DE-B38F-B413ACBD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4309-912E-4E62-BAC4-8E65C979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C87-A289-4E17-ABD3-3DBC03D9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2E07-7719-4A2D-A6CE-B2D92AC55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9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quares and Square Roo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slide" Target="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5360" y="1339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160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quares and Square R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6550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ur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3629160" y="2333520"/>
            <a:ext cx="1759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2" action="ppaction://hlinksldjump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99360" y="2993760"/>
            <a:ext cx="340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4" action="ppaction://hlinksldjump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5" action="ppaction://hlinksldjump"/>
          </p:cNvPr>
          <p:cNvSpPr/>
          <p:nvPr/>
        </p:nvSpPr>
        <p:spPr>
          <a:xfrm>
            <a:off x="3679920" y="3603240"/>
            <a:ext cx="3566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6" action="ppaction://hlinksldjump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77960" y="3510000"/>
            <a:ext cx="58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80280" y="4640400"/>
            <a:ext cx="44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indow is 13 inches w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280" y="2259000"/>
            <a:ext cx="79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quare root of 169 to find the width of the window. Use the positive square root; a negative length has no mean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2640" y="142884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quare window has an area of 169 square inches. How wide is the wind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002600" y="4038480"/>
            <a:ext cx="2133000" cy="459720"/>
            <a:chOff x="1002600" y="4038480"/>
            <a:chExt cx="2133000" cy="459720"/>
          </a:xfrm>
        </p:grpSpPr>
        <p:sp>
          <p:nvSpPr>
            <p:cNvPr id="239" name=""/>
            <p:cNvSpPr/>
            <p:nvPr/>
          </p:nvSpPr>
          <p:spPr>
            <a:xfrm>
              <a:off x="1002600" y="403848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o   169  = 1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422000" y="4119120"/>
              <a:ext cx="700560" cy="244800"/>
              <a:chOff x="1422000" y="4119120"/>
              <a:chExt cx="700560" cy="244800"/>
            </a:xfrm>
          </p:grpSpPr>
          <p:sp>
            <p:nvSpPr>
              <p:cNvPr id="241" name=""/>
              <p:cNvSpPr/>
              <p:nvPr/>
            </p:nvSpPr>
            <p:spPr>
              <a:xfrm flipH="1">
                <a:off x="1643040" y="4124160"/>
                <a:ext cx="47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1525680" y="4119120"/>
                <a:ext cx="12240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1461960" y="422568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1422000" y="423216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938160" y="5189400"/>
            <a:ext cx="6862680" cy="1282680"/>
            <a:chOff x="938160" y="5189400"/>
            <a:chExt cx="6862680" cy="1282680"/>
          </a:xfrm>
        </p:grpSpPr>
        <p:sp>
          <p:nvSpPr>
            <p:cNvPr id="246" name=""/>
            <p:cNvSpPr/>
            <p:nvPr/>
          </p:nvSpPr>
          <p:spPr>
            <a:xfrm>
              <a:off x="938160" y="5646600"/>
              <a:ext cx="686268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area of a square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the length of a si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38160" y="5189400"/>
              <a:ext cx="2819520" cy="457200"/>
            </a:xfrm>
            <a:prstGeom prst="roundRect">
              <a:avLst>
                <a:gd name="adj" fmla="val 8333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memb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094000" y="5738400"/>
              <a:ext cx="575640" cy="244800"/>
              <a:chOff x="5094000" y="5738400"/>
              <a:chExt cx="575640" cy="244800"/>
            </a:xfrm>
          </p:grpSpPr>
          <p:sp>
            <p:nvSpPr>
              <p:cNvPr id="249" name=""/>
              <p:cNvSpPr/>
              <p:nvPr/>
            </p:nvSpPr>
            <p:spPr>
              <a:xfrm flipH="1">
                <a:off x="5314320" y="5743440"/>
                <a:ext cx="3553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5197320" y="5738400"/>
                <a:ext cx="121680" cy="244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flipV="1">
                <a:off x="5133240" y="5844960"/>
                <a:ext cx="68040" cy="13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094000" y="5851440"/>
                <a:ext cx="47160" cy="23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028160" y="5744520"/>
              <a:ext cx="785520" cy="244440"/>
              <a:chOff x="1028160" y="5744520"/>
              <a:chExt cx="785520" cy="24444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1286280" y="5749920"/>
                <a:ext cx="5274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149120" y="5744520"/>
                <a:ext cx="142920" cy="244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flipV="1">
                <a:off x="1074600" y="5851080"/>
                <a:ext cx="79560" cy="137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028160" y="5857560"/>
                <a:ext cx="55800" cy="24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43120" y="2682720"/>
            <a:ext cx="776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quare root of 16 to find the width of the table. Use the positive square root; a negative length has no m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00280" y="90684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11080" y="1366920"/>
            <a:ext cx="811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quare shaped kitchen table has an area of 16 square feet. Will it fit through a van door that has a 5 foot wide ope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5480" y="4662360"/>
            <a:ext cx="76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 the table is 4 feet wide, which is less than 5 feet, so it will fit through the van d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267920" y="3952800"/>
            <a:ext cx="1377000" cy="459720"/>
            <a:chOff x="1267920" y="3952800"/>
            <a:chExt cx="1377000" cy="459720"/>
          </a:xfrm>
        </p:grpSpPr>
        <p:sp>
          <p:nvSpPr>
            <p:cNvPr id="263" name=""/>
            <p:cNvSpPr/>
            <p:nvPr/>
          </p:nvSpPr>
          <p:spPr>
            <a:xfrm>
              <a:off x="1401840" y="3952800"/>
              <a:ext cx="12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523520" y="404784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387440" y="4042800"/>
              <a:ext cx="14148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1314000" y="4149360"/>
              <a:ext cx="7956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1267920" y="4155840"/>
              <a:ext cx="55800" cy="2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71280" y="912960"/>
            <a:ext cx="86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A: Evaluating Expressions Involving Square R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7880" y="19144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81520" y="31129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valuate the squar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4578480"/>
            <a:ext cx="35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50040" y="452124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76840" y="3898800"/>
            <a:ext cx="36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22040" y="384192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8 +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60240" y="2476440"/>
            <a:ext cx="2911680" cy="459720"/>
            <a:chOff x="660240" y="2476440"/>
            <a:chExt cx="2911680" cy="459720"/>
          </a:xfrm>
        </p:grpSpPr>
        <p:sp>
          <p:nvSpPr>
            <p:cNvPr id="276" name=""/>
            <p:cNvSpPr/>
            <p:nvPr/>
          </p:nvSpPr>
          <p:spPr>
            <a:xfrm>
              <a:off x="660240" y="2476440"/>
              <a:ext cx="291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  36 +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1504440" y="2565000"/>
              <a:ext cx="558720" cy="244800"/>
              <a:chOff x="1504440" y="2565000"/>
              <a:chExt cx="558720" cy="244800"/>
            </a:xfrm>
          </p:grpSpPr>
          <p:sp>
            <p:nvSpPr>
              <p:cNvPr id="278" name=""/>
              <p:cNvSpPr/>
              <p:nvPr/>
            </p:nvSpPr>
            <p:spPr>
              <a:xfrm flipH="1">
                <a:off x="1725120" y="2570040"/>
                <a:ext cx="338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608120" y="256500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1544400" y="267156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1504440" y="267804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418760" y="3117960"/>
            <a:ext cx="2782800" cy="459720"/>
            <a:chOff x="1418760" y="3117960"/>
            <a:chExt cx="2782800" cy="459720"/>
          </a:xfrm>
        </p:grpSpPr>
        <p:sp>
          <p:nvSpPr>
            <p:cNvPr id="283" name=""/>
            <p:cNvSpPr/>
            <p:nvPr/>
          </p:nvSpPr>
          <p:spPr>
            <a:xfrm>
              <a:off x="1466640" y="3117960"/>
              <a:ext cx="27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 36 + 7 = 3(6) +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1418760" y="3192480"/>
              <a:ext cx="558720" cy="244800"/>
              <a:chOff x="1418760" y="3192480"/>
              <a:chExt cx="558720" cy="244800"/>
            </a:xfrm>
          </p:grpSpPr>
          <p:sp>
            <p:nvSpPr>
              <p:cNvPr id="285" name=""/>
              <p:cNvSpPr/>
              <p:nvPr/>
            </p:nvSpPr>
            <p:spPr>
              <a:xfrm flipH="1">
                <a:off x="1639440" y="3197520"/>
                <a:ext cx="338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1522440" y="319248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1458720" y="329904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1418760" y="330552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1280" y="912960"/>
            <a:ext cx="86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B: Evaluating Expressions Involving Square R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3120" y="188604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4240" y="27432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062000" y="2600280"/>
            <a:ext cx="1913040" cy="825480"/>
            <a:chOff x="1062000" y="2600280"/>
            <a:chExt cx="1913040" cy="825480"/>
          </a:xfrm>
        </p:grpSpPr>
        <p:sp>
          <p:nvSpPr>
            <p:cNvPr id="293" name=""/>
            <p:cNvSpPr/>
            <p:nvPr/>
          </p:nvSpPr>
          <p:spPr>
            <a:xfrm flipH="1">
              <a:off x="1282320" y="2619360"/>
              <a:ext cx="50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1165320" y="2604960"/>
              <a:ext cx="122040" cy="750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1101600" y="2931840"/>
              <a:ext cx="68400" cy="42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062000" y="2951280"/>
              <a:ext cx="4752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19320" y="2600280"/>
              <a:ext cx="12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5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16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152800" y="2600280"/>
              <a:ext cx="82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4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85800" y="3695760"/>
            <a:ext cx="2911320" cy="825480"/>
            <a:chOff x="685800" y="3695760"/>
            <a:chExt cx="2911320" cy="825480"/>
          </a:xfrm>
        </p:grpSpPr>
        <p:grpSp>
          <p:nvGrpSpPr>
            <p:cNvPr id="300" name=""/>
            <p:cNvGrpSpPr/>
            <p:nvPr/>
          </p:nvGrpSpPr>
          <p:grpSpPr>
            <a:xfrm>
              <a:off x="1195560" y="3695760"/>
              <a:ext cx="1412640" cy="755640"/>
              <a:chOff x="1195560" y="3695760"/>
              <a:chExt cx="1412640" cy="755640"/>
            </a:xfrm>
          </p:grpSpPr>
          <p:sp>
            <p:nvSpPr>
              <p:cNvPr id="301" name=""/>
              <p:cNvSpPr/>
              <p:nvPr/>
            </p:nvSpPr>
            <p:spPr>
              <a:xfrm flipH="1">
                <a:off x="1415880" y="3714840"/>
                <a:ext cx="462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8520" y="3700440"/>
                <a:ext cx="122400" cy="750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1234800" y="4027320"/>
                <a:ext cx="68040" cy="424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1195560" y="4046400"/>
                <a:ext cx="4752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352520" y="3695760"/>
                <a:ext cx="125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16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2286000" y="3695760"/>
              <a:ext cx="82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4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5800" y="3827520"/>
              <a:ext cx="29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883240" y="3630600"/>
            <a:ext cx="2838240" cy="825480"/>
            <a:chOff x="2883240" y="3630600"/>
            <a:chExt cx="2838240" cy="825480"/>
          </a:xfrm>
        </p:grpSpPr>
        <p:sp>
          <p:nvSpPr>
            <p:cNvPr id="309" name=""/>
            <p:cNvSpPr/>
            <p:nvPr/>
          </p:nvSpPr>
          <p:spPr>
            <a:xfrm>
              <a:off x="4898880" y="3630600"/>
              <a:ext cx="82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4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883240" y="3825720"/>
              <a:ext cx="2201400" cy="464760"/>
              <a:chOff x="2883240" y="3825720"/>
              <a:chExt cx="2201400" cy="464760"/>
            </a:xfrm>
          </p:grpSpPr>
          <p:sp>
            <p:nvSpPr>
              <p:cNvPr id="311" name=""/>
              <p:cNvSpPr/>
              <p:nvPr/>
            </p:nvSpPr>
            <p:spPr>
              <a:xfrm>
                <a:off x="2883240" y="3830760"/>
                <a:ext cx="171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               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54480" y="3825720"/>
                <a:ext cx="173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.5625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2999880" y="3863880"/>
                <a:ext cx="1573560" cy="370080"/>
                <a:chOff x="2999880" y="3863880"/>
                <a:chExt cx="1573560" cy="370080"/>
              </a:xfrm>
            </p:grpSpPr>
            <p:sp>
              <p:nvSpPr>
                <p:cNvPr id="314" name=""/>
                <p:cNvSpPr/>
                <p:nvPr/>
              </p:nvSpPr>
              <p:spPr>
                <a:xfrm flipH="1">
                  <a:off x="3478320" y="3871800"/>
                  <a:ext cx="1095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3224160" y="3863880"/>
                  <a:ext cx="265320" cy="37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>
                  <a:off x="3086280" y="4024440"/>
                  <a:ext cx="147600" cy="209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>
                  <a:off x="2999880" y="4033800"/>
                  <a:ext cx="103320" cy="36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8" name=""/>
          <p:cNvSpPr/>
          <p:nvPr/>
        </p:nvSpPr>
        <p:spPr>
          <a:xfrm>
            <a:off x="2790720" y="4962600"/>
            <a:ext cx="82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11120" y="516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464652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valuate the square roo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41040" y="47260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.25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97240" y="4586400"/>
            <a:ext cx="82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53400" y="3695760"/>
            <a:ext cx="82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51480" y="3666960"/>
            <a:ext cx="2948760" cy="780120"/>
            <a:chOff x="5451480" y="3666960"/>
            <a:chExt cx="2948760" cy="780120"/>
          </a:xfrm>
        </p:grpSpPr>
        <p:grpSp>
          <p:nvGrpSpPr>
            <p:cNvPr id="325" name=""/>
            <p:cNvGrpSpPr/>
            <p:nvPr/>
          </p:nvGrpSpPr>
          <p:grpSpPr>
            <a:xfrm>
              <a:off x="6055920" y="3696840"/>
              <a:ext cx="565200" cy="750240"/>
              <a:chOff x="6055920" y="3696840"/>
              <a:chExt cx="565200" cy="750240"/>
            </a:xfrm>
          </p:grpSpPr>
          <p:sp>
            <p:nvSpPr>
              <p:cNvPr id="326" name=""/>
              <p:cNvSpPr/>
              <p:nvPr/>
            </p:nvSpPr>
            <p:spPr>
              <a:xfrm flipH="1">
                <a:off x="6278760" y="3711240"/>
                <a:ext cx="34236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160320" y="3696840"/>
                <a:ext cx="123480" cy="74988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6095880" y="4023000"/>
                <a:ext cx="68760" cy="42408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055920" y="4042800"/>
                <a:ext cx="48240" cy="7272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451480" y="3666960"/>
              <a:ext cx="2948760" cy="610560"/>
              <a:chOff x="5451480" y="3666960"/>
              <a:chExt cx="2948760" cy="610560"/>
            </a:xfrm>
          </p:grpSpPr>
          <p:sp>
            <p:nvSpPr>
              <p:cNvPr id="331" name=""/>
              <p:cNvSpPr/>
              <p:nvPr/>
            </p:nvSpPr>
            <p:spPr>
              <a:xfrm>
                <a:off x="6173280" y="3666960"/>
                <a:ext cx="127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3366ff"/>
                    </a:solidFill>
                    <a:uFillTx/>
                    <a:latin typeface="Verdana"/>
                  </a:rPr>
                  <a:t>25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   16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451480" y="3817800"/>
                <a:ext cx="29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	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  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= 1.5625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3" name=""/>
          <p:cNvSpPr/>
          <p:nvPr/>
        </p:nvSpPr>
        <p:spPr>
          <a:xfrm>
            <a:off x="2654640" y="56880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2800" y="5710320"/>
            <a:ext cx="27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2120" y="14050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72160" y="29131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valuate the squar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91240" y="4282920"/>
            <a:ext cx="35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88480" y="428292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3603600"/>
            <a:ext cx="36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60120" y="360360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0 +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790560" y="2171880"/>
            <a:ext cx="3035160" cy="459720"/>
            <a:chOff x="790560" y="2171880"/>
            <a:chExt cx="3035160" cy="459720"/>
          </a:xfrm>
        </p:grpSpPr>
        <p:sp>
          <p:nvSpPr>
            <p:cNvPr id="343" name=""/>
            <p:cNvSpPr/>
            <p:nvPr/>
          </p:nvSpPr>
          <p:spPr>
            <a:xfrm>
              <a:off x="790560" y="2171880"/>
              <a:ext cx="30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   25 +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1371600" y="2252160"/>
              <a:ext cx="624960" cy="244800"/>
              <a:chOff x="1371600" y="2252160"/>
              <a:chExt cx="624960" cy="244800"/>
            </a:xfrm>
          </p:grpSpPr>
          <p:sp>
            <p:nvSpPr>
              <p:cNvPr id="345" name=""/>
              <p:cNvSpPr/>
              <p:nvPr/>
            </p:nvSpPr>
            <p:spPr>
              <a:xfrm flipH="1">
                <a:off x="1618560" y="2257200"/>
                <a:ext cx="378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1487160" y="2252160"/>
                <a:ext cx="1364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1415880" y="2358720"/>
                <a:ext cx="7596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1371600" y="2365200"/>
                <a:ext cx="532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1342800" y="2917800"/>
            <a:ext cx="2782800" cy="459720"/>
            <a:chOff x="1342800" y="2917800"/>
            <a:chExt cx="2782800" cy="459720"/>
          </a:xfrm>
        </p:grpSpPr>
        <p:sp>
          <p:nvSpPr>
            <p:cNvPr id="350" name=""/>
            <p:cNvSpPr/>
            <p:nvPr/>
          </p:nvSpPr>
          <p:spPr>
            <a:xfrm>
              <a:off x="1390680" y="2917800"/>
              <a:ext cx="27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 25 + 4 = 2(5) +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1342800" y="3011040"/>
              <a:ext cx="558720" cy="244800"/>
              <a:chOff x="1342800" y="3011040"/>
              <a:chExt cx="558720" cy="244800"/>
            </a:xfrm>
          </p:grpSpPr>
          <p:sp>
            <p:nvSpPr>
              <p:cNvPr id="352" name=""/>
              <p:cNvSpPr/>
              <p:nvPr/>
            </p:nvSpPr>
            <p:spPr>
              <a:xfrm flipH="1">
                <a:off x="1563480" y="3016080"/>
                <a:ext cx="338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446480" y="301104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>
                <a:off x="1382760" y="311760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1342800" y="312408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3480" y="913320"/>
            <a:ext cx="90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92000" y="1419120"/>
            <a:ext cx="82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46160" y="232236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243080" y="2190600"/>
            <a:ext cx="1913040" cy="825480"/>
            <a:chOff x="1243080" y="2190600"/>
            <a:chExt cx="1913040" cy="825480"/>
          </a:xfrm>
        </p:grpSpPr>
        <p:sp>
          <p:nvSpPr>
            <p:cNvPr id="360" name=""/>
            <p:cNvSpPr/>
            <p:nvPr/>
          </p:nvSpPr>
          <p:spPr>
            <a:xfrm flipH="1">
              <a:off x="1463400" y="2209680"/>
              <a:ext cx="484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346040" y="2195280"/>
              <a:ext cx="122400" cy="75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282680" y="2522160"/>
              <a:ext cx="68400" cy="42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1243080" y="2541600"/>
              <a:ext cx="4752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00040" y="2190600"/>
              <a:ext cx="125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8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33520" y="2190600"/>
              <a:ext cx="82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4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04880" y="3286080"/>
            <a:ext cx="2911320" cy="825480"/>
            <a:chOff x="704880" y="3286080"/>
            <a:chExt cx="2911320" cy="825480"/>
          </a:xfrm>
        </p:grpSpPr>
        <p:grpSp>
          <p:nvGrpSpPr>
            <p:cNvPr id="367" name=""/>
            <p:cNvGrpSpPr/>
            <p:nvPr/>
          </p:nvGrpSpPr>
          <p:grpSpPr>
            <a:xfrm>
              <a:off x="1213920" y="3286080"/>
              <a:ext cx="1913400" cy="825480"/>
              <a:chOff x="1213920" y="3286080"/>
              <a:chExt cx="1913400" cy="82548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1213920" y="3286080"/>
                <a:ext cx="1413360" cy="825480"/>
                <a:chOff x="1213920" y="3286080"/>
                <a:chExt cx="1413360" cy="825480"/>
              </a:xfrm>
            </p:grpSpPr>
            <p:sp>
              <p:nvSpPr>
                <p:cNvPr id="369" name=""/>
                <p:cNvSpPr/>
                <p:nvPr/>
              </p:nvSpPr>
              <p:spPr>
                <a:xfrm flipH="1">
                  <a:off x="1434600" y="3305160"/>
                  <a:ext cx="428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1317600" y="3290760"/>
                  <a:ext cx="122400" cy="750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 flipV="1">
                  <a:off x="1253880" y="3617640"/>
                  <a:ext cx="68040" cy="42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>
                  <a:off x="1213920" y="3637080"/>
                  <a:ext cx="47880" cy="7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371600" y="3286080"/>
                  <a:ext cx="1255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8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     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Verdana"/>
                    </a:rPr>
                    <a:t>t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2 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>
                <a:off x="2305080" y="3286080"/>
                <a:ext cx="822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4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704880" y="3417840"/>
              <a:ext cx="29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2790720" y="4962600"/>
            <a:ext cx="82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11120" y="516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37120" y="3306600"/>
            <a:ext cx="82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20680" y="3421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   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73400" y="34164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51360" y="432288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valuate the square roo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59120" y="4316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7000" y="4176720"/>
            <a:ext cx="82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346640" y="3257640"/>
            <a:ext cx="2948760" cy="780120"/>
            <a:chOff x="4346640" y="3257640"/>
            <a:chExt cx="2948760" cy="780120"/>
          </a:xfrm>
        </p:grpSpPr>
        <p:grpSp>
          <p:nvGrpSpPr>
            <p:cNvPr id="385" name=""/>
            <p:cNvGrpSpPr/>
            <p:nvPr/>
          </p:nvGrpSpPr>
          <p:grpSpPr>
            <a:xfrm>
              <a:off x="4951080" y="3287520"/>
              <a:ext cx="565200" cy="750240"/>
              <a:chOff x="4951080" y="3287520"/>
              <a:chExt cx="565200" cy="750240"/>
            </a:xfrm>
          </p:grpSpPr>
          <p:sp>
            <p:nvSpPr>
              <p:cNvPr id="386" name=""/>
              <p:cNvSpPr/>
              <p:nvPr/>
            </p:nvSpPr>
            <p:spPr>
              <a:xfrm flipH="1">
                <a:off x="5173920" y="3301920"/>
                <a:ext cx="34236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5055480" y="3287520"/>
                <a:ext cx="123480" cy="74988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flipV="1">
                <a:off x="4991040" y="3613680"/>
                <a:ext cx="68760" cy="42408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4951080" y="3633480"/>
                <a:ext cx="48240" cy="7272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4346640" y="3257640"/>
              <a:ext cx="2948760" cy="610560"/>
              <a:chOff x="4346640" y="3257640"/>
              <a:chExt cx="2948760" cy="610560"/>
            </a:xfrm>
          </p:grpSpPr>
          <p:sp>
            <p:nvSpPr>
              <p:cNvPr id="391" name=""/>
              <p:cNvSpPr/>
              <p:nvPr/>
            </p:nvSpPr>
            <p:spPr>
              <a:xfrm>
                <a:off x="5068440" y="3257640"/>
                <a:ext cx="127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3366ff"/>
                    </a:solidFill>
                    <a:uFillTx/>
                    <a:latin typeface="Verdana"/>
                  </a:rPr>
                  <a:t>18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   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Verdana"/>
                  </a:rPr>
                  <a:t>t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2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346640" y="3408480"/>
                <a:ext cx="29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	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  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= 9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3" name=""/>
          <p:cNvSpPr/>
          <p:nvPr/>
        </p:nvSpPr>
        <p:spPr>
          <a:xfrm>
            <a:off x="2806920" y="52783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17960" y="530064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123720" y="3454560"/>
            <a:ext cx="491760" cy="369360"/>
            <a:chOff x="3123720" y="3454560"/>
            <a:chExt cx="491760" cy="369360"/>
          </a:xfrm>
        </p:grpSpPr>
        <p:sp>
          <p:nvSpPr>
            <p:cNvPr id="396" name=""/>
            <p:cNvSpPr/>
            <p:nvPr/>
          </p:nvSpPr>
          <p:spPr>
            <a:xfrm flipH="1">
              <a:off x="3317760" y="3461400"/>
              <a:ext cx="29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3214800" y="3454560"/>
              <a:ext cx="107280" cy="36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3159000" y="3614760"/>
              <a:ext cx="59760" cy="20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3123720" y="3624840"/>
              <a:ext cx="42120" cy="3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359160" y="5129280"/>
            <a:ext cx="82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838080" y="913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2120" y="1676520"/>
            <a:ext cx="76197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two square roots of each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1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e each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 16 + 1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 9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 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65400" y="2120760"/>
            <a:ext cx="1839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38440" y="2195640"/>
            <a:ext cx="63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72960" y="2195640"/>
            <a:ext cx="82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83040" y="3916440"/>
            <a:ext cx="55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39760" y="3916440"/>
            <a:ext cx="36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30080" y="4854600"/>
            <a:ext cx="810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s. Estefan wants to put a fence around 3 sides of a square garden that has an area of 225 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How much fencing does she n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17240" y="5978520"/>
            <a:ext cx="8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45 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509480" y="4000320"/>
            <a:ext cx="551880" cy="244440"/>
            <a:chOff x="1509480" y="4000320"/>
            <a:chExt cx="551880" cy="244440"/>
          </a:xfrm>
        </p:grpSpPr>
        <p:sp>
          <p:nvSpPr>
            <p:cNvPr id="411" name=""/>
            <p:cNvSpPr/>
            <p:nvPr/>
          </p:nvSpPr>
          <p:spPr>
            <a:xfrm flipH="1">
              <a:off x="1729800" y="4005360"/>
              <a:ext cx="33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612800" y="4000320"/>
              <a:ext cx="12168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1548720" y="4106520"/>
              <a:ext cx="6804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1509480" y="4113360"/>
              <a:ext cx="47160" cy="2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133600" y="4006440"/>
            <a:ext cx="457200" cy="244440"/>
            <a:chOff x="5133600" y="4006440"/>
            <a:chExt cx="457200" cy="244440"/>
          </a:xfrm>
        </p:grpSpPr>
        <p:sp>
          <p:nvSpPr>
            <p:cNvPr id="416" name=""/>
            <p:cNvSpPr/>
            <p:nvPr/>
          </p:nvSpPr>
          <p:spPr>
            <a:xfrm flipH="1">
              <a:off x="5316480" y="4011480"/>
              <a:ext cx="274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219280" y="4006440"/>
              <a:ext cx="10080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flipV="1">
              <a:off x="5166360" y="4112640"/>
              <a:ext cx="5652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5133600" y="4119480"/>
              <a:ext cx="39240" cy="2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203880" y="4005000"/>
            <a:ext cx="552600" cy="244440"/>
            <a:chOff x="6203880" y="4005000"/>
            <a:chExt cx="552600" cy="244440"/>
          </a:xfrm>
        </p:grpSpPr>
        <p:sp>
          <p:nvSpPr>
            <p:cNvPr id="421" name=""/>
            <p:cNvSpPr/>
            <p:nvPr/>
          </p:nvSpPr>
          <p:spPr>
            <a:xfrm flipH="1">
              <a:off x="6424560" y="4010040"/>
              <a:ext cx="331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307200" y="4005000"/>
              <a:ext cx="12204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6243480" y="4111200"/>
              <a:ext cx="6840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203880" y="4118040"/>
              <a:ext cx="47520" cy="2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60" y="1519200"/>
            <a:ext cx="6997680" cy="4359960"/>
          </a:xfrm>
          <a:prstGeom prst="rect">
            <a:avLst/>
          </a:prstGeom>
          <a:noFill/>
          <a:ln w="9360">
            <a:solidFill>
              <a:srgbClr val="d3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 Black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41640" y="269244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00600" y="2689200"/>
            <a:ext cx="8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8240" y="3535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96080" y="352584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44600" y="4403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77760" y="2678040"/>
            <a:ext cx="673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74960" y="3557520"/>
            <a:ext cx="4694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47880" y="4414680"/>
            <a:ext cx="207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2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58680" y="1371600"/>
            <a:ext cx="7479000" cy="37846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hakespearean sonnet is a poem made up of 3 quatrains (4 lines each), and a couplet (2 lines). Each line is in iambic pentameter (which means it has 5 iambic feet). So, how many iambic feet long is a Shakespearean sonne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1760" y="457668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47720" y="2176560"/>
            <a:ext cx="7661160" cy="630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find square roo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9400" y="65570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ur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84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828800"/>
            <a:ext cx="7162920" cy="14479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ncipal square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ect 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762120"/>
            <a:ext cx="75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nk about the relationship between the area of a square and the length of one of its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9960" y="2886120"/>
            <a:ext cx="75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ing the square root of a number is the inverse of squaring th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1760" y="4406760"/>
            <a:ext cx="856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2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 positive number has two square roots, one positive and one negative. One square root of 16 is 4, since 4 • 4 = 16. The other square root of 16 is –4, since (–4) • (–4) is also 16. You can write the square roots of 16 as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, meaning “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lus or minu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1800360"/>
            <a:ext cx="47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a = 36 square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de length =    36 = 6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725640" y="2250720"/>
            <a:ext cx="575640" cy="244800"/>
            <a:chOff x="3725640" y="2250720"/>
            <a:chExt cx="575640" cy="244800"/>
          </a:xfrm>
        </p:grpSpPr>
        <p:sp>
          <p:nvSpPr>
            <p:cNvPr id="78" name=""/>
            <p:cNvSpPr/>
            <p:nvPr/>
          </p:nvSpPr>
          <p:spPr>
            <a:xfrm flipH="1">
              <a:off x="3945960" y="2255760"/>
              <a:ext cx="355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828960" y="2250720"/>
              <a:ext cx="12168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3764880" y="2357280"/>
              <a:ext cx="6804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725640" y="2363760"/>
              <a:ext cx="47160" cy="2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353960" y="3753000"/>
            <a:ext cx="4373640" cy="520560"/>
            <a:chOff x="1353960" y="3753000"/>
            <a:chExt cx="4373640" cy="520560"/>
          </a:xfrm>
        </p:grpSpPr>
        <p:sp>
          <p:nvSpPr>
            <p:cNvPr id="83" name=""/>
            <p:cNvSpPr/>
            <p:nvPr/>
          </p:nvSpPr>
          <p:spPr>
            <a:xfrm>
              <a:off x="1353960" y="3753000"/>
              <a:ext cx="437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36                36 =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4165560" y="3820680"/>
              <a:ext cx="576360" cy="244800"/>
              <a:chOff x="4165560" y="3820680"/>
              <a:chExt cx="576360" cy="244800"/>
            </a:xfrm>
          </p:grpSpPr>
          <p:sp>
            <p:nvSpPr>
              <p:cNvPr id="85" name=""/>
              <p:cNvSpPr/>
              <p:nvPr/>
            </p:nvSpPr>
            <p:spPr>
              <a:xfrm flipH="1">
                <a:off x="4386240" y="382572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4268880" y="382068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flipV="1">
                <a:off x="4205160" y="392724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4165560" y="393372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2905200"/>
            <a:ext cx="809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s 16, 36, and 49 are examples of perfect squares.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erfect squa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number that has integers as its square roots. Other perfect squares include 1, 4, 9, 25, 64, and 8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762120"/>
            <a:ext cx="80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press the       key on a calculator, only the nonnegative square root appears. This is calle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incipal square ro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946320" y="864720"/>
            <a:ext cx="575640" cy="244800"/>
            <a:chOff x="3946320" y="864720"/>
            <a:chExt cx="575640" cy="244800"/>
          </a:xfrm>
        </p:grpSpPr>
        <p:sp>
          <p:nvSpPr>
            <p:cNvPr id="92" name=""/>
            <p:cNvSpPr/>
            <p:nvPr/>
          </p:nvSpPr>
          <p:spPr>
            <a:xfrm flipH="1">
              <a:off x="4166640" y="869760"/>
              <a:ext cx="355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4049640" y="864720"/>
              <a:ext cx="12168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3985560" y="971280"/>
              <a:ext cx="6804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946320" y="977760"/>
              <a:ext cx="47160" cy="2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443320" y="2236680"/>
            <a:ext cx="3821040" cy="429120"/>
            <a:chOff x="2443320" y="2236680"/>
            <a:chExt cx="3821040" cy="429120"/>
          </a:xfrm>
        </p:grpSpPr>
        <p:sp>
          <p:nvSpPr>
            <p:cNvPr id="97" name=""/>
            <p:cNvSpPr/>
            <p:nvPr/>
          </p:nvSpPr>
          <p:spPr>
            <a:xfrm>
              <a:off x="2443320" y="2236680"/>
              <a:ext cx="3821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b2823"/>
                  </a:solidFill>
                  <a:latin typeface="Verdana"/>
                </a:rPr>
                <a:t>+  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16 = 4     </a:t>
              </a:r>
              <a:r>
                <a:rPr b="0" lang="en-US" sz="2200" spc="-1" strike="noStrike">
                  <a:solidFill>
                    <a:srgbClr val="ff0000"/>
                  </a:solidFill>
                  <a:latin typeface="Verdana"/>
                </a:rPr>
                <a:t>–  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16 = –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2713320" y="2306160"/>
              <a:ext cx="576360" cy="244800"/>
              <a:chOff x="2713320" y="2306160"/>
              <a:chExt cx="576360" cy="244800"/>
            </a:xfrm>
          </p:grpSpPr>
          <p:sp>
            <p:nvSpPr>
              <p:cNvPr id="99" name=""/>
              <p:cNvSpPr/>
              <p:nvPr/>
            </p:nvSpPr>
            <p:spPr>
              <a:xfrm flipH="1">
                <a:off x="2934000" y="231120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2816640" y="230616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flipV="1">
                <a:off x="2752920" y="241272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713320" y="241920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604040" y="2314080"/>
              <a:ext cx="576360" cy="244800"/>
              <a:chOff x="4604040" y="2314080"/>
              <a:chExt cx="576360" cy="244800"/>
            </a:xfrm>
          </p:grpSpPr>
          <p:sp>
            <p:nvSpPr>
              <p:cNvPr id="104" name=""/>
              <p:cNvSpPr/>
              <p:nvPr/>
            </p:nvSpPr>
            <p:spPr>
              <a:xfrm flipH="1">
                <a:off x="4824720" y="231912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4707360" y="231408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flipV="1">
                <a:off x="4643640" y="242064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4604040" y="242712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728640" y="4846680"/>
            <a:ext cx="6862680" cy="1282680"/>
            <a:chOff x="728640" y="4846680"/>
            <a:chExt cx="6862680" cy="1282680"/>
          </a:xfrm>
        </p:grpSpPr>
        <p:sp>
          <p:nvSpPr>
            <p:cNvPr id="109" name=""/>
            <p:cNvSpPr/>
            <p:nvPr/>
          </p:nvSpPr>
          <p:spPr>
            <a:xfrm>
              <a:off x="728640" y="5303880"/>
              <a:ext cx="6862680" cy="825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9 is not the same as –  49.  A negative number has no real square roo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8640" y="4846680"/>
              <a:ext cx="2819520" cy="457200"/>
            </a:xfrm>
            <a:prstGeom prst="roundRect">
              <a:avLst>
                <a:gd name="adj" fmla="val 833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aution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884480" y="5395680"/>
              <a:ext cx="575640" cy="244800"/>
              <a:chOff x="4884480" y="5395680"/>
              <a:chExt cx="575640" cy="244800"/>
            </a:xfrm>
          </p:grpSpPr>
          <p:sp>
            <p:nvSpPr>
              <p:cNvPr id="112" name=""/>
              <p:cNvSpPr/>
              <p:nvPr/>
            </p:nvSpPr>
            <p:spPr>
              <a:xfrm flipH="1">
                <a:off x="5104800" y="5400720"/>
                <a:ext cx="355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4987800" y="5395680"/>
                <a:ext cx="1216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flipV="1">
                <a:off x="4923720" y="550224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4884480" y="5508720"/>
                <a:ext cx="4716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818640" y="5401800"/>
              <a:ext cx="785520" cy="244440"/>
              <a:chOff x="818640" y="5401800"/>
              <a:chExt cx="785520" cy="244440"/>
            </a:xfrm>
          </p:grpSpPr>
          <p:sp>
            <p:nvSpPr>
              <p:cNvPr id="117" name=""/>
              <p:cNvSpPr/>
              <p:nvPr/>
            </p:nvSpPr>
            <p:spPr>
              <a:xfrm flipH="1">
                <a:off x="1076760" y="5407200"/>
                <a:ext cx="52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939600" y="5401800"/>
                <a:ext cx="14292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 flipV="1">
                <a:off x="865080" y="5508360"/>
                <a:ext cx="79560" cy="137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818640" y="5514840"/>
                <a:ext cx="55800" cy="2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723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: 1 Finding the Positive and Negative Square Roots of a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8160" y="146700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two square roots of each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5040" y="2368440"/>
            <a:ext cx="50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7 is a square root, since 7 • 7 = 4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78280" y="2816280"/>
            <a:ext cx="56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7 is also a square root, s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 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7 • –7 = 4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41560" y="3884760"/>
            <a:ext cx="59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0 is a square root, since 10 • 10 = 1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02040" y="4351320"/>
            <a:ext cx="614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0 is also a square root, s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0 • –10 = 1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43040" y="2817720"/>
            <a:ext cx="1882080" cy="473760"/>
            <a:chOff x="743040" y="2817720"/>
            <a:chExt cx="1882080" cy="473760"/>
          </a:xfrm>
        </p:grpSpPr>
        <p:sp>
          <p:nvSpPr>
            <p:cNvPr id="128" name=""/>
            <p:cNvSpPr/>
            <p:nvPr/>
          </p:nvSpPr>
          <p:spPr>
            <a:xfrm>
              <a:off x="1248120" y="2817720"/>
              <a:ext cx="137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9   = –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3040" y="2831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125360" y="2893320"/>
              <a:ext cx="576360" cy="244800"/>
              <a:chOff x="1125360" y="2893320"/>
              <a:chExt cx="576360" cy="244800"/>
            </a:xfrm>
          </p:grpSpPr>
          <p:sp>
            <p:nvSpPr>
              <p:cNvPr id="131" name=""/>
              <p:cNvSpPr/>
              <p:nvPr/>
            </p:nvSpPr>
            <p:spPr>
              <a:xfrm flipH="1">
                <a:off x="1346040" y="289836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1228680" y="289332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1164960" y="299988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1125360" y="300636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1127160" y="2370240"/>
            <a:ext cx="1333440" cy="459720"/>
            <a:chOff x="1127160" y="2370240"/>
            <a:chExt cx="1333440" cy="459720"/>
          </a:xfrm>
        </p:grpSpPr>
        <p:sp>
          <p:nvSpPr>
            <p:cNvPr id="136" name=""/>
            <p:cNvSpPr/>
            <p:nvPr/>
          </p:nvSpPr>
          <p:spPr>
            <a:xfrm>
              <a:off x="1252800" y="2370240"/>
              <a:ext cx="12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9   =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127160" y="2442960"/>
              <a:ext cx="576360" cy="244800"/>
              <a:chOff x="1127160" y="2442960"/>
              <a:chExt cx="576360" cy="24480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1347840" y="244800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1230480" y="244296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flipV="1">
                <a:off x="1166760" y="254952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127160" y="255600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1071720" y="3887640"/>
            <a:ext cx="1472400" cy="459720"/>
            <a:chOff x="1071720" y="3887640"/>
            <a:chExt cx="1472400" cy="459720"/>
          </a:xfrm>
        </p:grpSpPr>
        <p:sp>
          <p:nvSpPr>
            <p:cNvPr id="143" name=""/>
            <p:cNvSpPr/>
            <p:nvPr/>
          </p:nvSpPr>
          <p:spPr>
            <a:xfrm>
              <a:off x="1168560" y="3887640"/>
              <a:ext cx="137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 =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071720" y="3974400"/>
              <a:ext cx="699120" cy="244800"/>
              <a:chOff x="1071720" y="3974400"/>
              <a:chExt cx="699120" cy="244800"/>
            </a:xfrm>
          </p:grpSpPr>
          <p:sp>
            <p:nvSpPr>
              <p:cNvPr id="145" name=""/>
              <p:cNvSpPr/>
              <p:nvPr/>
            </p:nvSpPr>
            <p:spPr>
              <a:xfrm flipH="1">
                <a:off x="1291680" y="397944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1174680" y="397440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1111320" y="408096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1071720" y="408744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693720" y="4348080"/>
            <a:ext cx="2021400" cy="469440"/>
            <a:chOff x="693720" y="4348080"/>
            <a:chExt cx="2021400" cy="469440"/>
          </a:xfrm>
        </p:grpSpPr>
        <p:sp>
          <p:nvSpPr>
            <p:cNvPr id="150" name=""/>
            <p:cNvSpPr/>
            <p:nvPr/>
          </p:nvSpPr>
          <p:spPr>
            <a:xfrm>
              <a:off x="1170360" y="4348080"/>
              <a:ext cx="15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 = –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3720" y="435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074240" y="4427280"/>
              <a:ext cx="700560" cy="244800"/>
              <a:chOff x="1074240" y="4427280"/>
              <a:chExt cx="700560" cy="244800"/>
            </a:xfrm>
          </p:grpSpPr>
          <p:sp>
            <p:nvSpPr>
              <p:cNvPr id="153" name=""/>
              <p:cNvSpPr/>
              <p:nvPr/>
            </p:nvSpPr>
            <p:spPr>
              <a:xfrm flipH="1">
                <a:off x="1295280" y="4432320"/>
                <a:ext cx="47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1177920" y="4427280"/>
                <a:ext cx="12240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1114200" y="453384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1074240" y="454032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657360" y="183816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. 4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7360" y="336240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. 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7360" y="483876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. 22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13200" y="5348160"/>
            <a:ext cx="61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5 is a square root, since 15 • 15 = 2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88840" y="5361120"/>
            <a:ext cx="1657800" cy="459720"/>
            <a:chOff x="888840" y="5361120"/>
            <a:chExt cx="1657800" cy="459720"/>
          </a:xfrm>
        </p:grpSpPr>
        <p:sp>
          <p:nvSpPr>
            <p:cNvPr id="162" name=""/>
            <p:cNvSpPr/>
            <p:nvPr/>
          </p:nvSpPr>
          <p:spPr>
            <a:xfrm>
              <a:off x="1000440" y="5361120"/>
              <a:ext cx="154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25   = 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888840" y="5446440"/>
              <a:ext cx="699120" cy="244800"/>
              <a:chOff x="888840" y="5446440"/>
              <a:chExt cx="699120" cy="24480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1108800" y="545148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991800" y="544644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928440" y="555300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888840" y="555948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495360" y="5827680"/>
            <a:ext cx="2221200" cy="473760"/>
            <a:chOff x="495360" y="5827680"/>
            <a:chExt cx="2221200" cy="473760"/>
          </a:xfrm>
        </p:grpSpPr>
        <p:sp>
          <p:nvSpPr>
            <p:cNvPr id="169" name=""/>
            <p:cNvSpPr/>
            <p:nvPr/>
          </p:nvSpPr>
          <p:spPr>
            <a:xfrm>
              <a:off x="1001160" y="582768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25   = –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360" y="584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879480" y="5909760"/>
              <a:ext cx="699120" cy="244800"/>
              <a:chOff x="879480" y="5909760"/>
              <a:chExt cx="699120" cy="244800"/>
            </a:xfrm>
          </p:grpSpPr>
          <p:sp>
            <p:nvSpPr>
              <p:cNvPr id="172" name=""/>
              <p:cNvSpPr/>
              <p:nvPr/>
            </p:nvSpPr>
            <p:spPr>
              <a:xfrm flipH="1">
                <a:off x="1099440" y="591480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982440" y="590976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919080" y="601632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879480" y="602280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3006720" y="5808600"/>
            <a:ext cx="590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5 is also a square roo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since –15 • –15 = 2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57360" y="183816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. 2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06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6280" y="2300400"/>
            <a:ext cx="63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5 is a square root, since 5 • 5 =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7720" y="2701800"/>
            <a:ext cx="570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5 is also a square root, s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5 • –5 =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1760" y="379872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2 is a square root, since 12 • 12 = 14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71640" y="4275000"/>
            <a:ext cx="63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2 is also a square root, s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2 • –12 = 14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52400" y="2693880"/>
            <a:ext cx="1882080" cy="473760"/>
            <a:chOff x="752400" y="2693880"/>
            <a:chExt cx="1882080" cy="473760"/>
          </a:xfrm>
        </p:grpSpPr>
        <p:sp>
          <p:nvSpPr>
            <p:cNvPr id="184" name=""/>
            <p:cNvSpPr/>
            <p:nvPr/>
          </p:nvSpPr>
          <p:spPr>
            <a:xfrm>
              <a:off x="1257480" y="2693880"/>
              <a:ext cx="137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5   = –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2400" y="270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1134720" y="2769480"/>
              <a:ext cx="576360" cy="244800"/>
              <a:chOff x="1134720" y="2769480"/>
              <a:chExt cx="576360" cy="244800"/>
            </a:xfrm>
          </p:grpSpPr>
          <p:sp>
            <p:nvSpPr>
              <p:cNvPr id="187" name=""/>
              <p:cNvSpPr/>
              <p:nvPr/>
            </p:nvSpPr>
            <p:spPr>
              <a:xfrm flipH="1">
                <a:off x="1355400" y="277452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1238040" y="276948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1174320" y="287604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1134720" y="288252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136520" y="2303640"/>
            <a:ext cx="1333440" cy="459720"/>
            <a:chOff x="1136520" y="2303640"/>
            <a:chExt cx="1333440" cy="459720"/>
          </a:xfrm>
        </p:grpSpPr>
        <p:sp>
          <p:nvSpPr>
            <p:cNvPr id="192" name=""/>
            <p:cNvSpPr/>
            <p:nvPr/>
          </p:nvSpPr>
          <p:spPr>
            <a:xfrm>
              <a:off x="1262160" y="2303640"/>
              <a:ext cx="12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5   =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1136520" y="2376360"/>
              <a:ext cx="576360" cy="244800"/>
              <a:chOff x="1136520" y="2376360"/>
              <a:chExt cx="576360" cy="24480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1357200" y="238140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239840" y="237636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1176120" y="248292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1136520" y="248940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1128600" y="3830760"/>
            <a:ext cx="1472400" cy="459720"/>
            <a:chOff x="1128600" y="3830760"/>
            <a:chExt cx="1472400" cy="459720"/>
          </a:xfrm>
        </p:grpSpPr>
        <p:sp>
          <p:nvSpPr>
            <p:cNvPr id="199" name=""/>
            <p:cNvSpPr/>
            <p:nvPr/>
          </p:nvSpPr>
          <p:spPr>
            <a:xfrm>
              <a:off x="1225440" y="3830760"/>
              <a:ext cx="137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4 =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128600" y="3917520"/>
              <a:ext cx="699120" cy="244800"/>
              <a:chOff x="1128600" y="3917520"/>
              <a:chExt cx="699120" cy="244800"/>
            </a:xfrm>
          </p:grpSpPr>
          <p:sp>
            <p:nvSpPr>
              <p:cNvPr id="201" name=""/>
              <p:cNvSpPr/>
              <p:nvPr/>
            </p:nvSpPr>
            <p:spPr>
              <a:xfrm flipH="1">
                <a:off x="1348560" y="392256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1231560" y="391752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1168200" y="402408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128600" y="403056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722520" y="4290840"/>
            <a:ext cx="2021400" cy="469440"/>
            <a:chOff x="722520" y="4290840"/>
            <a:chExt cx="2021400" cy="469440"/>
          </a:xfrm>
        </p:grpSpPr>
        <p:sp>
          <p:nvSpPr>
            <p:cNvPr id="206" name=""/>
            <p:cNvSpPr/>
            <p:nvPr/>
          </p:nvSpPr>
          <p:spPr>
            <a:xfrm>
              <a:off x="1199160" y="4290840"/>
              <a:ext cx="15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4 = –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2520" y="430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103040" y="4370040"/>
              <a:ext cx="700560" cy="244800"/>
              <a:chOff x="1103040" y="4370040"/>
              <a:chExt cx="700560" cy="244800"/>
            </a:xfrm>
          </p:grpSpPr>
          <p:sp>
            <p:nvSpPr>
              <p:cNvPr id="209" name=""/>
              <p:cNvSpPr/>
              <p:nvPr/>
            </p:nvSpPr>
            <p:spPr>
              <a:xfrm flipH="1">
                <a:off x="1324080" y="4375080"/>
                <a:ext cx="47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1206720" y="4370040"/>
                <a:ext cx="12240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1143000" y="447660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103040" y="448308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668160" y="146700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two square roots of each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7360" y="336240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. 14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7360" y="483876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. 28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79640" y="5256360"/>
            <a:ext cx="1657800" cy="459720"/>
            <a:chOff x="1079640" y="5256360"/>
            <a:chExt cx="1657800" cy="459720"/>
          </a:xfrm>
        </p:grpSpPr>
        <p:sp>
          <p:nvSpPr>
            <p:cNvPr id="217" name=""/>
            <p:cNvSpPr/>
            <p:nvPr/>
          </p:nvSpPr>
          <p:spPr>
            <a:xfrm>
              <a:off x="1191240" y="5256360"/>
              <a:ext cx="154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89   =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079640" y="5341680"/>
              <a:ext cx="699120" cy="244800"/>
              <a:chOff x="1079640" y="5341680"/>
              <a:chExt cx="699120" cy="244800"/>
            </a:xfrm>
          </p:grpSpPr>
          <p:sp>
            <p:nvSpPr>
              <p:cNvPr id="219" name=""/>
              <p:cNvSpPr/>
              <p:nvPr/>
            </p:nvSpPr>
            <p:spPr>
              <a:xfrm flipH="1">
                <a:off x="1299600" y="534672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1182600" y="534168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flipV="1">
                <a:off x="1119240" y="544824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1079640" y="545472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676440" y="5732640"/>
            <a:ext cx="2221200" cy="473760"/>
            <a:chOff x="676440" y="5732640"/>
            <a:chExt cx="2221200" cy="473760"/>
          </a:xfrm>
        </p:grpSpPr>
        <p:sp>
          <p:nvSpPr>
            <p:cNvPr id="224" name=""/>
            <p:cNvSpPr/>
            <p:nvPr/>
          </p:nvSpPr>
          <p:spPr>
            <a:xfrm>
              <a:off x="1182240" y="573264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89   = –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6440" y="574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1060560" y="5814720"/>
              <a:ext cx="699120" cy="244800"/>
              <a:chOff x="1060560" y="5814720"/>
              <a:chExt cx="699120" cy="244800"/>
            </a:xfrm>
          </p:grpSpPr>
          <p:sp>
            <p:nvSpPr>
              <p:cNvPr id="227" name=""/>
              <p:cNvSpPr/>
              <p:nvPr/>
            </p:nvSpPr>
            <p:spPr>
              <a:xfrm flipH="1">
                <a:off x="1280520" y="581976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1163520" y="581472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1100160" y="592128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1060560" y="592776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>
            <a:off x="2990880" y="5186520"/>
            <a:ext cx="58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7 is a square root, since 17 • 17 = 28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09960" y="5729400"/>
            <a:ext cx="595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7 is also a square root, s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7 • –17 = 28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3:56:17Z</dcterms:created>
  <dc:creator/>
  <dc:description/>
  <dc:language>en-US</dc:language>
  <cp:lastModifiedBy>stevenh</cp:lastModifiedBy>
  <dcterms:modified xsi:type="dcterms:W3CDTF">2006-04-26T19:01:56Z</dcterms:modified>
  <cp:revision>98</cp:revision>
  <dc:subject/>
  <dc:title>PowerPoint Presentation</dc:title>
</cp:coreProperties>
</file>