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E98-F6D8-475D-BECC-8AEC3AA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DB6-7E26-4086-96EE-12DCD79D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8BB-AE7E-4B23-A889-0C68E15F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16B-BF61-4D45-8AEB-80B2CADE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43B-0FC7-4E02-AEB0-9DB5005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CEB-1065-4CDA-921A-6E5EA6DE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825-4F7C-45AB-A387-7E3A6AC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4AD-DD45-4EEB-8FBD-DD9512F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220-AAD4-462B-A223-FAFFB27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159-952C-4C73-B692-98EE059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E52-709C-4664-8B8D-41569C4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768-4AEF-431E-AF54-6BB9648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0634-3848-4A04-AAC2-DF335F0D8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9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quares and Square Roo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360" y="1339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quares and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0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2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4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6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7960" y="351000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0280" y="46404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dow is 13 inch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225900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9 to find the width of the window. Use the positive square root; a negative length has no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2640" y="1428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window has an area of 169 square inches. How wide is the win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02600" y="4038480"/>
            <a:ext cx="2133000" cy="459720"/>
            <a:chOff x="1002600" y="4038480"/>
            <a:chExt cx="2133000" cy="459720"/>
          </a:xfrm>
        </p:grpSpPr>
        <p:sp>
          <p:nvSpPr>
            <p:cNvPr id="239" name=""/>
            <p:cNvSpPr/>
            <p:nvPr/>
          </p:nvSpPr>
          <p:spPr>
            <a:xfrm>
              <a:off x="1002600" y="40384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  169  = 1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22000" y="4119120"/>
              <a:ext cx="700560" cy="244800"/>
              <a:chOff x="1422000" y="4119120"/>
              <a:chExt cx="700560" cy="24480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1643040" y="412416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525680" y="411912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461960" y="422568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422000" y="423216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38160" y="5189400"/>
            <a:ext cx="6862680" cy="1282680"/>
            <a:chOff x="938160" y="5189400"/>
            <a:chExt cx="6862680" cy="1282680"/>
          </a:xfrm>
        </p:grpSpPr>
        <p:sp>
          <p:nvSpPr>
            <p:cNvPr id="246" name=""/>
            <p:cNvSpPr/>
            <p:nvPr/>
          </p:nvSpPr>
          <p:spPr>
            <a:xfrm>
              <a:off x="938160" y="5646600"/>
              <a:ext cx="686268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area of a squar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length of a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8160" y="518940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094000" y="5738400"/>
              <a:ext cx="575640" cy="244800"/>
              <a:chOff x="5094000" y="5738400"/>
              <a:chExt cx="575640" cy="2448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5314320" y="5743440"/>
                <a:ext cx="35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197320" y="5738400"/>
                <a:ext cx="12168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5133240" y="5844960"/>
                <a:ext cx="6804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094000" y="5851440"/>
                <a:ext cx="4716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8160" y="5744520"/>
              <a:ext cx="785520" cy="244440"/>
              <a:chOff x="1028160" y="5744520"/>
              <a:chExt cx="785520" cy="2444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286280" y="5749920"/>
                <a:ext cx="5274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149120" y="5744520"/>
                <a:ext cx="14292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074600" y="5851080"/>
                <a:ext cx="79560" cy="13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028160" y="5857560"/>
                <a:ext cx="55800" cy="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3120" y="26827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 to find the width of the table. Use the positive square root; a negative length has no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906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1080" y="1366920"/>
            <a:ext cx="81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shaped kitchen table has an area of 16 square feet. Will it fit through a van door that has a 5 foot wide op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5480" y="466236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the table is 4 feet wide, which is less than 5 feet, so it will fit through the van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67920" y="3952800"/>
            <a:ext cx="1377000" cy="459720"/>
            <a:chOff x="1267920" y="3952800"/>
            <a:chExt cx="1377000" cy="459720"/>
          </a:xfrm>
        </p:grpSpPr>
        <p:sp>
          <p:nvSpPr>
            <p:cNvPr id="263" name=""/>
            <p:cNvSpPr/>
            <p:nvPr/>
          </p:nvSpPr>
          <p:spPr>
            <a:xfrm>
              <a:off x="1401840" y="3952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520" y="404784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87440" y="4042800"/>
              <a:ext cx="141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4000" y="4149360"/>
              <a:ext cx="7956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267920" y="4155840"/>
              <a:ext cx="5580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914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1520" y="3112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57848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0040" y="4521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76840" y="389880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2040" y="38419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0240" y="2476440"/>
            <a:ext cx="2911680" cy="459720"/>
            <a:chOff x="660240" y="2476440"/>
            <a:chExt cx="2911680" cy="459720"/>
          </a:xfrm>
        </p:grpSpPr>
        <p:sp>
          <p:nvSpPr>
            <p:cNvPr id="276" name=""/>
            <p:cNvSpPr/>
            <p:nvPr/>
          </p:nvSpPr>
          <p:spPr>
            <a:xfrm>
              <a:off x="660240" y="247644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  36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04440" y="2565000"/>
              <a:ext cx="558720" cy="244800"/>
              <a:chOff x="1504440" y="2565000"/>
              <a:chExt cx="558720" cy="2448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1725120" y="257004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608120" y="25650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1544400" y="267156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504440" y="267804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418760" y="3117960"/>
            <a:ext cx="2782800" cy="459720"/>
            <a:chOff x="1418760" y="3117960"/>
            <a:chExt cx="2782800" cy="459720"/>
          </a:xfrm>
        </p:grpSpPr>
        <p:sp>
          <p:nvSpPr>
            <p:cNvPr id="283" name=""/>
            <p:cNvSpPr/>
            <p:nvPr/>
          </p:nvSpPr>
          <p:spPr>
            <a:xfrm>
              <a:off x="1466640" y="311796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36 + 7 = 3(6)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18760" y="3192480"/>
              <a:ext cx="558720" cy="244800"/>
              <a:chOff x="1418760" y="3192480"/>
              <a:chExt cx="558720" cy="24480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1639440" y="319752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522440" y="3192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458720" y="32990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18760" y="33055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3120" y="188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4240" y="27432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62000" y="2600280"/>
            <a:ext cx="1913040" cy="825480"/>
            <a:chOff x="1062000" y="2600280"/>
            <a:chExt cx="1913040" cy="825480"/>
          </a:xfrm>
        </p:grpSpPr>
        <p:sp>
          <p:nvSpPr>
            <p:cNvPr id="293" name=""/>
            <p:cNvSpPr/>
            <p:nvPr/>
          </p:nvSpPr>
          <p:spPr>
            <a:xfrm flipH="1">
              <a:off x="1282320" y="2619360"/>
              <a:ext cx="50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165320" y="2604960"/>
              <a:ext cx="122040" cy="7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101600" y="293184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062000" y="295128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9320" y="2600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16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52800" y="260028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85800" y="3695760"/>
            <a:ext cx="2911320" cy="825480"/>
            <a:chOff x="685800" y="3695760"/>
            <a:chExt cx="2911320" cy="825480"/>
          </a:xfrm>
        </p:grpSpPr>
        <p:grpSp>
          <p:nvGrpSpPr>
            <p:cNvPr id="300" name=""/>
            <p:cNvGrpSpPr/>
            <p:nvPr/>
          </p:nvGrpSpPr>
          <p:grpSpPr>
            <a:xfrm>
              <a:off x="1195560" y="3695760"/>
              <a:ext cx="1412640" cy="755640"/>
              <a:chOff x="1195560" y="3695760"/>
              <a:chExt cx="1412640" cy="7556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1415880" y="3714840"/>
                <a:ext cx="46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8520" y="3700440"/>
                <a:ext cx="122400" cy="75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234800" y="4027320"/>
                <a:ext cx="68040" cy="42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195560" y="4046400"/>
                <a:ext cx="47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2520" y="3695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286000" y="369576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382752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83240" y="3630600"/>
            <a:ext cx="2838240" cy="825480"/>
            <a:chOff x="2883240" y="3630600"/>
            <a:chExt cx="2838240" cy="825480"/>
          </a:xfrm>
        </p:grpSpPr>
        <p:sp>
          <p:nvSpPr>
            <p:cNvPr id="309" name=""/>
            <p:cNvSpPr/>
            <p:nvPr/>
          </p:nvSpPr>
          <p:spPr>
            <a:xfrm>
              <a:off x="4898880" y="363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883240" y="3825720"/>
              <a:ext cx="2201400" cy="464760"/>
              <a:chOff x="2883240" y="3825720"/>
              <a:chExt cx="2201400" cy="464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883240" y="3830760"/>
                <a:ext cx="171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           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4480" y="3825720"/>
                <a:ext cx="173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.5625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999880" y="3863880"/>
                <a:ext cx="1573560" cy="370080"/>
                <a:chOff x="2999880" y="3863880"/>
                <a:chExt cx="1573560" cy="3700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3478320" y="3871800"/>
                  <a:ext cx="1095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224160" y="3863880"/>
                  <a:ext cx="26532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3086280" y="4024440"/>
                  <a:ext cx="14760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999880" y="4033800"/>
                  <a:ext cx="10332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46465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1040" y="4726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.2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7240" y="4586400"/>
            <a:ext cx="8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3400" y="3695760"/>
            <a:ext cx="82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1480" y="3666960"/>
            <a:ext cx="2948760" cy="780120"/>
            <a:chOff x="5451480" y="3666960"/>
            <a:chExt cx="2948760" cy="780120"/>
          </a:xfrm>
        </p:grpSpPr>
        <p:grpSp>
          <p:nvGrpSpPr>
            <p:cNvPr id="325" name=""/>
            <p:cNvGrpSpPr/>
            <p:nvPr/>
          </p:nvGrpSpPr>
          <p:grpSpPr>
            <a:xfrm>
              <a:off x="6055920" y="3696840"/>
              <a:ext cx="565200" cy="750240"/>
              <a:chOff x="6055920" y="3696840"/>
              <a:chExt cx="565200" cy="75024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6278760" y="371124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160320" y="369684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6095880" y="402300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055920" y="404280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51480" y="3666960"/>
              <a:ext cx="2948760" cy="610560"/>
              <a:chOff x="5451480" y="3666960"/>
              <a:chExt cx="2948760" cy="610560"/>
            </a:xfrm>
          </p:grpSpPr>
          <p:sp>
            <p:nvSpPr>
              <p:cNvPr id="331" name=""/>
              <p:cNvSpPr/>
              <p:nvPr/>
            </p:nvSpPr>
            <p:spPr>
              <a:xfrm>
                <a:off x="6173280" y="366696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25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51480" y="381780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1.5625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2654640" y="5688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2800" y="57103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2120" y="1405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72160" y="29131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91240" y="428292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8480" y="4282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3603600"/>
            <a:ext cx="36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0120" y="360360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90560" y="2171880"/>
            <a:ext cx="3035160" cy="459720"/>
            <a:chOff x="790560" y="2171880"/>
            <a:chExt cx="3035160" cy="459720"/>
          </a:xfrm>
        </p:grpSpPr>
        <p:sp>
          <p:nvSpPr>
            <p:cNvPr id="343" name=""/>
            <p:cNvSpPr/>
            <p:nvPr/>
          </p:nvSpPr>
          <p:spPr>
            <a:xfrm>
              <a:off x="790560" y="2171880"/>
              <a:ext cx="30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 25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371600" y="2252160"/>
              <a:ext cx="624960" cy="244800"/>
              <a:chOff x="1371600" y="2252160"/>
              <a:chExt cx="624960" cy="24480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618560" y="2257200"/>
                <a:ext cx="37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87160" y="2252160"/>
                <a:ext cx="1364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415880" y="2358720"/>
                <a:ext cx="7596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371600" y="2365200"/>
                <a:ext cx="532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1342800" y="2917800"/>
            <a:ext cx="2782800" cy="459720"/>
            <a:chOff x="1342800" y="2917800"/>
            <a:chExt cx="2782800" cy="459720"/>
          </a:xfrm>
        </p:grpSpPr>
        <p:sp>
          <p:nvSpPr>
            <p:cNvPr id="350" name=""/>
            <p:cNvSpPr/>
            <p:nvPr/>
          </p:nvSpPr>
          <p:spPr>
            <a:xfrm>
              <a:off x="1390680" y="291780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25 + 4 = 2(5)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42800" y="3011040"/>
              <a:ext cx="558720" cy="244800"/>
              <a:chOff x="1342800" y="3011040"/>
              <a:chExt cx="558720" cy="24480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1563480" y="301608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446480" y="30110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1382760" y="3117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342800" y="3124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3480" y="91332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2000" y="1419120"/>
            <a:ext cx="82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46160" y="232236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43080" y="2190600"/>
            <a:ext cx="1913040" cy="825480"/>
            <a:chOff x="1243080" y="2190600"/>
            <a:chExt cx="1913040" cy="825480"/>
          </a:xfrm>
        </p:grpSpPr>
        <p:sp>
          <p:nvSpPr>
            <p:cNvPr id="360" name=""/>
            <p:cNvSpPr/>
            <p:nvPr/>
          </p:nvSpPr>
          <p:spPr>
            <a:xfrm flipH="1">
              <a:off x="1463400" y="22096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6040" y="2195280"/>
              <a:ext cx="122400" cy="75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282680" y="252216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243080" y="254160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2190600"/>
              <a:ext cx="125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3520" y="219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4880" y="3286080"/>
            <a:ext cx="2911320" cy="825480"/>
            <a:chOff x="704880" y="3286080"/>
            <a:chExt cx="2911320" cy="825480"/>
          </a:xfrm>
        </p:grpSpPr>
        <p:grpSp>
          <p:nvGrpSpPr>
            <p:cNvPr id="367" name=""/>
            <p:cNvGrpSpPr/>
            <p:nvPr/>
          </p:nvGrpSpPr>
          <p:grpSpPr>
            <a:xfrm>
              <a:off x="1213920" y="3286080"/>
              <a:ext cx="1913400" cy="825480"/>
              <a:chOff x="1213920" y="3286080"/>
              <a:chExt cx="1913400" cy="8254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213920" y="3286080"/>
                <a:ext cx="1413360" cy="825480"/>
                <a:chOff x="1213920" y="3286080"/>
                <a:chExt cx="1413360" cy="82548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1434600" y="3305160"/>
                  <a:ext cx="4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7600" y="3290760"/>
                  <a:ext cx="122400" cy="75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253880" y="3617640"/>
                  <a:ext cx="68040" cy="42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1213920" y="3637080"/>
                  <a:ext cx="478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1600" y="3286080"/>
                  <a:ext cx="1255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8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Verdana"/>
                    </a:rPr>
                    <a:t>t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05080" y="3286080"/>
                <a:ext cx="8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4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04880" y="341784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37120" y="330660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20680" y="3421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73400" y="3416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1360" y="432288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59120" y="4316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7000" y="417672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346640" y="3257640"/>
            <a:ext cx="2948760" cy="780120"/>
            <a:chOff x="4346640" y="3257640"/>
            <a:chExt cx="2948760" cy="780120"/>
          </a:xfrm>
        </p:grpSpPr>
        <p:grpSp>
          <p:nvGrpSpPr>
            <p:cNvPr id="385" name=""/>
            <p:cNvGrpSpPr/>
            <p:nvPr/>
          </p:nvGrpSpPr>
          <p:grpSpPr>
            <a:xfrm>
              <a:off x="4951080" y="3287520"/>
              <a:ext cx="565200" cy="750240"/>
              <a:chOff x="4951080" y="3287520"/>
              <a:chExt cx="565200" cy="7502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5173920" y="330192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055480" y="328752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4991040" y="361368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951080" y="363348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346640" y="3257640"/>
              <a:ext cx="2948760" cy="610560"/>
              <a:chOff x="4346640" y="3257640"/>
              <a:chExt cx="2948760" cy="610560"/>
            </a:xfrm>
          </p:grpSpPr>
          <p:sp>
            <p:nvSpPr>
              <p:cNvPr id="391" name=""/>
              <p:cNvSpPr/>
              <p:nvPr/>
            </p:nvSpPr>
            <p:spPr>
              <a:xfrm>
                <a:off x="5068440" y="325764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18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Verdana"/>
                  </a:rPr>
                  <a:t>t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2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6640" y="340848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9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2806920" y="5278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17960" y="53006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3720" y="3454560"/>
            <a:ext cx="491760" cy="369360"/>
            <a:chOff x="3123720" y="3454560"/>
            <a:chExt cx="491760" cy="369360"/>
          </a:xfrm>
        </p:grpSpPr>
        <p:sp>
          <p:nvSpPr>
            <p:cNvPr id="396" name=""/>
            <p:cNvSpPr/>
            <p:nvPr/>
          </p:nvSpPr>
          <p:spPr>
            <a:xfrm flipH="1">
              <a:off x="3317760" y="3461400"/>
              <a:ext cx="2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214800" y="3454560"/>
              <a:ext cx="107280" cy="36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3159000" y="3614760"/>
              <a:ext cx="5976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123720" y="3624840"/>
              <a:ext cx="42120" cy="3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359160" y="512928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8080" y="913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676520"/>
            <a:ext cx="7619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each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16 + 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9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212076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38440" y="2195640"/>
            <a:ext cx="63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72960" y="2195640"/>
            <a:ext cx="82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3040" y="391644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39760" y="391644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0080" y="485460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. Estefan wants to put a fence around 3 sides of a square garden that has an area of 2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How much fencing does she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17240" y="59785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45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09480" y="4000320"/>
            <a:ext cx="551880" cy="244440"/>
            <a:chOff x="1509480" y="4000320"/>
            <a:chExt cx="551880" cy="244440"/>
          </a:xfrm>
        </p:grpSpPr>
        <p:sp>
          <p:nvSpPr>
            <p:cNvPr id="411" name=""/>
            <p:cNvSpPr/>
            <p:nvPr/>
          </p:nvSpPr>
          <p:spPr>
            <a:xfrm flipH="1">
              <a:off x="1729800" y="400536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612800" y="40003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48720" y="4106520"/>
              <a:ext cx="6804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09480" y="4113360"/>
              <a:ext cx="4716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3600" y="4006440"/>
            <a:ext cx="457200" cy="244440"/>
            <a:chOff x="5133600" y="4006440"/>
            <a:chExt cx="457200" cy="244440"/>
          </a:xfrm>
        </p:grpSpPr>
        <p:sp>
          <p:nvSpPr>
            <p:cNvPr id="416" name=""/>
            <p:cNvSpPr/>
            <p:nvPr/>
          </p:nvSpPr>
          <p:spPr>
            <a:xfrm flipH="1">
              <a:off x="5316480" y="4011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19280" y="4006440"/>
              <a:ext cx="10080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166360" y="4112640"/>
              <a:ext cx="5652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33600" y="4119480"/>
              <a:ext cx="3924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03880" y="4005000"/>
            <a:ext cx="552600" cy="244440"/>
            <a:chOff x="6203880" y="4005000"/>
            <a:chExt cx="552600" cy="244440"/>
          </a:xfrm>
        </p:grpSpPr>
        <p:sp>
          <p:nvSpPr>
            <p:cNvPr id="421" name=""/>
            <p:cNvSpPr/>
            <p:nvPr/>
          </p:nvSpPr>
          <p:spPr>
            <a:xfrm flipH="1">
              <a:off x="6424560" y="40100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307200" y="4005000"/>
              <a:ext cx="12204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243480" y="4111200"/>
              <a:ext cx="6840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03880" y="4118040"/>
              <a:ext cx="4752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60" y="1519200"/>
            <a:ext cx="6997680" cy="4359960"/>
          </a:xfrm>
          <a:prstGeom prst="rect">
            <a:avLst/>
          </a:prstGeom>
          <a:noFill/>
          <a:ln w="936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 Black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1640" y="2692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0600" y="268920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8240" y="3535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96080" y="35258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44600" y="440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7760" y="2678040"/>
            <a:ext cx="67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74960" y="3557520"/>
            <a:ext cx="46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880" y="4414680"/>
            <a:ext cx="207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58680" y="1371600"/>
            <a:ext cx="7479000" cy="3784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akespearean sonnet is a poem made up of 3 quatrains (4 lines each), and a couplet (2 lines). Each line is in iambic pentameter (which means it has 5 iambic feet). So, how many iambic feet long is a Shakespearean son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1760" y="45766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7720" y="2176560"/>
            <a:ext cx="7661160" cy="630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square roo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84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al squar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ect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762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the relationship between the area of a square and the length of one of its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886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the square root of a number is the inverse of squaring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760" y="4406760"/>
            <a:ext cx="856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2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ositive number has two square roots, one positive and one negative. One square root of 16 is 4, since 4 • 4 = 16. The other square root of 16 is –4, since (–4) • (–4) is also 16. You can write the square roots of 16 a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meaning “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us or mi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80036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36 squar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length =    36 = 6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25640" y="2250720"/>
            <a:ext cx="575640" cy="244800"/>
            <a:chOff x="3725640" y="2250720"/>
            <a:chExt cx="575640" cy="244800"/>
          </a:xfrm>
        </p:grpSpPr>
        <p:sp>
          <p:nvSpPr>
            <p:cNvPr id="78" name=""/>
            <p:cNvSpPr/>
            <p:nvPr/>
          </p:nvSpPr>
          <p:spPr>
            <a:xfrm flipH="1">
              <a:off x="3945960" y="2255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28960" y="2250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64880" y="2357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25640" y="2363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353960" y="3753000"/>
            <a:ext cx="4373640" cy="520560"/>
            <a:chOff x="1353960" y="3753000"/>
            <a:chExt cx="4373640" cy="520560"/>
          </a:xfrm>
        </p:grpSpPr>
        <p:sp>
          <p:nvSpPr>
            <p:cNvPr id="83" name=""/>
            <p:cNvSpPr/>
            <p:nvPr/>
          </p:nvSpPr>
          <p:spPr>
            <a:xfrm>
              <a:off x="1353960" y="3753000"/>
              <a:ext cx="43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6                36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65560" y="3820680"/>
              <a:ext cx="576360" cy="244800"/>
              <a:chOff x="4165560" y="3820680"/>
              <a:chExt cx="576360" cy="24480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4386240" y="38257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268880" y="3820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205160" y="39272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65560" y="3933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90520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16, 36, and 49 are examples of perfect squar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erfect squ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number that has integers as its square roots. Other perfect squares include 1, 4, 9, 25, 64, and 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7621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ress the       key on a calculator, only the nonnegative square root appears. This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ncipal square 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46320" y="864720"/>
            <a:ext cx="575640" cy="244800"/>
            <a:chOff x="3946320" y="864720"/>
            <a:chExt cx="575640" cy="244800"/>
          </a:xfrm>
        </p:grpSpPr>
        <p:sp>
          <p:nvSpPr>
            <p:cNvPr id="92" name=""/>
            <p:cNvSpPr/>
            <p:nvPr/>
          </p:nvSpPr>
          <p:spPr>
            <a:xfrm flipH="1">
              <a:off x="4166640" y="869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049640" y="864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985560" y="971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946320" y="977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3320" y="2236680"/>
            <a:ext cx="3821040" cy="429120"/>
            <a:chOff x="2443320" y="2236680"/>
            <a:chExt cx="3821040" cy="429120"/>
          </a:xfrm>
        </p:grpSpPr>
        <p:sp>
          <p:nvSpPr>
            <p:cNvPr id="97" name=""/>
            <p:cNvSpPr/>
            <p:nvPr/>
          </p:nvSpPr>
          <p:spPr>
            <a:xfrm>
              <a:off x="2443320" y="2236680"/>
              <a:ext cx="382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b2823"/>
                  </a:solidFill>
                  <a:latin typeface="Verdana"/>
                </a:rPr>
                <a:t>+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4     </a:t>
              </a:r>
              <a:r>
                <a:rPr b="0" lang="en-US" sz="2200" spc="-1" strike="noStrike">
                  <a:solidFill>
                    <a:srgbClr val="ff0000"/>
                  </a:solidFill>
                  <a:latin typeface="Verdana"/>
                </a:rPr>
                <a:t>–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–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13320" y="2306160"/>
              <a:ext cx="576360" cy="244800"/>
              <a:chOff x="2713320" y="2306160"/>
              <a:chExt cx="576360" cy="24480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2934000" y="23112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816640" y="23061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752920" y="24127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3320" y="24192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04040" y="2314080"/>
              <a:ext cx="576360" cy="244800"/>
              <a:chOff x="4604040" y="2314080"/>
              <a:chExt cx="576360" cy="244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4824720" y="23191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07360" y="23140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643640" y="24206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604040" y="24271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28640" y="4846680"/>
            <a:ext cx="6862680" cy="1282680"/>
            <a:chOff x="728640" y="4846680"/>
            <a:chExt cx="6862680" cy="1282680"/>
          </a:xfrm>
        </p:grpSpPr>
        <p:sp>
          <p:nvSpPr>
            <p:cNvPr id="109" name=""/>
            <p:cNvSpPr/>
            <p:nvPr/>
          </p:nvSpPr>
          <p:spPr>
            <a:xfrm>
              <a:off x="728640" y="5303880"/>
              <a:ext cx="686268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is not the same as –  49.  A negative number has no real square ro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640" y="484668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84480" y="5395680"/>
              <a:ext cx="575640" cy="244800"/>
              <a:chOff x="4884480" y="5395680"/>
              <a:chExt cx="575640" cy="24480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5104800" y="5400720"/>
                <a:ext cx="35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987800" y="5395680"/>
                <a:ext cx="1216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23720" y="55022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84480" y="5508720"/>
                <a:ext cx="4716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818640" y="5401800"/>
              <a:ext cx="785520" cy="244440"/>
              <a:chOff x="818640" y="5401800"/>
              <a:chExt cx="785520" cy="2444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076760" y="5407200"/>
                <a:ext cx="52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939600" y="5401800"/>
                <a:ext cx="14292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865080" y="5508360"/>
                <a:ext cx="79560" cy="13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818640" y="5514840"/>
                <a:ext cx="55800" cy="2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2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: 1 Finding the Positive and Negative Square Roots of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236844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 square root, since 7 • 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8280" y="2816280"/>
            <a:ext cx="56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lso a square root,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• –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41560" y="388476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 square root, since 10 • 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2040" y="435132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• –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43040" y="2817720"/>
            <a:ext cx="1882080" cy="473760"/>
            <a:chOff x="743040" y="2817720"/>
            <a:chExt cx="1882080" cy="473760"/>
          </a:xfrm>
        </p:grpSpPr>
        <p:sp>
          <p:nvSpPr>
            <p:cNvPr id="128" name=""/>
            <p:cNvSpPr/>
            <p:nvPr/>
          </p:nvSpPr>
          <p:spPr>
            <a:xfrm>
              <a:off x="1248120" y="281772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040" y="283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125360" y="2893320"/>
              <a:ext cx="576360" cy="244800"/>
              <a:chOff x="1125360" y="2893320"/>
              <a:chExt cx="576360" cy="24480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1346040" y="289836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228680" y="28933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164960" y="299988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125360" y="30063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127160" y="2370240"/>
            <a:ext cx="1333440" cy="459720"/>
            <a:chOff x="1127160" y="2370240"/>
            <a:chExt cx="1333440" cy="459720"/>
          </a:xfrm>
        </p:grpSpPr>
        <p:sp>
          <p:nvSpPr>
            <p:cNvPr id="136" name=""/>
            <p:cNvSpPr/>
            <p:nvPr/>
          </p:nvSpPr>
          <p:spPr>
            <a:xfrm>
              <a:off x="1252800" y="23702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127160" y="2442960"/>
              <a:ext cx="576360" cy="244800"/>
              <a:chOff x="1127160" y="2442960"/>
              <a:chExt cx="576360" cy="2448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1347840" y="24480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230480" y="24429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166760" y="25495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27160" y="25560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071720" y="3887640"/>
            <a:ext cx="1472400" cy="459720"/>
            <a:chOff x="1071720" y="3887640"/>
            <a:chExt cx="1472400" cy="459720"/>
          </a:xfrm>
        </p:grpSpPr>
        <p:sp>
          <p:nvSpPr>
            <p:cNvPr id="143" name=""/>
            <p:cNvSpPr/>
            <p:nvPr/>
          </p:nvSpPr>
          <p:spPr>
            <a:xfrm>
              <a:off x="1168560" y="38876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071720" y="3974400"/>
              <a:ext cx="699120" cy="244800"/>
              <a:chOff x="1071720" y="3974400"/>
              <a:chExt cx="699120" cy="24480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1291680" y="397944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174680" y="39744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111320" y="408096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071720" y="408744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93720" y="4348080"/>
            <a:ext cx="2021400" cy="469440"/>
            <a:chOff x="693720" y="4348080"/>
            <a:chExt cx="2021400" cy="469440"/>
          </a:xfrm>
        </p:grpSpPr>
        <p:sp>
          <p:nvSpPr>
            <p:cNvPr id="150" name=""/>
            <p:cNvSpPr/>
            <p:nvPr/>
          </p:nvSpPr>
          <p:spPr>
            <a:xfrm>
              <a:off x="1170360" y="434808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–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720" y="43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074240" y="4427280"/>
              <a:ext cx="700560" cy="244800"/>
              <a:chOff x="1074240" y="4427280"/>
              <a:chExt cx="700560" cy="2448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1295280" y="443232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177920" y="442728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114200" y="45338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074240" y="45403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13200" y="5348160"/>
            <a:ext cx="61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 square root, since 15 • 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88840" y="5361120"/>
            <a:ext cx="1657800" cy="459720"/>
            <a:chOff x="888840" y="5361120"/>
            <a:chExt cx="1657800" cy="459720"/>
          </a:xfrm>
        </p:grpSpPr>
        <p:sp>
          <p:nvSpPr>
            <p:cNvPr id="162" name=""/>
            <p:cNvSpPr/>
            <p:nvPr/>
          </p:nvSpPr>
          <p:spPr>
            <a:xfrm>
              <a:off x="1000440" y="536112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88840" y="5446440"/>
              <a:ext cx="699120" cy="244800"/>
              <a:chOff x="888840" y="5446440"/>
              <a:chExt cx="699120" cy="2448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1108800" y="545148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991800" y="54464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928440" y="555300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88840" y="555948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5360" y="5827680"/>
            <a:ext cx="2221200" cy="473760"/>
            <a:chOff x="495360" y="5827680"/>
            <a:chExt cx="2221200" cy="473760"/>
          </a:xfrm>
        </p:grpSpPr>
        <p:sp>
          <p:nvSpPr>
            <p:cNvPr id="169" name=""/>
            <p:cNvSpPr/>
            <p:nvPr/>
          </p:nvSpPr>
          <p:spPr>
            <a:xfrm>
              <a:off x="1001160" y="58276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–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60" y="58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79480" y="5909760"/>
              <a:ext cx="699120" cy="244800"/>
              <a:chOff x="879480" y="5909760"/>
              <a:chExt cx="699120" cy="2448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1099440" y="591480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982440" y="59097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919080" y="601632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79480" y="60228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3006720" y="5808600"/>
            <a:ext cx="59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lso a square roo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since –15 • –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06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6280" y="230040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 square root, since 5 • 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2701800"/>
            <a:ext cx="57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• –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1760" y="379872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 square root, since 12 • 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27500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• –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400" y="2693880"/>
            <a:ext cx="1882080" cy="473760"/>
            <a:chOff x="752400" y="2693880"/>
            <a:chExt cx="1882080" cy="473760"/>
          </a:xfrm>
        </p:grpSpPr>
        <p:sp>
          <p:nvSpPr>
            <p:cNvPr id="184" name=""/>
            <p:cNvSpPr/>
            <p:nvPr/>
          </p:nvSpPr>
          <p:spPr>
            <a:xfrm>
              <a:off x="1257480" y="26938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70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134720" y="2769480"/>
              <a:ext cx="576360" cy="244800"/>
              <a:chOff x="1134720" y="2769480"/>
              <a:chExt cx="576360" cy="2448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1355400" y="27745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238040" y="2769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174320" y="28760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134720" y="28825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136520" y="2303640"/>
            <a:ext cx="1333440" cy="459720"/>
            <a:chOff x="1136520" y="2303640"/>
            <a:chExt cx="1333440" cy="459720"/>
          </a:xfrm>
        </p:grpSpPr>
        <p:sp>
          <p:nvSpPr>
            <p:cNvPr id="192" name=""/>
            <p:cNvSpPr/>
            <p:nvPr/>
          </p:nvSpPr>
          <p:spPr>
            <a:xfrm>
              <a:off x="1262160" y="23036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36520" y="2376360"/>
              <a:ext cx="576360" cy="244800"/>
              <a:chOff x="1136520" y="2376360"/>
              <a:chExt cx="576360" cy="2448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1357200" y="23814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239840" y="23763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76120" y="24829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36520" y="24894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1128600" y="3830760"/>
            <a:ext cx="1472400" cy="459720"/>
            <a:chOff x="1128600" y="3830760"/>
            <a:chExt cx="1472400" cy="459720"/>
          </a:xfrm>
        </p:grpSpPr>
        <p:sp>
          <p:nvSpPr>
            <p:cNvPr id="199" name=""/>
            <p:cNvSpPr/>
            <p:nvPr/>
          </p:nvSpPr>
          <p:spPr>
            <a:xfrm>
              <a:off x="1225440" y="3830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128600" y="3917520"/>
              <a:ext cx="699120" cy="244800"/>
              <a:chOff x="1128600" y="3917520"/>
              <a:chExt cx="699120" cy="2448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348560" y="39225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31560" y="39175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168200" y="40240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128600" y="40305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722520" y="4290840"/>
            <a:ext cx="2021400" cy="469440"/>
            <a:chOff x="722520" y="4290840"/>
            <a:chExt cx="2021400" cy="469440"/>
          </a:xfrm>
        </p:grpSpPr>
        <p:sp>
          <p:nvSpPr>
            <p:cNvPr id="206" name=""/>
            <p:cNvSpPr/>
            <p:nvPr/>
          </p:nvSpPr>
          <p:spPr>
            <a:xfrm>
              <a:off x="1199160" y="42908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–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520" y="43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103040" y="4370040"/>
              <a:ext cx="700560" cy="244800"/>
              <a:chOff x="1103040" y="4370040"/>
              <a:chExt cx="700560" cy="24480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1324080" y="437508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206720" y="437004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143000" y="4476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103040" y="4483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79640" y="5256360"/>
            <a:ext cx="1657800" cy="459720"/>
            <a:chOff x="1079640" y="5256360"/>
            <a:chExt cx="1657800" cy="459720"/>
          </a:xfrm>
        </p:grpSpPr>
        <p:sp>
          <p:nvSpPr>
            <p:cNvPr id="217" name=""/>
            <p:cNvSpPr/>
            <p:nvPr/>
          </p:nvSpPr>
          <p:spPr>
            <a:xfrm>
              <a:off x="1191240" y="525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079640" y="5341680"/>
              <a:ext cx="699120" cy="244800"/>
              <a:chOff x="1079640" y="5341680"/>
              <a:chExt cx="699120" cy="24480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1299600" y="534672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182600" y="5341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1119240" y="544824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79640" y="5454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676440" y="5732640"/>
            <a:ext cx="2221200" cy="473760"/>
            <a:chOff x="676440" y="5732640"/>
            <a:chExt cx="2221200" cy="473760"/>
          </a:xfrm>
        </p:grpSpPr>
        <p:sp>
          <p:nvSpPr>
            <p:cNvPr id="224" name=""/>
            <p:cNvSpPr/>
            <p:nvPr/>
          </p:nvSpPr>
          <p:spPr>
            <a:xfrm>
              <a:off x="1182240" y="573264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–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440" y="574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060560" y="5814720"/>
              <a:ext cx="699120" cy="244800"/>
              <a:chOff x="1060560" y="5814720"/>
              <a:chExt cx="699120" cy="2448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280520" y="58197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163520" y="58147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100160" y="59212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060560" y="59277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990880" y="51865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 square root, since 17 • 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09960" y="5729400"/>
            <a:ext cx="59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• –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stevenh</cp:lastModifiedBy>
  <dcterms:modified xsi:type="dcterms:W3CDTF">2006-04-26T19:01:56Z</dcterms:modified>
  <cp:revision>98</cp:revision>
  <dc:subject/>
  <dc:title>PowerPoint Presentation</dc:title>
</cp:coreProperties>
</file>