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192-6626-4F83-BC02-25F676F4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035-2F9B-4DEC-A28D-C5F950D6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EE2-82A0-4494-B2BC-B583D125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6A5-FFEA-4192-86E6-27945CCF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4F9-4494-46F1-9DB7-272CBB39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A0A6-C1CA-4302-ADA3-B796C20A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765-6569-4362-BC68-38833EAB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73B-12B1-4530-9D7A-A5AC3715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F55-31FA-4DE0-A7F4-D773AE68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4C0-81B9-42DE-8D52-763E5262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A39-2F22-4D8E-AA60-7DBC0FE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C17-7841-4ACF-9802-F4021806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78F8-B73A-4DEC-9545-4B768A5E9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0392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9116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3629160" y="233352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3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5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7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7400" y="2587680"/>
            <a:ext cx="29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0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58680" y="4367160"/>
            <a:ext cx="175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,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8800" y="4435560"/>
            <a:ext cx="431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4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60480" y="3173400"/>
            <a:ext cx="3001680" cy="646200"/>
            <a:chOff x="960480" y="3173400"/>
            <a:chExt cx="3001680" cy="646200"/>
          </a:xfrm>
        </p:grpSpPr>
        <p:sp>
          <p:nvSpPr>
            <p:cNvPr id="213" name=""/>
            <p:cNvSpPr/>
            <p:nvPr/>
          </p:nvSpPr>
          <p:spPr>
            <a:xfrm>
              <a:off x="960480" y="3299040"/>
              <a:ext cx="300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0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7520" y="3173400"/>
              <a:ext cx="4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995640" y="3328920"/>
            <a:ext cx="3962160" cy="509040"/>
            <a:chOff x="3995640" y="3328920"/>
            <a:chExt cx="3962160" cy="509040"/>
          </a:xfrm>
        </p:grpSpPr>
        <p:sp>
          <p:nvSpPr>
            <p:cNvPr id="216" name=""/>
            <p:cNvSpPr/>
            <p:nvPr/>
          </p:nvSpPr>
          <p:spPr>
            <a:xfrm>
              <a:off x="3995640" y="3348000"/>
              <a:ext cx="396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66160" y="332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60480" y="3716280"/>
            <a:ext cx="2895480" cy="641160"/>
            <a:chOff x="960480" y="3716280"/>
            <a:chExt cx="2895480" cy="641160"/>
          </a:xfrm>
        </p:grpSpPr>
        <p:sp>
          <p:nvSpPr>
            <p:cNvPr id="219" name=""/>
            <p:cNvSpPr/>
            <p:nvPr/>
          </p:nvSpPr>
          <p:spPr>
            <a:xfrm>
              <a:off x="960480" y="383688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0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00000" y="3716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92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C: Translating Scientific Notation to Standard Notation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5640" y="205596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49560" y="4314600"/>
            <a:ext cx="963360" cy="547200"/>
            <a:chOff x="1249560" y="4314600"/>
            <a:chExt cx="963360" cy="547200"/>
          </a:xfrm>
        </p:grpSpPr>
        <p:sp>
          <p:nvSpPr>
            <p:cNvPr id="224" name=""/>
            <p:cNvSpPr/>
            <p:nvPr/>
          </p:nvSpPr>
          <p:spPr>
            <a:xfrm rot="5400000">
              <a:off x="1122120" y="4456440"/>
              <a:ext cx="53244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1382760" y="442476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1625760" y="446364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1828440" y="447264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98560" y="4351320"/>
            <a:ext cx="27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,87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95320" y="37432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87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,00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2360" y="4408560"/>
            <a:ext cx="468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9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8840" y="2576520"/>
            <a:ext cx="311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87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84160" y="3165480"/>
            <a:ext cx="2044080" cy="520560"/>
            <a:chOff x="884160" y="3165480"/>
            <a:chExt cx="2044080" cy="520560"/>
          </a:xfrm>
        </p:grpSpPr>
        <p:sp>
          <p:nvSpPr>
            <p:cNvPr id="239" name=""/>
            <p:cNvSpPr/>
            <p:nvPr/>
          </p:nvSpPr>
          <p:spPr>
            <a:xfrm>
              <a:off x="884160" y="3165480"/>
              <a:ext cx="19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8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31600" y="3186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57640" y="3195720"/>
            <a:ext cx="3962520" cy="489960"/>
            <a:chOff x="4157640" y="3195720"/>
            <a:chExt cx="3962520" cy="489960"/>
          </a:xfrm>
        </p:grpSpPr>
        <p:sp>
          <p:nvSpPr>
            <p:cNvPr id="242" name=""/>
            <p:cNvSpPr/>
            <p:nvPr/>
          </p:nvSpPr>
          <p:spPr>
            <a:xfrm>
              <a:off x="4157640" y="3195720"/>
              <a:ext cx="396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,000,0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17360" y="32101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929880" y="177012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8520" y="4329000"/>
            <a:ext cx="2150640" cy="574560"/>
            <a:chOff x="1298520" y="4329000"/>
            <a:chExt cx="2150640" cy="574560"/>
          </a:xfrm>
        </p:grpSpPr>
        <p:sp>
          <p:nvSpPr>
            <p:cNvPr id="246" name=""/>
            <p:cNvSpPr/>
            <p:nvPr/>
          </p:nvSpPr>
          <p:spPr>
            <a:xfrm rot="5400000">
              <a:off x="1149480" y="451620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1582200" y="4497840"/>
              <a:ext cx="53316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5400000">
              <a:off x="1849680" y="446004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5400000">
              <a:off x="2095560" y="4488480"/>
              <a:ext cx="533160" cy="24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3065040" y="449568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741" y="745"/>
                  </a:moveTo>
                  <a:arcTo wR="10800" hR="10800" stAng="-4115724" swAng="777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741" y="745"/>
                  </a:moveTo>
                  <a:arcTo wR="10800" hR="10800" stAng="-4115724" swAng="777911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357920" y="4506840"/>
              <a:ext cx="53244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2847600" y="447768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2605320" y="4453560"/>
              <a:ext cx="52668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2337840" y="4478760"/>
              <a:ext cx="53316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893880" y="4343400"/>
            <a:ext cx="26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9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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914400" y="5149800"/>
            <a:ext cx="217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01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4363920"/>
            <a:ext cx="42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Divide by the recipro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4720" y="5181480"/>
            <a:ext cx="4748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left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47840" y="2971800"/>
            <a:ext cx="3028320" cy="641160"/>
            <a:chOff x="447840" y="2971800"/>
            <a:chExt cx="3028320" cy="641160"/>
          </a:xfrm>
        </p:grpSpPr>
        <p:sp>
          <p:nvSpPr>
            <p:cNvPr id="267" name=""/>
            <p:cNvSpPr/>
            <p:nvPr/>
          </p:nvSpPr>
          <p:spPr>
            <a:xfrm>
              <a:off x="447840" y="3092400"/>
              <a:ext cx="30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80960" y="297180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941400" y="25797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9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060800" y="2936880"/>
            <a:ext cx="2781360" cy="733680"/>
            <a:chOff x="4060800" y="2936880"/>
            <a:chExt cx="2781360" cy="733680"/>
          </a:xfrm>
        </p:grpSpPr>
        <p:sp>
          <p:nvSpPr>
            <p:cNvPr id="271" name=""/>
            <p:cNvSpPr/>
            <p:nvPr/>
          </p:nvSpPr>
          <p:spPr>
            <a:xfrm>
              <a:off x="4450320" y="304812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Verdana"/>
                </a:rPr>
                <a:t> –</a:t>
              </a: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1320" y="29368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99ff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060800" y="3062520"/>
              <a:ext cx="2781360" cy="608040"/>
              <a:chOff x="4060800" y="3062520"/>
              <a:chExt cx="2781360" cy="608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060800" y="3062520"/>
                <a:ext cx="18288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0    =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61080" y="3271680"/>
                <a:ext cx="198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99ff"/>
                    </a:solidFill>
                    <a:latin typeface="Verdana"/>
                  </a:rPr>
                  <a:t>100,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5521320" y="3317760"/>
              <a:ext cx="838080" cy="0"/>
            </a:xfrm>
            <a:prstGeom prst="line">
              <a:avLst/>
            </a:prstGeom>
            <a:ln w="316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872640" y="177012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4400" y="3551400"/>
            <a:ext cx="2577600" cy="717840"/>
            <a:chOff x="914400" y="3551400"/>
            <a:chExt cx="2577600" cy="717840"/>
          </a:xfrm>
        </p:grpSpPr>
        <p:sp>
          <p:nvSpPr>
            <p:cNvPr id="279" name=""/>
            <p:cNvSpPr/>
            <p:nvPr/>
          </p:nvSpPr>
          <p:spPr>
            <a:xfrm>
              <a:off x="914400" y="3672000"/>
              <a:ext cx="128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44440" y="3551400"/>
              <a:ext cx="91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10920" y="38703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0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31840" y="3932280"/>
              <a:ext cx="990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78720" y="5105160"/>
            <a:ext cx="1118160" cy="609480"/>
            <a:chOff x="1278720" y="5105160"/>
            <a:chExt cx="1118160" cy="609480"/>
          </a:xfrm>
        </p:grpSpPr>
        <p:sp>
          <p:nvSpPr>
            <p:cNvPr id="284" name=""/>
            <p:cNvSpPr/>
            <p:nvPr/>
          </p:nvSpPr>
          <p:spPr>
            <a:xfrm rot="5400000">
              <a:off x="1351800" y="5320080"/>
              <a:ext cx="533160" cy="2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783440" y="5303520"/>
              <a:ext cx="5331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1991880" y="5306400"/>
              <a:ext cx="567720" cy="24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1107000" y="5276880"/>
              <a:ext cx="6094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74" y="1737"/>
                  </a:moveTo>
                  <a:arcTo wR="10800" hR="10800" stAng="-3423243" swAng="7086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74" y="1737"/>
                  </a:moveTo>
                  <a:arcTo wR="10800" hR="10800" stAng="-3423243" swAng="7086637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1557360" y="5302080"/>
              <a:ext cx="552600" cy="25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990960" y="3097080"/>
            <a:ext cx="3962160" cy="509040"/>
            <a:chOff x="3990960" y="3097080"/>
            <a:chExt cx="3962160" cy="509040"/>
          </a:xfrm>
        </p:grpSpPr>
        <p:sp>
          <p:nvSpPr>
            <p:cNvPr id="291" name=""/>
            <p:cNvSpPr/>
            <p:nvPr/>
          </p:nvSpPr>
          <p:spPr>
            <a:xfrm>
              <a:off x="3990960" y="3116160"/>
              <a:ext cx="3962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0,0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61480" y="30970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165320" y="3119400"/>
            <a:ext cx="2895480" cy="528480"/>
            <a:chOff x="1165320" y="3119400"/>
            <a:chExt cx="2895480" cy="528480"/>
          </a:xfrm>
        </p:grpSpPr>
        <p:sp>
          <p:nvSpPr>
            <p:cNvPr id="294" name=""/>
            <p:cNvSpPr/>
            <p:nvPr/>
          </p:nvSpPr>
          <p:spPr>
            <a:xfrm>
              <a:off x="1165320" y="31273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5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0040" y="311940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150920" y="363996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.09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0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8480" y="257652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5.09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901440" y="1812960"/>
            <a:ext cx="72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55600" y="4214880"/>
            <a:ext cx="312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09,0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6640" y="4299120"/>
            <a:ext cx="47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8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444680" y="4134240"/>
            <a:ext cx="1951560" cy="608760"/>
            <a:chOff x="1444680" y="4134240"/>
            <a:chExt cx="1951560" cy="608760"/>
          </a:xfrm>
        </p:grpSpPr>
        <p:sp>
          <p:nvSpPr>
            <p:cNvPr id="309" name=""/>
            <p:cNvSpPr/>
            <p:nvPr/>
          </p:nvSpPr>
          <p:spPr>
            <a:xfrm rot="5400000">
              <a:off x="1296720" y="4327920"/>
              <a:ext cx="532440" cy="23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1785600" y="4302000"/>
              <a:ext cx="53316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00000">
              <a:off x="2006280" y="4290480"/>
              <a:ext cx="568080" cy="27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00000">
              <a:off x="2958480" y="4305240"/>
              <a:ext cx="6087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33" y="594"/>
                  </a:moveTo>
                  <a:arcTo wR="10800" hR="10800" stAng="-4254440" swAng="791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33" y="594"/>
                  </a:moveTo>
                  <a:arcTo wR="10800" hR="10800" stAng="-4254440" swAng="7917834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00000">
              <a:off x="1534320" y="4280400"/>
              <a:ext cx="5396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5400000">
              <a:off x="2534400" y="4302000"/>
              <a:ext cx="5331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5400000">
              <a:off x="2746440" y="4297320"/>
              <a:ext cx="574200" cy="25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66" y="1427"/>
                  </a:moveTo>
                  <a:arcTo wR="10800" hR="10800" stAng="-3612610" swAng="7276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66" y="1427"/>
                  </a:moveTo>
                  <a:arcTo wR="10800" hR="10800" stAng="-3612610" swAng="7276003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2283120" y="4280400"/>
              <a:ext cx="539640" cy="31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440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55560" y="1952640"/>
            <a:ext cx="8183160" cy="1404360"/>
            <a:chOff x="655560" y="1952640"/>
            <a:chExt cx="8183160" cy="1404360"/>
          </a:xfrm>
        </p:grpSpPr>
        <p:sp>
          <p:nvSpPr>
            <p:cNvPr id="324" name=""/>
            <p:cNvSpPr/>
            <p:nvPr/>
          </p:nvSpPr>
          <p:spPr>
            <a:xfrm>
              <a:off x="665640" y="2409840"/>
              <a:ext cx="8173080" cy="94716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A number less than 1 will have a negative exponent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hen written in scientific nota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560" y="1952640"/>
              <a:ext cx="24570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930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Translating Standard Notation  to 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12920" y="4286160"/>
            <a:ext cx="85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left to change 7.09 to 0.00709, so the exponent will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400" y="2205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0070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21040" y="223992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3 places to get a number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8640" y="29494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.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27160" y="3686040"/>
            <a:ext cx="2895480" cy="529920"/>
            <a:chOff x="227160" y="3686040"/>
            <a:chExt cx="2895480" cy="529920"/>
          </a:xfrm>
        </p:grpSpPr>
        <p:sp>
          <p:nvSpPr>
            <p:cNvPr id="338" name=""/>
            <p:cNvSpPr/>
            <p:nvPr/>
          </p:nvSpPr>
          <p:spPr>
            <a:xfrm>
              <a:off x="227160" y="36954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65320" y="3686040"/>
              <a:ext cx="227160" cy="226800"/>
            </a:xfrm>
            <a:prstGeom prst="rect">
              <a:avLst/>
            </a:prstGeom>
            <a:solidFill>
              <a:srgbClr val="c0c0c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36800" y="3754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961560" y="5745240"/>
            <a:ext cx="6486840" cy="520560"/>
            <a:chOff x="961560" y="5745240"/>
            <a:chExt cx="6486840" cy="520560"/>
          </a:xfrm>
        </p:grpSpPr>
        <p:sp>
          <p:nvSpPr>
            <p:cNvPr id="342" name=""/>
            <p:cNvSpPr/>
            <p:nvPr/>
          </p:nvSpPr>
          <p:spPr>
            <a:xfrm>
              <a:off x="961560" y="5745240"/>
              <a:ext cx="648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0.001 = 0.00709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88240" y="5776920"/>
              <a:ext cx="4546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99200" y="169380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0.00709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66560" y="5124600"/>
            <a:ext cx="8785080" cy="564480"/>
            <a:chOff x="466560" y="5124600"/>
            <a:chExt cx="8785080" cy="564480"/>
          </a:xfrm>
        </p:grpSpPr>
        <p:sp>
          <p:nvSpPr>
            <p:cNvPr id="346" name=""/>
            <p:cNvSpPr/>
            <p:nvPr/>
          </p:nvSpPr>
          <p:spPr>
            <a:xfrm>
              <a:off x="466560" y="5168520"/>
              <a:ext cx="87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0.00709 written in scientific notation is 7.09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81760" y="5124600"/>
              <a:ext cx="569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777960" y="2162520"/>
            <a:ext cx="699120" cy="541800"/>
            <a:chOff x="777960" y="2162520"/>
            <a:chExt cx="699120" cy="541800"/>
          </a:xfrm>
        </p:grpSpPr>
        <p:sp>
          <p:nvSpPr>
            <p:cNvPr id="349" name=""/>
            <p:cNvSpPr/>
            <p:nvPr/>
          </p:nvSpPr>
          <p:spPr>
            <a:xfrm rot="5400000">
              <a:off x="669240" y="2278440"/>
              <a:ext cx="5259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902160" y="2315880"/>
              <a:ext cx="532440" cy="2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1097640" y="2324880"/>
              <a:ext cx="532440" cy="2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92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01760" y="4203720"/>
            <a:ext cx="8512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left to change 8.11 to 0.000811, so the exponent will be nega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2680" y="2209680"/>
            <a:ext cx="1591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08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8480" y="2039760"/>
            <a:ext cx="5977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4 places to get a number between 1 and 1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400" y="2967120"/>
            <a:ext cx="83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.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04840" y="3568680"/>
            <a:ext cx="2895480" cy="641160"/>
            <a:chOff x="204840" y="3568680"/>
            <a:chExt cx="2895480" cy="641160"/>
          </a:xfrm>
        </p:grpSpPr>
        <p:grpSp>
          <p:nvGrpSpPr>
            <p:cNvPr id="364" name=""/>
            <p:cNvGrpSpPr/>
            <p:nvPr/>
          </p:nvGrpSpPr>
          <p:grpSpPr>
            <a:xfrm>
              <a:off x="204840" y="3568680"/>
              <a:ext cx="2895480" cy="641160"/>
              <a:chOff x="204840" y="3568680"/>
              <a:chExt cx="2895480" cy="641160"/>
            </a:xfrm>
          </p:grpSpPr>
          <p:sp>
            <p:nvSpPr>
              <p:cNvPr id="365" name=""/>
              <p:cNvSpPr/>
              <p:nvPr/>
            </p:nvSpPr>
            <p:spPr>
              <a:xfrm>
                <a:off x="204840" y="3689280"/>
                <a:ext cx="289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8.11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 1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58760" y="35686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230560" y="3735360"/>
              <a:ext cx="236520" cy="2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870280" y="371628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39720" y="5951520"/>
            <a:ext cx="7299360" cy="520560"/>
            <a:chOff x="639720" y="5951520"/>
            <a:chExt cx="7299360" cy="520560"/>
          </a:xfrm>
        </p:grpSpPr>
        <p:sp>
          <p:nvSpPr>
            <p:cNvPr id="370" name=""/>
            <p:cNvSpPr/>
            <p:nvPr/>
          </p:nvSpPr>
          <p:spPr>
            <a:xfrm>
              <a:off x="639720" y="5951520"/>
              <a:ext cx="729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Verdana"/>
                </a:rPr>
                <a:t>Check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   =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0.0001 = 0.00081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21560" y="598320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873360" y="151272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0.000811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98360" y="5457960"/>
            <a:ext cx="8945280" cy="549000"/>
            <a:chOff x="198360" y="5457960"/>
            <a:chExt cx="8945280" cy="549000"/>
          </a:xfrm>
        </p:grpSpPr>
        <p:sp>
          <p:nvSpPr>
            <p:cNvPr id="374" name=""/>
            <p:cNvSpPr/>
            <p:nvPr/>
          </p:nvSpPr>
          <p:spPr>
            <a:xfrm>
              <a:off x="198360" y="5486400"/>
              <a:ext cx="894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0.000811 written in scientific notation is 8.11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4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78880" y="5457960"/>
              <a:ext cx="175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87760" y="2190600"/>
            <a:ext cx="793080" cy="547200"/>
            <a:chOff x="887760" y="2190600"/>
            <a:chExt cx="793080" cy="547200"/>
          </a:xfrm>
        </p:grpSpPr>
        <p:sp>
          <p:nvSpPr>
            <p:cNvPr id="377" name=""/>
            <p:cNvSpPr/>
            <p:nvPr/>
          </p:nvSpPr>
          <p:spPr>
            <a:xfrm rot="5400000">
              <a:off x="735840" y="2357280"/>
              <a:ext cx="532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5400000">
              <a:off x="950040" y="2329200"/>
              <a:ext cx="526680" cy="26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1150560" y="2360520"/>
              <a:ext cx="533160" cy="19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1317240" y="2369520"/>
              <a:ext cx="533160" cy="19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326880" y="1324080"/>
            <a:ext cx="848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encil is 18.7 cm long. If you were to lay 10,000 pencils end-to-end, how many millimeters long would they be?                            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4521240"/>
            <a:ext cx="35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7 m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920" y="294804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centimeter = 10 milli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.7 centimeters = 187 milli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07120" y="367812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Multiply by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9960" y="534204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870,0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46640" y="456876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tot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137360" y="53244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392640" y="3171960"/>
            <a:ext cx="474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6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4880" y="4229280"/>
            <a:ext cx="8499600" cy="916560"/>
            <a:chOff x="434880" y="4229280"/>
            <a:chExt cx="8499600" cy="916560"/>
          </a:xfrm>
        </p:grpSpPr>
        <p:sp>
          <p:nvSpPr>
            <p:cNvPr id="403" name=""/>
            <p:cNvSpPr/>
            <p:nvPr/>
          </p:nvSpPr>
          <p:spPr>
            <a:xfrm>
              <a:off x="434880" y="4229280"/>
              <a:ext cx="84996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scientific notation the 10,000 pencils would be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1.87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ff0000"/>
                  </a:solidFill>
                  <a:latin typeface="Verdana"/>
                </a:rPr>
                <a:t>6</a:t>
              </a:r>
              <a:r>
                <a:rPr b="0" lang="en-US" sz="2600" spc="-1" strike="noStrike">
                  <a:solidFill>
                    <a:srgbClr val="ff0000"/>
                  </a:solidFill>
                  <a:latin typeface="Verdana"/>
                </a:rPr>
                <a:t> mm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ng, laid end-to-end.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13520" y="423864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30120" y="1604880"/>
            <a:ext cx="2045880" cy="520560"/>
            <a:chOff x="330120" y="1604880"/>
            <a:chExt cx="2045880" cy="520560"/>
          </a:xfrm>
        </p:grpSpPr>
        <p:sp>
          <p:nvSpPr>
            <p:cNvPr id="407" name=""/>
            <p:cNvSpPr/>
            <p:nvPr/>
          </p:nvSpPr>
          <p:spPr>
            <a:xfrm>
              <a:off x="330120" y="1604880"/>
              <a:ext cx="193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8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2160" y="1695600"/>
              <a:ext cx="21384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416400" y="160020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02000" y="2000160"/>
            <a:ext cx="57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Think: The decimal needs to move right to change 1.87 to 1,870,000, so the exponent will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55480" y="1324080"/>
            <a:ext cx="805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oil rig can hoist 2,400,000 pounds with its main derrick. It distributes the weight evenly between 8 wire cables. What is the weight that each wire cable can hold? Write the answ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0120" y="4311720"/>
            <a:ext cx="62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400,000 pounds ÷ 8 cables = 300,000 pounds per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5960" y="53085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cable can hold 300,000 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3120" y="33386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weight each cable is expected to hold by dividing the total weight by the number of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30960" y="5940360"/>
            <a:ext cx="70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rite 300,000 pounds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6560" y="847800"/>
            <a:ext cx="8112240" cy="5486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rder each set of numbers from least to great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85640" y="2362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10 , 10  , 10 ,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640" y="3352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8 , 8  , 8 ,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5640" y="4343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2 , 2  , 2  ,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5640" y="5334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2 , 5.2 , 5.2  , 5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937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67360" y="2373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6720" y="23734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095480" y="2819520"/>
            <a:ext cx="5257800" cy="520560"/>
            <a:chOff x="1095480" y="2819520"/>
            <a:chExt cx="5257800" cy="520560"/>
          </a:xfrm>
        </p:grpSpPr>
        <p:sp>
          <p:nvSpPr>
            <p:cNvPr id="67" name=""/>
            <p:cNvSpPr/>
            <p:nvPr/>
          </p:nvSpPr>
          <p:spPr>
            <a:xfrm>
              <a:off x="1095480" y="281952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0  , 10  , 10 ,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95880" y="2835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49520" y="28353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0280" y="28414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800" y="28414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66544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9400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3960" y="3368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97200" y="33750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095480" y="3809880"/>
            <a:ext cx="3197160" cy="520560"/>
            <a:chOff x="1095480" y="3809880"/>
            <a:chExt cx="3197160" cy="520560"/>
          </a:xfrm>
        </p:grpSpPr>
        <p:sp>
          <p:nvSpPr>
            <p:cNvPr id="77" name=""/>
            <p:cNvSpPr/>
            <p:nvPr/>
          </p:nvSpPr>
          <p:spPr>
            <a:xfrm>
              <a:off x="1095480" y="3809880"/>
              <a:ext cx="31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8  , 8 , 8 ,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6088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5428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884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48200" y="383220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403440" y="4359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43592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2404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488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04480" y="5356080"/>
            <a:ext cx="39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03520" y="534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35200" y="5349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1680" y="53560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5480" y="5791320"/>
            <a:ext cx="4419360" cy="520560"/>
            <a:chOff x="1095480" y="5791320"/>
            <a:chExt cx="4419360" cy="520560"/>
          </a:xfrm>
        </p:grpSpPr>
        <p:sp>
          <p:nvSpPr>
            <p:cNvPr id="91" name=""/>
            <p:cNvSpPr/>
            <p:nvPr/>
          </p:nvSpPr>
          <p:spPr>
            <a:xfrm>
              <a:off x="1095480" y="57913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5.2  , 5.2  , 5.2 , 5.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97360" y="5807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41560" y="5807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80280" y="58132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4800" y="581328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095480" y="4800600"/>
            <a:ext cx="3627360" cy="520560"/>
            <a:chOff x="1095480" y="4800600"/>
            <a:chExt cx="3627360" cy="520560"/>
          </a:xfrm>
        </p:grpSpPr>
        <p:sp>
          <p:nvSpPr>
            <p:cNvPr id="97" name=""/>
            <p:cNvSpPr/>
            <p:nvPr/>
          </p:nvSpPr>
          <p:spPr>
            <a:xfrm>
              <a:off x="1095480" y="4800600"/>
              <a:ext cx="362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2  , 2  , 2 ,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92640" y="481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63720" y="4816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5400" y="482292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48200" y="4822920"/>
              <a:ext cx="3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700440" y="2684520"/>
            <a:ext cx="4635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right to change 3.0 to 300,000, so the exponent will be posi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7440" y="4462560"/>
            <a:ext cx="458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The decimal needs to move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12640" y="5410080"/>
            <a:ext cx="7640280" cy="943560"/>
            <a:chOff x="512640" y="5410080"/>
            <a:chExt cx="7640280" cy="943560"/>
          </a:xfrm>
        </p:grpSpPr>
        <p:sp>
          <p:nvSpPr>
            <p:cNvPr id="432" name=""/>
            <p:cNvSpPr/>
            <p:nvPr/>
          </p:nvSpPr>
          <p:spPr>
            <a:xfrm>
              <a:off x="512640" y="5437080"/>
              <a:ext cx="764028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scientific notation, each cable can hold 3.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pounds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36600" y="5410080"/>
              <a:ext cx="354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979640" y="20001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25360" y="2120760"/>
            <a:ext cx="3038040" cy="520560"/>
            <a:chOff x="225360" y="2120760"/>
            <a:chExt cx="3038040" cy="520560"/>
          </a:xfrm>
        </p:grpSpPr>
        <p:sp>
          <p:nvSpPr>
            <p:cNvPr id="436" name=""/>
            <p:cNvSpPr/>
            <p:nvPr/>
          </p:nvSpPr>
          <p:spPr>
            <a:xfrm>
              <a:off x="225360" y="2120760"/>
              <a:ext cx="303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3.0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70720" y="2166840"/>
              <a:ext cx="236160" cy="225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654360" y="212076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Set up scientific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26880" y="1324080"/>
            <a:ext cx="84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ertain cell has a diameter of approximately 4.11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A second cell has a diameter of 1.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Which cell has a greater diam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27080" y="36291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49320" y="2948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1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26040" y="36226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powers of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</a:t>
            </a:r>
            <a:r>
              <a:rPr b="0" lang="en-US" sz="2400" spc="-1" strike="noStrike">
                <a:solidFill>
                  <a:srgbClr val="009999"/>
                </a:solidFill>
                <a:latin typeface="Arial Black"/>
              </a:rPr>
              <a:t>Life Science </a:t>
            </a:r>
            <a:r>
              <a:rPr b="0" i="1" lang="en-US" sz="2400" spc="-1" strike="noStrike">
                <a:solidFill>
                  <a:srgbClr val="009999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99040" y="4321080"/>
            <a:ext cx="35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the values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38240" y="58467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rst cell has a greater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27080" y="44863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&gt;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49320" y="52243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gt; 1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26880" y="1324080"/>
            <a:ext cx="82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ertain cell has a diameter of approximately 5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A second cell has a diameter of 5.11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meters. Which cell has a greater diam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27080" y="36291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49320" y="29480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5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26040" y="36226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powers of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99040" y="4321080"/>
            <a:ext cx="35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Compare the values between 1 and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38240" y="58467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cond cell has a greater di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27080" y="448632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&lt; 5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49320" y="52243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&lt; 5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3920" y="149868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2120" y="2011320"/>
            <a:ext cx="411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72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4720" y="2643120"/>
            <a:ext cx="388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.9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–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7440" y="44672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7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46240" y="20397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7,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41560" y="2664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0.00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38498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0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022560" y="3656160"/>
            <a:ext cx="2819520" cy="672840"/>
            <a:chOff x="3022560" y="3656160"/>
            <a:chExt cx="2819520" cy="672840"/>
          </a:xfrm>
        </p:grpSpPr>
        <p:sp>
          <p:nvSpPr>
            <p:cNvPr id="485" name=""/>
            <p:cNvSpPr/>
            <p:nvPr/>
          </p:nvSpPr>
          <p:spPr>
            <a:xfrm>
              <a:off x="3022560" y="380844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.3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ff0000"/>
                  </a:solidFill>
                  <a:latin typeface="Verdana"/>
                </a:rPr>
                <a:t>–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13560" y="3656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111480" y="4352760"/>
            <a:ext cx="2895480" cy="627120"/>
            <a:chOff x="3111480" y="4352760"/>
            <a:chExt cx="2895480" cy="627120"/>
          </a:xfrm>
        </p:grpSpPr>
        <p:sp>
          <p:nvSpPr>
            <p:cNvPr id="488" name=""/>
            <p:cNvSpPr/>
            <p:nvPr/>
          </p:nvSpPr>
          <p:spPr>
            <a:xfrm>
              <a:off x="3111480" y="445932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5.7 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1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66840" y="4352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846720" y="333540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number in scientific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0680" y="5076720"/>
            <a:ext cx="724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der the numbers from least to greatest.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9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06560" y="5916600"/>
            <a:ext cx="462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, 9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, 2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0680" y="1590840"/>
            <a:ext cx="7510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human body contains about 5.6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liters of blood. Write this number i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2520" y="2362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,6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1766880"/>
            <a:ext cx="7664400" cy="2936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the powers from least to grea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17480" y="2936880"/>
            <a:ext cx="44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(3</a:t>
            </a:r>
            <a:r>
              <a:rPr b="0" lang="en-US" sz="1800" spc="-1" strike="noStrike" baseline="72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 baseline="72000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0960" y="358452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(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1800" spc="-1" strike="noStrike" baseline="72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, (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, 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(3</a:t>
            </a:r>
            <a:r>
              <a:rPr b="1" lang="en-US" sz="1800" spc="-1" strike="noStrike" baseline="74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600" spc="-1" strike="noStrike" baseline="30000">
                <a:solidFill>
                  <a:srgbClr val="ff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560" y="1974960"/>
            <a:ext cx="8256600" cy="20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express large and small numbers in scientific notation and to compare two numbers written in scientific notation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7162920" cy="838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ientific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38120" y="1503360"/>
            <a:ext cx="828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rdinary quarter contains about 97,700,000,000,000,000,000,000 atoms. The average size of an atom is about 0.00000003 centimeters a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360" y="33926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ngth of these numbers in standard notation makes them awkward to work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6280" y="4451400"/>
            <a:ext cx="835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cientific notation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shorthand way of writing such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22360" y="1614600"/>
            <a:ext cx="835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xpress any number in scientific notation, write it as the product of a power of ten and a number greater than or equal to 1 but less than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7560" y="361620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cientific notation the number of atoms in a quarter is 9.7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nd the size of each atom is 3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–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entimeters a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6480" y="394488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35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8840" y="3349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.3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00,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78120" y="3870360"/>
            <a:ext cx="4668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right 5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3400" y="2273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3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07920" y="2816280"/>
            <a:ext cx="1911600" cy="520560"/>
            <a:chOff x="907920" y="2816280"/>
            <a:chExt cx="1911600" cy="520560"/>
          </a:xfrm>
        </p:grpSpPr>
        <p:sp>
          <p:nvSpPr>
            <p:cNvPr id="154" name=""/>
            <p:cNvSpPr/>
            <p:nvPr/>
          </p:nvSpPr>
          <p:spPr>
            <a:xfrm>
              <a:off x="907920" y="2816280"/>
              <a:ext cx="191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1.35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22520" y="2849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695760" y="2774880"/>
            <a:ext cx="3962520" cy="509040"/>
            <a:chOff x="3695760" y="2774880"/>
            <a:chExt cx="3962520" cy="509040"/>
          </a:xfrm>
        </p:grpSpPr>
        <p:sp>
          <p:nvSpPr>
            <p:cNvPr id="157" name=""/>
            <p:cNvSpPr/>
            <p:nvPr/>
          </p:nvSpPr>
          <p:spPr>
            <a:xfrm>
              <a:off x="3695760" y="2793960"/>
              <a:ext cx="396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= 100,00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2000" y="27748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Translating Scientific Notation to Standard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240" y="166356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11040" y="3994560"/>
            <a:ext cx="1172880" cy="546480"/>
            <a:chOff x="1211040" y="3994560"/>
            <a:chExt cx="1172880" cy="546480"/>
          </a:xfrm>
        </p:grpSpPr>
        <p:sp>
          <p:nvSpPr>
            <p:cNvPr id="162" name=""/>
            <p:cNvSpPr/>
            <p:nvPr/>
          </p:nvSpPr>
          <p:spPr>
            <a:xfrm rot="5400000">
              <a:off x="1062000" y="4147920"/>
              <a:ext cx="5324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1292760" y="4135680"/>
              <a:ext cx="532440" cy="2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553400" y="4104720"/>
              <a:ext cx="5259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1797120" y="4143240"/>
              <a:ext cx="532440" cy="2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000160" y="4152240"/>
              <a:ext cx="532440" cy="2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19080" y="4884840"/>
            <a:ext cx="6383520" cy="1398240"/>
            <a:chOff x="919080" y="4884840"/>
            <a:chExt cx="6383520" cy="1398240"/>
          </a:xfrm>
        </p:grpSpPr>
        <p:sp>
          <p:nvSpPr>
            <p:cNvPr id="168" name=""/>
            <p:cNvSpPr/>
            <p:nvPr/>
          </p:nvSpPr>
          <p:spPr>
            <a:xfrm>
              <a:off x="927000" y="5274360"/>
              <a:ext cx="6375600" cy="1008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</a:t>
              </a:r>
              <a:r>
                <a:rPr b="0" lang="en-US" sz="2000" spc="-1" strike="noStrike">
                  <a:solidFill>
                    <a:srgbClr val="0066ff"/>
                  </a:solidFill>
                  <a:latin typeface="Verdana"/>
                </a:rPr>
                <a:t>positive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xponent means move the decimal to the </a:t>
              </a:r>
              <a:r>
                <a:rPr b="0" lang="en-US" sz="2000" spc="-1" strike="noStrike">
                  <a:solidFill>
                    <a:srgbClr val="0066ff"/>
                  </a:solidFill>
                  <a:latin typeface="Verdana"/>
                </a:rPr>
                <a:t>right,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and a 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negative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exponent means move the decimal to the </a:t>
              </a: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lef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19080" y="4884840"/>
              <a:ext cx="19155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Scientific No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41400" y="539604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.002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13280" y="4660920"/>
            <a:ext cx="426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Divide by the recipro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0480" y="4554360"/>
            <a:ext cx="27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.7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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08600" y="5465880"/>
            <a:ext cx="474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</a:rPr>
              <a:t>Think: Move the decimal left 3 pl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96800" y="3192480"/>
            <a:ext cx="3008160" cy="641160"/>
            <a:chOff x="496800" y="3192480"/>
            <a:chExt cx="3008160" cy="641160"/>
          </a:xfrm>
        </p:grpSpPr>
        <p:sp>
          <p:nvSpPr>
            <p:cNvPr id="181" name=""/>
            <p:cNvSpPr/>
            <p:nvPr/>
          </p:nvSpPr>
          <p:spPr>
            <a:xfrm>
              <a:off x="496800" y="3313080"/>
              <a:ext cx="30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10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Verdana"/>
                </a:rPr>
                <a:t>–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17680" y="3192480"/>
              <a:ext cx="57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63400" y="2590920"/>
            <a:ext cx="289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7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10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–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00680" y="3159000"/>
            <a:ext cx="2590200" cy="870840"/>
            <a:chOff x="4000680" y="3159000"/>
            <a:chExt cx="2590200" cy="870840"/>
          </a:xfrm>
        </p:grpSpPr>
        <p:sp>
          <p:nvSpPr>
            <p:cNvPr id="185" name=""/>
            <p:cNvSpPr/>
            <p:nvPr/>
          </p:nvSpPr>
          <p:spPr>
            <a:xfrm>
              <a:off x="4000680" y="3355560"/>
              <a:ext cx="1828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99ff"/>
                  </a:solidFill>
                  <a:latin typeface="Verdana"/>
                </a:rPr>
                <a:t>10    =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96320" y="3336840"/>
              <a:ext cx="44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Verdana"/>
                </a:rPr>
                <a:t> –</a:t>
              </a:r>
              <a:r>
                <a:rPr b="0" i="1" lang="en-US" sz="1600" spc="-1" strike="noStrike">
                  <a:solidFill>
                    <a:srgbClr val="0099ff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0160" y="3159000"/>
              <a:ext cx="1980720" cy="870840"/>
              <a:chOff x="4610160" y="3159000"/>
              <a:chExt cx="1980720" cy="87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4762440" y="3159000"/>
                <a:ext cx="1828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10160" y="3539880"/>
                <a:ext cx="1980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600" spc="-1" strike="noStrike">
                    <a:solidFill>
                      <a:srgbClr val="0099ff"/>
                    </a:solidFill>
                    <a:latin typeface="Verdana"/>
                  </a:rPr>
                  <a:t>100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71920" y="3571560"/>
                <a:ext cx="609120" cy="0"/>
              </a:xfrm>
              <a:prstGeom prst="line">
                <a:avLst/>
              </a:prstGeom>
              <a:ln w="316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947880" y="3701880"/>
            <a:ext cx="2022840" cy="870480"/>
            <a:chOff x="947880" y="3701880"/>
            <a:chExt cx="2022840" cy="870480"/>
          </a:xfrm>
        </p:grpSpPr>
        <p:sp>
          <p:nvSpPr>
            <p:cNvPr id="192" name=""/>
            <p:cNvSpPr/>
            <p:nvPr/>
          </p:nvSpPr>
          <p:spPr>
            <a:xfrm>
              <a:off x="947880" y="3854160"/>
              <a:ext cx="113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2.7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757160" y="3701880"/>
              <a:ext cx="1213560" cy="870480"/>
              <a:chOff x="1757160" y="3701880"/>
              <a:chExt cx="1213560" cy="870480"/>
            </a:xfrm>
          </p:grpSpPr>
          <p:sp>
            <p:nvSpPr>
              <p:cNvPr id="194" name=""/>
              <p:cNvSpPr/>
              <p:nvPr/>
            </p:nvSpPr>
            <p:spPr>
              <a:xfrm>
                <a:off x="1918800" y="3701880"/>
                <a:ext cx="9709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57160" y="4082400"/>
                <a:ext cx="12135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Verdana"/>
                  </a:rPr>
                  <a:t>100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80800" y="4114440"/>
                <a:ext cx="647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818640" y="202104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number in standard no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55760" y="5386320"/>
            <a:ext cx="633240" cy="542520"/>
            <a:chOff x="1355760" y="5386320"/>
            <a:chExt cx="633240" cy="542520"/>
          </a:xfrm>
        </p:grpSpPr>
        <p:sp>
          <p:nvSpPr>
            <p:cNvPr id="199" name=""/>
            <p:cNvSpPr/>
            <p:nvPr/>
          </p:nvSpPr>
          <p:spPr>
            <a:xfrm rot="5400000">
              <a:off x="1206720" y="554004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1401840" y="5535360"/>
              <a:ext cx="533160" cy="23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1604520" y="5544360"/>
              <a:ext cx="533160" cy="2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30" y="1645"/>
                  </a:moveTo>
                  <a:arcTo wR="10800" hR="10800" stAng="-3477404" swAng="7140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30" y="1645"/>
                  </a:moveTo>
                  <a:arcTo wR="10800" hR="10800" stAng="-3477404" swAng="7140798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0" y="92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Translating Scientific Notation to Standard Notation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53:35Z</dcterms:created>
  <dc:creator>Mike Bennett</dc:creator>
  <dc:description/>
  <dc:language>en-US</dc:language>
  <cp:lastModifiedBy>stevenh</cp:lastModifiedBy>
  <dcterms:modified xsi:type="dcterms:W3CDTF">2006-05-10T19:32:55Z</dcterms:modified>
  <cp:revision>148</cp:revision>
  <dc:subject/>
  <dc:title>PowerPoint Presentation</dc:title>
</cp:coreProperties>
</file>