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BCC36-CC19-4D10-935A-E173FC491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61089-425D-4204-A24E-DC30FC6F8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DE0BE-D7E5-41C0-80F4-D03270C17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10317-9694-463E-95E0-C254817C1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700D3-1F7D-4DF6-B0A5-0BA7C4D21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1357F-8669-4F63-A559-D811E149D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27B38-EB6D-4AC7-A55F-F53628329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E3110-21E3-4F8A-AC8A-F860C0477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67BF3-D7BB-40BB-9240-2BD613F07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1D277-7F65-460E-8A4D-5738AF310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D217C-F98B-42F0-8CF2-52CF81388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E9698-56C4-44A0-BA8C-17ADBB327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E4CBC-933B-44F5-B1A5-D09DA61020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" Target="slide2.xml"/><Relationship Id="rId4" Type="http://schemas.openxmlformats.org/officeDocument/2006/relationships/slide" Target=""/><Relationship Id="rId5" Type="http://schemas.openxmlformats.org/officeDocument/2006/relationships/slide" Target="slide3.xml"/><Relationship Id="rId6" Type="http://schemas.openxmlformats.org/officeDocument/2006/relationships/slide" Target=""/><Relationship Id="rId7" Type="http://schemas.openxmlformats.org/officeDocument/2006/relationships/slide" Target="slide4.xml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0" y="-3240"/>
            <a:ext cx="9144000" cy="6861240"/>
            <a:chOff x="0" y="-3240"/>
            <a:chExt cx="9144000" cy="6861240"/>
          </a:xfrm>
        </p:grpSpPr>
        <p:pic>
          <p:nvPicPr>
            <p:cNvPr id="44" name="" descr=""/>
            <p:cNvPicPr/>
            <p:nvPr/>
          </p:nvPicPr>
          <p:blipFill>
            <a:blip r:embed="rId1"/>
            <a:stretch/>
          </p:blipFill>
          <p:spPr>
            <a:xfrm>
              <a:off x="0" y="-3240"/>
              <a:ext cx="9144000" cy="686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"/>
            <p:cNvSpPr/>
            <p:nvPr/>
          </p:nvSpPr>
          <p:spPr>
            <a:xfrm>
              <a:off x="403920" y="133920"/>
              <a:ext cx="777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 Black"/>
                </a:rPr>
                <a:t>4-4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371600" y="191160"/>
              <a:ext cx="7772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 Black"/>
                </a:rPr>
                <a:t>Scientific Notatio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52280" y="6549840"/>
              <a:ext cx="1295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" name="">
            <a:hlinkClick r:id="rId2" action="ppaction://hlinksldjump"/>
          </p:cNvPr>
          <p:cNvSpPr/>
          <p:nvPr/>
        </p:nvSpPr>
        <p:spPr>
          <a:xfrm>
            <a:off x="3629160" y="2333520"/>
            <a:ext cx="175968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  <a:hlinkClick r:id="rId3" action="ppaction://hlinksldjump"/>
              </a:rPr>
              <a:t>Warm 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>
            <a:hlinkClick r:id="rId4" action="ppaction://hlinksldjump"/>
          </p:cNvPr>
          <p:cNvSpPr/>
          <p:nvPr/>
        </p:nvSpPr>
        <p:spPr>
          <a:xfrm>
            <a:off x="3699360" y="2993760"/>
            <a:ext cx="34009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  <a:hlinkClick r:id="rId5" action="ppaction://hlinksldjump"/>
              </a:rPr>
              <a:t>Problem of the D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>
            <a:hlinkClick r:id="rId6" action="ppaction://hlinksldjump"/>
          </p:cNvPr>
          <p:cNvSpPr/>
          <p:nvPr/>
        </p:nvSpPr>
        <p:spPr>
          <a:xfrm>
            <a:off x="3679920" y="3603240"/>
            <a:ext cx="356688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  <a:hlinkClick r:id="rId7" action="ppaction://hlinksldjump"/>
              </a:rPr>
              <a:t>Lesson Pres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617400" y="2587680"/>
            <a:ext cx="296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2.01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 10</a:t>
            </a:r>
            <a:r>
              <a:rPr b="1" lang="en-US" sz="2600" spc="-1" strike="noStrike" baseline="30000">
                <a:solidFill>
                  <a:srgbClr val="000000"/>
                </a:solidFill>
                <a:latin typeface="Verdana"/>
              </a:rPr>
              <a:t>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205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6" name="" descr=""/>
            <p:cNvPicPr/>
            <p:nvPr/>
          </p:nvPicPr>
          <p:blipFill>
            <a:blip r:embed="rId2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95840" y="83160"/>
              <a:ext cx="777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 Black"/>
                </a:rPr>
                <a:t>4-4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066680" y="127800"/>
              <a:ext cx="807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 Black"/>
                </a:rPr>
                <a:t>Scientific Notatio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958680" y="4367160"/>
            <a:ext cx="1752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20,100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898800" y="4435560"/>
            <a:ext cx="43196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99ff"/>
                </a:solidFill>
                <a:latin typeface="Verdana"/>
              </a:rPr>
              <a:t>Think: Move the decimal right 4 place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960480" y="3173400"/>
            <a:ext cx="3001680" cy="646200"/>
            <a:chOff x="960480" y="3173400"/>
            <a:chExt cx="3001680" cy="646200"/>
          </a:xfrm>
        </p:grpSpPr>
        <p:sp>
          <p:nvSpPr>
            <p:cNvPr id="213" name=""/>
            <p:cNvSpPr/>
            <p:nvPr/>
          </p:nvSpPr>
          <p:spPr>
            <a:xfrm>
              <a:off x="960480" y="3299040"/>
              <a:ext cx="3001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2.01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</a:t>
              </a: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 10</a:t>
              </a:r>
              <a:r>
                <a:rPr b="0" lang="en-US" sz="2600" spc="-1" strike="noStrike" baseline="30000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747520" y="3173400"/>
              <a:ext cx="435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3995640" y="3328920"/>
            <a:ext cx="3962160" cy="509040"/>
            <a:chOff x="3995640" y="3328920"/>
            <a:chExt cx="3962160" cy="509040"/>
          </a:xfrm>
        </p:grpSpPr>
        <p:sp>
          <p:nvSpPr>
            <p:cNvPr id="216" name=""/>
            <p:cNvSpPr/>
            <p:nvPr/>
          </p:nvSpPr>
          <p:spPr>
            <a:xfrm>
              <a:off x="3995640" y="3348000"/>
              <a:ext cx="39621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600" spc="-1" strike="noStrike">
                  <a:solidFill>
                    <a:srgbClr val="0099ff"/>
                  </a:solidFill>
                  <a:latin typeface="Verdana"/>
                </a:rPr>
                <a:t>10  = 10,000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466160" y="3328920"/>
              <a:ext cx="291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99ff"/>
                  </a:solidFill>
                  <a:latin typeface="Verdana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960480" y="3716280"/>
            <a:ext cx="2895480" cy="641160"/>
            <a:chOff x="960480" y="3716280"/>
            <a:chExt cx="2895480" cy="641160"/>
          </a:xfrm>
        </p:grpSpPr>
        <p:sp>
          <p:nvSpPr>
            <p:cNvPr id="219" name=""/>
            <p:cNvSpPr/>
            <p:nvPr/>
          </p:nvSpPr>
          <p:spPr>
            <a:xfrm>
              <a:off x="960480" y="3836880"/>
              <a:ext cx="2895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2.01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</a:t>
              </a: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 10,000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700000" y="3716280"/>
              <a:ext cx="25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1" name=""/>
          <p:cNvSpPr/>
          <p:nvPr/>
        </p:nvSpPr>
        <p:spPr>
          <a:xfrm>
            <a:off x="0" y="9208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Additional Example 1C: Translating Scientific Notation to Standard Notation Continu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845640" y="2055960"/>
            <a:ext cx="62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Write the number in standard not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1249560" y="4314600"/>
            <a:ext cx="963360" cy="547200"/>
            <a:chOff x="1249560" y="4314600"/>
            <a:chExt cx="963360" cy="547200"/>
          </a:xfrm>
        </p:grpSpPr>
        <p:sp>
          <p:nvSpPr>
            <p:cNvPr id="224" name=""/>
            <p:cNvSpPr/>
            <p:nvPr/>
          </p:nvSpPr>
          <p:spPr>
            <a:xfrm rot="5400000">
              <a:off x="1122120" y="4456440"/>
              <a:ext cx="532440" cy="277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6530" y="1645"/>
                  </a:moveTo>
                  <a:arcTo wR="10800" hR="10800" stAng="-3477404" swAng="7140798"/>
                  <a:lnTo>
                    <a:pt x="10800" y="10800"/>
                  </a:lnTo>
                  <a:close/>
                </a:path>
                <a:path fill="none" w="21600" h="21600">
                  <a:moveTo>
                    <a:pt x="16530" y="1645"/>
                  </a:moveTo>
                  <a:arcTo wR="10800" hR="10800" stAng="-3477404" swAng="7140798"/>
                </a:path>
              </a:pathLst>
            </a:cu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rot="5400000">
              <a:off x="1382760" y="4424760"/>
              <a:ext cx="526680" cy="32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6530" y="1645"/>
                  </a:moveTo>
                  <a:arcTo wR="10800" hR="10800" stAng="-3477404" swAng="7140798"/>
                  <a:lnTo>
                    <a:pt x="10800" y="10800"/>
                  </a:lnTo>
                  <a:close/>
                </a:path>
                <a:path fill="none" w="21600" h="21600">
                  <a:moveTo>
                    <a:pt x="16530" y="1645"/>
                  </a:moveTo>
                  <a:arcTo wR="10800" hR="10800" stAng="-3477404" swAng="7140798"/>
                </a:path>
              </a:pathLst>
            </a:cu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 rot="5400000">
              <a:off x="1625760" y="4463640"/>
              <a:ext cx="533160" cy="235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6530" y="1645"/>
                  </a:moveTo>
                  <a:arcTo wR="10800" hR="10800" stAng="-3477404" swAng="7140798"/>
                  <a:lnTo>
                    <a:pt x="10800" y="10800"/>
                  </a:lnTo>
                  <a:close/>
                </a:path>
                <a:path fill="none" w="21600" h="21600">
                  <a:moveTo>
                    <a:pt x="16530" y="1645"/>
                  </a:moveTo>
                  <a:arcTo wR="10800" hR="10800" stAng="-3477404" swAng="7140798"/>
                </a:path>
              </a:pathLst>
            </a:cu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5400000">
              <a:off x="1828440" y="4472640"/>
              <a:ext cx="533160" cy="235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6530" y="1645"/>
                  </a:moveTo>
                  <a:arcTo wR="10800" hR="10800" stAng="-3477404" swAng="7140798"/>
                  <a:lnTo>
                    <a:pt x="10800" y="10800"/>
                  </a:lnTo>
                  <a:close/>
                </a:path>
                <a:path fill="none" w="21600" h="21600">
                  <a:moveTo>
                    <a:pt x="16530" y="1645"/>
                  </a:moveTo>
                  <a:arcTo wR="10800" hR="10800" stAng="-3477404" swAng="7140798"/>
                </a:path>
              </a:pathLst>
            </a:custGeom>
            <a:noFill/>
            <a:ln w="19080">
              <a:solidFill>
                <a:srgbClr val="ff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8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229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0" name="" descr=""/>
            <p:cNvPicPr/>
            <p:nvPr/>
          </p:nvPicPr>
          <p:blipFill>
            <a:blip r:embed="rId2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95840" y="83160"/>
              <a:ext cx="777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 Black"/>
                </a:rPr>
                <a:t>4-4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066680" y="127800"/>
              <a:ext cx="807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 Black"/>
                </a:rPr>
                <a:t>Scientific Notatio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898560" y="4351320"/>
            <a:ext cx="2757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2,870,000,000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895320" y="3743280"/>
            <a:ext cx="413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2.87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1,000,000,000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032360" y="4408560"/>
            <a:ext cx="46814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99ff"/>
                </a:solidFill>
                <a:latin typeface="Verdana"/>
              </a:rPr>
              <a:t>Think: Move the decimal right 9 place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88840" y="2576520"/>
            <a:ext cx="31179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2.87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 10</a:t>
            </a:r>
            <a:r>
              <a:rPr b="1" lang="en-US" sz="2600" spc="-1" strike="noStrike" baseline="30000">
                <a:solidFill>
                  <a:srgbClr val="000000"/>
                </a:solidFill>
                <a:latin typeface="Verdana"/>
              </a:rPr>
              <a:t>9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884160" y="3165480"/>
            <a:ext cx="2044080" cy="520560"/>
            <a:chOff x="884160" y="3165480"/>
            <a:chExt cx="2044080" cy="520560"/>
          </a:xfrm>
        </p:grpSpPr>
        <p:sp>
          <p:nvSpPr>
            <p:cNvPr id="239" name=""/>
            <p:cNvSpPr/>
            <p:nvPr/>
          </p:nvSpPr>
          <p:spPr>
            <a:xfrm>
              <a:off x="884160" y="3165480"/>
              <a:ext cx="1949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2.87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</a:t>
              </a: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 10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631600" y="318600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4157640" y="3195720"/>
            <a:ext cx="3962520" cy="489960"/>
            <a:chOff x="4157640" y="3195720"/>
            <a:chExt cx="3962520" cy="489960"/>
          </a:xfrm>
        </p:grpSpPr>
        <p:sp>
          <p:nvSpPr>
            <p:cNvPr id="242" name=""/>
            <p:cNvSpPr/>
            <p:nvPr/>
          </p:nvSpPr>
          <p:spPr>
            <a:xfrm>
              <a:off x="4157640" y="3195720"/>
              <a:ext cx="39625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600" spc="-1" strike="noStrike">
                  <a:solidFill>
                    <a:srgbClr val="0099ff"/>
                  </a:solidFill>
                  <a:latin typeface="Verdana"/>
                </a:rPr>
                <a:t>10  = 1,000,000,000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617360" y="3210120"/>
              <a:ext cx="291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99ff"/>
                  </a:solidFill>
                  <a:latin typeface="Verdana"/>
                </a:rPr>
                <a:t>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4" name=""/>
          <p:cNvSpPr/>
          <p:nvPr/>
        </p:nvSpPr>
        <p:spPr>
          <a:xfrm>
            <a:off x="929880" y="1770120"/>
            <a:ext cx="721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Write the number in standard not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1298520" y="4329000"/>
            <a:ext cx="2150640" cy="574560"/>
            <a:chOff x="1298520" y="4329000"/>
            <a:chExt cx="2150640" cy="574560"/>
          </a:xfrm>
        </p:grpSpPr>
        <p:sp>
          <p:nvSpPr>
            <p:cNvPr id="246" name=""/>
            <p:cNvSpPr/>
            <p:nvPr/>
          </p:nvSpPr>
          <p:spPr>
            <a:xfrm rot="5400000">
              <a:off x="1149480" y="4516200"/>
              <a:ext cx="533160" cy="235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6530" y="1645"/>
                  </a:moveTo>
                  <a:arcTo wR="10800" hR="10800" stAng="-3477404" swAng="7140798"/>
                  <a:lnTo>
                    <a:pt x="10800" y="10800"/>
                  </a:lnTo>
                  <a:close/>
                </a:path>
                <a:path fill="none" w="21600" h="21600">
                  <a:moveTo>
                    <a:pt x="16530" y="1645"/>
                  </a:moveTo>
                  <a:arcTo wR="10800" hR="10800" stAng="-3477404" swAng="7140798"/>
                </a:path>
              </a:pathLst>
            </a:cu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 rot="5400000">
              <a:off x="1582200" y="4497840"/>
              <a:ext cx="533160" cy="277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6530" y="1645"/>
                  </a:moveTo>
                  <a:arcTo wR="10800" hR="10800" stAng="-3477404" swAng="7140798"/>
                  <a:lnTo>
                    <a:pt x="10800" y="10800"/>
                  </a:lnTo>
                  <a:close/>
                </a:path>
                <a:path fill="none" w="21600" h="21600">
                  <a:moveTo>
                    <a:pt x="16530" y="1645"/>
                  </a:moveTo>
                  <a:arcTo wR="10800" hR="10800" stAng="-3477404" swAng="7140798"/>
                </a:path>
              </a:pathLst>
            </a:cu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rot="5400000">
              <a:off x="1849680" y="4460040"/>
              <a:ext cx="526680" cy="32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6530" y="1645"/>
                  </a:moveTo>
                  <a:arcTo wR="10800" hR="10800" stAng="-3477404" swAng="7140798"/>
                  <a:lnTo>
                    <a:pt x="10800" y="10800"/>
                  </a:lnTo>
                  <a:close/>
                </a:path>
                <a:path fill="none" w="21600" h="21600">
                  <a:moveTo>
                    <a:pt x="16530" y="1645"/>
                  </a:moveTo>
                  <a:arcTo wR="10800" hR="10800" stAng="-3477404" swAng="7140798"/>
                </a:path>
              </a:pathLst>
            </a:cu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rot="5400000">
              <a:off x="2095560" y="4488480"/>
              <a:ext cx="533160" cy="242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6530" y="1645"/>
                  </a:moveTo>
                  <a:arcTo wR="10800" hR="10800" stAng="-3477404" swAng="7140798"/>
                  <a:lnTo>
                    <a:pt x="10800" y="10800"/>
                  </a:lnTo>
                  <a:close/>
                </a:path>
                <a:path fill="none" w="21600" h="21600">
                  <a:moveTo>
                    <a:pt x="16530" y="1645"/>
                  </a:moveTo>
                  <a:arcTo wR="10800" hR="10800" stAng="-3477404" swAng="7140798"/>
                </a:path>
              </a:pathLst>
            </a:cu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rot="5400000">
              <a:off x="3065040" y="4495680"/>
              <a:ext cx="533160" cy="235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4741" y="745"/>
                  </a:moveTo>
                  <a:arcTo wR="10800" hR="10800" stAng="-4115724" swAng="7779118"/>
                  <a:lnTo>
                    <a:pt x="10800" y="10800"/>
                  </a:lnTo>
                  <a:close/>
                </a:path>
                <a:path fill="none" w="21600" h="21600">
                  <a:moveTo>
                    <a:pt x="14741" y="745"/>
                  </a:moveTo>
                  <a:arcTo wR="10800" hR="10800" stAng="-4115724" swAng="7779118"/>
                </a:path>
              </a:pathLst>
            </a:custGeom>
            <a:noFill/>
            <a:ln w="19080">
              <a:solidFill>
                <a:srgbClr val="ff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rot="5400000">
              <a:off x="1357920" y="4506840"/>
              <a:ext cx="532440" cy="235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6530" y="1645"/>
                  </a:moveTo>
                  <a:arcTo wR="10800" hR="10800" stAng="-3477404" swAng="7140798"/>
                  <a:lnTo>
                    <a:pt x="10800" y="10800"/>
                  </a:lnTo>
                  <a:close/>
                </a:path>
                <a:path fill="none" w="21600" h="21600">
                  <a:moveTo>
                    <a:pt x="16530" y="1645"/>
                  </a:moveTo>
                  <a:arcTo wR="10800" hR="10800" stAng="-3477404" swAng="7140798"/>
                </a:path>
              </a:pathLst>
            </a:cu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rot="5400000">
              <a:off x="2847600" y="4477680"/>
              <a:ext cx="533160" cy="235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6530" y="1645"/>
                  </a:moveTo>
                  <a:arcTo wR="10800" hR="10800" stAng="-3477404" swAng="7140798"/>
                  <a:lnTo>
                    <a:pt x="10800" y="10800"/>
                  </a:lnTo>
                  <a:close/>
                </a:path>
                <a:path fill="none" w="21600" h="21600">
                  <a:moveTo>
                    <a:pt x="16530" y="1645"/>
                  </a:moveTo>
                  <a:arcTo wR="10800" hR="10800" stAng="-3477404" swAng="7140798"/>
                </a:path>
              </a:pathLst>
            </a:cu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 rot="5400000">
              <a:off x="2605320" y="4453560"/>
              <a:ext cx="526680" cy="32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6530" y="1645"/>
                  </a:moveTo>
                  <a:arcTo wR="10800" hR="10800" stAng="-3477404" swAng="7140798"/>
                  <a:lnTo>
                    <a:pt x="10800" y="10800"/>
                  </a:lnTo>
                  <a:close/>
                </a:path>
                <a:path fill="none" w="21600" h="21600">
                  <a:moveTo>
                    <a:pt x="16530" y="1645"/>
                  </a:moveTo>
                  <a:arcTo wR="10800" hR="10800" stAng="-3477404" swAng="7140798"/>
                </a:path>
              </a:pathLst>
            </a:cu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 rot="5400000">
              <a:off x="2337840" y="4478760"/>
              <a:ext cx="533160" cy="277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6530" y="1645"/>
                  </a:moveTo>
                  <a:arcTo wR="10800" hR="10800" stAng="-3477404" swAng="7140798"/>
                  <a:lnTo>
                    <a:pt x="10800" y="10800"/>
                  </a:lnTo>
                  <a:close/>
                </a:path>
                <a:path fill="none" w="21600" h="21600">
                  <a:moveTo>
                    <a:pt x="16530" y="1645"/>
                  </a:moveTo>
                  <a:arcTo wR="10800" hR="10800" stAng="-3477404" swAng="7140798"/>
                </a:path>
              </a:pathLst>
            </a:cu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0" y="9208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Check It Out: Example 1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3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893880" y="4343400"/>
            <a:ext cx="268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1.9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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100,000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258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9" name="" descr=""/>
            <p:cNvPicPr/>
            <p:nvPr/>
          </p:nvPicPr>
          <p:blipFill>
            <a:blip r:embed="rId2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0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95840" y="83160"/>
              <a:ext cx="777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 Black"/>
                </a:rPr>
                <a:t>4-4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066680" y="127800"/>
              <a:ext cx="807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 Black"/>
                </a:rPr>
                <a:t>Scientific Notatio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3" name=""/>
          <p:cNvSpPr/>
          <p:nvPr/>
        </p:nvSpPr>
        <p:spPr>
          <a:xfrm>
            <a:off x="914400" y="5149800"/>
            <a:ext cx="2178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0.000019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038480" y="4363920"/>
            <a:ext cx="4267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99ff"/>
                </a:solidFill>
                <a:latin typeface="Verdana"/>
              </a:rPr>
              <a:t>Divide by the reciprocal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014720" y="5181480"/>
            <a:ext cx="47484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99ff"/>
                </a:solidFill>
                <a:latin typeface="Verdana"/>
              </a:rPr>
              <a:t>Think: Move the decimal left 5 place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447840" y="2971800"/>
            <a:ext cx="3028320" cy="641160"/>
            <a:chOff x="447840" y="2971800"/>
            <a:chExt cx="3028320" cy="641160"/>
          </a:xfrm>
        </p:grpSpPr>
        <p:sp>
          <p:nvSpPr>
            <p:cNvPr id="267" name=""/>
            <p:cNvSpPr/>
            <p:nvPr/>
          </p:nvSpPr>
          <p:spPr>
            <a:xfrm>
              <a:off x="447840" y="3092400"/>
              <a:ext cx="3028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Verdana"/>
                </a:rPr>
                <a:t>     </a:t>
              </a: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1.9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</a:t>
              </a: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 10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280960" y="2971800"/>
              <a:ext cx="573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9" name=""/>
          <p:cNvSpPr/>
          <p:nvPr/>
        </p:nvSpPr>
        <p:spPr>
          <a:xfrm>
            <a:off x="941400" y="2579760"/>
            <a:ext cx="32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1.9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 10</a:t>
            </a:r>
            <a:r>
              <a:rPr b="1" lang="en-US" sz="2600" spc="-1" strike="noStrike" baseline="30000">
                <a:solidFill>
                  <a:srgbClr val="000000"/>
                </a:solidFill>
                <a:latin typeface="Verdana"/>
              </a:rPr>
              <a:t>–5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4060800" y="2936880"/>
            <a:ext cx="2781360" cy="733680"/>
            <a:chOff x="4060800" y="2936880"/>
            <a:chExt cx="2781360" cy="733680"/>
          </a:xfrm>
        </p:grpSpPr>
        <p:sp>
          <p:nvSpPr>
            <p:cNvPr id="271" name=""/>
            <p:cNvSpPr/>
            <p:nvPr/>
          </p:nvSpPr>
          <p:spPr>
            <a:xfrm>
              <a:off x="4450320" y="3048120"/>
              <a:ext cx="447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99ff"/>
                  </a:solidFill>
                  <a:latin typeface="Verdana"/>
                </a:rPr>
                <a:t> –</a:t>
              </a:r>
              <a:r>
                <a:rPr b="0" i="1" lang="en-US" sz="1600" spc="-1" strike="noStrike">
                  <a:solidFill>
                    <a:srgbClr val="0099ff"/>
                  </a:solidFill>
                  <a:latin typeface="Verdana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521320" y="2936880"/>
              <a:ext cx="838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99ff"/>
                  </a:solidFill>
                  <a:latin typeface="Verdana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3" name=""/>
            <p:cNvGrpSpPr/>
            <p:nvPr/>
          </p:nvGrpSpPr>
          <p:grpSpPr>
            <a:xfrm>
              <a:off x="4060800" y="3062520"/>
              <a:ext cx="2781360" cy="608040"/>
              <a:chOff x="4060800" y="3062520"/>
              <a:chExt cx="2781360" cy="608040"/>
            </a:xfrm>
          </p:grpSpPr>
          <p:sp>
            <p:nvSpPr>
              <p:cNvPr id="274" name=""/>
              <p:cNvSpPr/>
              <p:nvPr/>
            </p:nvSpPr>
            <p:spPr>
              <a:xfrm>
                <a:off x="4060800" y="3062520"/>
                <a:ext cx="182880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600" spc="-1" strike="noStrike">
                    <a:solidFill>
                      <a:srgbClr val="0099ff"/>
                    </a:solidFill>
                    <a:latin typeface="Verdana"/>
                  </a:rPr>
                  <a:t>10    =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4861080" y="3271680"/>
                <a:ext cx="1981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99ff"/>
                    </a:solidFill>
                    <a:latin typeface="Verdana"/>
                  </a:rPr>
                  <a:t>100,000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6" name=""/>
            <p:cNvSpPr/>
            <p:nvPr/>
          </p:nvSpPr>
          <p:spPr>
            <a:xfrm>
              <a:off x="5521320" y="3317760"/>
              <a:ext cx="838080" cy="0"/>
            </a:xfrm>
            <a:prstGeom prst="line">
              <a:avLst/>
            </a:prstGeom>
            <a:ln w="3168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7" name=""/>
          <p:cNvSpPr/>
          <p:nvPr/>
        </p:nvSpPr>
        <p:spPr>
          <a:xfrm>
            <a:off x="872640" y="1770120"/>
            <a:ext cx="721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Write the number in standard not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914400" y="3551400"/>
            <a:ext cx="2577600" cy="717840"/>
            <a:chOff x="914400" y="3551400"/>
            <a:chExt cx="2577600" cy="717840"/>
          </a:xfrm>
        </p:grpSpPr>
        <p:sp>
          <p:nvSpPr>
            <p:cNvPr id="279" name=""/>
            <p:cNvSpPr/>
            <p:nvPr/>
          </p:nvSpPr>
          <p:spPr>
            <a:xfrm>
              <a:off x="914400" y="3672000"/>
              <a:ext cx="1282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1.9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</a:t>
              </a: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044440" y="3551400"/>
              <a:ext cx="91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510920" y="3870360"/>
              <a:ext cx="1981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100,0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031840" y="3932280"/>
              <a:ext cx="99000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3" name=""/>
          <p:cNvGrpSpPr/>
          <p:nvPr/>
        </p:nvGrpSpPr>
        <p:grpSpPr>
          <a:xfrm>
            <a:off x="1278720" y="5105160"/>
            <a:ext cx="1118160" cy="609480"/>
            <a:chOff x="1278720" y="5105160"/>
            <a:chExt cx="1118160" cy="609480"/>
          </a:xfrm>
        </p:grpSpPr>
        <p:sp>
          <p:nvSpPr>
            <p:cNvPr id="284" name=""/>
            <p:cNvSpPr/>
            <p:nvPr/>
          </p:nvSpPr>
          <p:spPr>
            <a:xfrm rot="5400000">
              <a:off x="1351800" y="5320080"/>
              <a:ext cx="533160" cy="237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6530" y="1645"/>
                  </a:moveTo>
                  <a:arcTo wR="10800" hR="10800" stAng="-3477404" swAng="7140798"/>
                  <a:lnTo>
                    <a:pt x="10800" y="10800"/>
                  </a:lnTo>
                  <a:close/>
                </a:path>
                <a:path fill="none" w="21600" h="21600">
                  <a:moveTo>
                    <a:pt x="16530" y="1645"/>
                  </a:moveTo>
                  <a:arcTo wR="10800" hR="10800" stAng="-3477404" swAng="7140798"/>
                </a:path>
              </a:pathLst>
            </a:cu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rot="5400000">
              <a:off x="1783440" y="5303520"/>
              <a:ext cx="533160" cy="266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6530" y="1645"/>
                  </a:moveTo>
                  <a:arcTo wR="10800" hR="10800" stAng="-3477404" swAng="7140798"/>
                  <a:lnTo>
                    <a:pt x="10800" y="10800"/>
                  </a:lnTo>
                  <a:close/>
                </a:path>
                <a:path fill="none" w="21600" h="21600">
                  <a:moveTo>
                    <a:pt x="16530" y="1645"/>
                  </a:moveTo>
                  <a:arcTo wR="10800" hR="10800" stAng="-3477404" swAng="7140798"/>
                </a:path>
              </a:pathLst>
            </a:cu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rot="5400000">
              <a:off x="1991880" y="5306400"/>
              <a:ext cx="567720" cy="241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6166" y="1427"/>
                  </a:moveTo>
                  <a:arcTo wR="10800" hR="10800" stAng="-3612610" swAng="7276003"/>
                  <a:lnTo>
                    <a:pt x="10800" y="10800"/>
                  </a:lnTo>
                  <a:close/>
                </a:path>
                <a:path fill="none" w="21600" h="21600">
                  <a:moveTo>
                    <a:pt x="16166" y="1427"/>
                  </a:moveTo>
                  <a:arcTo wR="10800" hR="10800" stAng="-3612610" swAng="7276003"/>
                </a:path>
              </a:pathLst>
            </a:cu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rot="5400000">
              <a:off x="1107000" y="5276880"/>
              <a:ext cx="609480" cy="266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6674" y="1737"/>
                  </a:moveTo>
                  <a:arcTo wR="10800" hR="10800" stAng="-3423243" swAng="7086637"/>
                  <a:lnTo>
                    <a:pt x="10800" y="10800"/>
                  </a:lnTo>
                  <a:close/>
                </a:path>
                <a:path fill="none" w="21600" h="21600">
                  <a:moveTo>
                    <a:pt x="16674" y="1737"/>
                  </a:moveTo>
                  <a:arcTo wR="10800" hR="10800" stAng="-3423243" swAng="7086637"/>
                </a:path>
              </a:pathLst>
            </a:custGeom>
            <a:noFill/>
            <a:ln w="1908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rot="5400000">
              <a:off x="1557360" y="5302080"/>
              <a:ext cx="552600" cy="253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6530" y="1645"/>
                  </a:moveTo>
                  <a:arcTo wR="10800" hR="10800" stAng="-3477404" swAng="7140798"/>
                  <a:lnTo>
                    <a:pt x="10800" y="10800"/>
                  </a:lnTo>
                  <a:close/>
                </a:path>
                <a:path fill="none" w="21600" h="21600">
                  <a:moveTo>
                    <a:pt x="16530" y="1645"/>
                  </a:moveTo>
                  <a:arcTo wR="10800" hR="10800" stAng="-3477404" swAng="7140798"/>
                </a:path>
              </a:pathLst>
            </a:cu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"/>
          <p:cNvSpPr/>
          <p:nvPr/>
        </p:nvSpPr>
        <p:spPr>
          <a:xfrm>
            <a:off x="0" y="9208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Check It Out: Example 1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1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50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9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0" name=""/>
          <p:cNvGrpSpPr/>
          <p:nvPr/>
        </p:nvGrpSpPr>
        <p:grpSpPr>
          <a:xfrm>
            <a:off x="3990960" y="3097080"/>
            <a:ext cx="3962160" cy="509040"/>
            <a:chOff x="3990960" y="3097080"/>
            <a:chExt cx="3962160" cy="509040"/>
          </a:xfrm>
        </p:grpSpPr>
        <p:sp>
          <p:nvSpPr>
            <p:cNvPr id="291" name=""/>
            <p:cNvSpPr/>
            <p:nvPr/>
          </p:nvSpPr>
          <p:spPr>
            <a:xfrm>
              <a:off x="3990960" y="3116160"/>
              <a:ext cx="39621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600" spc="-1" strike="noStrike">
                  <a:solidFill>
                    <a:srgbClr val="0099ff"/>
                  </a:solidFill>
                  <a:latin typeface="Verdana"/>
                </a:rPr>
                <a:t>10  = 100,000,000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461480" y="3097080"/>
              <a:ext cx="291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99ff"/>
                  </a:solidFill>
                  <a:latin typeface="Verdana"/>
                </a:rPr>
                <a:t>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3" name=""/>
          <p:cNvGrpSpPr/>
          <p:nvPr/>
        </p:nvGrpSpPr>
        <p:grpSpPr>
          <a:xfrm>
            <a:off x="1165320" y="3119400"/>
            <a:ext cx="2895480" cy="528480"/>
            <a:chOff x="1165320" y="3119400"/>
            <a:chExt cx="2895480" cy="528480"/>
          </a:xfrm>
        </p:grpSpPr>
        <p:sp>
          <p:nvSpPr>
            <p:cNvPr id="294" name=""/>
            <p:cNvSpPr/>
            <p:nvPr/>
          </p:nvSpPr>
          <p:spPr>
            <a:xfrm>
              <a:off x="1165320" y="3127320"/>
              <a:ext cx="2895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5.09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</a:t>
              </a: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 10</a:t>
              </a:r>
              <a:r>
                <a:rPr b="0" lang="en-US" sz="2600" spc="-1" strike="noStrike" baseline="30000">
                  <a:solidFill>
                    <a:srgbClr val="000000"/>
                  </a:solidFill>
                  <a:latin typeface="Verdana"/>
                </a:rPr>
                <a:t>8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020040" y="3119400"/>
              <a:ext cx="287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6" name=""/>
          <p:cNvSpPr/>
          <p:nvPr/>
        </p:nvSpPr>
        <p:spPr>
          <a:xfrm>
            <a:off x="1150920" y="3639960"/>
            <a:ext cx="39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5.09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100,000,000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068480" y="2576520"/>
            <a:ext cx="2895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5.09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 10</a:t>
            </a:r>
            <a:r>
              <a:rPr b="1" lang="en-US" sz="2600" spc="-1" strike="noStrike" baseline="30000">
                <a:solidFill>
                  <a:srgbClr val="000000"/>
                </a:solidFill>
                <a:latin typeface="Verdana"/>
              </a:rPr>
              <a:t>8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299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0" name="" descr=""/>
            <p:cNvPicPr/>
            <p:nvPr/>
          </p:nvPicPr>
          <p:blipFill>
            <a:blip r:embed="rId2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1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95840" y="83160"/>
              <a:ext cx="777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 Black"/>
                </a:rPr>
                <a:t>4-4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066680" y="127800"/>
              <a:ext cx="807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 Black"/>
                </a:rPr>
                <a:t>Scientific Notatio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4" name=""/>
          <p:cNvSpPr/>
          <p:nvPr/>
        </p:nvSpPr>
        <p:spPr>
          <a:xfrm>
            <a:off x="901440" y="1812960"/>
            <a:ext cx="721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Write the number in standard not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0" y="9208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Check It Out: Example 1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155600" y="4214880"/>
            <a:ext cx="3124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509,000,000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076640" y="4299120"/>
            <a:ext cx="47102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99ff"/>
                </a:solidFill>
                <a:latin typeface="Verdana"/>
              </a:rPr>
              <a:t>Think: Move the decimal right 8 place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8" name=""/>
          <p:cNvGrpSpPr/>
          <p:nvPr/>
        </p:nvGrpSpPr>
        <p:grpSpPr>
          <a:xfrm>
            <a:off x="1444680" y="4134240"/>
            <a:ext cx="1951560" cy="608760"/>
            <a:chOff x="1444680" y="4134240"/>
            <a:chExt cx="1951560" cy="608760"/>
          </a:xfrm>
        </p:grpSpPr>
        <p:sp>
          <p:nvSpPr>
            <p:cNvPr id="309" name=""/>
            <p:cNvSpPr/>
            <p:nvPr/>
          </p:nvSpPr>
          <p:spPr>
            <a:xfrm rot="5400000">
              <a:off x="1296720" y="4327920"/>
              <a:ext cx="532440" cy="236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6530" y="1645"/>
                  </a:moveTo>
                  <a:arcTo wR="10800" hR="10800" stAng="-3477404" swAng="7140798"/>
                  <a:lnTo>
                    <a:pt x="10800" y="10800"/>
                  </a:lnTo>
                  <a:close/>
                </a:path>
                <a:path fill="none" w="21600" h="21600">
                  <a:moveTo>
                    <a:pt x="16530" y="1645"/>
                  </a:moveTo>
                  <a:arcTo wR="10800" hR="10800" stAng="-3477404" swAng="7140798"/>
                </a:path>
              </a:pathLst>
            </a:cu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 rot="5400000">
              <a:off x="1785600" y="4302000"/>
              <a:ext cx="533160" cy="266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6530" y="1645"/>
                  </a:moveTo>
                  <a:arcTo wR="10800" hR="10800" stAng="-3477404" swAng="7140798"/>
                  <a:lnTo>
                    <a:pt x="10800" y="10800"/>
                  </a:lnTo>
                  <a:close/>
                </a:path>
                <a:path fill="none" w="21600" h="21600">
                  <a:moveTo>
                    <a:pt x="16530" y="1645"/>
                  </a:moveTo>
                  <a:arcTo wR="10800" hR="10800" stAng="-3477404" swAng="7140798"/>
                </a:path>
              </a:pathLst>
            </a:cu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rot="5400000">
              <a:off x="2006280" y="4290480"/>
              <a:ext cx="568080" cy="270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6166" y="1427"/>
                  </a:moveTo>
                  <a:arcTo wR="10800" hR="10800" stAng="-3612610" swAng="7276003"/>
                  <a:lnTo>
                    <a:pt x="10800" y="10800"/>
                  </a:lnTo>
                  <a:close/>
                </a:path>
                <a:path fill="none" w="21600" h="21600">
                  <a:moveTo>
                    <a:pt x="16166" y="1427"/>
                  </a:moveTo>
                  <a:arcTo wR="10800" hR="10800" stAng="-3612610" swAng="7276003"/>
                </a:path>
              </a:pathLst>
            </a:cu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 rot="5400000">
              <a:off x="2958480" y="4305240"/>
              <a:ext cx="608760" cy="266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4333" y="594"/>
                  </a:moveTo>
                  <a:arcTo wR="10800" hR="10800" stAng="-4254440" swAng="7917834"/>
                  <a:lnTo>
                    <a:pt x="10800" y="10800"/>
                  </a:lnTo>
                  <a:close/>
                </a:path>
                <a:path fill="none" w="21600" h="21600">
                  <a:moveTo>
                    <a:pt x="14333" y="594"/>
                  </a:moveTo>
                  <a:arcTo wR="10800" hR="10800" stAng="-4254440" swAng="7917834"/>
                </a:path>
              </a:pathLst>
            </a:custGeom>
            <a:noFill/>
            <a:ln w="19080">
              <a:solidFill>
                <a:srgbClr val="ff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rot="5400000">
              <a:off x="1534320" y="4280400"/>
              <a:ext cx="5396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6530" y="1645"/>
                  </a:moveTo>
                  <a:arcTo wR="10800" hR="10800" stAng="-3477404" swAng="7140798"/>
                  <a:lnTo>
                    <a:pt x="10800" y="10800"/>
                  </a:lnTo>
                  <a:close/>
                </a:path>
                <a:path fill="none" w="21600" h="21600">
                  <a:moveTo>
                    <a:pt x="16530" y="1645"/>
                  </a:moveTo>
                  <a:arcTo wR="10800" hR="10800" stAng="-3477404" swAng="7140798"/>
                </a:path>
              </a:pathLst>
            </a:cu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rot="5400000">
              <a:off x="2534400" y="4302000"/>
              <a:ext cx="533160" cy="266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6530" y="1645"/>
                  </a:moveTo>
                  <a:arcTo wR="10800" hR="10800" stAng="-3477404" swAng="7140798"/>
                  <a:lnTo>
                    <a:pt x="10800" y="10800"/>
                  </a:lnTo>
                  <a:close/>
                </a:path>
                <a:path fill="none" w="21600" h="21600">
                  <a:moveTo>
                    <a:pt x="16530" y="1645"/>
                  </a:moveTo>
                  <a:arcTo wR="10800" hR="10800" stAng="-3477404" swAng="7140798"/>
                </a:path>
              </a:pathLst>
            </a:cu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rot="5400000">
              <a:off x="2746440" y="4297320"/>
              <a:ext cx="574200" cy="256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6166" y="1427"/>
                  </a:moveTo>
                  <a:arcTo wR="10800" hR="10800" stAng="-3612610" swAng="7276003"/>
                  <a:lnTo>
                    <a:pt x="10800" y="10800"/>
                  </a:lnTo>
                  <a:close/>
                </a:path>
                <a:path fill="none" w="21600" h="21600">
                  <a:moveTo>
                    <a:pt x="16166" y="1427"/>
                  </a:moveTo>
                  <a:arcTo wR="10800" hR="10800" stAng="-3612610" swAng="7276003"/>
                </a:path>
              </a:pathLst>
            </a:cu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rot="5400000">
              <a:off x="2283120" y="4280400"/>
              <a:ext cx="539640" cy="312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6530" y="1645"/>
                  </a:moveTo>
                  <a:arcTo wR="10800" hR="10800" stAng="-3477404" swAng="7140798"/>
                  <a:lnTo>
                    <a:pt x="10800" y="10800"/>
                  </a:lnTo>
                  <a:close/>
                </a:path>
                <a:path fill="none" w="21600" h="21600">
                  <a:moveTo>
                    <a:pt x="16530" y="1645"/>
                  </a:moveTo>
                  <a:arcTo wR="10800" hR="10800" stAng="-3477404" swAng="7140798"/>
                </a:path>
              </a:pathLst>
            </a:cu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1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6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500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500"/>
                            </p:stCondLst>
                            <p:childTnLst>
                              <p:par>
                                <p:cTn id="2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7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318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9" name="" descr=""/>
            <p:cNvPicPr/>
            <p:nvPr/>
          </p:nvPicPr>
          <p:blipFill>
            <a:blip r:embed="rId2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0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94400" y="83160"/>
              <a:ext cx="777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 Black"/>
                </a:rPr>
                <a:t>4-4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066680" y="127800"/>
              <a:ext cx="807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 Black"/>
                </a:rPr>
                <a:t>Scientific Notatio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3" name=""/>
          <p:cNvGrpSpPr/>
          <p:nvPr/>
        </p:nvGrpSpPr>
        <p:grpSpPr>
          <a:xfrm>
            <a:off x="655560" y="1952640"/>
            <a:ext cx="8183160" cy="1404360"/>
            <a:chOff x="655560" y="1952640"/>
            <a:chExt cx="8183160" cy="1404360"/>
          </a:xfrm>
        </p:grpSpPr>
        <p:sp>
          <p:nvSpPr>
            <p:cNvPr id="324" name=""/>
            <p:cNvSpPr/>
            <p:nvPr/>
          </p:nvSpPr>
          <p:spPr>
            <a:xfrm>
              <a:off x="665640" y="2409840"/>
              <a:ext cx="8173080" cy="947160"/>
            </a:xfrm>
            <a:prstGeom prst="rect">
              <a:avLst/>
            </a:prstGeom>
            <a:noFill/>
            <a:ln w="1908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Verdana"/>
                </a:rPr>
                <a:t>A number less than 1 will have a negative exponent </a:t>
              </a: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when written in scientific notation</a:t>
              </a:r>
              <a:r>
                <a:rPr b="0" lang="en-US" sz="2800" spc="-1" strike="noStrike">
                  <a:solidFill>
                    <a:srgbClr val="000000"/>
                  </a:solidFill>
                  <a:latin typeface="Verdana"/>
                </a:rPr>
                <a:t>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55560" y="1952640"/>
              <a:ext cx="2457000" cy="45972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Verdana"/>
                </a:rPr>
                <a:t>Helpful Hi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0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7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0" y="93024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Additional Example 2: Translating Standard Notation  to Scientific No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7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328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9" name="" descr=""/>
            <p:cNvPicPr/>
            <p:nvPr/>
          </p:nvPicPr>
          <p:blipFill>
            <a:blip r:embed="rId2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0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95840" y="83160"/>
              <a:ext cx="777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 Black"/>
                </a:rPr>
                <a:t>4-4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066680" y="127800"/>
              <a:ext cx="807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 Black"/>
                </a:rPr>
                <a:t>Scientific Notatio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3" name=""/>
          <p:cNvSpPr/>
          <p:nvPr/>
        </p:nvSpPr>
        <p:spPr>
          <a:xfrm>
            <a:off x="412920" y="4286160"/>
            <a:ext cx="853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99ff"/>
                </a:solidFill>
                <a:latin typeface="Verdana"/>
              </a:rPr>
              <a:t>Think: The decimal needs to move left to change 7.09 to 0.00709, so the exponent will be negat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63400" y="2205000"/>
            <a:ext cx="138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0.00709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921040" y="2239920"/>
            <a:ext cx="6222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99ff"/>
                </a:solidFill>
                <a:latin typeface="Verdana"/>
              </a:rPr>
              <a:t>Think: The decimal needs to move 3 places to get a number between 1 and 1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58640" y="2949480"/>
            <a:ext cx="98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7.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227160" y="3686040"/>
            <a:ext cx="2895480" cy="529920"/>
            <a:chOff x="227160" y="3686040"/>
            <a:chExt cx="2895480" cy="529920"/>
          </a:xfrm>
        </p:grpSpPr>
        <p:sp>
          <p:nvSpPr>
            <p:cNvPr id="338" name=""/>
            <p:cNvSpPr/>
            <p:nvPr/>
          </p:nvSpPr>
          <p:spPr>
            <a:xfrm>
              <a:off x="227160" y="3695400"/>
              <a:ext cx="2895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7.09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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065320" y="3686040"/>
              <a:ext cx="227160" cy="226800"/>
            </a:xfrm>
            <a:prstGeom prst="rect">
              <a:avLst/>
            </a:prstGeom>
            <a:solidFill>
              <a:srgbClr val="c0c0c0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2836800" y="375444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99ff"/>
                </a:solidFill>
                <a:latin typeface="Verdana"/>
              </a:rPr>
              <a:t>Set up scientific not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961560" y="5745240"/>
            <a:ext cx="6486840" cy="520560"/>
            <a:chOff x="961560" y="5745240"/>
            <a:chExt cx="6486840" cy="520560"/>
          </a:xfrm>
        </p:grpSpPr>
        <p:sp>
          <p:nvSpPr>
            <p:cNvPr id="342" name=""/>
            <p:cNvSpPr/>
            <p:nvPr/>
          </p:nvSpPr>
          <p:spPr>
            <a:xfrm>
              <a:off x="961560" y="5745240"/>
              <a:ext cx="6486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Verdana"/>
                </a:rPr>
                <a:t>Check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 7.09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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10</a:t>
              </a:r>
              <a:r>
                <a:rPr b="0" lang="en-US" sz="2600" spc="-1" strike="noStrike" baseline="30000">
                  <a:solidFill>
                    <a:srgbClr val="000000"/>
                  </a:solidFill>
                  <a:latin typeface="Verdana"/>
                </a:rPr>
                <a:t>–3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= 7.09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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0.001 = 0.00709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288240" y="5776920"/>
              <a:ext cx="4546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4" name=""/>
          <p:cNvSpPr/>
          <p:nvPr/>
        </p:nvSpPr>
        <p:spPr>
          <a:xfrm>
            <a:off x="799200" y="1693800"/>
            <a:ext cx="553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Write 0.00709 in scientific not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5" name=""/>
          <p:cNvGrpSpPr/>
          <p:nvPr/>
        </p:nvGrpSpPr>
        <p:grpSpPr>
          <a:xfrm>
            <a:off x="466560" y="5124600"/>
            <a:ext cx="8785080" cy="564480"/>
            <a:chOff x="466560" y="5124600"/>
            <a:chExt cx="8785080" cy="564480"/>
          </a:xfrm>
        </p:grpSpPr>
        <p:sp>
          <p:nvSpPr>
            <p:cNvPr id="346" name=""/>
            <p:cNvSpPr/>
            <p:nvPr/>
          </p:nvSpPr>
          <p:spPr>
            <a:xfrm>
              <a:off x="466560" y="5168520"/>
              <a:ext cx="8762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So 0.00709 written in scientific notation is 7.09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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10</a:t>
              </a:r>
              <a:r>
                <a:rPr b="0" lang="en-US" sz="2600" spc="-1" strike="noStrike" baseline="30000">
                  <a:solidFill>
                    <a:srgbClr val="000000"/>
                  </a:solidFill>
                  <a:latin typeface="Verdana"/>
                </a:rPr>
                <a:t>–3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8681760" y="5124600"/>
              <a:ext cx="5698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8" name=""/>
          <p:cNvGrpSpPr/>
          <p:nvPr/>
        </p:nvGrpSpPr>
        <p:grpSpPr>
          <a:xfrm>
            <a:off x="777960" y="2162520"/>
            <a:ext cx="699120" cy="541800"/>
            <a:chOff x="777960" y="2162520"/>
            <a:chExt cx="699120" cy="541800"/>
          </a:xfrm>
        </p:grpSpPr>
        <p:sp>
          <p:nvSpPr>
            <p:cNvPr id="349" name=""/>
            <p:cNvSpPr/>
            <p:nvPr/>
          </p:nvSpPr>
          <p:spPr>
            <a:xfrm rot="5400000">
              <a:off x="669240" y="2278440"/>
              <a:ext cx="525960" cy="308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6530" y="1645"/>
                  </a:moveTo>
                  <a:arcTo wR="10800" hR="10800" stAng="-3477404" swAng="7140798"/>
                  <a:lnTo>
                    <a:pt x="10800" y="10800"/>
                  </a:lnTo>
                  <a:close/>
                </a:path>
                <a:path fill="none" w="21600" h="21600">
                  <a:moveTo>
                    <a:pt x="16530" y="1645"/>
                  </a:moveTo>
                  <a:arcTo wR="10800" hR="10800" stAng="-3477404" swAng="7140798"/>
                </a:path>
              </a:pathLst>
            </a:cu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 rot="5400000">
              <a:off x="902160" y="2315880"/>
              <a:ext cx="532440" cy="225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6530" y="1645"/>
                  </a:moveTo>
                  <a:arcTo wR="10800" hR="10800" stAng="-3477404" swAng="7140798"/>
                  <a:lnTo>
                    <a:pt x="10800" y="10800"/>
                  </a:lnTo>
                  <a:close/>
                </a:path>
                <a:path fill="none" w="21600" h="21600">
                  <a:moveTo>
                    <a:pt x="16530" y="1645"/>
                  </a:moveTo>
                  <a:arcTo wR="10800" hR="10800" stAng="-3477404" swAng="7140798"/>
                </a:path>
              </a:pathLst>
            </a:cu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rot="5400000">
              <a:off x="1097640" y="2324880"/>
              <a:ext cx="532440" cy="226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6530" y="1645"/>
                  </a:moveTo>
                  <a:arcTo wR="10800" hR="10800" stAng="-3477404" swAng="7140798"/>
                  <a:lnTo>
                    <a:pt x="10800" y="10800"/>
                  </a:lnTo>
                  <a:close/>
                </a:path>
                <a:path fill="none" w="21600" h="21600">
                  <a:moveTo>
                    <a:pt x="16530" y="1645"/>
                  </a:moveTo>
                  <a:arcTo wR="10800" hR="10800" stAng="-3477404" swAng="7140798"/>
                </a:path>
              </a:pathLst>
            </a:custGeom>
            <a:noFill/>
            <a:ln w="19080">
              <a:solidFill>
                <a:srgbClr val="ff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500"/>
                            </p:stCondLst>
                            <p:childTnLst>
                              <p:par>
                                <p:cTn id="3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500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3" dur="500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3" dur="1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0" y="9208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Check It Out: Exampl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3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354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5" name="" descr=""/>
            <p:cNvPicPr/>
            <p:nvPr/>
          </p:nvPicPr>
          <p:blipFill>
            <a:blip r:embed="rId2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6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95840" y="83160"/>
              <a:ext cx="777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 Black"/>
                </a:rPr>
                <a:t>4-4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066680" y="127800"/>
              <a:ext cx="807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 Black"/>
                </a:rPr>
                <a:t>Scientific Notatio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9" name=""/>
          <p:cNvSpPr/>
          <p:nvPr/>
        </p:nvSpPr>
        <p:spPr>
          <a:xfrm>
            <a:off x="401760" y="4203720"/>
            <a:ext cx="85122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99ff"/>
                </a:solidFill>
                <a:latin typeface="Verdana"/>
              </a:rPr>
              <a:t>Think: The decimal needs to move left to change 8.11 to 0.000811, so the exponent will be negativ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562680" y="2209680"/>
            <a:ext cx="1591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0.00081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868480" y="2039760"/>
            <a:ext cx="597708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99ff"/>
                </a:solidFill>
                <a:latin typeface="Verdana"/>
              </a:rPr>
              <a:t>Think: The decimal needs to move 4 places to get a number between 1 and 10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18400" y="2967120"/>
            <a:ext cx="835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8.1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3" name=""/>
          <p:cNvGrpSpPr/>
          <p:nvPr/>
        </p:nvGrpSpPr>
        <p:grpSpPr>
          <a:xfrm>
            <a:off x="204840" y="3568680"/>
            <a:ext cx="2895480" cy="641160"/>
            <a:chOff x="204840" y="3568680"/>
            <a:chExt cx="2895480" cy="641160"/>
          </a:xfrm>
        </p:grpSpPr>
        <p:grpSp>
          <p:nvGrpSpPr>
            <p:cNvPr id="364" name=""/>
            <p:cNvGrpSpPr/>
            <p:nvPr/>
          </p:nvGrpSpPr>
          <p:grpSpPr>
            <a:xfrm>
              <a:off x="204840" y="3568680"/>
              <a:ext cx="2895480" cy="641160"/>
              <a:chOff x="204840" y="3568680"/>
              <a:chExt cx="2895480" cy="641160"/>
            </a:xfrm>
          </p:grpSpPr>
          <p:sp>
            <p:nvSpPr>
              <p:cNvPr id="365" name=""/>
              <p:cNvSpPr/>
              <p:nvPr/>
            </p:nvSpPr>
            <p:spPr>
              <a:xfrm>
                <a:off x="204840" y="3689280"/>
                <a:ext cx="2895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6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Verdana"/>
                  </a:rPr>
                  <a:t>8.11 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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Verdana"/>
                  </a:rPr>
                  <a:t> 10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1958760" y="3568680"/>
                <a:ext cx="339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7" name=""/>
            <p:cNvSpPr/>
            <p:nvPr/>
          </p:nvSpPr>
          <p:spPr>
            <a:xfrm>
              <a:off x="2230560" y="3735360"/>
              <a:ext cx="236520" cy="2365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8" name=""/>
          <p:cNvSpPr/>
          <p:nvPr/>
        </p:nvSpPr>
        <p:spPr>
          <a:xfrm>
            <a:off x="2870280" y="3716280"/>
            <a:ext cx="4572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99ff"/>
                </a:solidFill>
                <a:latin typeface="Verdana"/>
              </a:rPr>
              <a:t>Set up scientific notation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639720" y="5951520"/>
            <a:ext cx="7299360" cy="520560"/>
            <a:chOff x="639720" y="5951520"/>
            <a:chExt cx="7299360" cy="520560"/>
          </a:xfrm>
        </p:grpSpPr>
        <p:sp>
          <p:nvSpPr>
            <p:cNvPr id="370" name=""/>
            <p:cNvSpPr/>
            <p:nvPr/>
          </p:nvSpPr>
          <p:spPr>
            <a:xfrm>
              <a:off x="639720" y="5951520"/>
              <a:ext cx="7299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Verdana"/>
                </a:rPr>
                <a:t>Check</a:t>
              </a: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  8.11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</a:t>
              </a: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 10   = 8.11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</a:t>
              </a: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 0.0001 = 0.000811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121560" y="5983200"/>
              <a:ext cx="39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2" name=""/>
          <p:cNvSpPr/>
          <p:nvPr/>
        </p:nvSpPr>
        <p:spPr>
          <a:xfrm>
            <a:off x="873360" y="1512720"/>
            <a:ext cx="571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Write 0.000811 in scientific not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3" name=""/>
          <p:cNvGrpSpPr/>
          <p:nvPr/>
        </p:nvGrpSpPr>
        <p:grpSpPr>
          <a:xfrm>
            <a:off x="198360" y="5457960"/>
            <a:ext cx="8945280" cy="549000"/>
            <a:chOff x="198360" y="5457960"/>
            <a:chExt cx="8945280" cy="549000"/>
          </a:xfrm>
        </p:grpSpPr>
        <p:sp>
          <p:nvSpPr>
            <p:cNvPr id="374" name=""/>
            <p:cNvSpPr/>
            <p:nvPr/>
          </p:nvSpPr>
          <p:spPr>
            <a:xfrm>
              <a:off x="198360" y="5486400"/>
              <a:ext cx="8945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So 0.000811 written in scientific notation is 8.11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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10</a:t>
              </a:r>
              <a:r>
                <a:rPr b="0" lang="en-US" sz="2600" spc="-1" strike="noStrike" baseline="30000">
                  <a:solidFill>
                    <a:srgbClr val="000000"/>
                  </a:solidFill>
                  <a:latin typeface="Verdana"/>
                </a:rPr>
                <a:t>–4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8678880" y="5457960"/>
              <a:ext cx="1753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887760" y="2190600"/>
            <a:ext cx="793080" cy="547200"/>
            <a:chOff x="887760" y="2190600"/>
            <a:chExt cx="793080" cy="547200"/>
          </a:xfrm>
        </p:grpSpPr>
        <p:sp>
          <p:nvSpPr>
            <p:cNvPr id="377" name=""/>
            <p:cNvSpPr/>
            <p:nvPr/>
          </p:nvSpPr>
          <p:spPr>
            <a:xfrm rot="5400000">
              <a:off x="735840" y="2357280"/>
              <a:ext cx="532440" cy="228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6530" y="1645"/>
                  </a:moveTo>
                  <a:arcTo wR="10800" hR="10800" stAng="-3477404" swAng="7140798"/>
                  <a:lnTo>
                    <a:pt x="10800" y="10800"/>
                  </a:lnTo>
                  <a:close/>
                </a:path>
                <a:path fill="none" w="21600" h="21600">
                  <a:moveTo>
                    <a:pt x="16530" y="1645"/>
                  </a:moveTo>
                  <a:arcTo wR="10800" hR="10800" stAng="-3477404" swAng="7140798"/>
                </a:path>
              </a:pathLst>
            </a:cu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 rot="5400000">
              <a:off x="950040" y="2329200"/>
              <a:ext cx="526680" cy="264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6530" y="1645"/>
                  </a:moveTo>
                  <a:arcTo wR="10800" hR="10800" stAng="-3477404" swAng="7140798"/>
                  <a:lnTo>
                    <a:pt x="10800" y="10800"/>
                  </a:lnTo>
                  <a:close/>
                </a:path>
                <a:path fill="none" w="21600" h="21600">
                  <a:moveTo>
                    <a:pt x="16530" y="1645"/>
                  </a:moveTo>
                  <a:arcTo wR="10800" hR="10800" stAng="-3477404" swAng="7140798"/>
                </a:path>
              </a:pathLst>
            </a:cu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 rot="5400000">
              <a:off x="1150560" y="2360520"/>
              <a:ext cx="533160" cy="193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6530" y="1645"/>
                  </a:moveTo>
                  <a:arcTo wR="10800" hR="10800" stAng="-3477404" swAng="7140798"/>
                  <a:lnTo>
                    <a:pt x="10800" y="10800"/>
                  </a:lnTo>
                  <a:close/>
                </a:path>
                <a:path fill="none" w="21600" h="21600">
                  <a:moveTo>
                    <a:pt x="16530" y="1645"/>
                  </a:moveTo>
                  <a:arcTo wR="10800" hR="10800" stAng="-3477404" swAng="7140798"/>
                </a:path>
              </a:pathLst>
            </a:cu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 rot="5400000">
              <a:off x="1317240" y="2369520"/>
              <a:ext cx="533160" cy="193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6530" y="1645"/>
                  </a:moveTo>
                  <a:arcTo wR="10800" hR="10800" stAng="-3477404" swAng="7140798"/>
                  <a:lnTo>
                    <a:pt x="10800" y="10800"/>
                  </a:lnTo>
                  <a:close/>
                </a:path>
                <a:path fill="none" w="21600" h="21600">
                  <a:moveTo>
                    <a:pt x="16530" y="1645"/>
                  </a:moveTo>
                  <a:arcTo wR="10800" hR="10800" stAng="-3477404" swAng="7140798"/>
                </a:path>
              </a:pathLst>
            </a:custGeom>
            <a:noFill/>
            <a:ln w="19080">
              <a:solidFill>
                <a:srgbClr val="ff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" dur="500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5" dur="500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500"/>
                            </p:stCondLst>
                            <p:childTnLst>
                              <p:par>
                                <p:cTn id="3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9" dur="1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4" dur="500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" dur="500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" dur="500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4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9" dur="2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1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382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3" name="" descr=""/>
            <p:cNvPicPr/>
            <p:nvPr/>
          </p:nvPicPr>
          <p:blipFill>
            <a:blip r:embed="rId2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4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195840" y="83160"/>
              <a:ext cx="777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 Black"/>
                </a:rPr>
                <a:t>4-4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066680" y="127800"/>
              <a:ext cx="807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 Black"/>
                </a:rPr>
                <a:t>Scientific Notatio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7" name=""/>
          <p:cNvSpPr/>
          <p:nvPr/>
        </p:nvSpPr>
        <p:spPr>
          <a:xfrm>
            <a:off x="326880" y="1324080"/>
            <a:ext cx="8488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 pencil is 18.7 cm long. If you were to lay 10,000 pencils end-to-end, how many millimeters long would they be?                             Write the answer in scientific not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80880" y="4521240"/>
            <a:ext cx="358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87 mm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1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358920" y="2948040"/>
            <a:ext cx="583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 centimeter = 10 millimeters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8.7 centimeters = 187 milli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6207120" y="3678120"/>
            <a:ext cx="253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99ff"/>
                </a:solidFill>
                <a:latin typeface="Verdana"/>
              </a:rPr>
              <a:t>Multiply by 1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9960" y="5342040"/>
            <a:ext cx="284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,870,000 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0" y="9144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Additional Example 3: </a:t>
            </a:r>
            <a:r>
              <a:rPr b="0" i="1" lang="en-US" sz="2400" spc="-1" strike="noStrike">
                <a:solidFill>
                  <a:srgbClr val="ff0000"/>
                </a:solidFill>
                <a:latin typeface="Arial Black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246640" y="4568760"/>
            <a:ext cx="359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99ff"/>
                </a:solidFill>
                <a:latin typeface="Verdana"/>
              </a:rPr>
              <a:t>Find the total leng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7137360" y="5324400"/>
            <a:ext cx="15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99ff"/>
                </a:solidFill>
                <a:latin typeface="Verdana"/>
              </a:rPr>
              <a:t>Multip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6" dur="500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1" dur="500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6" dur="500"/>
                                        <p:tgtEl>
                                          <p:spTgt spid="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1" dur="500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1" dur="500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5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396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7" name="" descr=""/>
            <p:cNvPicPr/>
            <p:nvPr/>
          </p:nvPicPr>
          <p:blipFill>
            <a:blip r:embed="rId2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8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95840" y="83160"/>
              <a:ext cx="777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 Black"/>
                </a:rPr>
                <a:t>4-4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1066680" y="127800"/>
              <a:ext cx="807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 Black"/>
                </a:rPr>
                <a:t>Scientific Notatio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1" name=""/>
          <p:cNvSpPr/>
          <p:nvPr/>
        </p:nvSpPr>
        <p:spPr>
          <a:xfrm>
            <a:off x="3392640" y="3171960"/>
            <a:ext cx="47448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99ff"/>
                </a:solidFill>
                <a:latin typeface="Verdana"/>
              </a:rPr>
              <a:t>Think: The decimal needs to move 6 place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2" name=""/>
          <p:cNvGrpSpPr/>
          <p:nvPr/>
        </p:nvGrpSpPr>
        <p:grpSpPr>
          <a:xfrm>
            <a:off x="434880" y="4229280"/>
            <a:ext cx="8499600" cy="916560"/>
            <a:chOff x="434880" y="4229280"/>
            <a:chExt cx="8499600" cy="916560"/>
          </a:xfrm>
        </p:grpSpPr>
        <p:sp>
          <p:nvSpPr>
            <p:cNvPr id="403" name=""/>
            <p:cNvSpPr/>
            <p:nvPr/>
          </p:nvSpPr>
          <p:spPr>
            <a:xfrm>
              <a:off x="434880" y="4229280"/>
              <a:ext cx="8499600" cy="91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In scientific notation the 10,000 pencils would be</a:t>
              </a:r>
              <a:r>
                <a:rPr b="0" lang="en-US" sz="2600" spc="-1" strike="noStrike">
                  <a:solidFill>
                    <a:srgbClr val="ff0000"/>
                  </a:solidFill>
                  <a:latin typeface="Verdana"/>
                </a:rPr>
                <a:t> 1.87 </a:t>
              </a:r>
              <a:r>
                <a:rPr b="1" lang="en-US" sz="2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</a:t>
              </a:r>
              <a:r>
                <a:rPr b="0" lang="en-US" sz="2600" spc="-1" strike="noStrike">
                  <a:solidFill>
                    <a:srgbClr val="ff0000"/>
                  </a:solidFill>
                  <a:latin typeface="Verdana"/>
                </a:rPr>
                <a:t> 10</a:t>
              </a:r>
              <a:r>
                <a:rPr b="0" lang="en-US" sz="2600" spc="-1" strike="noStrike" baseline="30000">
                  <a:solidFill>
                    <a:srgbClr val="ff0000"/>
                  </a:solidFill>
                  <a:latin typeface="Verdana"/>
                </a:rPr>
                <a:t>6</a:t>
              </a:r>
              <a:r>
                <a:rPr b="0" lang="en-US" sz="2600" spc="-1" strike="noStrike">
                  <a:solidFill>
                    <a:srgbClr val="ff0000"/>
                  </a:solidFill>
                  <a:latin typeface="Verdana"/>
                </a:rPr>
                <a:t> mm </a:t>
              </a: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long, laid end-to-end. 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013520" y="4238640"/>
              <a:ext cx="1843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5" name=""/>
          <p:cNvSpPr/>
          <p:nvPr/>
        </p:nvSpPr>
        <p:spPr>
          <a:xfrm>
            <a:off x="0" y="9144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Additional Example 3 Continu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6" name=""/>
          <p:cNvGrpSpPr/>
          <p:nvPr/>
        </p:nvGrpSpPr>
        <p:grpSpPr>
          <a:xfrm>
            <a:off x="330120" y="1604880"/>
            <a:ext cx="2045880" cy="520560"/>
            <a:chOff x="330120" y="1604880"/>
            <a:chExt cx="2045880" cy="520560"/>
          </a:xfrm>
        </p:grpSpPr>
        <p:sp>
          <p:nvSpPr>
            <p:cNvPr id="407" name=""/>
            <p:cNvSpPr/>
            <p:nvPr/>
          </p:nvSpPr>
          <p:spPr>
            <a:xfrm>
              <a:off x="330120" y="1604880"/>
              <a:ext cx="1935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1.87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</a:t>
              </a: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 10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162160" y="1695600"/>
              <a:ext cx="213840" cy="2030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9" name=""/>
          <p:cNvSpPr/>
          <p:nvPr/>
        </p:nvSpPr>
        <p:spPr>
          <a:xfrm>
            <a:off x="3416400" y="1600200"/>
            <a:ext cx="4572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99ff"/>
                </a:solidFill>
                <a:latin typeface="Verdana"/>
              </a:rPr>
              <a:t>Set up scientific notation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402000" y="2000160"/>
            <a:ext cx="574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99ff"/>
                </a:solidFill>
                <a:latin typeface="Verdana"/>
              </a:rPr>
              <a:t>Think: The decimal needs to move right to change 1.87 to 1,870,000, so the exponent will be posit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0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3" dur="500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8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3" dur="500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8" dur="500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3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1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412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3" name="" descr=""/>
            <p:cNvPicPr/>
            <p:nvPr/>
          </p:nvPicPr>
          <p:blipFill>
            <a:blip r:embed="rId2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4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195840" y="83160"/>
              <a:ext cx="777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 Black"/>
                </a:rPr>
                <a:t>4-4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066680" y="127800"/>
              <a:ext cx="807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 Black"/>
                </a:rPr>
                <a:t>Scientific Notatio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7" name=""/>
          <p:cNvSpPr/>
          <p:nvPr/>
        </p:nvSpPr>
        <p:spPr>
          <a:xfrm>
            <a:off x="555480" y="1324080"/>
            <a:ext cx="8055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n oil rig can hoist 2,400,000 pounds with its main derrick. It distributes the weight evenly between 8 wire cables. What is the weight that each wire cable can hold? Write the answer in scientific not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600120" y="4311720"/>
            <a:ext cx="6275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,400,000 pounds ÷ 8 cables = 300,000 pounds per c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15960" y="530856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ach cable can hold 300,000 pou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0" y="9144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Check It Out: Exampl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573120" y="3338640"/>
            <a:ext cx="7996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99ff"/>
                </a:solidFill>
                <a:latin typeface="Verdana"/>
              </a:rPr>
              <a:t>Find the weight each cable is expected to hold by dividing the total weight by the number of ca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930960" y="5940360"/>
            <a:ext cx="706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w write 300,000 pounds in scientific not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0" dur="500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5" dur="500"/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0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5" dur="500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66560" y="847800"/>
            <a:ext cx="8112240" cy="5486400"/>
          </a:xfrm>
          <a:prstGeom prst="rect">
            <a:avLst/>
          </a:prstGeom>
          <a:noFill/>
          <a:ln w="28440">
            <a:solidFill>
              <a:srgbClr val="dbdb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Warm 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Order each set of numbers from least to greatest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53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" descr=""/>
            <p:cNvPicPr/>
            <p:nvPr/>
          </p:nvPicPr>
          <p:blipFill>
            <a:blip r:embed="rId2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5840" y="83160"/>
              <a:ext cx="777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 Black"/>
                </a:rPr>
                <a:t>4-4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066680" y="127800"/>
              <a:ext cx="807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 Black"/>
                </a:rPr>
                <a:t>Scientific Notatio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"/>
          <p:cNvSpPr/>
          <p:nvPr/>
        </p:nvSpPr>
        <p:spPr>
          <a:xfrm>
            <a:off x="485640" y="236232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10 , 10  , 10 , 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85640" y="335268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8 , 8  , 8 , 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85640" y="434340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2 , 2  , 2  ,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85640" y="5334120"/>
            <a:ext cx="510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4.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5.2 , 5.2 , 5.2  , 5.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340080" y="236700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93720" y="236700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167360" y="23734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–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376720" y="23734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–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1095480" y="2819520"/>
            <a:ext cx="5257800" cy="520560"/>
            <a:chOff x="1095480" y="2819520"/>
            <a:chExt cx="5257800" cy="520560"/>
          </a:xfrm>
        </p:grpSpPr>
        <p:sp>
          <p:nvSpPr>
            <p:cNvPr id="67" name=""/>
            <p:cNvSpPr/>
            <p:nvPr/>
          </p:nvSpPr>
          <p:spPr>
            <a:xfrm>
              <a:off x="1095480" y="2819520"/>
              <a:ext cx="5257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Verdana"/>
                </a:rPr>
                <a:t>10  , 10  , 10 , 1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295880" y="283536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Verdana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449520" y="283536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Verdan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510280" y="2841480"/>
              <a:ext cx="39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Verdana"/>
                </a:rPr>
                <a:t>–</a:t>
              </a:r>
              <a:r>
                <a:rPr b="0" lang="en-US" sz="1600" spc="-1" strike="noStrike">
                  <a:solidFill>
                    <a:srgbClr val="ff0000"/>
                  </a:solidFill>
                  <a:latin typeface="Verdan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576800" y="2841480"/>
              <a:ext cx="39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Verdana"/>
                </a:rPr>
                <a:t>–</a:t>
              </a:r>
              <a:r>
                <a:rPr b="0" lang="en-US" sz="1600" spc="-1" strike="noStrike">
                  <a:solidFill>
                    <a:srgbClr val="ff0000"/>
                  </a:solidFill>
                  <a:latin typeface="Verdana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" name=""/>
          <p:cNvSpPr/>
          <p:nvPr/>
        </p:nvSpPr>
        <p:spPr>
          <a:xfrm>
            <a:off x="2665440" y="336852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294000" y="336852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353960" y="336852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897200" y="33750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–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1095480" y="3809880"/>
            <a:ext cx="3197160" cy="520560"/>
            <a:chOff x="1095480" y="3809880"/>
            <a:chExt cx="3197160" cy="520560"/>
          </a:xfrm>
        </p:grpSpPr>
        <p:sp>
          <p:nvSpPr>
            <p:cNvPr id="77" name=""/>
            <p:cNvSpPr/>
            <p:nvPr/>
          </p:nvSpPr>
          <p:spPr>
            <a:xfrm>
              <a:off x="1095480" y="3809880"/>
              <a:ext cx="3197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Verdana"/>
                </a:rPr>
                <a:t>8  , 8 , 8 , 8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260880" y="382572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Verdana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654280" y="382572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Verdana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058840" y="382572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Verdan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348200" y="3832200"/>
              <a:ext cx="39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Verdana"/>
                </a:rPr>
                <a:t>–</a:t>
              </a:r>
              <a:r>
                <a:rPr b="0" lang="en-US" sz="1600" spc="-1" strike="noStrike">
                  <a:solidFill>
                    <a:srgbClr val="ff0000"/>
                  </a:solidFill>
                  <a:latin typeface="Verdana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3403440" y="435924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332000" y="435924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624040" y="436572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–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874880" y="436572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–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704480" y="5356080"/>
            <a:ext cx="398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703520" y="534996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635200" y="534996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541680" y="53560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–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095480" y="5791320"/>
            <a:ext cx="4419360" cy="520560"/>
            <a:chOff x="1095480" y="5791320"/>
            <a:chExt cx="4419360" cy="520560"/>
          </a:xfrm>
        </p:grpSpPr>
        <p:sp>
          <p:nvSpPr>
            <p:cNvPr id="91" name=""/>
            <p:cNvSpPr/>
            <p:nvPr/>
          </p:nvSpPr>
          <p:spPr>
            <a:xfrm>
              <a:off x="1095480" y="5791320"/>
              <a:ext cx="4419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Verdana"/>
                </a:rPr>
                <a:t>5.2  , 5.2  , 5.2 , 5.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797360" y="580716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Verdana"/>
                </a:rPr>
                <a:t>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841560" y="580716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Verdana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780280" y="5813280"/>
              <a:ext cx="39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Verdana"/>
                </a:rPr>
                <a:t>–</a:t>
              </a:r>
              <a:r>
                <a:rPr b="0" lang="en-US" sz="1600" spc="-1" strike="noStrike">
                  <a:solidFill>
                    <a:srgbClr val="ff0000"/>
                  </a:solidFill>
                  <a:latin typeface="Verdan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684800" y="5813280"/>
              <a:ext cx="39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Verdana"/>
                </a:rPr>
                <a:t>–</a:t>
              </a:r>
              <a:r>
                <a:rPr b="0" lang="en-US" sz="1600" spc="-1" strike="noStrike">
                  <a:solidFill>
                    <a:srgbClr val="ff0000"/>
                  </a:solidFill>
                  <a:latin typeface="Verdana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1095480" y="4800600"/>
            <a:ext cx="3627360" cy="520560"/>
            <a:chOff x="1095480" y="4800600"/>
            <a:chExt cx="3627360" cy="520560"/>
          </a:xfrm>
        </p:grpSpPr>
        <p:sp>
          <p:nvSpPr>
            <p:cNvPr id="97" name=""/>
            <p:cNvSpPr/>
            <p:nvPr/>
          </p:nvSpPr>
          <p:spPr>
            <a:xfrm>
              <a:off x="1095480" y="4800600"/>
              <a:ext cx="3627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Verdana"/>
                </a:rPr>
                <a:t>2  , 2  , 2 , 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392640" y="481644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Verdana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763720" y="481644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Verdan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075400" y="4822920"/>
              <a:ext cx="39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Verdana"/>
                </a:rPr>
                <a:t>–</a:t>
              </a:r>
              <a:r>
                <a:rPr b="0" lang="en-US" sz="1600" spc="-1" strike="noStrike">
                  <a:solidFill>
                    <a:srgbClr val="ff0000"/>
                  </a:solidFill>
                  <a:latin typeface="Verdana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348200" y="4822920"/>
              <a:ext cx="39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Verdana"/>
                </a:rPr>
                <a:t>–</a:t>
              </a:r>
              <a:r>
                <a:rPr b="0" lang="en-US" sz="1600" spc="-1" strike="noStrike">
                  <a:solidFill>
                    <a:srgbClr val="ff0000"/>
                  </a:solidFill>
                  <a:latin typeface="Verdana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3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424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5" name="" descr=""/>
            <p:cNvPicPr/>
            <p:nvPr/>
          </p:nvPicPr>
          <p:blipFill>
            <a:blip r:embed="rId2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6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195840" y="83160"/>
              <a:ext cx="777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 Black"/>
                </a:rPr>
                <a:t>4-4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1066680" y="127800"/>
              <a:ext cx="807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 Black"/>
                </a:rPr>
                <a:t>Scientific Notatio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9" name=""/>
          <p:cNvSpPr/>
          <p:nvPr/>
        </p:nvSpPr>
        <p:spPr>
          <a:xfrm>
            <a:off x="3700440" y="2684520"/>
            <a:ext cx="463536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99ff"/>
                </a:solidFill>
                <a:latin typeface="Verdana"/>
              </a:rPr>
              <a:t>Think: The decimal needs to move right to change 3.0 to 300,000, so the exponent will be positiv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7440" y="4462560"/>
            <a:ext cx="45878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99ff"/>
                </a:solidFill>
                <a:latin typeface="Verdana"/>
              </a:rPr>
              <a:t>Think: The decimal needs to move 5 place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1" name=""/>
          <p:cNvGrpSpPr/>
          <p:nvPr/>
        </p:nvGrpSpPr>
        <p:grpSpPr>
          <a:xfrm>
            <a:off x="512640" y="5410080"/>
            <a:ext cx="7640280" cy="943560"/>
            <a:chOff x="512640" y="5410080"/>
            <a:chExt cx="7640280" cy="943560"/>
          </a:xfrm>
        </p:grpSpPr>
        <p:sp>
          <p:nvSpPr>
            <p:cNvPr id="432" name=""/>
            <p:cNvSpPr/>
            <p:nvPr/>
          </p:nvSpPr>
          <p:spPr>
            <a:xfrm>
              <a:off x="512640" y="5437080"/>
              <a:ext cx="7640280" cy="91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In scientific notation, each cable can hold 3.0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</a:t>
              </a: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 10</a:t>
              </a:r>
              <a:r>
                <a:rPr b="0" lang="en-US" sz="2600" spc="-1" strike="noStrike" baseline="30000">
                  <a:solidFill>
                    <a:srgbClr val="000000"/>
                  </a:solidFill>
                  <a:latin typeface="Verdana"/>
                </a:rPr>
                <a:t>5</a:t>
              </a: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 pounds.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5736600" y="5410080"/>
              <a:ext cx="35424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4" name=""/>
          <p:cNvSpPr/>
          <p:nvPr/>
        </p:nvSpPr>
        <p:spPr>
          <a:xfrm>
            <a:off x="1979640" y="200016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225360" y="2120760"/>
            <a:ext cx="3038040" cy="520560"/>
            <a:chOff x="225360" y="2120760"/>
            <a:chExt cx="3038040" cy="520560"/>
          </a:xfrm>
        </p:grpSpPr>
        <p:sp>
          <p:nvSpPr>
            <p:cNvPr id="436" name=""/>
            <p:cNvSpPr/>
            <p:nvPr/>
          </p:nvSpPr>
          <p:spPr>
            <a:xfrm>
              <a:off x="225360" y="2120760"/>
              <a:ext cx="3038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3.0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</a:t>
              </a: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 10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2070720" y="2166840"/>
              <a:ext cx="236160" cy="2253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8" name=""/>
          <p:cNvSpPr/>
          <p:nvPr/>
        </p:nvSpPr>
        <p:spPr>
          <a:xfrm>
            <a:off x="3654360" y="2120760"/>
            <a:ext cx="4572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99ff"/>
                </a:solidFill>
                <a:latin typeface="Verdana"/>
              </a:rPr>
              <a:t>Set up scientific notation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0" y="9144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Check It Out: Example 3 Continu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2" dur="500"/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7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2" dur="500"/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7" dur="500"/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2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0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441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2" name="" descr=""/>
            <p:cNvPicPr/>
            <p:nvPr/>
          </p:nvPicPr>
          <p:blipFill>
            <a:blip r:embed="rId2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3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195840" y="83160"/>
              <a:ext cx="777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 Black"/>
                </a:rPr>
                <a:t>4-4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1066680" y="127800"/>
              <a:ext cx="807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 Black"/>
                </a:rPr>
                <a:t>Scientific Notatio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6" name=""/>
          <p:cNvSpPr/>
          <p:nvPr/>
        </p:nvSpPr>
        <p:spPr>
          <a:xfrm>
            <a:off x="326880" y="1324080"/>
            <a:ext cx="8488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 certain cell has a diameter of approximately 4.11 x 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</a:rPr>
              <a:t>-5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meters. A second cell has a diameter of 1.5 x 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</a:rPr>
              <a:t>-5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meters. Which cell has a greater diamete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027080" y="3629160"/>
            <a:ext cx="358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-5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949320" y="2948040"/>
            <a:ext cx="58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4.11 x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-5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1.5 x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-5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5126040" y="3622680"/>
            <a:ext cx="381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99ff"/>
                </a:solidFill>
                <a:latin typeface="Verdana"/>
              </a:rPr>
              <a:t>Compare powers of 1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0" y="9144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Additional Example 4: </a:t>
            </a:r>
            <a:r>
              <a:rPr b="0" lang="en-US" sz="2400" spc="-1" strike="noStrike">
                <a:solidFill>
                  <a:srgbClr val="009999"/>
                </a:solidFill>
                <a:latin typeface="Arial Black"/>
              </a:rPr>
              <a:t>Life Science </a:t>
            </a:r>
            <a:r>
              <a:rPr b="0" i="1" lang="en-US" sz="2400" spc="-1" strike="noStrike">
                <a:solidFill>
                  <a:srgbClr val="009999"/>
                </a:solidFill>
                <a:latin typeface="Arial Black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5099040" y="4321080"/>
            <a:ext cx="3594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99ff"/>
                </a:solidFill>
                <a:latin typeface="Verdana"/>
              </a:rPr>
              <a:t>Compare the values between 1 and 1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1038240" y="5846760"/>
            <a:ext cx="71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first cell has a greater diame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1027080" y="4486320"/>
            <a:ext cx="358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4.11 &gt; 1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949320" y="5224320"/>
            <a:ext cx="58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4.11 x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-5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&gt; 1.5 x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-5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9" dur="500"/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4" dur="500"/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9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4" dur="500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9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4" dur="500"/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9" dur="500"/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5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456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7" name="" descr=""/>
            <p:cNvPicPr/>
            <p:nvPr/>
          </p:nvPicPr>
          <p:blipFill>
            <a:blip r:embed="rId2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8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95840" y="83160"/>
              <a:ext cx="777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 Black"/>
                </a:rPr>
                <a:t>4-4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1066680" y="127800"/>
              <a:ext cx="807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 Black"/>
                </a:rPr>
                <a:t>Scientific Notatio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1" name=""/>
          <p:cNvSpPr/>
          <p:nvPr/>
        </p:nvSpPr>
        <p:spPr>
          <a:xfrm>
            <a:off x="326880" y="1324080"/>
            <a:ext cx="828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 certain cell has a diameter of approximately 5 x 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</a:rPr>
              <a:t>-3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meters. A second cell has a diameter of 5.11 x 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</a:rPr>
              <a:t>-3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meters. Which cell has a greater diamete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1027080" y="3629160"/>
            <a:ext cx="358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-3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-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949320" y="2948040"/>
            <a:ext cx="58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5 x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-3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5.11 x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-3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5126040" y="3622680"/>
            <a:ext cx="381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99ff"/>
                </a:solidFill>
                <a:latin typeface="Verdana"/>
              </a:rPr>
              <a:t>Compare powers of 1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0" y="9144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Check It Out: Exampl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5099040" y="4321080"/>
            <a:ext cx="3594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99ff"/>
                </a:solidFill>
                <a:latin typeface="Verdana"/>
              </a:rPr>
              <a:t>Compare the values between 1 and 1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1038240" y="5846760"/>
            <a:ext cx="71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second cell has a greater diame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1027080" y="4486320"/>
            <a:ext cx="358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5 &lt; 5.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949320" y="5224320"/>
            <a:ext cx="58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5 x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-3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&lt; 5.11 x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-3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0" dur="indefinite" restart="never" nodeType="tmRoot">
          <p:childTnLst>
            <p:seq>
              <p:cTn id="541" dur="indefinite" nodeType="mainSeq">
                <p:childTnLst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6" dur="500"/>
                                        <p:tgtEl>
                                          <p:spTgt spid="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1" dur="500"/>
                                        <p:tgtEl>
                                          <p:spTgt spid="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6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1" dur="500"/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6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1" dur="500"/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6" dur="500"/>
                                        <p:tgtEl>
                                          <p:spTgt spid="4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0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471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2" name="" descr=""/>
            <p:cNvPicPr/>
            <p:nvPr/>
          </p:nvPicPr>
          <p:blipFill>
            <a:blip r:embed="rId2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3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195840" y="83160"/>
              <a:ext cx="777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 Black"/>
                </a:rPr>
                <a:t>4-4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1066680" y="127800"/>
              <a:ext cx="807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 Black"/>
                </a:rPr>
                <a:t>Scientific Notatio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6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Lesson Quiz: Part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853920" y="1498680"/>
            <a:ext cx="642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Write each number in standard not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492120" y="2011320"/>
            <a:ext cx="4114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.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.72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504720" y="2643120"/>
            <a:ext cx="38862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.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6.9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10</a:t>
            </a:r>
            <a:r>
              <a:rPr b="0" lang="en-US" sz="2600" spc="-1" strike="noStrike" baseline="30000">
                <a:solidFill>
                  <a:srgbClr val="000000"/>
                </a:solidFill>
                <a:latin typeface="Verdana"/>
              </a:rPr>
              <a:t>–3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87440" y="446724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57,0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2946240" y="203976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17,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2941560" y="266400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0.00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506520" y="384984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3.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0.005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4" name=""/>
          <p:cNvGrpSpPr/>
          <p:nvPr/>
        </p:nvGrpSpPr>
        <p:grpSpPr>
          <a:xfrm>
            <a:off x="3022560" y="3656160"/>
            <a:ext cx="2819520" cy="672840"/>
            <a:chOff x="3022560" y="3656160"/>
            <a:chExt cx="2819520" cy="672840"/>
          </a:xfrm>
        </p:grpSpPr>
        <p:sp>
          <p:nvSpPr>
            <p:cNvPr id="485" name=""/>
            <p:cNvSpPr/>
            <p:nvPr/>
          </p:nvSpPr>
          <p:spPr>
            <a:xfrm>
              <a:off x="3022560" y="3808440"/>
              <a:ext cx="2819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5.3 </a:t>
              </a:r>
              <a:r>
                <a:rPr b="1" lang="en-US" sz="2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</a:t>
              </a: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 10</a:t>
              </a:r>
              <a:r>
                <a:rPr b="0" lang="en-US" sz="2600" spc="-1" strike="noStrike" baseline="30000">
                  <a:solidFill>
                    <a:srgbClr val="ff0000"/>
                  </a:solidFill>
                  <a:latin typeface="Verdana"/>
                </a:rPr>
                <a:t>–3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4813560" y="365616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7" name=""/>
          <p:cNvGrpSpPr/>
          <p:nvPr/>
        </p:nvGrpSpPr>
        <p:grpSpPr>
          <a:xfrm>
            <a:off x="3111480" y="4352760"/>
            <a:ext cx="2895480" cy="627120"/>
            <a:chOff x="3111480" y="4352760"/>
            <a:chExt cx="2895480" cy="627120"/>
          </a:xfrm>
        </p:grpSpPr>
        <p:sp>
          <p:nvSpPr>
            <p:cNvPr id="488" name=""/>
            <p:cNvSpPr/>
            <p:nvPr/>
          </p:nvSpPr>
          <p:spPr>
            <a:xfrm>
              <a:off x="3111480" y="4459320"/>
              <a:ext cx="2895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5.7 </a:t>
              </a:r>
              <a:r>
                <a:rPr b="1" lang="en-US" sz="2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</a:t>
              </a: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 10</a:t>
              </a:r>
              <a:r>
                <a:rPr b="0" lang="en-US" sz="2400" spc="-1" strike="noStrike" baseline="30000">
                  <a:solidFill>
                    <a:srgbClr val="ff0000"/>
                  </a:solidFill>
                  <a:latin typeface="Verdana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866840" y="435276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0" name=""/>
          <p:cNvSpPr/>
          <p:nvPr/>
        </p:nvSpPr>
        <p:spPr>
          <a:xfrm>
            <a:off x="846720" y="3335400"/>
            <a:ext cx="641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Write each number in scientific not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90680" y="5076720"/>
            <a:ext cx="72468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5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Order the numbers from least to greatest.   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2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–4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9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–5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, 7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–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1006560" y="5916600"/>
            <a:ext cx="46209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7 </a:t>
            </a:r>
            <a:r>
              <a:rPr b="1" lang="en-US" sz="2600" spc="-1" strike="noStrike">
                <a:solidFill>
                  <a:srgbClr val="ff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 10</a:t>
            </a:r>
            <a:r>
              <a:rPr b="0" lang="en-US" sz="2400" spc="-1" strike="noStrike" baseline="30000">
                <a:solidFill>
                  <a:srgbClr val="ff0000"/>
                </a:solidFill>
                <a:latin typeface="Verdana"/>
              </a:rPr>
              <a:t>–5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, 9 </a:t>
            </a:r>
            <a:r>
              <a:rPr b="1" lang="en-US" sz="2600" spc="-1" strike="noStrike">
                <a:solidFill>
                  <a:srgbClr val="ff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 10</a:t>
            </a:r>
            <a:r>
              <a:rPr b="0" lang="en-US" sz="2400" spc="-1" strike="noStrike" baseline="30000">
                <a:solidFill>
                  <a:srgbClr val="ff0000"/>
                </a:solidFill>
                <a:latin typeface="Verdana"/>
              </a:rPr>
              <a:t>–5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, 2 </a:t>
            </a:r>
            <a:r>
              <a:rPr b="1" lang="en-US" sz="2600" spc="-1" strike="noStrike">
                <a:solidFill>
                  <a:srgbClr val="ff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 10</a:t>
            </a:r>
            <a:r>
              <a:rPr b="0" lang="en-US" sz="2400" spc="-1" strike="noStrike" baseline="30000">
                <a:solidFill>
                  <a:srgbClr val="ff0000"/>
                </a:solidFill>
                <a:latin typeface="Verdana"/>
              </a:rPr>
              <a:t>–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3" dur="500"/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8" dur="500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3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8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3" dur="500"/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3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494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5" name="" descr=""/>
            <p:cNvPicPr/>
            <p:nvPr/>
          </p:nvPicPr>
          <p:blipFill>
            <a:blip r:embed="rId2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6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195840" y="83160"/>
              <a:ext cx="777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 Black"/>
                </a:rPr>
                <a:t>4-4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066680" y="127800"/>
              <a:ext cx="807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 Black"/>
                </a:rPr>
                <a:t>Scientific Notatio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9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Lesson Quiz: Part 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490680" y="1590840"/>
            <a:ext cx="751032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6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A human body contains about 5.6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icroliters of blood. Write this number in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andard not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3962520" y="236232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5,6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4" dur="indefinite" restart="never" nodeType="tmRoot">
          <p:childTnLst>
            <p:seq>
              <p:cTn id="605" dur="indefinite" nodeType="mainSeq">
                <p:childTnLst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0" dur="500"/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684360" y="1766880"/>
            <a:ext cx="7664400" cy="2936880"/>
          </a:xfrm>
          <a:prstGeom prst="rect">
            <a:avLst/>
          </a:prstGeom>
          <a:noFill/>
          <a:ln w="28440">
            <a:solidFill>
              <a:srgbClr val="dbdb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Problem of the D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rder the powers from least to greates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104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" name="" descr=""/>
            <p:cNvPicPr/>
            <p:nvPr/>
          </p:nvPicPr>
          <p:blipFill>
            <a:blip r:embed="rId2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95840" y="83160"/>
              <a:ext cx="777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 Black"/>
                </a:rPr>
                <a:t>4-4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066680" y="127800"/>
              <a:ext cx="807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 Black"/>
                </a:rPr>
                <a:t>Scientific Notatio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717480" y="2936880"/>
            <a:ext cx="441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3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 3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</a:rPr>
              <a:t>(3</a:t>
            </a:r>
            <a:r>
              <a:rPr b="0" lang="en-US" sz="1800" spc="-1" strike="noStrike" baseline="72000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 (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en-US" sz="1800" spc="-1" strike="noStrike" baseline="72000">
                <a:solidFill>
                  <a:srgbClr val="000000"/>
                </a:solidFill>
                <a:latin typeface="Verdan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50960" y="3584520"/>
            <a:ext cx="520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((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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3</a:t>
            </a:r>
            <a:r>
              <a:rPr b="1" lang="en-US" sz="2800" spc="-1" strike="noStrike" baseline="30000">
                <a:solidFill>
                  <a:srgbClr val="ff0000"/>
                </a:solidFill>
                <a:latin typeface="Verdana"/>
              </a:rPr>
              <a:t>3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)</a:t>
            </a:r>
            <a:r>
              <a:rPr b="1" lang="en-US" sz="2800" spc="-1" strike="noStrike" baseline="30000">
                <a:solidFill>
                  <a:srgbClr val="ff0000"/>
                </a:solidFill>
                <a:latin typeface="Verdana"/>
              </a:rPr>
              <a:t>3</a:t>
            </a:r>
            <a:r>
              <a:rPr b="1" lang="en-US" sz="2600" spc="-1" strike="noStrike">
                <a:solidFill>
                  <a:srgbClr val="ff0000"/>
                </a:solidFill>
                <a:latin typeface="Verdana"/>
              </a:rPr>
              <a:t>)</a:t>
            </a:r>
            <a:r>
              <a:rPr b="1" lang="en-US" sz="1800" spc="-1" strike="noStrike" baseline="72000">
                <a:solidFill>
                  <a:srgbClr val="ff0000"/>
                </a:solidFill>
                <a:latin typeface="Verdana"/>
              </a:rPr>
              <a:t>3</a:t>
            </a:r>
            <a:r>
              <a:rPr b="1" lang="en-US" sz="2600" spc="-1" strike="noStrike">
                <a:solidFill>
                  <a:srgbClr val="ff0000"/>
                </a:solidFill>
                <a:latin typeface="Verdana"/>
              </a:rPr>
              <a:t>, (3</a:t>
            </a:r>
            <a:r>
              <a:rPr b="1" lang="en-US" sz="2600" spc="-1" strike="noStrike" baseline="30000">
                <a:solidFill>
                  <a:srgbClr val="ff0000"/>
                </a:solidFill>
                <a:latin typeface="Verdana"/>
              </a:rPr>
              <a:t>3</a:t>
            </a:r>
            <a:r>
              <a:rPr b="1" lang="en-US" sz="2600" spc="-1" strike="noStrike">
                <a:solidFill>
                  <a:srgbClr val="ff0000"/>
                </a:solidFill>
                <a:latin typeface="Verdana"/>
              </a:rPr>
              <a:t>)</a:t>
            </a:r>
            <a:r>
              <a:rPr b="1" lang="en-US" sz="2600" spc="-1" strike="noStrike" baseline="30000">
                <a:solidFill>
                  <a:srgbClr val="ff0000"/>
                </a:solidFill>
                <a:latin typeface="Verdana"/>
              </a:rPr>
              <a:t>3</a:t>
            </a:r>
            <a:r>
              <a:rPr b="1" lang="en-US" sz="2600" spc="-1" strike="noStrike">
                <a:solidFill>
                  <a:srgbClr val="ff0000"/>
                </a:solidFill>
                <a:latin typeface="Verdana"/>
              </a:rPr>
              <a:t>, 3</a:t>
            </a:r>
            <a:r>
              <a:rPr b="1" lang="en-US" sz="2600" spc="-1" strike="noStrike" baseline="30000">
                <a:solidFill>
                  <a:srgbClr val="ff0000"/>
                </a:solidFill>
                <a:latin typeface="Verdana"/>
              </a:rPr>
              <a:t>(3</a:t>
            </a:r>
            <a:r>
              <a:rPr b="1" lang="en-US" sz="1800" spc="-1" strike="noStrike" baseline="74000">
                <a:solidFill>
                  <a:srgbClr val="ff0000"/>
                </a:solidFill>
                <a:latin typeface="Verdana"/>
              </a:rPr>
              <a:t>3</a:t>
            </a:r>
            <a:r>
              <a:rPr b="1" lang="en-US" sz="2600" spc="-1" strike="noStrike" baseline="30000">
                <a:solidFill>
                  <a:srgbClr val="ff0000"/>
                </a:solidFill>
                <a:latin typeface="Verdana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574560" y="1974960"/>
            <a:ext cx="8256600" cy="2043000"/>
          </a:xfrm>
          <a:prstGeom prst="rect">
            <a:avLst/>
          </a:prstGeom>
          <a:noFill/>
          <a:ln w="28440">
            <a:solidFill>
              <a:srgbClr val="dbdb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0000"/>
                </a:solidFill>
                <a:latin typeface="Verdana"/>
              </a:rPr>
              <a:t>Learn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to express large and small numbers in scientific notation and to compare two numbers written in scientific notation</a:t>
            </a:r>
            <a:r>
              <a:rPr b="0" lang="en-US" sz="3000" spc="-1" strike="noStrike">
                <a:solidFill>
                  <a:srgbClr val="000000"/>
                </a:solidFill>
                <a:latin typeface="AGaramond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113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" name="" descr=""/>
            <p:cNvPicPr/>
            <p:nvPr/>
          </p:nvPicPr>
          <p:blipFill>
            <a:blip r:embed="rId2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95840" y="83160"/>
              <a:ext cx="777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 Black"/>
                </a:rPr>
                <a:t>4-4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066680" y="127800"/>
              <a:ext cx="807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 Black"/>
                </a:rPr>
                <a:t>Scientific Notatio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119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" name="" descr=""/>
            <p:cNvPicPr/>
            <p:nvPr/>
          </p:nvPicPr>
          <p:blipFill>
            <a:blip r:embed="rId2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95840" y="83160"/>
              <a:ext cx="777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 Black"/>
                </a:rPr>
                <a:t>4-4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066680" y="127800"/>
              <a:ext cx="807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 Black"/>
                </a:rPr>
                <a:t>Scientific Notatio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0" y="10666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Arial Black"/>
              </a:rPr>
              <a:t>Vocabul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914400" y="1828800"/>
            <a:ext cx="7162920" cy="838080"/>
          </a:xfrm>
          <a:prstGeom prst="rect">
            <a:avLst/>
          </a:prstGeom>
          <a:noFill/>
          <a:ln w="28440">
            <a:solidFill>
              <a:srgbClr val="dbdb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cientific no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127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" name="" descr=""/>
            <p:cNvPicPr/>
            <p:nvPr/>
          </p:nvPicPr>
          <p:blipFill>
            <a:blip r:embed="rId2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95840" y="83160"/>
              <a:ext cx="777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 Black"/>
                </a:rPr>
                <a:t>4-4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066680" y="127800"/>
              <a:ext cx="807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 Black"/>
                </a:rPr>
                <a:t>Scientific Notatio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" name=""/>
          <p:cNvSpPr/>
          <p:nvPr/>
        </p:nvSpPr>
        <p:spPr>
          <a:xfrm>
            <a:off x="438120" y="1503360"/>
            <a:ext cx="82850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 ordinary quarter contains about 97,700,000,000,000,000,000,000 atoms. The average size of an atom is about 0.00000003 centimeters acros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4360" y="3392640"/>
            <a:ext cx="8286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length of these numbers in standard notation makes them awkward to work wit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76280" y="4451400"/>
            <a:ext cx="8356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Scientific notation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s a shorthand way of writing such numb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136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" name="" descr=""/>
            <p:cNvPicPr/>
            <p:nvPr/>
          </p:nvPicPr>
          <p:blipFill>
            <a:blip r:embed="rId2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95840" y="83160"/>
              <a:ext cx="777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 Black"/>
                </a:rPr>
                <a:t>4-4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066680" y="127800"/>
              <a:ext cx="807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 Black"/>
                </a:rPr>
                <a:t>Scientific Notatio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1" name=""/>
          <p:cNvSpPr/>
          <p:nvPr/>
        </p:nvSpPr>
        <p:spPr>
          <a:xfrm>
            <a:off x="522360" y="1614600"/>
            <a:ext cx="83566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 express any number in scientific notation, write it as the product of a power of ten and a number greater than or equal to 1 but less than 1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7560" y="3616200"/>
            <a:ext cx="8353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 scientific notation the number of atoms in a quarter is 9.77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</a:rPr>
              <a:t>22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 and the size of each atom is 3.0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</a:rPr>
              <a:t>–8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centimeters acros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144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" name="" descr=""/>
            <p:cNvPicPr/>
            <p:nvPr/>
          </p:nvPicPr>
          <p:blipFill>
            <a:blip r:embed="rId2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95840" y="83160"/>
              <a:ext cx="777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 Black"/>
                </a:rPr>
                <a:t>4-4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066680" y="127800"/>
              <a:ext cx="807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 Black"/>
                </a:rPr>
                <a:t>Scientific Notatio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906480" y="3944880"/>
            <a:ext cx="1752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135,000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888840" y="334980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1.35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100,000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678120" y="3870360"/>
            <a:ext cx="46688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99ff"/>
                </a:solidFill>
                <a:latin typeface="Verdana"/>
              </a:rPr>
              <a:t>Think: Move the decimal right 5 place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33400" y="227340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1.35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 10</a:t>
            </a:r>
            <a:r>
              <a:rPr b="1" lang="en-US" sz="2600" spc="-1" strike="noStrike" baseline="30000">
                <a:solidFill>
                  <a:srgbClr val="000000"/>
                </a:solidFill>
                <a:latin typeface="Verdana"/>
              </a:rPr>
              <a:t>5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907920" y="2816280"/>
            <a:ext cx="1911600" cy="520560"/>
            <a:chOff x="907920" y="2816280"/>
            <a:chExt cx="1911600" cy="520560"/>
          </a:xfrm>
        </p:grpSpPr>
        <p:sp>
          <p:nvSpPr>
            <p:cNvPr id="154" name=""/>
            <p:cNvSpPr/>
            <p:nvPr/>
          </p:nvSpPr>
          <p:spPr>
            <a:xfrm>
              <a:off x="907920" y="2816280"/>
              <a:ext cx="191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1.35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</a:t>
              </a: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 10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522520" y="284976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3695760" y="2774880"/>
            <a:ext cx="3962520" cy="509040"/>
            <a:chOff x="3695760" y="2774880"/>
            <a:chExt cx="3962520" cy="509040"/>
          </a:xfrm>
        </p:grpSpPr>
        <p:sp>
          <p:nvSpPr>
            <p:cNvPr id="157" name=""/>
            <p:cNvSpPr/>
            <p:nvPr/>
          </p:nvSpPr>
          <p:spPr>
            <a:xfrm>
              <a:off x="3695760" y="2793960"/>
              <a:ext cx="39625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600" spc="-1" strike="noStrike">
                  <a:solidFill>
                    <a:srgbClr val="0099ff"/>
                  </a:solidFill>
                  <a:latin typeface="Verdana"/>
                </a:rPr>
                <a:t>10  = 100,000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122000" y="2774880"/>
              <a:ext cx="291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99ff"/>
                  </a:solidFill>
                  <a:latin typeface="Verdana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0" y="9144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Additional Example 1A: Translating Scientific Notation to Standard No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04240" y="1663560"/>
            <a:ext cx="62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Write the number in standard not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1211040" y="3994560"/>
            <a:ext cx="1172880" cy="546480"/>
            <a:chOff x="1211040" y="3994560"/>
            <a:chExt cx="1172880" cy="546480"/>
          </a:xfrm>
        </p:grpSpPr>
        <p:sp>
          <p:nvSpPr>
            <p:cNvPr id="162" name=""/>
            <p:cNvSpPr/>
            <p:nvPr/>
          </p:nvSpPr>
          <p:spPr>
            <a:xfrm rot="5400000">
              <a:off x="1062000" y="4147920"/>
              <a:ext cx="532440" cy="234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6530" y="1645"/>
                  </a:moveTo>
                  <a:arcTo wR="10800" hR="10800" stAng="-3477404" swAng="7140798"/>
                  <a:lnTo>
                    <a:pt x="10800" y="10800"/>
                  </a:lnTo>
                  <a:close/>
                </a:path>
                <a:path fill="none" w="21600" h="21600">
                  <a:moveTo>
                    <a:pt x="16530" y="1645"/>
                  </a:moveTo>
                  <a:arcTo wR="10800" hR="10800" stAng="-3477404" swAng="7140798"/>
                </a:path>
              </a:pathLst>
            </a:cu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rot="5400000">
              <a:off x="1292760" y="4135680"/>
              <a:ext cx="532440" cy="277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6530" y="1645"/>
                  </a:moveTo>
                  <a:arcTo wR="10800" hR="10800" stAng="-3477404" swAng="7140798"/>
                  <a:lnTo>
                    <a:pt x="10800" y="10800"/>
                  </a:lnTo>
                  <a:close/>
                </a:path>
                <a:path fill="none" w="21600" h="21600">
                  <a:moveTo>
                    <a:pt x="16530" y="1645"/>
                  </a:moveTo>
                  <a:arcTo wR="10800" hR="10800" stAng="-3477404" swAng="7140798"/>
                </a:path>
              </a:pathLst>
            </a:cu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rot="5400000">
              <a:off x="1553400" y="4104720"/>
              <a:ext cx="525960" cy="320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6530" y="1645"/>
                  </a:moveTo>
                  <a:arcTo wR="10800" hR="10800" stAng="-3477404" swAng="7140798"/>
                  <a:lnTo>
                    <a:pt x="10800" y="10800"/>
                  </a:lnTo>
                  <a:close/>
                </a:path>
                <a:path fill="none" w="21600" h="21600">
                  <a:moveTo>
                    <a:pt x="16530" y="1645"/>
                  </a:moveTo>
                  <a:arcTo wR="10800" hR="10800" stAng="-3477404" swAng="7140798"/>
                </a:path>
              </a:pathLst>
            </a:cu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rot="5400000">
              <a:off x="1797120" y="4143240"/>
              <a:ext cx="532440" cy="234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6530" y="1645"/>
                  </a:moveTo>
                  <a:arcTo wR="10800" hR="10800" stAng="-3477404" swAng="7140798"/>
                  <a:lnTo>
                    <a:pt x="10800" y="10800"/>
                  </a:lnTo>
                  <a:close/>
                </a:path>
                <a:path fill="none" w="21600" h="21600">
                  <a:moveTo>
                    <a:pt x="16530" y="1645"/>
                  </a:moveTo>
                  <a:arcTo wR="10800" hR="10800" stAng="-3477404" swAng="7140798"/>
                </a:path>
              </a:pathLst>
            </a:cu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rot="5400000">
              <a:off x="2000160" y="4152240"/>
              <a:ext cx="532440" cy="234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6530" y="1645"/>
                  </a:moveTo>
                  <a:arcTo wR="10800" hR="10800" stAng="-3477404" swAng="7140798"/>
                  <a:lnTo>
                    <a:pt x="10800" y="10800"/>
                  </a:lnTo>
                  <a:close/>
                </a:path>
                <a:path fill="none" w="21600" h="21600">
                  <a:moveTo>
                    <a:pt x="16530" y="1645"/>
                  </a:moveTo>
                  <a:arcTo wR="10800" hR="10800" stAng="-3477404" swAng="7140798"/>
                </a:path>
              </a:pathLst>
            </a:custGeom>
            <a:noFill/>
            <a:ln w="19080">
              <a:solidFill>
                <a:srgbClr val="ff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919080" y="4884840"/>
            <a:ext cx="6383520" cy="1398240"/>
            <a:chOff x="919080" y="4884840"/>
            <a:chExt cx="6383520" cy="1398240"/>
          </a:xfrm>
        </p:grpSpPr>
        <p:sp>
          <p:nvSpPr>
            <p:cNvPr id="168" name=""/>
            <p:cNvSpPr/>
            <p:nvPr/>
          </p:nvSpPr>
          <p:spPr>
            <a:xfrm>
              <a:off x="927000" y="5274360"/>
              <a:ext cx="6375600" cy="1008720"/>
            </a:xfrm>
            <a:prstGeom prst="rect">
              <a:avLst/>
            </a:prstGeom>
            <a:noFill/>
            <a:ln w="1908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A </a:t>
              </a:r>
              <a:r>
                <a:rPr b="0" lang="en-US" sz="2000" spc="-1" strike="noStrike">
                  <a:solidFill>
                    <a:srgbClr val="0066ff"/>
                  </a:solidFill>
                  <a:latin typeface="Verdana"/>
                </a:rPr>
                <a:t>positive </a:t>
              </a: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exponent means move the decimal to the </a:t>
              </a:r>
              <a:r>
                <a:rPr b="0" lang="en-US" sz="2000" spc="-1" strike="noStrike">
                  <a:solidFill>
                    <a:srgbClr val="0066ff"/>
                  </a:solidFill>
                  <a:latin typeface="Verdana"/>
                </a:rPr>
                <a:t>right,</a:t>
              </a: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 and a </a:t>
              </a:r>
              <a:r>
                <a:rPr b="0" lang="en-US" sz="2000" spc="-1" strike="noStrike">
                  <a:solidFill>
                    <a:srgbClr val="ff0000"/>
                  </a:solidFill>
                  <a:latin typeface="Verdana"/>
                </a:rPr>
                <a:t>negative</a:t>
              </a: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 exponent means move the decimal to the </a:t>
              </a:r>
              <a:r>
                <a:rPr b="0" lang="en-US" sz="2000" spc="-1" strike="noStrike">
                  <a:solidFill>
                    <a:srgbClr val="ff0000"/>
                  </a:solidFill>
                  <a:latin typeface="Verdana"/>
                </a:rPr>
                <a:t>left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919080" y="4884840"/>
              <a:ext cx="1915560" cy="39888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Verdana"/>
                </a:rPr>
                <a:t>Helpful Hi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5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0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171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2" name="" descr=""/>
            <p:cNvPicPr/>
            <p:nvPr/>
          </p:nvPicPr>
          <p:blipFill>
            <a:blip r:embed="rId2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95840" y="83160"/>
              <a:ext cx="777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 Black"/>
                </a:rPr>
                <a:t>4-4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066680" y="127800"/>
              <a:ext cx="807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 Black"/>
                </a:rPr>
                <a:t>Scientific Notatio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941400" y="5396040"/>
            <a:ext cx="1752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0.0027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013280" y="4660920"/>
            <a:ext cx="4267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99ff"/>
                </a:solidFill>
                <a:latin typeface="Verdana"/>
              </a:rPr>
              <a:t>Divide by the reciprocal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960480" y="4554360"/>
            <a:ext cx="270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2.7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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1000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008600" y="5465880"/>
            <a:ext cx="47480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99ff"/>
                </a:solidFill>
                <a:latin typeface="Verdana"/>
              </a:rPr>
              <a:t>Think: Move the decimal left 3 place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496800" y="3192480"/>
            <a:ext cx="3008160" cy="641160"/>
            <a:chOff x="496800" y="3192480"/>
            <a:chExt cx="3008160" cy="641160"/>
          </a:xfrm>
        </p:grpSpPr>
        <p:sp>
          <p:nvSpPr>
            <p:cNvPr id="181" name=""/>
            <p:cNvSpPr/>
            <p:nvPr/>
          </p:nvSpPr>
          <p:spPr>
            <a:xfrm>
              <a:off x="496800" y="3313080"/>
              <a:ext cx="3008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Verdana"/>
                </a:rPr>
                <a:t>    </a:t>
              </a: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2.7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</a:t>
              </a: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 10</a:t>
              </a:r>
              <a:r>
                <a:rPr b="0" lang="en-US" sz="2600" spc="-1" strike="noStrike" baseline="30000">
                  <a:solidFill>
                    <a:srgbClr val="000000"/>
                  </a:solidFill>
                  <a:latin typeface="Verdana"/>
                </a:rPr>
                <a:t>–3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17680" y="3192480"/>
              <a:ext cx="570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563400" y="2590920"/>
            <a:ext cx="2895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2.7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 10</a:t>
            </a:r>
            <a:r>
              <a:rPr b="1" lang="en-US" sz="2600" spc="-1" strike="noStrike" baseline="30000">
                <a:solidFill>
                  <a:srgbClr val="000000"/>
                </a:solidFill>
                <a:latin typeface="Verdana"/>
              </a:rPr>
              <a:t>–3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000680" y="3159000"/>
            <a:ext cx="2590200" cy="870840"/>
            <a:chOff x="4000680" y="3159000"/>
            <a:chExt cx="2590200" cy="870840"/>
          </a:xfrm>
        </p:grpSpPr>
        <p:sp>
          <p:nvSpPr>
            <p:cNvPr id="185" name=""/>
            <p:cNvSpPr/>
            <p:nvPr/>
          </p:nvSpPr>
          <p:spPr>
            <a:xfrm>
              <a:off x="4000680" y="3355560"/>
              <a:ext cx="18284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600" spc="-1" strike="noStrike">
                  <a:solidFill>
                    <a:srgbClr val="0099ff"/>
                  </a:solidFill>
                  <a:latin typeface="Verdana"/>
                </a:rPr>
                <a:t>10    =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396320" y="3336840"/>
              <a:ext cx="447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99ff"/>
                  </a:solidFill>
                  <a:latin typeface="Verdana"/>
                </a:rPr>
                <a:t> –</a:t>
              </a:r>
              <a:r>
                <a:rPr b="0" i="1" lang="en-US" sz="1600" spc="-1" strike="noStrike">
                  <a:solidFill>
                    <a:srgbClr val="0099ff"/>
                  </a:solidFill>
                  <a:latin typeface="Verdana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7" name=""/>
            <p:cNvGrpSpPr/>
            <p:nvPr/>
          </p:nvGrpSpPr>
          <p:grpSpPr>
            <a:xfrm>
              <a:off x="4610160" y="3159000"/>
              <a:ext cx="1980720" cy="870840"/>
              <a:chOff x="4610160" y="3159000"/>
              <a:chExt cx="1980720" cy="870840"/>
            </a:xfrm>
          </p:grpSpPr>
          <p:sp>
            <p:nvSpPr>
              <p:cNvPr id="188" name=""/>
              <p:cNvSpPr/>
              <p:nvPr/>
            </p:nvSpPr>
            <p:spPr>
              <a:xfrm>
                <a:off x="4762440" y="3159000"/>
                <a:ext cx="182808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600" spc="-1" strike="noStrike">
                    <a:solidFill>
                      <a:srgbClr val="0099ff"/>
                    </a:solidFill>
                    <a:latin typeface="Verdana"/>
                  </a:rPr>
                  <a:t>1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4610160" y="3539880"/>
                <a:ext cx="198072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600" spc="-1" strike="noStrike">
                    <a:solidFill>
                      <a:srgbClr val="0099ff"/>
                    </a:solidFill>
                    <a:latin typeface="Verdana"/>
                  </a:rPr>
                  <a:t>1000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5371920" y="3571560"/>
                <a:ext cx="609120" cy="0"/>
              </a:xfrm>
              <a:prstGeom prst="line">
                <a:avLst/>
              </a:prstGeom>
              <a:ln w="3168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91" name=""/>
          <p:cNvGrpSpPr/>
          <p:nvPr/>
        </p:nvGrpSpPr>
        <p:grpSpPr>
          <a:xfrm>
            <a:off x="947880" y="3701880"/>
            <a:ext cx="2022840" cy="870480"/>
            <a:chOff x="947880" y="3701880"/>
            <a:chExt cx="2022840" cy="870480"/>
          </a:xfrm>
        </p:grpSpPr>
        <p:sp>
          <p:nvSpPr>
            <p:cNvPr id="192" name=""/>
            <p:cNvSpPr/>
            <p:nvPr/>
          </p:nvSpPr>
          <p:spPr>
            <a:xfrm>
              <a:off x="947880" y="3854160"/>
              <a:ext cx="1132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2.7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</a:t>
              </a: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3" name=""/>
            <p:cNvGrpSpPr/>
            <p:nvPr/>
          </p:nvGrpSpPr>
          <p:grpSpPr>
            <a:xfrm>
              <a:off x="1757160" y="3701880"/>
              <a:ext cx="1213560" cy="870480"/>
              <a:chOff x="1757160" y="3701880"/>
              <a:chExt cx="1213560" cy="870480"/>
            </a:xfrm>
          </p:grpSpPr>
          <p:sp>
            <p:nvSpPr>
              <p:cNvPr id="194" name=""/>
              <p:cNvSpPr/>
              <p:nvPr/>
            </p:nvSpPr>
            <p:spPr>
              <a:xfrm>
                <a:off x="1918800" y="3701880"/>
                <a:ext cx="97092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600" spc="-1" strike="noStrike">
                    <a:solidFill>
                      <a:srgbClr val="000000"/>
                    </a:solidFill>
                    <a:latin typeface="Verdana"/>
                  </a:rPr>
                  <a:t>1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757160" y="4082400"/>
                <a:ext cx="121356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600" spc="-1" strike="noStrike">
                    <a:solidFill>
                      <a:srgbClr val="000000"/>
                    </a:solidFill>
                    <a:latin typeface="Verdana"/>
                  </a:rPr>
                  <a:t>1000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2080800" y="4114440"/>
                <a:ext cx="64728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7" name=""/>
          <p:cNvSpPr/>
          <p:nvPr/>
        </p:nvSpPr>
        <p:spPr>
          <a:xfrm>
            <a:off x="818640" y="2021040"/>
            <a:ext cx="62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Write the number in standard not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1355760" y="5386320"/>
            <a:ext cx="633240" cy="542520"/>
            <a:chOff x="1355760" y="5386320"/>
            <a:chExt cx="633240" cy="542520"/>
          </a:xfrm>
        </p:grpSpPr>
        <p:sp>
          <p:nvSpPr>
            <p:cNvPr id="199" name=""/>
            <p:cNvSpPr/>
            <p:nvPr/>
          </p:nvSpPr>
          <p:spPr>
            <a:xfrm rot="5400000">
              <a:off x="1206720" y="5540040"/>
              <a:ext cx="533160" cy="235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6530" y="1645"/>
                  </a:moveTo>
                  <a:arcTo wR="10800" hR="10800" stAng="-3477404" swAng="7140798"/>
                  <a:lnTo>
                    <a:pt x="10800" y="10800"/>
                  </a:lnTo>
                  <a:close/>
                </a:path>
                <a:path fill="none" w="21600" h="21600">
                  <a:moveTo>
                    <a:pt x="16530" y="1645"/>
                  </a:moveTo>
                  <a:arcTo wR="10800" hR="10800" stAng="-3477404" swAng="7140798"/>
                </a:path>
              </a:pathLst>
            </a:custGeom>
            <a:noFill/>
            <a:ln w="1908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rot="5400000">
              <a:off x="1401840" y="5535360"/>
              <a:ext cx="533160" cy="235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6530" y="1645"/>
                  </a:moveTo>
                  <a:arcTo wR="10800" hR="10800" stAng="-3477404" swAng="7140798"/>
                  <a:lnTo>
                    <a:pt x="10800" y="10800"/>
                  </a:lnTo>
                  <a:close/>
                </a:path>
                <a:path fill="none" w="21600" h="21600">
                  <a:moveTo>
                    <a:pt x="16530" y="1645"/>
                  </a:moveTo>
                  <a:arcTo wR="10800" hR="10800" stAng="-3477404" swAng="7140798"/>
                </a:path>
              </a:pathLst>
            </a:cu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rot="5400000">
              <a:off x="1604520" y="5544360"/>
              <a:ext cx="533160" cy="235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6530" y="1645"/>
                  </a:moveTo>
                  <a:arcTo wR="10800" hR="10800" stAng="-3477404" swAng="7140798"/>
                  <a:lnTo>
                    <a:pt x="10800" y="10800"/>
                  </a:lnTo>
                  <a:close/>
                </a:path>
                <a:path fill="none" w="21600" h="21600">
                  <a:moveTo>
                    <a:pt x="16530" y="1645"/>
                  </a:moveTo>
                  <a:arcTo wR="10800" hR="10800" stAng="-3477404" swAng="7140798"/>
                </a:path>
              </a:pathLst>
            </a:cu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0" y="9208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Additional Example 1B: Translating Scientific Notation to Standard Notation Continu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500"/>
                            </p:stCondLst>
                            <p:childTnLst>
                              <p:par>
                                <p:cTn id="15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5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4T17:53:35Z</dcterms:created>
  <dc:creator>Mike Bennett</dc:creator>
  <dc:description/>
  <dc:language>en-US</dc:language>
  <cp:lastModifiedBy>stevenh</cp:lastModifiedBy>
  <dcterms:modified xsi:type="dcterms:W3CDTF">2006-05-10T19:32:55Z</dcterms:modified>
  <cp:revision>148</cp:revision>
  <dc:subject/>
  <dc:title>PowerPoint Presentation</dc:title>
</cp:coreProperties>
</file>