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E55-6BB9-459D-A3A8-2C51E378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27E-9224-4C74-99FF-05FDF4B0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F47-93DD-4142-9AC6-ACA5A224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73F-6698-4F8F-9A98-C15FA7E3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C61-777D-4415-B431-BC6830D0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CA8-A827-45F5-9EA3-3EC791E5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9A2-571A-4231-9743-7A56A8E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431-3E00-4184-8BE5-3ABADDD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64D-B938-41EB-A1E1-598AE51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134-BD1C-4017-9F8D-826DA2A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C30-71DD-400B-8AAD-570CDD3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B09-E649-435D-91EF-1ED2804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DEA4-D859-4AC8-B40E-7AC0AD42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392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9116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7400" y="258768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0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58680" y="4367160"/>
            <a:ext cx="175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,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8800" y="4435560"/>
            <a:ext cx="431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4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60480" y="3173400"/>
            <a:ext cx="3001680" cy="646200"/>
            <a:chOff x="960480" y="3173400"/>
            <a:chExt cx="3001680" cy="646200"/>
          </a:xfrm>
        </p:grpSpPr>
        <p:sp>
          <p:nvSpPr>
            <p:cNvPr id="213" name=""/>
            <p:cNvSpPr/>
            <p:nvPr/>
          </p:nvSpPr>
          <p:spPr>
            <a:xfrm>
              <a:off x="960480" y="3299040"/>
              <a:ext cx="30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7520" y="317340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995640" y="3328920"/>
            <a:ext cx="3962160" cy="509040"/>
            <a:chOff x="3995640" y="3328920"/>
            <a:chExt cx="3962160" cy="509040"/>
          </a:xfrm>
        </p:grpSpPr>
        <p:sp>
          <p:nvSpPr>
            <p:cNvPr id="216" name=""/>
            <p:cNvSpPr/>
            <p:nvPr/>
          </p:nvSpPr>
          <p:spPr>
            <a:xfrm>
              <a:off x="3995640" y="334800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66160" y="332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60480" y="3716280"/>
            <a:ext cx="2895480" cy="641160"/>
            <a:chOff x="960480" y="3716280"/>
            <a:chExt cx="2895480" cy="641160"/>
          </a:xfrm>
        </p:grpSpPr>
        <p:sp>
          <p:nvSpPr>
            <p:cNvPr id="219" name=""/>
            <p:cNvSpPr/>
            <p:nvPr/>
          </p:nvSpPr>
          <p:spPr>
            <a:xfrm>
              <a:off x="960480" y="38368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00000" y="3716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C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640" y="20559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49560" y="4314600"/>
            <a:ext cx="963360" cy="547200"/>
            <a:chOff x="1249560" y="4314600"/>
            <a:chExt cx="963360" cy="547200"/>
          </a:xfrm>
        </p:grpSpPr>
        <p:sp>
          <p:nvSpPr>
            <p:cNvPr id="224" name=""/>
            <p:cNvSpPr/>
            <p:nvPr/>
          </p:nvSpPr>
          <p:spPr>
            <a:xfrm rot="5400000">
              <a:off x="1122120" y="445644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1382760" y="44247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1625760" y="44636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1828440" y="447264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98560" y="4351320"/>
            <a:ext cx="27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,87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5320" y="37432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,0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2360" y="4408560"/>
            <a:ext cx="46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9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840" y="2576520"/>
            <a:ext cx="311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84160" y="3165480"/>
            <a:ext cx="2044080" cy="520560"/>
            <a:chOff x="884160" y="3165480"/>
            <a:chExt cx="2044080" cy="520560"/>
          </a:xfrm>
        </p:grpSpPr>
        <p:sp>
          <p:nvSpPr>
            <p:cNvPr id="239" name=""/>
            <p:cNvSpPr/>
            <p:nvPr/>
          </p:nvSpPr>
          <p:spPr>
            <a:xfrm>
              <a:off x="884160" y="3165480"/>
              <a:ext cx="19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1600" y="3186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3195720"/>
            <a:ext cx="3962520" cy="489960"/>
            <a:chOff x="4157640" y="3195720"/>
            <a:chExt cx="3962520" cy="489960"/>
          </a:xfrm>
        </p:grpSpPr>
        <p:sp>
          <p:nvSpPr>
            <p:cNvPr id="242" name=""/>
            <p:cNvSpPr/>
            <p:nvPr/>
          </p:nvSpPr>
          <p:spPr>
            <a:xfrm>
              <a:off x="4157640" y="319572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,0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7360" y="3210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2988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8520" y="4329000"/>
            <a:ext cx="2150640" cy="574560"/>
            <a:chOff x="1298520" y="4329000"/>
            <a:chExt cx="2150640" cy="574560"/>
          </a:xfrm>
        </p:grpSpPr>
        <p:sp>
          <p:nvSpPr>
            <p:cNvPr id="246" name=""/>
            <p:cNvSpPr/>
            <p:nvPr/>
          </p:nvSpPr>
          <p:spPr>
            <a:xfrm rot="5400000">
              <a:off x="1149480" y="451620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1582200" y="449784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1849680" y="446004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095560" y="4488480"/>
              <a:ext cx="533160" cy="2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3065040" y="449568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41" y="745"/>
                  </a:moveTo>
                  <a:arcTo wR="10800" hR="10800" stAng="-4115724" swAng="777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41" y="745"/>
                  </a:moveTo>
                  <a:arcTo wR="10800" hR="10800" stAng="-4115724" swAng="777911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357920" y="4506840"/>
              <a:ext cx="53244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847600" y="447768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605320" y="44535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2337840" y="447876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93880" y="434340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914400" y="5149800"/>
            <a:ext cx="21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1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363920"/>
            <a:ext cx="42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720" y="5181480"/>
            <a:ext cx="4748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7840" y="2971800"/>
            <a:ext cx="3028320" cy="641160"/>
            <a:chOff x="447840" y="2971800"/>
            <a:chExt cx="3028320" cy="641160"/>
          </a:xfrm>
        </p:grpSpPr>
        <p:sp>
          <p:nvSpPr>
            <p:cNvPr id="267" name=""/>
            <p:cNvSpPr/>
            <p:nvPr/>
          </p:nvSpPr>
          <p:spPr>
            <a:xfrm>
              <a:off x="447840" y="3092400"/>
              <a:ext cx="30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0960" y="29718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941400" y="2579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060800" y="2936880"/>
            <a:ext cx="2781360" cy="733680"/>
            <a:chOff x="4060800" y="2936880"/>
            <a:chExt cx="2781360" cy="733680"/>
          </a:xfrm>
        </p:grpSpPr>
        <p:sp>
          <p:nvSpPr>
            <p:cNvPr id="271" name=""/>
            <p:cNvSpPr/>
            <p:nvPr/>
          </p:nvSpPr>
          <p:spPr>
            <a:xfrm>
              <a:off x="4450320" y="304812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1320" y="2936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99ff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060800" y="3062520"/>
              <a:ext cx="2781360" cy="608040"/>
              <a:chOff x="4060800" y="3062520"/>
              <a:chExt cx="2781360" cy="608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060800" y="3062520"/>
                <a:ext cx="18288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    =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61080" y="327168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99ff"/>
                    </a:solidFill>
                    <a:latin typeface="Verdana"/>
                  </a:rPr>
                  <a:t>100,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5521320" y="3317760"/>
              <a:ext cx="838080" cy="0"/>
            </a:xfrm>
            <a:prstGeom prst="line">
              <a:avLst/>
            </a:prstGeom>
            <a:ln w="316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7264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3551400"/>
            <a:ext cx="2577600" cy="717840"/>
            <a:chOff x="914400" y="3551400"/>
            <a:chExt cx="2577600" cy="717840"/>
          </a:xfrm>
        </p:grpSpPr>
        <p:sp>
          <p:nvSpPr>
            <p:cNvPr id="279" name=""/>
            <p:cNvSpPr/>
            <p:nvPr/>
          </p:nvSpPr>
          <p:spPr>
            <a:xfrm>
              <a:off x="914400" y="3672000"/>
              <a:ext cx="12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4440" y="35514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10920" y="3870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1840" y="3932280"/>
              <a:ext cx="99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78720" y="5105160"/>
            <a:ext cx="1118160" cy="609480"/>
            <a:chOff x="1278720" y="5105160"/>
            <a:chExt cx="1118160" cy="609480"/>
          </a:xfrm>
        </p:grpSpPr>
        <p:sp>
          <p:nvSpPr>
            <p:cNvPr id="284" name=""/>
            <p:cNvSpPr/>
            <p:nvPr/>
          </p:nvSpPr>
          <p:spPr>
            <a:xfrm rot="5400000">
              <a:off x="1351800" y="5320080"/>
              <a:ext cx="53316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783440" y="530352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1991880" y="5306400"/>
              <a:ext cx="567720" cy="2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1107000" y="5276880"/>
              <a:ext cx="6094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74" y="1737"/>
                  </a:moveTo>
                  <a:arcTo wR="10800" hR="10800" stAng="-3423243" swAng="708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74" y="1737"/>
                  </a:moveTo>
                  <a:arcTo wR="10800" hR="10800" stAng="-3423243" swAng="7086637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1557360" y="5302080"/>
              <a:ext cx="55260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990960" y="3097080"/>
            <a:ext cx="3962160" cy="509040"/>
            <a:chOff x="3990960" y="3097080"/>
            <a:chExt cx="3962160" cy="509040"/>
          </a:xfrm>
        </p:grpSpPr>
        <p:sp>
          <p:nvSpPr>
            <p:cNvPr id="291" name=""/>
            <p:cNvSpPr/>
            <p:nvPr/>
          </p:nvSpPr>
          <p:spPr>
            <a:xfrm>
              <a:off x="3990960" y="311616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61480" y="30970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65320" y="3119400"/>
            <a:ext cx="2895480" cy="528480"/>
            <a:chOff x="1165320" y="3119400"/>
            <a:chExt cx="2895480" cy="528480"/>
          </a:xfrm>
        </p:grpSpPr>
        <p:sp>
          <p:nvSpPr>
            <p:cNvPr id="294" name=""/>
            <p:cNvSpPr/>
            <p:nvPr/>
          </p:nvSpPr>
          <p:spPr>
            <a:xfrm>
              <a:off x="1165320" y="3127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5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0040" y="311940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150920" y="363996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8480" y="2576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01440" y="181296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55600" y="42148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09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6640" y="4299120"/>
            <a:ext cx="47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8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44680" y="4134240"/>
            <a:ext cx="1951560" cy="608760"/>
            <a:chOff x="1444680" y="4134240"/>
            <a:chExt cx="1951560" cy="608760"/>
          </a:xfrm>
        </p:grpSpPr>
        <p:sp>
          <p:nvSpPr>
            <p:cNvPr id="309" name=""/>
            <p:cNvSpPr/>
            <p:nvPr/>
          </p:nvSpPr>
          <p:spPr>
            <a:xfrm rot="5400000">
              <a:off x="1296720" y="4327920"/>
              <a:ext cx="532440" cy="23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1785600" y="4302000"/>
              <a:ext cx="53316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2006280" y="4290480"/>
              <a:ext cx="568080" cy="2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2958480" y="4305240"/>
              <a:ext cx="6087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33" y="594"/>
                  </a:moveTo>
                  <a:arcTo wR="10800" hR="10800" stAng="-4254440" swAng="791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33" y="594"/>
                  </a:moveTo>
                  <a:arcTo wR="10800" hR="10800" stAng="-4254440" swAng="7917834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1534320" y="4280400"/>
              <a:ext cx="539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534400" y="430200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746440" y="4297320"/>
              <a:ext cx="57420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283120" y="4280400"/>
              <a:ext cx="539640" cy="31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55560" y="1952640"/>
            <a:ext cx="8183160" cy="1404360"/>
            <a:chOff x="655560" y="1952640"/>
            <a:chExt cx="8183160" cy="1404360"/>
          </a:xfrm>
        </p:grpSpPr>
        <p:sp>
          <p:nvSpPr>
            <p:cNvPr id="324" name=""/>
            <p:cNvSpPr/>
            <p:nvPr/>
          </p:nvSpPr>
          <p:spPr>
            <a:xfrm>
              <a:off x="665640" y="2409840"/>
              <a:ext cx="8173080" cy="9471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 number less than 1 will have a negative exponent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hen written in scientific not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60" y="1952640"/>
              <a:ext cx="24570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30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Translating Standard Notation  to 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2920" y="428616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left to change 7.09 to 0.00709, so the exponent will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400" y="2205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7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21040" y="223992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3 places to get a number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640" y="29494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7160" y="3686040"/>
            <a:ext cx="2895480" cy="529920"/>
            <a:chOff x="227160" y="3686040"/>
            <a:chExt cx="2895480" cy="529920"/>
          </a:xfrm>
        </p:grpSpPr>
        <p:sp>
          <p:nvSpPr>
            <p:cNvPr id="338" name=""/>
            <p:cNvSpPr/>
            <p:nvPr/>
          </p:nvSpPr>
          <p:spPr>
            <a:xfrm>
              <a:off x="227160" y="3695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5320" y="3686040"/>
              <a:ext cx="227160" cy="226800"/>
            </a:xfrm>
            <a:prstGeom prst="rect">
              <a:avLst/>
            </a:prstGeom>
            <a:solidFill>
              <a:srgbClr val="c0c0c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36800" y="3754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61560" y="5745240"/>
            <a:ext cx="6486840" cy="520560"/>
            <a:chOff x="961560" y="5745240"/>
            <a:chExt cx="6486840" cy="520560"/>
          </a:xfrm>
        </p:grpSpPr>
        <p:sp>
          <p:nvSpPr>
            <p:cNvPr id="342" name=""/>
            <p:cNvSpPr/>
            <p:nvPr/>
          </p:nvSpPr>
          <p:spPr>
            <a:xfrm>
              <a:off x="961560" y="5745240"/>
              <a:ext cx="64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0.001 = 0.00709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88240" y="5776920"/>
              <a:ext cx="4546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99200" y="169380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709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66560" y="5124600"/>
            <a:ext cx="8785080" cy="564480"/>
            <a:chOff x="466560" y="5124600"/>
            <a:chExt cx="8785080" cy="564480"/>
          </a:xfrm>
        </p:grpSpPr>
        <p:sp>
          <p:nvSpPr>
            <p:cNvPr id="346" name=""/>
            <p:cNvSpPr/>
            <p:nvPr/>
          </p:nvSpPr>
          <p:spPr>
            <a:xfrm>
              <a:off x="466560" y="516852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709 written in scientific notation is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81760" y="5124600"/>
              <a:ext cx="569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77960" y="2162520"/>
            <a:ext cx="699120" cy="541800"/>
            <a:chOff x="777960" y="2162520"/>
            <a:chExt cx="699120" cy="541800"/>
          </a:xfrm>
        </p:grpSpPr>
        <p:sp>
          <p:nvSpPr>
            <p:cNvPr id="349" name=""/>
            <p:cNvSpPr/>
            <p:nvPr/>
          </p:nvSpPr>
          <p:spPr>
            <a:xfrm rot="5400000">
              <a:off x="669240" y="2278440"/>
              <a:ext cx="5259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902160" y="2315880"/>
              <a:ext cx="532440" cy="2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1097640" y="2324880"/>
              <a:ext cx="532440" cy="2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01760" y="4203720"/>
            <a:ext cx="851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left to change 8.11 to 0.000811, so the exponent will be neg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2680" y="2209680"/>
            <a:ext cx="1591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8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8480" y="2039760"/>
            <a:ext cx="597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4 places to get a number between 1 and 1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400" y="2967120"/>
            <a:ext cx="83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04840" y="3568680"/>
            <a:ext cx="2895480" cy="641160"/>
            <a:chOff x="204840" y="3568680"/>
            <a:chExt cx="2895480" cy="641160"/>
          </a:xfrm>
        </p:grpSpPr>
        <p:grpSp>
          <p:nvGrpSpPr>
            <p:cNvPr id="364" name=""/>
            <p:cNvGrpSpPr/>
            <p:nvPr/>
          </p:nvGrpSpPr>
          <p:grpSpPr>
            <a:xfrm>
              <a:off x="204840" y="3568680"/>
              <a:ext cx="2895480" cy="641160"/>
              <a:chOff x="204840" y="3568680"/>
              <a:chExt cx="2895480" cy="641160"/>
            </a:xfrm>
          </p:grpSpPr>
          <p:sp>
            <p:nvSpPr>
              <p:cNvPr id="365" name=""/>
              <p:cNvSpPr/>
              <p:nvPr/>
            </p:nvSpPr>
            <p:spPr>
              <a:xfrm>
                <a:off x="204840" y="368928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8.11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1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58760" y="35686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230560" y="3735360"/>
              <a:ext cx="23652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870280" y="37162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39720" y="5951520"/>
            <a:ext cx="7299360" cy="520560"/>
            <a:chOff x="639720" y="5951520"/>
            <a:chExt cx="7299360" cy="520560"/>
          </a:xfrm>
        </p:grpSpPr>
        <p:sp>
          <p:nvSpPr>
            <p:cNvPr id="370" name=""/>
            <p:cNvSpPr/>
            <p:nvPr/>
          </p:nvSpPr>
          <p:spPr>
            <a:xfrm>
              <a:off x="639720" y="5951520"/>
              <a:ext cx="72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   =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0.0001 = 0.00081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21560" y="5983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873360" y="151272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0811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98360" y="5457960"/>
            <a:ext cx="8945280" cy="549000"/>
            <a:chOff x="198360" y="5457960"/>
            <a:chExt cx="8945280" cy="549000"/>
          </a:xfrm>
        </p:grpSpPr>
        <p:sp>
          <p:nvSpPr>
            <p:cNvPr id="374" name=""/>
            <p:cNvSpPr/>
            <p:nvPr/>
          </p:nvSpPr>
          <p:spPr>
            <a:xfrm>
              <a:off x="198360" y="5486400"/>
              <a:ext cx="89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0811 written in scientific notation is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78880" y="5457960"/>
              <a:ext cx="175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87760" y="2190600"/>
            <a:ext cx="793080" cy="547200"/>
            <a:chOff x="887760" y="2190600"/>
            <a:chExt cx="793080" cy="547200"/>
          </a:xfrm>
        </p:grpSpPr>
        <p:sp>
          <p:nvSpPr>
            <p:cNvPr id="377" name=""/>
            <p:cNvSpPr/>
            <p:nvPr/>
          </p:nvSpPr>
          <p:spPr>
            <a:xfrm rot="5400000">
              <a:off x="735840" y="2357280"/>
              <a:ext cx="532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950040" y="2329200"/>
              <a:ext cx="526680" cy="26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1150560" y="2360520"/>
              <a:ext cx="533160" cy="19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1317240" y="2369520"/>
              <a:ext cx="533160" cy="19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26880" y="1324080"/>
            <a:ext cx="84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encil is 18.7 cm long. If you were to lay 10,000 pencils end-to-end, how many millimeters long would they be?                            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52124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7 m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920" y="29480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centimeter = 10 milli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.7 centimeters = 187 mill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07120" y="367812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 by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9960" y="5342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870,0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46640" y="456876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tot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37360" y="53244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392640" y="3171960"/>
            <a:ext cx="474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6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4880" y="4229280"/>
            <a:ext cx="8499600" cy="916560"/>
            <a:chOff x="434880" y="4229280"/>
            <a:chExt cx="8499600" cy="916560"/>
          </a:xfrm>
        </p:grpSpPr>
        <p:sp>
          <p:nvSpPr>
            <p:cNvPr id="403" name=""/>
            <p:cNvSpPr/>
            <p:nvPr/>
          </p:nvSpPr>
          <p:spPr>
            <a:xfrm>
              <a:off x="434880" y="4229280"/>
              <a:ext cx="84996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 the 10,000 pencils would be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.8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6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mm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ng, laid end-to-end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3520" y="423864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0120" y="1604880"/>
            <a:ext cx="2045880" cy="520560"/>
            <a:chOff x="330120" y="1604880"/>
            <a:chExt cx="2045880" cy="520560"/>
          </a:xfrm>
        </p:grpSpPr>
        <p:sp>
          <p:nvSpPr>
            <p:cNvPr id="407" name=""/>
            <p:cNvSpPr/>
            <p:nvPr/>
          </p:nvSpPr>
          <p:spPr>
            <a:xfrm>
              <a:off x="330120" y="1604880"/>
              <a:ext cx="19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2160" y="1695600"/>
              <a:ext cx="21384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16400" y="16002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02000" y="2000160"/>
            <a:ext cx="57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right to change 1.87 to 1,870,000, so the exponent will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55480" y="1324080"/>
            <a:ext cx="805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oil rig can hoist 2,400,000 pounds with its main derrick. It distributes the weight evenly between 8 wire cables. What is the weight that each wire cable can hold?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120" y="4311720"/>
            <a:ext cx="62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400,000 pounds ÷ 8 cables = 300,000 pounds pe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53085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able can hold 300,000 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120" y="33386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weight each cable is expected to hold by dividing the total weight by the number of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30960" y="594036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rite 300,000 pounds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6560" y="847800"/>
            <a:ext cx="811224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rder each set of numbers from least to great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85640" y="2362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10 , 10  , 10 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640" y="3352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8 , 8  , 8 ,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4343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2 , 2  , 2  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640" y="5334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2 , 5.2 , 5.2  , 5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37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6736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672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95480" y="2819520"/>
            <a:ext cx="5257800" cy="520560"/>
            <a:chOff x="1095480" y="2819520"/>
            <a:chExt cx="5257800" cy="520560"/>
          </a:xfrm>
        </p:grpSpPr>
        <p:sp>
          <p:nvSpPr>
            <p:cNvPr id="67" name=""/>
            <p:cNvSpPr/>
            <p:nvPr/>
          </p:nvSpPr>
          <p:spPr>
            <a:xfrm>
              <a:off x="1095480" y="28195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0  , 10  , 10 ,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9588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4952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028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80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6544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9400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396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7200" y="33750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95480" y="3809880"/>
            <a:ext cx="3197160" cy="520560"/>
            <a:chOff x="1095480" y="3809880"/>
            <a:chExt cx="3197160" cy="520560"/>
          </a:xfrm>
        </p:grpSpPr>
        <p:sp>
          <p:nvSpPr>
            <p:cNvPr id="77" name=""/>
            <p:cNvSpPr/>
            <p:nvPr/>
          </p:nvSpPr>
          <p:spPr>
            <a:xfrm>
              <a:off x="1095480" y="3809880"/>
              <a:ext cx="31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8  , 8 , 8 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608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42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88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48200" y="3832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40344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404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488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04480" y="5356080"/>
            <a:ext cx="3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0352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1680" y="5356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5480" y="5791320"/>
            <a:ext cx="4419360" cy="520560"/>
            <a:chOff x="1095480" y="5791320"/>
            <a:chExt cx="4419360" cy="520560"/>
          </a:xfrm>
        </p:grpSpPr>
        <p:sp>
          <p:nvSpPr>
            <p:cNvPr id="91" name=""/>
            <p:cNvSpPr/>
            <p:nvPr/>
          </p:nvSpPr>
          <p:spPr>
            <a:xfrm>
              <a:off x="1095480" y="57913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5.2  , 5.2  , 5.2 , 5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73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15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028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480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095480" y="4800600"/>
            <a:ext cx="3627360" cy="520560"/>
            <a:chOff x="1095480" y="4800600"/>
            <a:chExt cx="3627360" cy="520560"/>
          </a:xfrm>
        </p:grpSpPr>
        <p:sp>
          <p:nvSpPr>
            <p:cNvPr id="97" name=""/>
            <p:cNvSpPr/>
            <p:nvPr/>
          </p:nvSpPr>
          <p:spPr>
            <a:xfrm>
              <a:off x="1095480" y="4800600"/>
              <a:ext cx="36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2  , 2  , 2 ,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264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6372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54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482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700440" y="2684520"/>
            <a:ext cx="4635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right to change 3.0 to 300,000, so the exponent will be posi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7440" y="4462560"/>
            <a:ext cx="458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2640" y="5410080"/>
            <a:ext cx="7640280" cy="943560"/>
            <a:chOff x="512640" y="5410080"/>
            <a:chExt cx="7640280" cy="943560"/>
          </a:xfrm>
        </p:grpSpPr>
        <p:sp>
          <p:nvSpPr>
            <p:cNvPr id="432" name=""/>
            <p:cNvSpPr/>
            <p:nvPr/>
          </p:nvSpPr>
          <p:spPr>
            <a:xfrm>
              <a:off x="512640" y="5437080"/>
              <a:ext cx="76402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, each cable can hold 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pound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36600" y="5410080"/>
              <a:ext cx="354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979640" y="2000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5360" y="2120760"/>
            <a:ext cx="3038040" cy="520560"/>
            <a:chOff x="225360" y="2120760"/>
            <a:chExt cx="3038040" cy="520560"/>
          </a:xfrm>
        </p:grpSpPr>
        <p:sp>
          <p:nvSpPr>
            <p:cNvPr id="436" name=""/>
            <p:cNvSpPr/>
            <p:nvPr/>
          </p:nvSpPr>
          <p:spPr>
            <a:xfrm>
              <a:off x="225360" y="2120760"/>
              <a:ext cx="303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2166840"/>
              <a:ext cx="236160" cy="22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654360" y="21207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26880" y="1324080"/>
            <a:ext cx="84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4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1.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Life Science </a:t>
            </a:r>
            <a:r>
              <a:rPr b="0" i="1" lang="en-US" sz="2400" spc="-1" strike="noStrike">
                <a:solidFill>
                  <a:srgbClr val="009999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&gt;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26880" y="1324080"/>
            <a:ext cx="82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5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ond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&lt; 5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lt;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3920" y="149868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2120" y="201132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72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4720" y="26431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440" y="44672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46240" y="20397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7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41560" y="2664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.00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38498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22560" y="3656160"/>
            <a:ext cx="2819520" cy="672840"/>
            <a:chOff x="3022560" y="3656160"/>
            <a:chExt cx="2819520" cy="672840"/>
          </a:xfrm>
        </p:grpSpPr>
        <p:sp>
          <p:nvSpPr>
            <p:cNvPr id="485" name=""/>
            <p:cNvSpPr/>
            <p:nvPr/>
          </p:nvSpPr>
          <p:spPr>
            <a:xfrm>
              <a:off x="3022560" y="380844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3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13560" y="3656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11480" y="4352760"/>
            <a:ext cx="2895480" cy="627120"/>
            <a:chOff x="3111480" y="4352760"/>
            <a:chExt cx="2895480" cy="627120"/>
          </a:xfrm>
        </p:grpSpPr>
        <p:sp>
          <p:nvSpPr>
            <p:cNvPr id="488" name=""/>
            <p:cNvSpPr/>
            <p:nvPr/>
          </p:nvSpPr>
          <p:spPr>
            <a:xfrm>
              <a:off x="3111480" y="4459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6840" y="4352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846720" y="33354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0680" y="5076720"/>
            <a:ext cx="724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numbers from least to greatest.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9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06560" y="5916600"/>
            <a:ext cx="46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9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2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0680" y="1590840"/>
            <a:ext cx="7510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uman body contains about 5.6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liters of blood. Write this number 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2362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,6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766880"/>
            <a:ext cx="7664400" cy="293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the powers from least to grea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7480" y="2936880"/>
            <a:ext cx="44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0960" y="35845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1800" spc="-1" strike="noStrike" baseline="72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(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(3</a:t>
            </a:r>
            <a:r>
              <a:rPr b="1" lang="en-US" sz="1800" spc="-1" strike="noStrike" baseline="74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560" y="1974960"/>
            <a:ext cx="8256600" cy="20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express large and small numbers in scientific notation and to compare two numbers written in scientific notation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71629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38120" y="1503360"/>
            <a:ext cx="828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rdinary quarter contains about 97,700,000,000,000,000,000,000 atoms. The average size of an atom is about 0.00000003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360" y="33926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ngth of these numbers in standard notation makes them awkward to work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4451400"/>
            <a:ext cx="835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cientific notatio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horthand way of writing such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2360" y="1614600"/>
            <a:ext cx="83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xpress any number in scientific notation, write it as the product of a power of ten and a number greater than or equal to 1 but less than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560" y="36162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cientific notation the number of atoms in a quarter is 9.7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the size of each atom is 3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–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6480" y="394488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5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8840" y="3349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8120" y="3870360"/>
            <a:ext cx="466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3400" y="227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07920" y="2816280"/>
            <a:ext cx="1911600" cy="520560"/>
            <a:chOff x="907920" y="2816280"/>
            <a:chExt cx="1911600" cy="520560"/>
          </a:xfrm>
        </p:grpSpPr>
        <p:sp>
          <p:nvSpPr>
            <p:cNvPr id="154" name=""/>
            <p:cNvSpPr/>
            <p:nvPr/>
          </p:nvSpPr>
          <p:spPr>
            <a:xfrm>
              <a:off x="907920" y="2816280"/>
              <a:ext cx="191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35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22520" y="2849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95760" y="2774880"/>
            <a:ext cx="3962520" cy="509040"/>
            <a:chOff x="3695760" y="2774880"/>
            <a:chExt cx="3962520" cy="509040"/>
          </a:xfrm>
        </p:grpSpPr>
        <p:sp>
          <p:nvSpPr>
            <p:cNvPr id="157" name=""/>
            <p:cNvSpPr/>
            <p:nvPr/>
          </p:nvSpPr>
          <p:spPr>
            <a:xfrm>
              <a:off x="3695760" y="279396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2000" y="2774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Translating Scientific Notation to Standard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240" y="16635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1040" y="3994560"/>
            <a:ext cx="1172880" cy="546480"/>
            <a:chOff x="1211040" y="3994560"/>
            <a:chExt cx="1172880" cy="546480"/>
          </a:xfrm>
        </p:grpSpPr>
        <p:sp>
          <p:nvSpPr>
            <p:cNvPr id="162" name=""/>
            <p:cNvSpPr/>
            <p:nvPr/>
          </p:nvSpPr>
          <p:spPr>
            <a:xfrm rot="5400000">
              <a:off x="1062000" y="4147920"/>
              <a:ext cx="5324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1292760" y="413568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553400" y="4104720"/>
              <a:ext cx="5259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1797120" y="4143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00160" y="4152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19080" y="4884840"/>
            <a:ext cx="6383520" cy="1398240"/>
            <a:chOff x="919080" y="4884840"/>
            <a:chExt cx="6383520" cy="1398240"/>
          </a:xfrm>
        </p:grpSpPr>
        <p:sp>
          <p:nvSpPr>
            <p:cNvPr id="168" name=""/>
            <p:cNvSpPr/>
            <p:nvPr/>
          </p:nvSpPr>
          <p:spPr>
            <a:xfrm>
              <a:off x="927000" y="5274360"/>
              <a:ext cx="6375600" cy="1008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positiv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ponent means move the decimal to the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right,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and a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negativ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exponent means move the decimal to the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e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9080" y="4884840"/>
              <a:ext cx="19155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41400" y="539604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13280" y="466092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0480" y="455436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5465880"/>
            <a:ext cx="474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3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6800" y="3192480"/>
            <a:ext cx="3008160" cy="641160"/>
            <a:chOff x="496800" y="3192480"/>
            <a:chExt cx="3008160" cy="641160"/>
          </a:xfrm>
        </p:grpSpPr>
        <p:sp>
          <p:nvSpPr>
            <p:cNvPr id="181" name=""/>
            <p:cNvSpPr/>
            <p:nvPr/>
          </p:nvSpPr>
          <p:spPr>
            <a:xfrm>
              <a:off x="496800" y="3313080"/>
              <a:ext cx="30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7680" y="3192480"/>
              <a:ext cx="5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3400" y="259092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00680" y="3159000"/>
            <a:ext cx="2590200" cy="870840"/>
            <a:chOff x="4000680" y="3159000"/>
            <a:chExt cx="2590200" cy="870840"/>
          </a:xfrm>
        </p:grpSpPr>
        <p:sp>
          <p:nvSpPr>
            <p:cNvPr id="185" name=""/>
            <p:cNvSpPr/>
            <p:nvPr/>
          </p:nvSpPr>
          <p:spPr>
            <a:xfrm>
              <a:off x="4000680" y="3355560"/>
              <a:ext cx="182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  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6320" y="333684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0160" y="3159000"/>
              <a:ext cx="1980720" cy="870840"/>
              <a:chOff x="4610160" y="3159000"/>
              <a:chExt cx="1980720" cy="87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4762440" y="3159000"/>
                <a:ext cx="1828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0160" y="3539880"/>
                <a:ext cx="198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71920" y="3571560"/>
                <a:ext cx="609120" cy="0"/>
              </a:xfrm>
              <a:prstGeom prst="line">
                <a:avLst/>
              </a:prstGeom>
              <a:ln w="316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947880" y="3701880"/>
            <a:ext cx="2022840" cy="870480"/>
            <a:chOff x="947880" y="3701880"/>
            <a:chExt cx="2022840" cy="870480"/>
          </a:xfrm>
        </p:grpSpPr>
        <p:sp>
          <p:nvSpPr>
            <p:cNvPr id="192" name=""/>
            <p:cNvSpPr/>
            <p:nvPr/>
          </p:nvSpPr>
          <p:spPr>
            <a:xfrm>
              <a:off x="947880" y="3854160"/>
              <a:ext cx="113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757160" y="3701880"/>
              <a:ext cx="1213560" cy="870480"/>
              <a:chOff x="1757160" y="3701880"/>
              <a:chExt cx="1213560" cy="870480"/>
            </a:xfrm>
          </p:grpSpPr>
          <p:sp>
            <p:nvSpPr>
              <p:cNvPr id="194" name=""/>
              <p:cNvSpPr/>
              <p:nvPr/>
            </p:nvSpPr>
            <p:spPr>
              <a:xfrm>
                <a:off x="1918800" y="3701880"/>
                <a:ext cx="9709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57160" y="4082400"/>
                <a:ext cx="12135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80800" y="4114440"/>
                <a:ext cx="64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818640" y="202104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55760" y="5386320"/>
            <a:ext cx="633240" cy="542520"/>
            <a:chOff x="1355760" y="5386320"/>
            <a:chExt cx="633240" cy="542520"/>
          </a:xfrm>
        </p:grpSpPr>
        <p:sp>
          <p:nvSpPr>
            <p:cNvPr id="199" name=""/>
            <p:cNvSpPr/>
            <p:nvPr/>
          </p:nvSpPr>
          <p:spPr>
            <a:xfrm rot="5400000">
              <a:off x="1206720" y="55400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401840" y="553536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1604520" y="554436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>Mike Bennett</dc:creator>
  <dc:description/>
  <dc:language>en-US</dc:language>
  <cp:lastModifiedBy>stevenh</cp:lastModifiedBy>
  <dcterms:modified xsi:type="dcterms:W3CDTF">2006-05-10T19:32:55Z</dcterms:modified>
  <cp:revision>148</cp:revision>
  <dc:subject/>
  <dc:title>PowerPoint Presentation</dc:title>
</cp:coreProperties>
</file>