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99D-46E1-46E2-B6AF-A7F395C1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D7C-C40D-429E-ACD5-56D0619F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5F6-3732-4A14-9A1B-624E858F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FB7-4A15-4BEC-B1D7-D3F1FB48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3EE-172D-4492-8395-E0239282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2D6-8B60-42B1-A89F-BCE87922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E94-A132-42ED-A890-57363875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E84-A2B5-4782-8C1B-9DA7B877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C0D-8CB6-4C5D-B241-A657E5E4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9FB-26AA-4D4F-8C45-2833FC92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96D-46DC-46C9-ADAC-2A17E6C8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674-B19F-4036-BBE2-1B2F65DA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B360-6DF2-444B-ACBC-520B58697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440"/>
            <a:ext cx="9144000" cy="6864480"/>
            <a:chOff x="0" y="1440"/>
            <a:chExt cx="9144000" cy="686448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632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88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460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122760"/>
              <a:ext cx="80773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Equations, Tables, and Graph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04640" y="1339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1600" y="225000"/>
              <a:ext cx="77724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 Black"/>
                </a:rPr>
                <a:t>Equations, Tables, and Graph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654984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3629160" y="233640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3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5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7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54040" y="193356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506600" y="30891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7" name=""/>
          <p:cNvGrpSpPr/>
          <p:nvPr/>
        </p:nvGrpSpPr>
        <p:grpSpPr>
          <a:xfrm>
            <a:off x="3686040" y="2438280"/>
            <a:ext cx="3962160" cy="3595320"/>
            <a:chOff x="3686040" y="2438280"/>
            <a:chExt cx="3962160" cy="3595320"/>
          </a:xfrm>
        </p:grpSpPr>
        <p:grpSp>
          <p:nvGrpSpPr>
            <p:cNvPr id="398" name=""/>
            <p:cNvGrpSpPr/>
            <p:nvPr/>
          </p:nvGrpSpPr>
          <p:grpSpPr>
            <a:xfrm>
              <a:off x="3686040" y="2438280"/>
              <a:ext cx="3962160" cy="3595320"/>
              <a:chOff x="3686040" y="2438280"/>
              <a:chExt cx="3962160" cy="35953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3686040" y="2539080"/>
                <a:ext cx="3540960" cy="3494520"/>
                <a:chOff x="3686040" y="2539080"/>
                <a:chExt cx="3540960" cy="349452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4016880" y="2882520"/>
                  <a:ext cx="2878920" cy="2841480"/>
                  <a:chOff x="4016880" y="2882520"/>
                  <a:chExt cx="2878920" cy="28414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401688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30488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59252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8052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16816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545616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74416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03180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31980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60780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01688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0488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59252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88052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16816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45616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74416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03180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31980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60780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01688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30488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59252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88052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16816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45616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74416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03180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31980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660780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01688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30488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59252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88052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16816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45616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74416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3180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31980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60780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01688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30488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9252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88052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16816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45616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74416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03180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31980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660780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01688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30488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59252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88052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16816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45616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74416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03180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31980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60780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01688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30488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59252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88052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16816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45616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74416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03180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31980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60780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01688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30488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59252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88052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16816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45616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74416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03180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980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60780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01688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30488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459252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88052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516816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45616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74416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03180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31980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60780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401688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430488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459252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488052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16816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45616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74416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603180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631980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660780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3686040" y="2539080"/>
                  <a:ext cx="3540960" cy="3494520"/>
                  <a:chOff x="3686040" y="2539080"/>
                  <a:chExt cx="3540960" cy="349452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5456520" y="25390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686040" y="430308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4" name=""/>
              <p:cNvSpPr/>
              <p:nvPr/>
            </p:nvSpPr>
            <p:spPr>
              <a:xfrm>
                <a:off x="6973920" y="39027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19880" y="24382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4300560" y="4157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95760" y="41673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8160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674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434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9280" y="4157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24480" y="41720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056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96160" y="4148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19400" y="4143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6240" y="3443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8624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00640" y="40244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05320" y="4595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00640" y="4876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95960" y="5157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0640" y="54435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86240" y="57243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86240" y="2895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86240" y="3171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3520" y="4197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45800" y="43498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41000" y="43736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84920" y="434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48320" y="434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84920" y="3511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71960" y="294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31560" y="4654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98440" y="51879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4718160" y="3338280"/>
            <a:ext cx="1949400" cy="2073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0720" y="454356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76840" y="425304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72040" y="395460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67600" y="367812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06440" y="55515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54040" y="161928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1000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38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4532400" y="408312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y is the value of x plus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47800" y="38876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1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47800" y="43070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2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57520" y="47451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= 3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54040" y="161928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 Continu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162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789360" y="2173320"/>
            <a:ext cx="3497400" cy="41860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5478480" y="3362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3680" y="3105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87960" y="27907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73800" y="248616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949560" y="2253960"/>
            <a:ext cx="2759040" cy="274932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25560" y="545004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44520" y="923760"/>
            <a:ext cx="84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Using Graph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34960" y="2571840"/>
            <a:ext cx="3962160" cy="3595320"/>
            <a:chOff x="534960" y="2571840"/>
            <a:chExt cx="3962160" cy="3595320"/>
          </a:xfrm>
        </p:grpSpPr>
        <p:grpSp>
          <p:nvGrpSpPr>
            <p:cNvPr id="562" name=""/>
            <p:cNvGrpSpPr/>
            <p:nvPr/>
          </p:nvGrpSpPr>
          <p:grpSpPr>
            <a:xfrm>
              <a:off x="534960" y="2571840"/>
              <a:ext cx="3962160" cy="3595320"/>
              <a:chOff x="534960" y="2571840"/>
              <a:chExt cx="3962160" cy="359532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534960" y="2672640"/>
                <a:ext cx="3540960" cy="3494520"/>
                <a:chOff x="534960" y="2672640"/>
                <a:chExt cx="3540960" cy="3494520"/>
              </a:xfrm>
            </p:grpSpPr>
            <p:grpSp>
              <p:nvGrpSpPr>
                <p:cNvPr id="564" name=""/>
                <p:cNvGrpSpPr/>
                <p:nvPr/>
              </p:nvGrpSpPr>
              <p:grpSpPr>
                <a:xfrm>
                  <a:off x="865800" y="3016080"/>
                  <a:ext cx="2878920" cy="2841480"/>
                  <a:chOff x="865800" y="3016080"/>
                  <a:chExt cx="2878920" cy="284148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86580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15380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44144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72944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01708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508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59308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88072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316872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345672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86580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15380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44144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72944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01708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508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59308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88072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16872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45672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86580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15380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44144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72944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01708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508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59308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88072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16872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345672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86580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115380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44144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172944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01708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0508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59308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88072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316872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345672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86580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15380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44144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172944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01708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0508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59308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88072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16872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45672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86580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115380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144144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172944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01708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0508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59308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88072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16872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345672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86580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115380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44144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72944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01708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0508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59308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88072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16872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45672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6580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15380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144144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172944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01708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0508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59308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88072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16872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45672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86580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115380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44144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172944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01708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0508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59308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88072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16872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45672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86580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115380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144144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72944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01708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0508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259308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288072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16872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45672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534960" y="2672640"/>
                  <a:ext cx="3540960" cy="3494520"/>
                  <a:chOff x="534960" y="2672640"/>
                  <a:chExt cx="3540960" cy="349452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2305440" y="267264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534960" y="443664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8" name=""/>
              <p:cNvSpPr/>
              <p:nvPr/>
            </p:nvSpPr>
            <p:spPr>
              <a:xfrm>
                <a:off x="3822840" y="40363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368800" y="257184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1149480" y="4291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4680" y="43009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3052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163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923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78200" y="4291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73400" y="43056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545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45080" y="4281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68320" y="4276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35160" y="3576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35160" y="3867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49560" y="41580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54240" y="47293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49560" y="5010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4880" y="5291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49560" y="5577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35160" y="5857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35160" y="30290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35160" y="33055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62440" y="4330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94720" y="4483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9920" y="450720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33840" y="4483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97240" y="4483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3840" y="3645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820880" y="3078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80480" y="478800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47360" y="532152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1305000" y="2847600"/>
            <a:ext cx="1677960" cy="33130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41720" y="4106880"/>
            <a:ext cx="12348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08400" y="3816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41600" y="352584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682720" y="322272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052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614840" y="370188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95760" y="430200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05480" y="495000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44520" y="92376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2401920" y="329580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"/>
          <p:cNvSpPr/>
          <p:nvPr/>
        </p:nvSpPr>
        <p:spPr>
          <a:xfrm>
            <a:off x="992160" y="2635200"/>
            <a:ext cx="76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d is 2 times the value of t plu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41640" y="4011480"/>
            <a:ext cx="20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44520" y="92376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47640" y="2629080"/>
            <a:ext cx="3962160" cy="3595320"/>
            <a:chOff x="647640" y="2629080"/>
            <a:chExt cx="3962160" cy="3595320"/>
          </a:xfrm>
        </p:grpSpPr>
        <p:grpSp>
          <p:nvGrpSpPr>
            <p:cNvPr id="716" name=""/>
            <p:cNvGrpSpPr/>
            <p:nvPr/>
          </p:nvGrpSpPr>
          <p:grpSpPr>
            <a:xfrm>
              <a:off x="647640" y="2629080"/>
              <a:ext cx="3962160" cy="3595320"/>
              <a:chOff x="647640" y="2629080"/>
              <a:chExt cx="3962160" cy="359532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647640" y="2729880"/>
                <a:ext cx="3540960" cy="3494520"/>
                <a:chOff x="647640" y="2729880"/>
                <a:chExt cx="3540960" cy="349452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978480" y="3073320"/>
                  <a:ext cx="2878920" cy="2841480"/>
                  <a:chOff x="978480" y="3073320"/>
                  <a:chExt cx="2878920" cy="284148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97848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6648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155412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84212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12976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776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70576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99340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28140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356940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97848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126648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55412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84212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12976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776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70576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99340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328140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356940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97848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26648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55412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84212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12976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776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70576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99340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328140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56940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97848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6648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55412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184212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12976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776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70576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99340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328140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356940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97848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6648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55412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84212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12976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776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70576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99340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328140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356940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97848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126648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55412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184212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12976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1776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70576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99340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328140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356940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97848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26648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155412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184212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12976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1776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70576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99340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28140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56940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97848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126648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55412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84212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12976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1776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70576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99340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28140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356940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97848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126648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55412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184212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12976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1776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70576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99340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28140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56940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97848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126648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155412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184212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12976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1776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70576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99340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28140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356940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47640" y="2729880"/>
                  <a:ext cx="3540960" cy="3494520"/>
                  <a:chOff x="647640" y="2729880"/>
                  <a:chExt cx="3540960" cy="349452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2418120" y="27298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47640" y="449388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2" name=""/>
              <p:cNvSpPr/>
              <p:nvPr/>
            </p:nvSpPr>
            <p:spPr>
              <a:xfrm>
                <a:off x="3935520" y="40935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481480" y="26290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1262160" y="4348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57360" y="4358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84320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1290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050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90880" y="4348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86080" y="4362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672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57760" y="43390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981000" y="4334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47840" y="36342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247840" y="3924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62240" y="42152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66920" y="47865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62240" y="5067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57560" y="53485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62240" y="56343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47840" y="59151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47840" y="3086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47840" y="3362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75120" y="4388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07400" y="45406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02600" y="4564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46520" y="4540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09920" y="4540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46520" y="3702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33560" y="3135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93160" y="48452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60040" y="53787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V="1">
            <a:off x="1469880" y="2923920"/>
            <a:ext cx="2038320" cy="34131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54400" y="472608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644920" y="4159080"/>
            <a:ext cx="12384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940120" y="371628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24160" y="328932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00600" y="296388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94360" y="357012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19560" y="419112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138640" y="478296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344520" y="92232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3511440" y="351324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5" name=""/>
          <p:cNvSpPr/>
          <p:nvPr/>
        </p:nvSpPr>
        <p:spPr>
          <a:xfrm>
            <a:off x="1327320" y="2698920"/>
            <a:ext cx="61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d is 3 times the value of t minu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32240" y="4154400"/>
            <a:ext cx="20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1473120"/>
            <a:ext cx="63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and sketch the graph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92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1658880" y="28605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1" name=""/>
          <p:cNvGrpSpPr/>
          <p:nvPr/>
        </p:nvGrpSpPr>
        <p:grpSpPr>
          <a:xfrm>
            <a:off x="3838680" y="2209680"/>
            <a:ext cx="3961800" cy="3595320"/>
            <a:chOff x="3838680" y="2209680"/>
            <a:chExt cx="3961800" cy="3595320"/>
          </a:xfrm>
        </p:grpSpPr>
        <p:grpSp>
          <p:nvGrpSpPr>
            <p:cNvPr id="872" name=""/>
            <p:cNvGrpSpPr/>
            <p:nvPr/>
          </p:nvGrpSpPr>
          <p:grpSpPr>
            <a:xfrm>
              <a:off x="3838680" y="2209680"/>
              <a:ext cx="3961800" cy="3595320"/>
              <a:chOff x="3838680" y="2209680"/>
              <a:chExt cx="3961800" cy="35953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3838680" y="2310480"/>
                <a:ext cx="3540600" cy="3494520"/>
                <a:chOff x="3838680" y="2310480"/>
                <a:chExt cx="3540600" cy="3494520"/>
              </a:xfrm>
            </p:grpSpPr>
            <p:grpSp>
              <p:nvGrpSpPr>
                <p:cNvPr id="874" name=""/>
                <p:cNvGrpSpPr/>
                <p:nvPr/>
              </p:nvGrpSpPr>
              <p:grpSpPr>
                <a:xfrm>
                  <a:off x="4169520" y="2653920"/>
                  <a:ext cx="2878200" cy="2841480"/>
                  <a:chOff x="4169520" y="2653920"/>
                  <a:chExt cx="2878200" cy="284148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416952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4457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745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033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532080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5608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896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6184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6472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676008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416952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457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745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033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532080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608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5896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6184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6472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676008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416952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4457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745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5033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532080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5608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5896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184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472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676008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16952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457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745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033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32080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5608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5896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184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6472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76008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16952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457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745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5033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532080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5608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5896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6184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6472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676008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16952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457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745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5033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32080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608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5896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184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6472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6008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416952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4457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4745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033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532080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5608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5896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6184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6472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676008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16952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457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4745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5033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32080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608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5896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184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6472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76008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416952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4457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745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5033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532080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608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896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6184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6472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676008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16952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457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4745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5033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532080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608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5896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6184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472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676008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3838680" y="2310480"/>
                  <a:ext cx="3540600" cy="3494520"/>
                  <a:chOff x="3838680" y="2310480"/>
                  <a:chExt cx="3540600" cy="349452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5608800" y="23104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838680" y="407448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8" name=""/>
              <p:cNvSpPr/>
              <p:nvPr/>
            </p:nvSpPr>
            <p:spPr>
              <a:xfrm>
                <a:off x="7126200" y="36741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672160" y="22096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445284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48040" y="3938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3388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319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95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8156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76760" y="39434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579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048440" y="39196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71680" y="3914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38520" y="32148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38520" y="3505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52920" y="3795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57600" y="43671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52920" y="4648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48240" y="4929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52920" y="52149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38520" y="54957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38520" y="26668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38520" y="29433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65440" y="396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98080" y="41212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93280" y="41450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3684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0060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36840" y="3282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24240" y="2716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83840" y="44258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950720" y="49593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5143680" y="2368440"/>
            <a:ext cx="1776240" cy="3375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543640" y="314640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38840" y="3735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134040" y="428796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10160" y="485316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812880" y="1473120"/>
            <a:ext cx="80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table to sketch a graph and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96920" y="217800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92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1658880" y="28605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9" name=""/>
          <p:cNvGrpSpPr/>
          <p:nvPr/>
        </p:nvGrpSpPr>
        <p:grpSpPr>
          <a:xfrm>
            <a:off x="3838680" y="2209680"/>
            <a:ext cx="3961800" cy="3595320"/>
            <a:chOff x="3838680" y="2209680"/>
            <a:chExt cx="3961800" cy="3595320"/>
          </a:xfrm>
        </p:grpSpPr>
        <p:grpSp>
          <p:nvGrpSpPr>
            <p:cNvPr id="1020" name=""/>
            <p:cNvGrpSpPr/>
            <p:nvPr/>
          </p:nvGrpSpPr>
          <p:grpSpPr>
            <a:xfrm>
              <a:off x="3838680" y="2209680"/>
              <a:ext cx="3961800" cy="3595320"/>
              <a:chOff x="3838680" y="2209680"/>
              <a:chExt cx="3961800" cy="3595320"/>
            </a:xfrm>
          </p:grpSpPr>
          <p:grpSp>
            <p:nvGrpSpPr>
              <p:cNvPr id="1021" name=""/>
              <p:cNvGrpSpPr/>
              <p:nvPr/>
            </p:nvGrpSpPr>
            <p:grpSpPr>
              <a:xfrm>
                <a:off x="3838680" y="2310480"/>
                <a:ext cx="3540600" cy="3494520"/>
                <a:chOff x="3838680" y="2310480"/>
                <a:chExt cx="3540600" cy="3494520"/>
              </a:xfrm>
            </p:grpSpPr>
            <p:grpSp>
              <p:nvGrpSpPr>
                <p:cNvPr id="1022" name=""/>
                <p:cNvGrpSpPr/>
                <p:nvPr/>
              </p:nvGrpSpPr>
              <p:grpSpPr>
                <a:xfrm>
                  <a:off x="4169520" y="2653920"/>
                  <a:ext cx="2878200" cy="2841480"/>
                  <a:chOff x="4169520" y="2653920"/>
                  <a:chExt cx="2878200" cy="284148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416952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457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745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033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32080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608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5896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6184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6472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76008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416952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4457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745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033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32080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608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5896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184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472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76008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416952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4457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4745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5033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532080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608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5896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184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6472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76008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416952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4457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4745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033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532080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5608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5896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184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6472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676008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416952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4457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4745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033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532080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5608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5896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6184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6472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676008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16952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457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745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5033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532080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5608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5896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6184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6472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76008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16952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4457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745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033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532080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5608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5896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6184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6472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676008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6952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457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745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5033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532080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5608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5896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6184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6472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676008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16952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457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745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033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532080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5608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5896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184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472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676008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16952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457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745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5033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532080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5608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5896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6184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6472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676008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3" name=""/>
                <p:cNvGrpSpPr/>
                <p:nvPr/>
              </p:nvGrpSpPr>
              <p:grpSpPr>
                <a:xfrm>
                  <a:off x="3838680" y="2310480"/>
                  <a:ext cx="3540600" cy="3494520"/>
                  <a:chOff x="3838680" y="2310480"/>
                  <a:chExt cx="3540600" cy="3494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5608800" y="23104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838680" y="407448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26" name=""/>
              <p:cNvSpPr/>
              <p:nvPr/>
            </p:nvSpPr>
            <p:spPr>
              <a:xfrm>
                <a:off x="7126200" y="36741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672160" y="22096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45284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48040" y="3938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03388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319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895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8156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476760" y="39434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579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048440" y="39196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71680" y="3914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38520" y="32148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438520" y="3505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452920" y="3795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457600" y="43671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452920" y="4648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48240" y="4929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52920" y="52149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438520" y="54957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38520" y="26668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38520" y="29433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65440" y="396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798080" y="41212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93280" y="41450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3684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60060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136840" y="3282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24240" y="2716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83840" y="44258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50720" y="49593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4041720" y="2527200"/>
            <a:ext cx="3137040" cy="3121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64040" y="343548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249880" y="3735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537160" y="403380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830920" y="431964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774880" y="1825560"/>
            <a:ext cx="29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812880" y="1473120"/>
            <a:ext cx="80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096920" y="217800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7" name=""/>
          <p:cNvGraphicFramePr/>
          <p:nvPr/>
        </p:nvGraphicFramePr>
        <p:xfrm>
          <a:off x="1658880" y="2860560"/>
          <a:ext cx="1378080" cy="2278080"/>
        </p:xfrm>
        <a:graphic>
          <a:graphicData uri="http://schemas.openxmlformats.org/drawingml/2006/table">
            <a:tbl>
              <a:tblPr/>
              <a:tblGrid>
                <a:gridCol w="690480"/>
                <a:gridCol w="687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8" name=""/>
          <p:cNvSpPr/>
          <p:nvPr/>
        </p:nvSpPr>
        <p:spPr>
          <a:xfrm>
            <a:off x="2957400" y="183996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3781440" y="2370240"/>
            <a:ext cx="3448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1960" y="1108080"/>
            <a:ext cx="7154640" cy="4788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 each function, find the value of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0,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4, and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–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3.8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1.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06960" y="2830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3, 21, –3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06960" y="3687840"/>
            <a:ext cx="29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2, 3.2, –3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6320" y="455436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5.9, 12.3, –2.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66640" y="1704960"/>
            <a:ext cx="7961400" cy="3327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buy two fruit baskets. Each basket contains three bunches of bananas. Each bunch contains five bananas. How many bananas do you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4560" y="4334040"/>
            <a:ext cx="7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8800" y="2089080"/>
            <a:ext cx="7319880" cy="9795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generate different representations of the same dat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06400" y="4756320"/>
            <a:ext cx="464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5ff"/>
                </a:solidFill>
                <a:latin typeface="Verdana"/>
              </a:rPr>
              <a:t>An equation shows how the variables are rel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23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Using Equation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6720" y="195912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eigh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an airplan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econds from take-off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2s. Make a table and sketch a graph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65440" y="33098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98640" y="4043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226120" y="5079960"/>
            <a:ext cx="3767040" cy="1405440"/>
            <a:chOff x="5226120" y="5079960"/>
            <a:chExt cx="3767040" cy="1405440"/>
          </a:xfrm>
        </p:grpSpPr>
        <p:sp>
          <p:nvSpPr>
            <p:cNvPr id="70" name=""/>
            <p:cNvSpPr/>
            <p:nvPr/>
          </p:nvSpPr>
          <p:spPr>
            <a:xfrm>
              <a:off x="5226120" y="5476680"/>
              <a:ext cx="3767040" cy="1008720"/>
            </a:xfrm>
            <a:prstGeom prst="rect">
              <a:avLst/>
            </a:prstGeom>
            <a:noFill/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number of second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is the input value. The dept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is the output valu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26120" y="5079960"/>
              <a:ext cx="183204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84080" y="3313080"/>
            <a:ext cx="429120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800" y="3817800"/>
            <a:ext cx="4290840" cy="194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73240" y="4614840"/>
            <a:ext cx="307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table identifies values that make the function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43120" y="2139840"/>
          <a:ext cx="1579320" cy="2278080"/>
        </p:xfrm>
        <a:graphic>
          <a:graphicData uri="http://schemas.openxmlformats.org/drawingml/2006/table">
            <a:tbl>
              <a:tblPr/>
              <a:tblGrid>
                <a:gridCol w="790560"/>
                <a:gridCol w="78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954080" y="1414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127400" y="1987560"/>
            <a:ext cx="3801960" cy="3460680"/>
            <a:chOff x="4127400" y="1987560"/>
            <a:chExt cx="3801960" cy="3460680"/>
          </a:xfrm>
        </p:grpSpPr>
        <p:grpSp>
          <p:nvGrpSpPr>
            <p:cNvPr id="79" name=""/>
            <p:cNvGrpSpPr/>
            <p:nvPr/>
          </p:nvGrpSpPr>
          <p:grpSpPr>
            <a:xfrm>
              <a:off x="4127400" y="1987560"/>
              <a:ext cx="3435120" cy="3460680"/>
              <a:chOff x="4127400" y="1987560"/>
              <a:chExt cx="3435120" cy="3460680"/>
            </a:xfrm>
          </p:grpSpPr>
          <p:sp>
            <p:nvSpPr>
              <p:cNvPr id="80" name=""/>
              <p:cNvSpPr/>
              <p:nvPr/>
            </p:nvSpPr>
            <p:spPr>
              <a:xfrm>
                <a:off x="477900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40720" y="23788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0388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65600" y="23788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2876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090120" y="237888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52200" y="23788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500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76720" y="23788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4024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7900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40720" y="26460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0388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65600" y="26460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876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90120" y="26460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52200" y="26460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1500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76720" y="26460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024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7900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40720" y="29124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0388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65600" y="29124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2876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0120" y="29124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52200" y="29124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1500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76720" y="29124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4024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7900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40720" y="31791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0388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65600" y="31791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2876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90120" y="317916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52200" y="31791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1500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76720" y="31791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14024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7900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40720" y="34459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0388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65600" y="34459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2876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90120" y="344592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52200" y="34459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1500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76720" y="34459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4024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7900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040720" y="37123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388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65600" y="37123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2876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90120" y="371232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52200" y="37123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1500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76720" y="37123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024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7900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0720" y="39790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0388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65600" y="39790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2876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0120" y="397908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52200" y="39790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1500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76720" y="39790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4024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7900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40720" y="424584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0388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65600" y="424584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2876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0120" y="424584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52200" y="424584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1500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76720" y="424584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4024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7900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40720" y="4512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0388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65600" y="4512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2876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90120" y="45126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52200" y="4512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1500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76720" y="4512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024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7900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40720" y="477900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0388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65600" y="477900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2876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90120" y="477900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52200" y="477900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1500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76720" y="477900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4024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35520" y="1987560"/>
                <a:ext cx="61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768920" y="2158560"/>
                <a:ext cx="0" cy="28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55960" y="5050440"/>
                <a:ext cx="280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27400" y="2215080"/>
                <a:ext cx="56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40280" y="4938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7464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6912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3372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8572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5860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1024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46480" y="4938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11080" y="4934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58400" y="4934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60560" y="263232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656240" y="29048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60560" y="31910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69200" y="34322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56240" y="36914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60560" y="39776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60560" y="23774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56240" y="47642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51920" y="45050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60560" y="4218840"/>
                <a:ext cx="23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218480" y="27201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62400" y="32209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32880" y="37929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232880" y="4320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5040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742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746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2980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772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866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543440" y="4925160"/>
              <a:ext cx="3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694400" y="4971960"/>
            <a:ext cx="14256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37280" y="434340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51360" y="37432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84880" y="30574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781520" y="2560320"/>
            <a:ext cx="2022480" cy="247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6720" y="5394240"/>
            <a:ext cx="377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graph is a visual image of the values in the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97400" y="141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7480" y="1366920"/>
            <a:ext cx="30510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7480" y="1938240"/>
            <a:ext cx="3051000" cy="4551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5600" y="1366920"/>
            <a:ext cx="38718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5600" y="1947960"/>
            <a:ext cx="3871800" cy="453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58920" y="4784760"/>
            <a:ext cx="464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5ff"/>
                </a:solidFill>
                <a:latin typeface="Verdana"/>
              </a:rPr>
              <a:t>An equation shows how the variables are rel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9040" y="149688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eigh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a helicopte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econds from take-off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Make a table and sketch a graph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27480" y="33098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0400" y="4043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9080" y="3313080"/>
            <a:ext cx="445932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89080" y="3817800"/>
            <a:ext cx="4459320" cy="194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82600" y="5224320"/>
            <a:ext cx="312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table identifies values that make the function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695600" y="2311560"/>
          <a:ext cx="1579320" cy="2733480"/>
        </p:xfrm>
        <a:graphic>
          <a:graphicData uri="http://schemas.openxmlformats.org/drawingml/2006/table">
            <a:tbl>
              <a:tblPr/>
              <a:tblGrid>
                <a:gridCol w="790560"/>
                <a:gridCol w="78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782720" y="1471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013280" y="1930320"/>
            <a:ext cx="3811320" cy="3460680"/>
            <a:chOff x="4013280" y="1930320"/>
            <a:chExt cx="3811320" cy="3460680"/>
          </a:xfrm>
        </p:grpSpPr>
        <p:grpSp>
          <p:nvGrpSpPr>
            <p:cNvPr id="238" name=""/>
            <p:cNvGrpSpPr/>
            <p:nvPr/>
          </p:nvGrpSpPr>
          <p:grpSpPr>
            <a:xfrm>
              <a:off x="4013280" y="1930320"/>
              <a:ext cx="3449520" cy="3460680"/>
              <a:chOff x="4013280" y="1930320"/>
              <a:chExt cx="3449520" cy="3460680"/>
            </a:xfrm>
          </p:grpSpPr>
          <p:sp>
            <p:nvSpPr>
              <p:cNvPr id="239" name=""/>
              <p:cNvSpPr/>
              <p:nvPr/>
            </p:nvSpPr>
            <p:spPr>
              <a:xfrm>
                <a:off x="46742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35960" y="23216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9912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60840" y="23216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7236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85360" y="232164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47440" y="23216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102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71960" y="23216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3512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742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35960" y="25887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912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60840" y="25887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236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85360" y="25887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47440" y="25887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102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71960" y="25887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12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742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35960" y="28551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9912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60840" y="28551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36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85360" y="28551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47440" y="28551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5102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71960" y="28551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3512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742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35960" y="312192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9912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460840" y="312192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7236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85360" y="312192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47440" y="312192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102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71960" y="312192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12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742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35960" y="33886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9912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60840" y="33886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7236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85360" y="338868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47440" y="33886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102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71960" y="33886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03512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42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35960" y="36550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9912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60840" y="36550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236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85360" y="365508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47440" y="36550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102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71960" y="36550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03512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742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35960" y="39218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9912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60840" y="39218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36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85360" y="392184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47440" y="39218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102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71960" y="39218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3512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742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35960" y="4188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19912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60840" y="4188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236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85360" y="41886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7440" y="4188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102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71960" y="4188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3512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742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5960" y="44553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9912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60840" y="44553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236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85360" y="44553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47440" y="44553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102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771960" y="44553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3512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742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935960" y="47217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9912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60840" y="47217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7236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985360" y="472176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47440" y="47217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5102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71960" y="47217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3512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30760" y="1930320"/>
                <a:ext cx="61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4664160" y="2101320"/>
                <a:ext cx="0" cy="28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51200" y="4993200"/>
                <a:ext cx="280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13280" y="215784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35520" y="4881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96952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6436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2896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8096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5384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0548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41720" y="4881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206320" y="4876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53640" y="4876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55440" y="257508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51480" y="28476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55440" y="31338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64440" y="33750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51480" y="36342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55440" y="39204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55440" y="23202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51480" y="47070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547160" y="44478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55440" y="4161600"/>
                <a:ext cx="23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3720" y="26629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57640" y="316368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28120" y="3735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28120" y="42631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4564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6952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56992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2504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81880" y="50227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91640" y="50227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7438680" y="4867920"/>
              <a:ext cx="3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589640" y="4915080"/>
            <a:ext cx="14256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40064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27520" y="38656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80120" y="332892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676760" y="2587680"/>
            <a:ext cx="2343240" cy="2394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71960" y="5470560"/>
            <a:ext cx="39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graph is a visual image of the values in the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9080" y="1460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3920" y="278604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87480" y="1366920"/>
            <a:ext cx="30510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87480" y="1938240"/>
            <a:ext cx="3051000" cy="442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5600" y="1366920"/>
            <a:ext cx="38718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5600" y="1938240"/>
            <a:ext cx="3871800" cy="442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54040" y="193356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160" y="923760"/>
            <a:ext cx="90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Using Table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1000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838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532400" y="408312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y is the value of x minu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47800" y="38876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= 1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47800" y="43070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2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7520" y="47451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3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7:53:35Z</dcterms:created>
  <dc:creator/>
  <dc:description/>
  <dc:language>en-US</dc:language>
  <cp:lastModifiedBy>stevenh</cp:lastModifiedBy>
  <dcterms:modified xsi:type="dcterms:W3CDTF">2006-04-26T18:22:38Z</dcterms:modified>
  <cp:revision>622</cp:revision>
  <dc:subject/>
  <dc:title>PowerPoint Presentation</dc:title>
</cp:coreProperties>
</file>