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1C76-70C9-4AA8-90DA-5874F814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ED84-165F-4AEC-B2AC-EA92134F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FED2-8D16-4189-8B3E-039D9B73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B494-5B90-4228-94B2-98C80913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44C2-0F2E-46E6-B0C0-FE5AE644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A126-22C6-4B28-9865-94EC23E6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572A-7954-4721-9719-28E4256B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E7E1-470B-44EF-809D-9E548EAC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9CF2-F340-4566-8EC9-747A783C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3810-032E-4DEC-8D00-0FC831ED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FF5-56D7-4BC5-B892-0C6DC6CB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422-A50D-4CDD-94F5-D8276EF8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8C61-B87D-40EF-B485-275F1ED66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440"/>
            <a:ext cx="9144000" cy="6864480"/>
            <a:chOff x="0" y="1440"/>
            <a:chExt cx="9144000" cy="686448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144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632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88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120" y="8460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3-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122760"/>
              <a:ext cx="80773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Equations, Tables, and Graph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slide" Target=""/><Relationship Id="rId7" Type="http://schemas.openxmlformats.org/officeDocument/2006/relationships/slide" Target="slide4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-3240"/>
            <a:ext cx="9144000" cy="6861240"/>
            <a:chOff x="0" y="-3240"/>
            <a:chExt cx="9144000" cy="686124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0" y="-324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04640" y="13392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3-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1600" y="225000"/>
              <a:ext cx="777240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 Black"/>
                </a:rPr>
                <a:t>Equations, Tables, and Graph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80" y="654984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3629160" y="2336400"/>
            <a:ext cx="1759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3" action="ppaction://hlinksldjump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3699360" y="2993760"/>
            <a:ext cx="340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5" action="ppaction://hlinksldjump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6" action="ppaction://hlinksldjump"/>
          </p:cNvPr>
          <p:cNvSpPr/>
          <p:nvPr/>
        </p:nvSpPr>
        <p:spPr>
          <a:xfrm>
            <a:off x="3679920" y="3603240"/>
            <a:ext cx="3566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7" action="ppaction://hlinksldjump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54040" y="193356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table to make a graph and to write an equation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160" y="923760"/>
            <a:ext cx="90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506600" y="308916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7" name=""/>
          <p:cNvGrpSpPr/>
          <p:nvPr/>
        </p:nvGrpSpPr>
        <p:grpSpPr>
          <a:xfrm>
            <a:off x="3686040" y="2438280"/>
            <a:ext cx="3962160" cy="3595320"/>
            <a:chOff x="3686040" y="2438280"/>
            <a:chExt cx="3962160" cy="3595320"/>
          </a:xfrm>
        </p:grpSpPr>
        <p:grpSp>
          <p:nvGrpSpPr>
            <p:cNvPr id="398" name=""/>
            <p:cNvGrpSpPr/>
            <p:nvPr/>
          </p:nvGrpSpPr>
          <p:grpSpPr>
            <a:xfrm>
              <a:off x="3686040" y="2438280"/>
              <a:ext cx="3962160" cy="3595320"/>
              <a:chOff x="3686040" y="2438280"/>
              <a:chExt cx="3962160" cy="359532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3686040" y="2539080"/>
                <a:ext cx="3540960" cy="3494520"/>
                <a:chOff x="3686040" y="2539080"/>
                <a:chExt cx="3540960" cy="3494520"/>
              </a:xfrm>
            </p:grpSpPr>
            <p:grpSp>
              <p:nvGrpSpPr>
                <p:cNvPr id="400" name=""/>
                <p:cNvGrpSpPr/>
                <p:nvPr/>
              </p:nvGrpSpPr>
              <p:grpSpPr>
                <a:xfrm>
                  <a:off x="4016880" y="2882520"/>
                  <a:ext cx="2878920" cy="2841480"/>
                  <a:chOff x="4016880" y="2882520"/>
                  <a:chExt cx="2878920" cy="284148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4016880" y="2882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304880" y="2882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592520" y="2882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4880520" y="2882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5168160" y="2882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5456160" y="2882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5744160" y="2882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6031800" y="2882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6319800" y="2882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6607800" y="2882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016880" y="3166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304880" y="3166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592520" y="3166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880520" y="3166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5168160" y="3166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5456160" y="3166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5744160" y="3166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6031800" y="3166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6319800" y="3166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6607800" y="3166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016880" y="3450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304880" y="3450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592520" y="3450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880520" y="3450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5168160" y="3450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5456160" y="3450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5744160" y="3450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6031800" y="3450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6319800" y="3450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6607800" y="3450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4016880" y="3734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4304880" y="3734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4592520" y="3734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880520" y="3734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168160" y="3734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5456160" y="3734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5744160" y="3734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031800" y="3734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319800" y="3734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6607800" y="3734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4016880" y="4018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4304880" y="4018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592520" y="4018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880520" y="4018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5168160" y="4018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5456160" y="4018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744160" y="4018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6031800" y="4018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6319800" y="4018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6607800" y="4018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4016880" y="4303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4304880" y="4303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4592520" y="4303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880520" y="4303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5168160" y="4303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5456160" y="4303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744160" y="4303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6031800" y="4303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6319800" y="4303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6607800" y="4303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4016880" y="4587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304880" y="4587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4592520" y="4587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4880520" y="4587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5168160" y="4587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5456160" y="4587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744160" y="4587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6031800" y="4587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6319800" y="4587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6607800" y="4587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4016880" y="4871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4304880" y="4871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4592520" y="4871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4880520" y="4871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5168160" y="4871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5456160" y="4871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5744160" y="4871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031800" y="4871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9800" y="4871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607800" y="4871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4016880" y="5155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4304880" y="5155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4592520" y="5155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4880520" y="5155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5168160" y="5155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5456160" y="5155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5744160" y="5155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6031800" y="5155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6319800" y="5155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6607800" y="5155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4016880" y="54399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4304880" y="5439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4592520" y="54399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4880520" y="5439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5168160" y="5439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5456160" y="54399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5744160" y="5439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6031800" y="54399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6319800" y="5439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6607800" y="54399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" name=""/>
                <p:cNvGrpSpPr/>
                <p:nvPr/>
              </p:nvGrpSpPr>
              <p:grpSpPr>
                <a:xfrm>
                  <a:off x="3686040" y="2539080"/>
                  <a:ext cx="3540960" cy="3494520"/>
                  <a:chOff x="3686040" y="2539080"/>
                  <a:chExt cx="3540960" cy="349452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>
                    <a:off x="5456520" y="253908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3686040" y="4303080"/>
                    <a:ext cx="3540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04" name=""/>
              <p:cNvSpPr/>
              <p:nvPr/>
            </p:nvSpPr>
            <p:spPr>
              <a:xfrm>
                <a:off x="6973920" y="390276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19880" y="243828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4300560" y="4157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95760" y="41673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81600" y="41623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67440" y="41623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43440" y="41623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29280" y="4157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24480" y="41720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605640" y="41623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96160" y="41482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19400" y="41432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86240" y="3443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86240" y="3733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00640" y="40244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305320" y="45957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00640" y="4876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95960" y="51577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00640" y="54435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86240" y="57243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286240" y="28954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286240" y="31719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13520" y="4197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45800" y="434988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041000" y="43736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84920" y="434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448320" y="434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984920" y="35114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971960" y="2944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31560" y="46544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798440" y="518796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V="1">
            <a:off x="4718160" y="3338280"/>
            <a:ext cx="1949400" cy="20732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00720" y="4543560"/>
            <a:ext cx="123840" cy="123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676840" y="4253040"/>
            <a:ext cx="123840" cy="104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72040" y="3954600"/>
            <a:ext cx="11448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267600" y="3678120"/>
            <a:ext cx="11412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06440" y="555156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554040" y="161928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table to make a graph and to write an equation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160" y="923760"/>
            <a:ext cx="90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610000" y="3002040"/>
            <a:ext cx="52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for a pattern in the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838080" y="296712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"/>
          <p:cNvSpPr/>
          <p:nvPr/>
        </p:nvSpPr>
        <p:spPr>
          <a:xfrm>
            <a:off x="4532400" y="4083120"/>
            <a:ext cx="360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value of y is the value of x plus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647800" y="388764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1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47800" y="430704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= 2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657520" y="4745160"/>
            <a:ext cx="18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= 3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554040" y="161928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table to make a graph and to write an equation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160" y="923760"/>
            <a:ext cx="90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 Continu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162080" y="296712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3789360" y="2173320"/>
            <a:ext cx="3497400" cy="418608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5478480" y="33624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73680" y="31050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87960" y="27907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373800" y="248616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949560" y="2253960"/>
            <a:ext cx="2759040" cy="274932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25560" y="5450040"/>
            <a:ext cx="18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44520" y="923760"/>
            <a:ext cx="845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Using Graphs to Generate Different Representation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36480" y="1684440"/>
            <a:ext cx="7728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raph to make a table and to 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34960" y="2571840"/>
            <a:ext cx="3962160" cy="3595320"/>
            <a:chOff x="534960" y="2571840"/>
            <a:chExt cx="3962160" cy="3595320"/>
          </a:xfrm>
        </p:grpSpPr>
        <p:grpSp>
          <p:nvGrpSpPr>
            <p:cNvPr id="562" name=""/>
            <p:cNvGrpSpPr/>
            <p:nvPr/>
          </p:nvGrpSpPr>
          <p:grpSpPr>
            <a:xfrm>
              <a:off x="534960" y="2571840"/>
              <a:ext cx="3962160" cy="3595320"/>
              <a:chOff x="534960" y="2571840"/>
              <a:chExt cx="3962160" cy="359532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534960" y="2672640"/>
                <a:ext cx="3540960" cy="3494520"/>
                <a:chOff x="534960" y="2672640"/>
                <a:chExt cx="3540960" cy="3494520"/>
              </a:xfrm>
            </p:grpSpPr>
            <p:grpSp>
              <p:nvGrpSpPr>
                <p:cNvPr id="564" name=""/>
                <p:cNvGrpSpPr/>
                <p:nvPr/>
              </p:nvGrpSpPr>
              <p:grpSpPr>
                <a:xfrm>
                  <a:off x="865800" y="3016080"/>
                  <a:ext cx="2878920" cy="2841480"/>
                  <a:chOff x="865800" y="3016080"/>
                  <a:chExt cx="2878920" cy="284148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>
                    <a:off x="865800" y="3016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1153800" y="3016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1441440" y="3016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1729440" y="3016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2017080" y="3016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305080" y="3016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2593080" y="3016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880720" y="3016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3168720" y="3016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3456720" y="3016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865800" y="3300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1153800" y="3300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1441440" y="3300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1729440" y="3300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017080" y="3300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2305080" y="3300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593080" y="3300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2880720" y="3300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3168720" y="3300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3456720" y="3300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865800" y="3584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1153800" y="358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1441440" y="3584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1729440" y="358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017080" y="358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305080" y="3584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2593080" y="358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2880720" y="3584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3168720" y="358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3456720" y="3584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865800" y="3868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1153800" y="386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1441440" y="3868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1729440" y="386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2017080" y="386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2305080" y="3868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2593080" y="386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880720" y="3868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3168720" y="386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3456720" y="3868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865800" y="41522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1153800" y="4152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1441440" y="41522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1729440" y="4152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2017080" y="4152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2305080" y="41522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2593080" y="4152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2880720" y="41522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3168720" y="4152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3456720" y="41522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865800" y="4436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1153800" y="4436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1441440" y="4436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1729440" y="4436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017080" y="4436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305080" y="4436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593080" y="4436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2880720" y="4436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3168720" y="4436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3456720" y="4436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865800" y="4720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1153800" y="4720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1441440" y="4720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1729440" y="4720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2017080" y="4720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2305080" y="4720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2593080" y="4720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2880720" y="4720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3168720" y="4720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3456720" y="4720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865800" y="5005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1153800" y="5005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1441440" y="5005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1729440" y="5005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2017080" y="5005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2305080" y="5005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2593080" y="5005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2880720" y="5005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3168720" y="5005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3456720" y="5005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865800" y="5289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1153800" y="5289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1441440" y="5289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1729440" y="5289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2017080" y="5289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2305080" y="5289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2593080" y="5289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2880720" y="5289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3168720" y="5289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3456720" y="5289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865800" y="5573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1153800" y="5573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1441440" y="5573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1729440" y="5573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2017080" y="5573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2305080" y="5573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2593080" y="5573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2880720" y="5573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3168720" y="5573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3456720" y="5573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5" name=""/>
                <p:cNvGrpSpPr/>
                <p:nvPr/>
              </p:nvGrpSpPr>
              <p:grpSpPr>
                <a:xfrm>
                  <a:off x="534960" y="2672640"/>
                  <a:ext cx="3540960" cy="3494520"/>
                  <a:chOff x="534960" y="2672640"/>
                  <a:chExt cx="3540960" cy="3494520"/>
                </a:xfrm>
              </p:grpSpPr>
              <p:sp>
                <p:nvSpPr>
                  <p:cNvPr id="666" name=""/>
                  <p:cNvSpPr/>
                  <p:nvPr/>
                </p:nvSpPr>
                <p:spPr>
                  <a:xfrm>
                    <a:off x="2305440" y="267264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534960" y="4436640"/>
                    <a:ext cx="3540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68" name=""/>
              <p:cNvSpPr/>
              <p:nvPr/>
            </p:nvSpPr>
            <p:spPr>
              <a:xfrm>
                <a:off x="3822840" y="403632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368800" y="257184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>
              <a:off x="1149480" y="42912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44680" y="43009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730520" y="4295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016360" y="4295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92360" y="4295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878200" y="42912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173400" y="430560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454560" y="4295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745080" y="42818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68320" y="42768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135160" y="35769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135160" y="38674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149560" y="41580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54240" y="47293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149560" y="50104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4880" y="5291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149560" y="55771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135160" y="5857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35160" y="30290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135160" y="33055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062440" y="4330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494720" y="44834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89920" y="450720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733840" y="44834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97240" y="44834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833840" y="3645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820880" y="3078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680480" y="478800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47360" y="532152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 flipV="1">
            <a:off x="1305000" y="2847600"/>
            <a:ext cx="1677960" cy="33130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241720" y="4106880"/>
            <a:ext cx="123480" cy="123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408400" y="3816360"/>
            <a:ext cx="123840" cy="104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541600" y="3525840"/>
            <a:ext cx="11412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682720" y="3222720"/>
            <a:ext cx="11448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00520" y="3002040"/>
            <a:ext cx="52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for a pattern in the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614840" y="3701880"/>
            <a:ext cx="26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2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595760" y="430200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= 2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605480" y="4950000"/>
            <a:ext cx="23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= 2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344520" y="923760"/>
            <a:ext cx="84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36480" y="1684440"/>
            <a:ext cx="7728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raph to make a table and to 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2401920" y="329580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1" name=""/>
          <p:cNvSpPr/>
          <p:nvPr/>
        </p:nvSpPr>
        <p:spPr>
          <a:xfrm>
            <a:off x="992160" y="2635200"/>
            <a:ext cx="76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value of d is 2 times the value of t plu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41640" y="4011480"/>
            <a:ext cx="20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344520" y="923760"/>
            <a:ext cx="84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36480" y="1684440"/>
            <a:ext cx="7728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raph to make a table and to 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647640" y="2629080"/>
            <a:ext cx="3962160" cy="3595320"/>
            <a:chOff x="647640" y="2629080"/>
            <a:chExt cx="3962160" cy="3595320"/>
          </a:xfrm>
        </p:grpSpPr>
        <p:grpSp>
          <p:nvGrpSpPr>
            <p:cNvPr id="716" name=""/>
            <p:cNvGrpSpPr/>
            <p:nvPr/>
          </p:nvGrpSpPr>
          <p:grpSpPr>
            <a:xfrm>
              <a:off x="647640" y="2629080"/>
              <a:ext cx="3962160" cy="3595320"/>
              <a:chOff x="647640" y="2629080"/>
              <a:chExt cx="3962160" cy="3595320"/>
            </a:xfrm>
          </p:grpSpPr>
          <p:grpSp>
            <p:nvGrpSpPr>
              <p:cNvPr id="717" name=""/>
              <p:cNvGrpSpPr/>
              <p:nvPr/>
            </p:nvGrpSpPr>
            <p:grpSpPr>
              <a:xfrm>
                <a:off x="647640" y="2729880"/>
                <a:ext cx="3540960" cy="3494520"/>
                <a:chOff x="647640" y="2729880"/>
                <a:chExt cx="3540960" cy="3494520"/>
              </a:xfrm>
            </p:grpSpPr>
            <p:grpSp>
              <p:nvGrpSpPr>
                <p:cNvPr id="718" name=""/>
                <p:cNvGrpSpPr/>
                <p:nvPr/>
              </p:nvGrpSpPr>
              <p:grpSpPr>
                <a:xfrm>
                  <a:off x="978480" y="3073320"/>
                  <a:ext cx="2878920" cy="2841480"/>
                  <a:chOff x="978480" y="3073320"/>
                  <a:chExt cx="2878920" cy="284148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>
                    <a:off x="978480" y="3073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1266480" y="3073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1554120" y="3073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1842120" y="3073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2129760" y="3073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2417760" y="3073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2705760" y="3073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2993400" y="3073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3281400" y="3073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3569400" y="3073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978480" y="3357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1266480" y="3357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1554120" y="3357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1842120" y="3357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2129760" y="3357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2417760" y="3357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2705760" y="3357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2993400" y="3357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3281400" y="3357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3569400" y="3357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978480" y="3641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1266480" y="3641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1554120" y="3641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1842120" y="3641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2129760" y="3641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2417760" y="3641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2705760" y="3641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2993400" y="3641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3281400" y="3641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3569400" y="3641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978480" y="39254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266480" y="3925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1554120" y="39254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1842120" y="3925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2129760" y="3925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2417760" y="39254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2705760" y="3925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2993400" y="39254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3281400" y="3925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3569400" y="39254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978480" y="42094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266480" y="4209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554120" y="42094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1842120" y="4209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2129760" y="4209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2417760" y="42094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2705760" y="4209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2993400" y="42094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3281400" y="4209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3569400" y="42094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978480" y="4493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1266480" y="4493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1554120" y="4493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1842120" y="4493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2129760" y="4493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2417760" y="4493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2705760" y="4493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2993400" y="4493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3281400" y="4493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3569400" y="4493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978480" y="4777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1266480" y="4777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1554120" y="4777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1842120" y="4777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2129760" y="4777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2417760" y="4777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2705760" y="4777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2993400" y="4777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3281400" y="4777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3569400" y="4777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978480" y="5062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1266480" y="5062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1554120" y="5062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1842120" y="5062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2129760" y="5062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2417760" y="5062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2705760" y="5062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2993400" y="5062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3281400" y="5062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3569400" y="5062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978480" y="5346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1266480" y="5346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1554120" y="5346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1842120" y="5346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2129760" y="5346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2417760" y="5346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2705760" y="5346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2993400" y="5346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3281400" y="5346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3569400" y="5346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978480" y="5630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1266480" y="5630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1554120" y="5630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1842120" y="5630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2129760" y="5630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2417760" y="5630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2705760" y="5630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2993400" y="5630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3281400" y="5630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3569400" y="5630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9" name=""/>
                <p:cNvGrpSpPr/>
                <p:nvPr/>
              </p:nvGrpSpPr>
              <p:grpSpPr>
                <a:xfrm>
                  <a:off x="647640" y="2729880"/>
                  <a:ext cx="3540960" cy="3494520"/>
                  <a:chOff x="647640" y="2729880"/>
                  <a:chExt cx="3540960" cy="349452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>
                    <a:off x="2418120" y="272988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647640" y="4493880"/>
                    <a:ext cx="3540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22" name=""/>
              <p:cNvSpPr/>
              <p:nvPr/>
            </p:nvSpPr>
            <p:spPr>
              <a:xfrm>
                <a:off x="3935520" y="409356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481480" y="262908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1262160" y="43484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557360" y="43581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843200" y="43531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129040" y="43531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05040" y="43531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990880" y="43484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286080" y="43628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567240" y="43531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57760" y="43390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981000" y="43340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247840" y="36342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247840" y="39247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262240" y="42152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266920" y="47865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262240" y="50677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57560" y="53485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262240" y="56343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247840" y="59151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47840" y="3086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47840" y="33627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175120" y="4388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607400" y="454068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002600" y="45644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846520" y="45406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409920" y="45406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946520" y="3702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933560" y="3135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793160" y="48452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760040" y="537876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 flipV="1">
            <a:off x="1469880" y="2923920"/>
            <a:ext cx="2038320" cy="34131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354400" y="4726080"/>
            <a:ext cx="123840" cy="123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644920" y="4159080"/>
            <a:ext cx="12384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940120" y="3716280"/>
            <a:ext cx="11412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224160" y="3289320"/>
            <a:ext cx="11448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00600" y="2963880"/>
            <a:ext cx="52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for a pattern in the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94360" y="3570120"/>
            <a:ext cx="26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3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119560" y="419112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= 3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138640" y="4782960"/>
            <a:ext cx="23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= 3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344520" y="922320"/>
            <a:ext cx="84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36480" y="1684440"/>
            <a:ext cx="7728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raph to make a table and to 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4" name=""/>
          <p:cNvGraphicFramePr/>
          <p:nvPr/>
        </p:nvGraphicFramePr>
        <p:xfrm>
          <a:off x="3511440" y="351324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5" name=""/>
          <p:cNvSpPr/>
          <p:nvPr/>
        </p:nvSpPr>
        <p:spPr>
          <a:xfrm>
            <a:off x="1327320" y="2698920"/>
            <a:ext cx="61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value of d is 3 times the value of t minus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32240" y="4154400"/>
            <a:ext cx="20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26920" y="1473120"/>
            <a:ext cx="639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 table and sketch the graph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66960" y="4108320"/>
            <a:ext cx="1839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922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1658880" y="286056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71" name=""/>
          <p:cNvGrpSpPr/>
          <p:nvPr/>
        </p:nvGrpSpPr>
        <p:grpSpPr>
          <a:xfrm>
            <a:off x="3838680" y="2209680"/>
            <a:ext cx="3961800" cy="3595320"/>
            <a:chOff x="3838680" y="2209680"/>
            <a:chExt cx="3961800" cy="3595320"/>
          </a:xfrm>
        </p:grpSpPr>
        <p:grpSp>
          <p:nvGrpSpPr>
            <p:cNvPr id="872" name=""/>
            <p:cNvGrpSpPr/>
            <p:nvPr/>
          </p:nvGrpSpPr>
          <p:grpSpPr>
            <a:xfrm>
              <a:off x="3838680" y="2209680"/>
              <a:ext cx="3961800" cy="3595320"/>
              <a:chOff x="3838680" y="2209680"/>
              <a:chExt cx="3961800" cy="3595320"/>
            </a:xfrm>
          </p:grpSpPr>
          <p:grpSp>
            <p:nvGrpSpPr>
              <p:cNvPr id="873" name=""/>
              <p:cNvGrpSpPr/>
              <p:nvPr/>
            </p:nvGrpSpPr>
            <p:grpSpPr>
              <a:xfrm>
                <a:off x="3838680" y="2310480"/>
                <a:ext cx="3540600" cy="3494520"/>
                <a:chOff x="3838680" y="2310480"/>
                <a:chExt cx="3540600" cy="3494520"/>
              </a:xfrm>
            </p:grpSpPr>
            <p:grpSp>
              <p:nvGrpSpPr>
                <p:cNvPr id="874" name=""/>
                <p:cNvGrpSpPr/>
                <p:nvPr/>
              </p:nvGrpSpPr>
              <p:grpSpPr>
                <a:xfrm>
                  <a:off x="4169520" y="2653920"/>
                  <a:ext cx="2878200" cy="2841480"/>
                  <a:chOff x="4169520" y="2653920"/>
                  <a:chExt cx="2878200" cy="2841480"/>
                </a:xfrm>
              </p:grpSpPr>
              <p:sp>
                <p:nvSpPr>
                  <p:cNvPr id="875" name=""/>
                  <p:cNvSpPr/>
                  <p:nvPr/>
                </p:nvSpPr>
                <p:spPr>
                  <a:xfrm>
                    <a:off x="416952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445716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74516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503316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532080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5608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5896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6184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6472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676008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416952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445716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474516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503316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532080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5608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5896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6184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6472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676008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416952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445716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474516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503316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532080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5608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5896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6184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6472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676008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416952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445716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474516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03316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532080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5608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5896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6184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6472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676008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416952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445716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74516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503316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532080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5608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5896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6184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6472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676008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416952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445716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474516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503316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532080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608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5896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6184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6472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676008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416952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445716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474516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03316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532080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5608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5896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6184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6472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676008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416952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445716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474516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503316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532080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5608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5896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6184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6472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76008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416952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445716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474516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503316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532080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5608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5896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6184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6472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676008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416952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445716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474516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503316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532080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5608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5896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6184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6472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676008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5" name=""/>
                <p:cNvGrpSpPr/>
                <p:nvPr/>
              </p:nvGrpSpPr>
              <p:grpSpPr>
                <a:xfrm>
                  <a:off x="3838680" y="2310480"/>
                  <a:ext cx="3540600" cy="3494520"/>
                  <a:chOff x="3838680" y="2310480"/>
                  <a:chExt cx="3540600" cy="3494520"/>
                </a:xfrm>
              </p:grpSpPr>
              <p:sp>
                <p:nvSpPr>
                  <p:cNvPr id="976" name=""/>
                  <p:cNvSpPr/>
                  <p:nvPr/>
                </p:nvSpPr>
                <p:spPr>
                  <a:xfrm>
                    <a:off x="5608800" y="231048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3838680" y="4074480"/>
                    <a:ext cx="354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78" name=""/>
              <p:cNvSpPr/>
              <p:nvPr/>
            </p:nvSpPr>
            <p:spPr>
              <a:xfrm>
                <a:off x="7126200" y="367416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672160" y="220968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4452840" y="39290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748040" y="39387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03388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31972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89572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181560" y="39290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76760" y="39434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75792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048440" y="39196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171680" y="3914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438520" y="32148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38520" y="35053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452920" y="37958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457600" y="43671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452920" y="46483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48240" y="49291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52920" y="52149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438520" y="54957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438520" y="26668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438520" y="29433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365440" y="39686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798080" y="412128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193280" y="41450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036840" y="4121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600600" y="4121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36840" y="3282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124240" y="2716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983840" y="44258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950720" y="495936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9" name=""/>
          <p:cNvSpPr/>
          <p:nvPr/>
        </p:nvSpPr>
        <p:spPr>
          <a:xfrm>
            <a:off x="5143680" y="2368440"/>
            <a:ext cx="1776240" cy="33750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543640" y="3146400"/>
            <a:ext cx="123840" cy="123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838840" y="3735360"/>
            <a:ext cx="123840" cy="104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134040" y="4287960"/>
            <a:ext cx="11448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410160" y="4853160"/>
            <a:ext cx="11448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812880" y="1473120"/>
            <a:ext cx="801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table to sketch a graph and 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096920" y="217800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966960" y="4108320"/>
            <a:ext cx="1839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922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8" name=""/>
          <p:cNvGraphicFramePr/>
          <p:nvPr/>
        </p:nvGraphicFramePr>
        <p:xfrm>
          <a:off x="1658880" y="286056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19" name=""/>
          <p:cNvGrpSpPr/>
          <p:nvPr/>
        </p:nvGrpSpPr>
        <p:grpSpPr>
          <a:xfrm>
            <a:off x="3838680" y="2209680"/>
            <a:ext cx="3961800" cy="3595320"/>
            <a:chOff x="3838680" y="2209680"/>
            <a:chExt cx="3961800" cy="3595320"/>
          </a:xfrm>
        </p:grpSpPr>
        <p:grpSp>
          <p:nvGrpSpPr>
            <p:cNvPr id="1020" name=""/>
            <p:cNvGrpSpPr/>
            <p:nvPr/>
          </p:nvGrpSpPr>
          <p:grpSpPr>
            <a:xfrm>
              <a:off x="3838680" y="2209680"/>
              <a:ext cx="3961800" cy="3595320"/>
              <a:chOff x="3838680" y="2209680"/>
              <a:chExt cx="3961800" cy="3595320"/>
            </a:xfrm>
          </p:grpSpPr>
          <p:grpSp>
            <p:nvGrpSpPr>
              <p:cNvPr id="1021" name=""/>
              <p:cNvGrpSpPr/>
              <p:nvPr/>
            </p:nvGrpSpPr>
            <p:grpSpPr>
              <a:xfrm>
                <a:off x="3838680" y="2310480"/>
                <a:ext cx="3540600" cy="3494520"/>
                <a:chOff x="3838680" y="2310480"/>
                <a:chExt cx="3540600" cy="3494520"/>
              </a:xfrm>
            </p:grpSpPr>
            <p:grpSp>
              <p:nvGrpSpPr>
                <p:cNvPr id="1022" name=""/>
                <p:cNvGrpSpPr/>
                <p:nvPr/>
              </p:nvGrpSpPr>
              <p:grpSpPr>
                <a:xfrm>
                  <a:off x="4169520" y="2653920"/>
                  <a:ext cx="2878200" cy="2841480"/>
                  <a:chOff x="4169520" y="2653920"/>
                  <a:chExt cx="2878200" cy="2841480"/>
                </a:xfrm>
              </p:grpSpPr>
              <p:sp>
                <p:nvSpPr>
                  <p:cNvPr id="1023" name=""/>
                  <p:cNvSpPr/>
                  <p:nvPr/>
                </p:nvSpPr>
                <p:spPr>
                  <a:xfrm>
                    <a:off x="416952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445716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74516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03316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532080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5608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5896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6184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6472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676008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416952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445716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474516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503316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532080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5608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5896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6184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6472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76008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416952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445716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474516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503316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532080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5608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5896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6184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6472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676008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416952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445716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474516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503316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532080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5608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5896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6184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6472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676008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416952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445716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474516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503316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532080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5608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5896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6184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6472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676008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16952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45716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474516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503316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532080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5608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5896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6184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6472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676008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416952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445716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474516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503316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532080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5608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5896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6184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6472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676008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6952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45716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474516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503316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532080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5608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5896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6184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6472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676008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416952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45716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74516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503316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532080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5608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5896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184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6472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676008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416952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445716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74516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503316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532080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5608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5896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6184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6472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676008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3" name=""/>
                <p:cNvGrpSpPr/>
                <p:nvPr/>
              </p:nvGrpSpPr>
              <p:grpSpPr>
                <a:xfrm>
                  <a:off x="3838680" y="2310480"/>
                  <a:ext cx="3540600" cy="3494520"/>
                  <a:chOff x="3838680" y="2310480"/>
                  <a:chExt cx="3540600" cy="3494520"/>
                </a:xfrm>
              </p:grpSpPr>
              <p:sp>
                <p:nvSpPr>
                  <p:cNvPr id="1124" name=""/>
                  <p:cNvSpPr/>
                  <p:nvPr/>
                </p:nvSpPr>
                <p:spPr>
                  <a:xfrm>
                    <a:off x="5608800" y="231048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3838680" y="4074480"/>
                    <a:ext cx="354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26" name=""/>
              <p:cNvSpPr/>
              <p:nvPr/>
            </p:nvSpPr>
            <p:spPr>
              <a:xfrm>
                <a:off x="7126200" y="367416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672160" y="220968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>
              <a:off x="4452840" y="39290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748040" y="39387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03388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31972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89572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181560" y="39290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476760" y="39434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75792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048440" y="39196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171680" y="3914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438520" y="32148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438520" y="35053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452920" y="37958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457600" y="43671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452920" y="46483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448240" y="49291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452920" y="52149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438520" y="54957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438520" y="26668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438520" y="29433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365440" y="39686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798080" y="412128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193280" y="41450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36840" y="4121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600600" y="4121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136840" y="3282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124240" y="2716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983840" y="44258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950720" y="495936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4041720" y="2527200"/>
            <a:ext cx="3137040" cy="31212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964040" y="3435480"/>
            <a:ext cx="123840" cy="123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249880" y="3735360"/>
            <a:ext cx="123840" cy="104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537160" y="4033800"/>
            <a:ext cx="11448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830920" y="4319640"/>
            <a:ext cx="11412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774880" y="1825560"/>
            <a:ext cx="29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= –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/>
          <p:nvPr/>
        </p:nvSpPr>
        <p:spPr>
          <a:xfrm>
            <a:off x="812880" y="1473120"/>
            <a:ext cx="801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graph to make a table and to 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096920" y="217800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66960" y="4108320"/>
            <a:ext cx="1839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7" name=""/>
          <p:cNvGraphicFramePr/>
          <p:nvPr/>
        </p:nvGraphicFramePr>
        <p:xfrm>
          <a:off x="1658880" y="2860560"/>
          <a:ext cx="1378080" cy="2278080"/>
        </p:xfrm>
        <a:graphic>
          <a:graphicData uri="http://schemas.openxmlformats.org/drawingml/2006/table">
            <a:tbl>
              <a:tblPr/>
              <a:tblGrid>
                <a:gridCol w="690480"/>
                <a:gridCol w="687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8" name=""/>
          <p:cNvSpPr/>
          <p:nvPr/>
        </p:nvSpPr>
        <p:spPr>
          <a:xfrm>
            <a:off x="2957400" y="183996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= 4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3781440" y="2370240"/>
            <a:ext cx="34480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1960" y="1108080"/>
            <a:ext cx="7154640" cy="47880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r each function, find the value of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for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0,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4, and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–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6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3.8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1.6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5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06960" y="28306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3, 21, –3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06960" y="3687840"/>
            <a:ext cx="29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2, 3.2, –3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16320" y="4554360"/>
            <a:ext cx="36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5.9, 12.3, –2.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66640" y="1704960"/>
            <a:ext cx="7961400" cy="33274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buy two fruit baskets. Each basket contains three bunches of bananas. Each bunch contains five bananas. How many bananas do you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4560" y="4334040"/>
            <a:ext cx="7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28800" y="2089080"/>
            <a:ext cx="7319880" cy="9795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generate different representations of the same dat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06400" y="4756320"/>
            <a:ext cx="4646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65ff"/>
                </a:solidFill>
                <a:latin typeface="Verdana"/>
              </a:rPr>
              <a:t>An equation shows how the variables are rela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23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Using Equations to Generate Different Representation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6720" y="1959120"/>
            <a:ext cx="77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heigh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an airplan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seconds from take-off i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2s. Make a table and sketch a graph of the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65440" y="33098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98640" y="40435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226120" y="5079960"/>
            <a:ext cx="3767040" cy="1405440"/>
            <a:chOff x="5226120" y="5079960"/>
            <a:chExt cx="3767040" cy="1405440"/>
          </a:xfrm>
        </p:grpSpPr>
        <p:sp>
          <p:nvSpPr>
            <p:cNvPr id="70" name=""/>
            <p:cNvSpPr/>
            <p:nvPr/>
          </p:nvSpPr>
          <p:spPr>
            <a:xfrm>
              <a:off x="5226120" y="5476680"/>
              <a:ext cx="3767040" cy="1008720"/>
            </a:xfrm>
            <a:prstGeom prst="rect">
              <a:avLst/>
            </a:prstGeom>
            <a:noFill/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e number of second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is the input value. The depth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is the output valu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26120" y="5079960"/>
              <a:ext cx="183204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784080" y="3313080"/>
            <a:ext cx="429120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3800" y="3817800"/>
            <a:ext cx="4290840" cy="1949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73240" y="4614840"/>
            <a:ext cx="3079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5ff"/>
                </a:solidFill>
                <a:latin typeface="Verdana"/>
              </a:rPr>
              <a:t>A table identifies values that make the function tru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923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43120" y="2139840"/>
          <a:ext cx="1579320" cy="2278080"/>
        </p:xfrm>
        <a:graphic>
          <a:graphicData uri="http://schemas.openxmlformats.org/drawingml/2006/table">
            <a:tbl>
              <a:tblPr/>
              <a:tblGrid>
                <a:gridCol w="790560"/>
                <a:gridCol w="788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1954080" y="14144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127400" y="1987560"/>
            <a:ext cx="3801960" cy="3460680"/>
            <a:chOff x="4127400" y="1987560"/>
            <a:chExt cx="3801960" cy="3460680"/>
          </a:xfrm>
        </p:grpSpPr>
        <p:grpSp>
          <p:nvGrpSpPr>
            <p:cNvPr id="79" name=""/>
            <p:cNvGrpSpPr/>
            <p:nvPr/>
          </p:nvGrpSpPr>
          <p:grpSpPr>
            <a:xfrm>
              <a:off x="4127400" y="1987560"/>
              <a:ext cx="3435120" cy="3460680"/>
              <a:chOff x="4127400" y="1987560"/>
              <a:chExt cx="3435120" cy="3460680"/>
            </a:xfrm>
          </p:grpSpPr>
          <p:sp>
            <p:nvSpPr>
              <p:cNvPr id="80" name=""/>
              <p:cNvSpPr/>
              <p:nvPr/>
            </p:nvSpPr>
            <p:spPr>
              <a:xfrm>
                <a:off x="4779000" y="23788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40720" y="237888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03880" y="23788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565600" y="237888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828760" y="23788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090120" y="237888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352200" y="237888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615000" y="23788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876720" y="237888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40240" y="23788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779000" y="26460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40720" y="26460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303880" y="26460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565600" y="26460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8760" y="26460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090120" y="264600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52200" y="26460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15000" y="26460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876720" y="26460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140240" y="26460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779000" y="29124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040720" y="29124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03880" y="29124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565600" y="29124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28760" y="29124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90120" y="291240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352200" y="29124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15000" y="29124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876720" y="29124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140240" y="29124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779000" y="31791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040720" y="317916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03880" y="31791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65600" y="317916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28760" y="31791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090120" y="317916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52200" y="317916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615000" y="31791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876720" y="317916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140240" y="31791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779000" y="34459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40720" y="344592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303880" y="34459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65600" y="344592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828760" y="34459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090120" y="344592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352200" y="344592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15000" y="34459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876720" y="344592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140240" y="34459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779000" y="37123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040720" y="371232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03880" y="37123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565600" y="371232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828760" y="37123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90120" y="371232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352200" y="371232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615000" y="37123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76720" y="371232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140240" y="37123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79000" y="39790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040720" y="397908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303880" y="39790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565600" y="397908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828760" y="39790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0120" y="397908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52200" y="397908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615000" y="39790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876720" y="397908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140240" y="39790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779000" y="424584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40720" y="424584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303880" y="424584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65600" y="424584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828760" y="424584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90120" y="424584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52200" y="424584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615000" y="424584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876720" y="424584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140240" y="424584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79000" y="4512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40720" y="45126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03880" y="4512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565600" y="45126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28760" y="4512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090120" y="451260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352200" y="45126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615000" y="4512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76720" y="45126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40240" y="4512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779000" y="477900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040720" y="477900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03880" y="477900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565600" y="477900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28760" y="477900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090120" y="477900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52200" y="477900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615000" y="477900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876720" y="477900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140240" y="477900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35520" y="1987560"/>
                <a:ext cx="61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4768920" y="2158560"/>
                <a:ext cx="0" cy="28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755960" y="5050440"/>
                <a:ext cx="2806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127400" y="2215080"/>
                <a:ext cx="56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40280" y="493848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74640" y="494748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369120" y="495216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633720" y="494748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885720" y="495216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158600" y="494748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410240" y="495216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046480" y="493848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311080" y="493416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558400" y="493416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60560" y="263232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656240" y="29048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60560" y="31910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69200" y="34322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656240" y="36914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660560" y="39776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60560" y="23774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656240" y="47642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51920" y="45050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60560" y="4218840"/>
                <a:ext cx="23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218480" y="27201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4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262400" y="32209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32880" y="37929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232880" y="4320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550400" y="50799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174280" y="50799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674680" y="50799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229800" y="50799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77280" y="50799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186680" y="50799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7543440" y="4925160"/>
              <a:ext cx="38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694400" y="4971960"/>
            <a:ext cx="14256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37280" y="434340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51360" y="374328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84880" y="305748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781520" y="2560320"/>
            <a:ext cx="2022480" cy="2477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76720" y="5394240"/>
            <a:ext cx="377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5ff"/>
                </a:solidFill>
                <a:latin typeface="Verdana"/>
              </a:rPr>
              <a:t>A graph is a visual image of the values in the t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97400" y="1413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87480" y="1366920"/>
            <a:ext cx="3051000" cy="57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87480" y="1938240"/>
            <a:ext cx="3051000" cy="4551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5600" y="1366920"/>
            <a:ext cx="3871800" cy="57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5600" y="1947960"/>
            <a:ext cx="3871800" cy="453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58920" y="4784760"/>
            <a:ext cx="4646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65ff"/>
                </a:solidFill>
                <a:latin typeface="Verdana"/>
              </a:rPr>
              <a:t>An equation shows how the variables are rela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923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9040" y="1496880"/>
            <a:ext cx="77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heigh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a helicopte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seconds from take-off i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Make a table and sketch a graph of the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27480" y="33098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70400" y="40435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89080" y="3313080"/>
            <a:ext cx="445932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89080" y="3817800"/>
            <a:ext cx="4459320" cy="1949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82600" y="5224320"/>
            <a:ext cx="312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5ff"/>
                </a:solidFill>
                <a:latin typeface="Verdana"/>
              </a:rPr>
              <a:t>A table identifies values that make the function tru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923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695600" y="2311560"/>
          <a:ext cx="1579320" cy="2733480"/>
        </p:xfrm>
        <a:graphic>
          <a:graphicData uri="http://schemas.openxmlformats.org/drawingml/2006/table">
            <a:tbl>
              <a:tblPr/>
              <a:tblGrid>
                <a:gridCol w="790560"/>
                <a:gridCol w="788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1782720" y="14716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013280" y="1930320"/>
            <a:ext cx="3811320" cy="3460680"/>
            <a:chOff x="4013280" y="1930320"/>
            <a:chExt cx="3811320" cy="3460680"/>
          </a:xfrm>
        </p:grpSpPr>
        <p:grpSp>
          <p:nvGrpSpPr>
            <p:cNvPr id="238" name=""/>
            <p:cNvGrpSpPr/>
            <p:nvPr/>
          </p:nvGrpSpPr>
          <p:grpSpPr>
            <a:xfrm>
              <a:off x="4013280" y="1930320"/>
              <a:ext cx="3449520" cy="3460680"/>
              <a:chOff x="4013280" y="1930320"/>
              <a:chExt cx="3449520" cy="3460680"/>
            </a:xfrm>
          </p:grpSpPr>
          <p:sp>
            <p:nvSpPr>
              <p:cNvPr id="239" name=""/>
              <p:cNvSpPr/>
              <p:nvPr/>
            </p:nvSpPr>
            <p:spPr>
              <a:xfrm>
                <a:off x="4674240" y="23216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935960" y="232164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99120" y="23216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460840" y="232164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723640" y="23216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85360" y="232164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247440" y="232164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510240" y="23216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771960" y="232164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035120" y="23216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74240" y="25887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935960" y="258876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199120" y="25887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60840" y="258876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723640" y="25887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85360" y="258876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47440" y="258876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510240" y="25887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71960" y="258876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120" y="25887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674240" y="28551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35960" y="285516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99120" y="28551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60840" y="285516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23640" y="28551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85360" y="285516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47440" y="285516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510240" y="28551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771960" y="285516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35120" y="28551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674240" y="312192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935960" y="312192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99120" y="312192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460840" y="312192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723640" y="312192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985360" y="312192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247440" y="312192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510240" y="312192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71960" y="312192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120" y="312192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674240" y="33886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935960" y="338868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199120" y="33886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460840" y="338868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723640" y="33886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985360" y="338868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247440" y="338868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510240" y="33886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71960" y="338868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035120" y="33886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674240" y="36550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935960" y="365508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199120" y="36550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460840" y="365508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23640" y="36550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985360" y="365508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247440" y="365508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10240" y="36550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71960" y="365508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035120" y="36550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74240" y="39218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935960" y="392184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199120" y="39218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60840" y="392184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23640" y="39218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985360" y="392184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247440" y="392184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510240" y="39218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71960" y="392184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035120" y="39218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674240" y="4188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935960" y="41886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199120" y="4188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60840" y="41886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723640" y="4188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985360" y="418860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247440" y="41886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510240" y="4188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771960" y="41886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035120" y="4188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74240" y="44553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35960" y="445536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99120" y="44553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460840" y="445536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23640" y="44553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985360" y="445536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247440" y="445536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510240" y="44553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771960" y="445536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035120" y="44553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674240" y="47217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935960" y="472176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199120" y="47217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460840" y="472176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723640" y="47217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985360" y="472176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247440" y="472176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510240" y="47217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71960" y="472176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035120" y="47217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30760" y="1930320"/>
                <a:ext cx="61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4664160" y="2101320"/>
                <a:ext cx="0" cy="28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651200" y="4993200"/>
                <a:ext cx="280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013280" y="2157840"/>
                <a:ext cx="50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7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35520" y="488124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969520" y="489024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264360" y="489492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528960" y="489024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80960" y="489492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053840" y="489024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305480" y="489492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41720" y="488124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206320" y="487692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453640" y="487692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555440" y="257508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551480" y="28476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555440" y="31338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64440" y="33750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551480" y="36342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555440" y="39204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555440" y="23202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551480" y="47070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547160" y="44478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555440" y="4161600"/>
                <a:ext cx="23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113720" y="26629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6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157640" y="316368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4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128120" y="37357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28120" y="42631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445640" y="5022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069520" y="5022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569920" y="5022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125040" y="5022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581880" y="502272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091640" y="502272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7438680" y="4867920"/>
              <a:ext cx="38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4589640" y="4915080"/>
            <a:ext cx="14256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113440" y="440064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27520" y="386568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80120" y="332892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676760" y="2587680"/>
            <a:ext cx="2343240" cy="2394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71960" y="5470560"/>
            <a:ext cx="39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5ff"/>
                </a:solidFill>
                <a:latin typeface="Verdana"/>
              </a:rPr>
              <a:t>A graph is a visual image of the values in the t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9080" y="14605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03920" y="278604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87480" y="1366920"/>
            <a:ext cx="3051000" cy="57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87480" y="1938240"/>
            <a:ext cx="3051000" cy="442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35600" y="1366920"/>
            <a:ext cx="3871800" cy="57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35600" y="1938240"/>
            <a:ext cx="3871800" cy="442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54040" y="193356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table to make a graph and to write an equation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160" y="923760"/>
            <a:ext cx="902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Using Tables to Generate Different Representation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10000" y="3002040"/>
            <a:ext cx="52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for a pattern in the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838080" y="296712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4532400" y="4083120"/>
            <a:ext cx="360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value of y is the value of x minus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647800" y="388764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 = 1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47800" y="430704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2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7520" y="4745160"/>
            <a:ext cx="18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3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4T17:53:35Z</dcterms:created>
  <dc:creator/>
  <dc:description/>
  <dc:language>en-US</dc:language>
  <cp:lastModifiedBy>stevenh</cp:lastModifiedBy>
  <dcterms:modified xsi:type="dcterms:W3CDTF">2006-04-26T18:22:38Z</dcterms:modified>
  <cp:revision>622</cp:revision>
  <dc:subject/>
  <dc:title>PowerPoint Presentation</dc:title>
</cp:coreProperties>
</file>