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93F-1AE5-406F-8FCC-0EF1644E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801-D252-4939-9AB4-1690EE1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5DF-77AE-41AD-A90C-D603AD01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C75-717D-4AB3-970D-21AB230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2B4-F96E-447F-9652-1F923752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9F4-C527-47D1-AD60-00507064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189-08FC-4592-AE6F-9C420FD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5E9-7276-4C46-B52E-B0120934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CAB-3659-4B70-B4C0-66552F0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588-C519-4736-B246-E9DDC60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068-6CBE-4A40-A2D4-7C80704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301-E0AF-42BA-B1F3-DD559711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18B-FC1E-4208-AE51-D18AE78A5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440"/>
            <a:ext cx="9144000" cy="6864480"/>
            <a:chOff x="0" y="1440"/>
            <a:chExt cx="9144000" cy="686448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632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88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460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2760"/>
              <a:ext cx="80773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225000"/>
              <a:ext cx="777240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 Black"/>
                </a:rPr>
                <a:t>Equations, Tables, and Graph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3629160" y="233640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506600" y="30891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"/>
          <p:cNvGrpSpPr/>
          <p:nvPr/>
        </p:nvGrpSpPr>
        <p:grpSpPr>
          <a:xfrm>
            <a:off x="3686040" y="2438280"/>
            <a:ext cx="3962160" cy="3595320"/>
            <a:chOff x="3686040" y="2438280"/>
            <a:chExt cx="3962160" cy="3595320"/>
          </a:xfrm>
        </p:grpSpPr>
        <p:grpSp>
          <p:nvGrpSpPr>
            <p:cNvPr id="398" name=""/>
            <p:cNvGrpSpPr/>
            <p:nvPr/>
          </p:nvGrpSpPr>
          <p:grpSpPr>
            <a:xfrm>
              <a:off x="3686040" y="2438280"/>
              <a:ext cx="3962160" cy="3595320"/>
              <a:chOff x="3686040" y="2438280"/>
              <a:chExt cx="3962160" cy="35953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686040" y="2539080"/>
                <a:ext cx="3540960" cy="3494520"/>
                <a:chOff x="3686040" y="2539080"/>
                <a:chExt cx="3540960" cy="34945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016880" y="2882520"/>
                  <a:ext cx="2878920" cy="2841480"/>
                  <a:chOff x="4016880" y="2882520"/>
                  <a:chExt cx="2878920" cy="28414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401688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0488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59252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8052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168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545616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574416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031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19800" y="2882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607800" y="2882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01688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0488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59252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8052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168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45616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4416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031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19800" y="3166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607800" y="3166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01688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30488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59252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8052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168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5616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74416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6031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319800" y="34506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07800" y="34506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01688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30488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59252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88052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68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45616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74416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31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319800" y="3734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607800" y="3734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01688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30488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9252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88052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168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45616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74416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031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319800" y="4018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607800" y="4018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401688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430488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59252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88052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68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45616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74416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031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319800" y="4303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607800" y="4303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01688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30488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59252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88052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168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45616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74416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031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319800" y="4587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07800" y="4587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01688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30488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59252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88052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168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45616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74416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031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9800" y="4871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607800" y="4871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01688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30488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59252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052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168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45616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74416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031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319800" y="51555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607800" y="51555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01688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30488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59252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88052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68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45616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74416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031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6319800" y="5439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6607800" y="54399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3686040" y="2539080"/>
                  <a:ext cx="3540960" cy="3494520"/>
                  <a:chOff x="3686040" y="2539080"/>
                  <a:chExt cx="3540960" cy="3494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5456520" y="25390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86040" y="43030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4" name=""/>
              <p:cNvSpPr/>
              <p:nvPr/>
            </p:nvSpPr>
            <p:spPr>
              <a:xfrm>
                <a:off x="6973920" y="39027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19880" y="24382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430056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5760" y="4167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8160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67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34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9280" y="4157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24480" y="41720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605640" y="41623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96160" y="4148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19400" y="4143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6240" y="34434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6240" y="3733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00640" y="4024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05320" y="4595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00640" y="4876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95960" y="515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0640" y="5443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86240" y="572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86240" y="2895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86240" y="3171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13520" y="4197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5800" y="43498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41000" y="43736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849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48320" y="434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84920" y="3511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71960" y="2944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31560" y="465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98440" y="51879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4718160" y="3338280"/>
            <a:ext cx="1949400" cy="207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0720" y="454356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76840" y="425304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72040" y="39546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67600" y="367812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06440" y="55515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plus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2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3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54040" y="16192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160" y="923760"/>
            <a:ext cx="90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 Continu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162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789360" y="2173320"/>
            <a:ext cx="3497400" cy="4186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478480" y="3362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73680" y="3105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7960" y="2790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73800" y="24861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949560" y="2253960"/>
            <a:ext cx="2759040" cy="274932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25560" y="545004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44520" y="923760"/>
            <a:ext cx="84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Using Graph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34960" y="2571840"/>
            <a:ext cx="3962160" cy="3595320"/>
            <a:chOff x="534960" y="2571840"/>
            <a:chExt cx="3962160" cy="3595320"/>
          </a:xfrm>
        </p:grpSpPr>
        <p:grpSp>
          <p:nvGrpSpPr>
            <p:cNvPr id="562" name=""/>
            <p:cNvGrpSpPr/>
            <p:nvPr/>
          </p:nvGrpSpPr>
          <p:grpSpPr>
            <a:xfrm>
              <a:off x="534960" y="2571840"/>
              <a:ext cx="3962160" cy="3595320"/>
              <a:chOff x="534960" y="2571840"/>
              <a:chExt cx="3962160" cy="35953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534960" y="2672640"/>
                <a:ext cx="3540960" cy="3494520"/>
                <a:chOff x="534960" y="2672640"/>
                <a:chExt cx="3540960" cy="349452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865800" y="3016080"/>
                  <a:ext cx="2878920" cy="2841480"/>
                  <a:chOff x="865800" y="3016080"/>
                  <a:chExt cx="2878920" cy="28414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86580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5380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44144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2944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017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0508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59308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880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168720" y="3016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456720" y="3016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6580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15380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44144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72944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017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0508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59308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880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3168720" y="3300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456720" y="3300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86580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5380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44144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72944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17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0508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59308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880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168720" y="35841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3456720" y="35841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86580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15380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44144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72944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17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0508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59308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880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3168720" y="38682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3456720" y="38682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86580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15380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44144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2944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17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30508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59308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880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168720" y="41522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456720" y="41522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86580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15380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44144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72944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17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30508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9308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80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168720" y="44366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456720" y="44366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86580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15380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44144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72944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2017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230508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259308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880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168720" y="47206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456720" y="47206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6580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15380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44144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72944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017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30508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59308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80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68720" y="5005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56720" y="50050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86580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15380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4144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172944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017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30508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59308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880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168720" y="52891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456720" y="52891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86580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15380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44144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72944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017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30508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59308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80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168720" y="5573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456720" y="55735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534960" y="2672640"/>
                  <a:ext cx="3540960" cy="3494520"/>
                  <a:chOff x="534960" y="2672640"/>
                  <a:chExt cx="3540960" cy="34945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2305440" y="267264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34960" y="443664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"/>
              <p:cNvSpPr/>
              <p:nvPr/>
            </p:nvSpPr>
            <p:spPr>
              <a:xfrm>
                <a:off x="3822840" y="403632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8800" y="257184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114948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4680" y="43009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3052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16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923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8200" y="4291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73400" y="4305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54560" y="4295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45080" y="4281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68320" y="4276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35160" y="35769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35160" y="386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49560" y="41580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54240" y="4729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49560" y="5010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4880" y="5291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9560" y="55771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35160" y="58579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5160" y="30290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5160" y="3305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062440" y="4330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94720" y="4483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9920" y="45072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38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97240" y="44834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3840" y="364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20880" y="3078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80480" y="478800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47360" y="532152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1305000" y="2847600"/>
            <a:ext cx="1677960" cy="3313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41720" y="4106880"/>
            <a:ext cx="12348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08400" y="3816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41600" y="35258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82720" y="32227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052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14840" y="370188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95760" y="430200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605480" y="495000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2401920" y="329580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992160" y="2635200"/>
            <a:ext cx="76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2 times the value of t plu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41640" y="401148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44520" y="92376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47640" y="2629080"/>
            <a:ext cx="3962160" cy="3595320"/>
            <a:chOff x="647640" y="2629080"/>
            <a:chExt cx="3962160" cy="3595320"/>
          </a:xfrm>
        </p:grpSpPr>
        <p:grpSp>
          <p:nvGrpSpPr>
            <p:cNvPr id="716" name=""/>
            <p:cNvGrpSpPr/>
            <p:nvPr/>
          </p:nvGrpSpPr>
          <p:grpSpPr>
            <a:xfrm>
              <a:off x="647640" y="2629080"/>
              <a:ext cx="3962160" cy="3595320"/>
              <a:chOff x="647640" y="2629080"/>
              <a:chExt cx="3962160" cy="35953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647640" y="2729880"/>
                <a:ext cx="3540960" cy="3494520"/>
                <a:chOff x="647640" y="2729880"/>
                <a:chExt cx="3540960" cy="349452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978480" y="3073320"/>
                  <a:ext cx="2878920" cy="2841480"/>
                  <a:chOff x="978480" y="3073320"/>
                  <a:chExt cx="2878920" cy="284148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97848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648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55412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84212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2129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241776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270576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2993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281400" y="3073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569400" y="3073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97848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126648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55412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4212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129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41776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70576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993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281400" y="3357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569400" y="3357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97848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26648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55412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84212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129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41776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70576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993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281400" y="36414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9400" y="364140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97848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26648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55412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84212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2129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41776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70576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993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3281400" y="39254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3569400" y="392544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97848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6648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55412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84212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129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41776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70576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993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3281400" y="4209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3569400" y="42094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97848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26648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5412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84212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129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41776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70576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993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281400" y="44938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3569400" y="449388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97848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26648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5412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84212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2129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241776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270576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993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281400" y="4777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69400" y="47779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97848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26648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55412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84212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129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41776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70576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993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281400" y="50623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569400" y="506232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97848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26648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55412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84212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129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41776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70576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993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281400" y="5346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569400" y="53463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97848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26648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55412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84212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129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41776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70576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993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281400" y="56307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3569400" y="5630760"/>
                    <a:ext cx="28800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7640" y="2729880"/>
                  <a:ext cx="3540960" cy="3494520"/>
                  <a:chOff x="647640" y="2729880"/>
                  <a:chExt cx="3540960" cy="34945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2418120" y="27298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47640" y="4493880"/>
                    <a:ext cx="3540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2" name=""/>
              <p:cNvSpPr/>
              <p:nvPr/>
            </p:nvSpPr>
            <p:spPr>
              <a:xfrm>
                <a:off x="3935520" y="40935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481480" y="26290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126216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57360" y="4358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4320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29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050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0880" y="43484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86080" y="4362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67240" y="43531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7760" y="43390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981000" y="4334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47840" y="3634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47840" y="3924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62240" y="4215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66920" y="47865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62240" y="5067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57560" y="53485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62240" y="56343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47840" y="5915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47840" y="30862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47840" y="3362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75120" y="4388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07400" y="4540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02600" y="45644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465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09920" y="454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46520" y="3702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3560" y="3135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3160" y="48452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60040" y="53787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469880" y="2923920"/>
            <a:ext cx="2038320" cy="3413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54400" y="47260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44920" y="4159080"/>
            <a:ext cx="12384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940120" y="371628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224160" y="328932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00600" y="296388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094360" y="35701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19560" y="41911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138640" y="478296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344520" y="922320"/>
            <a:ext cx="84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36480" y="1684440"/>
            <a:ext cx="7728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3511440" y="351324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1327320" y="2698920"/>
            <a:ext cx="61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d is 3 times the value of t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32240" y="4154400"/>
            <a:ext cx="20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1473120"/>
            <a:ext cx="63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table and sketch the graph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1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872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8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5143680" y="2368440"/>
            <a:ext cx="1776240" cy="3375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543640" y="314640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83884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134040" y="42879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10160" y="485316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table to sketch a graph and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92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1658880" y="286056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19" name=""/>
          <p:cNvGrpSpPr/>
          <p:nvPr/>
        </p:nvGrpSpPr>
        <p:grpSpPr>
          <a:xfrm>
            <a:off x="3838680" y="2209680"/>
            <a:ext cx="3961800" cy="3595320"/>
            <a:chOff x="3838680" y="2209680"/>
            <a:chExt cx="3961800" cy="3595320"/>
          </a:xfrm>
        </p:grpSpPr>
        <p:grpSp>
          <p:nvGrpSpPr>
            <p:cNvPr id="1020" name=""/>
            <p:cNvGrpSpPr/>
            <p:nvPr/>
          </p:nvGrpSpPr>
          <p:grpSpPr>
            <a:xfrm>
              <a:off x="3838680" y="2209680"/>
              <a:ext cx="3961800" cy="3595320"/>
              <a:chOff x="3838680" y="2209680"/>
              <a:chExt cx="3961800" cy="359532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3838680" y="2310480"/>
                <a:ext cx="3540600" cy="3494520"/>
                <a:chOff x="3838680" y="2310480"/>
                <a:chExt cx="3540600" cy="34945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4169520" y="2653920"/>
                  <a:ext cx="2878200" cy="2841480"/>
                  <a:chOff x="4169520" y="2653920"/>
                  <a:chExt cx="2878200" cy="28414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16952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457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45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03316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32080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5608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896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184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47244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760080" y="2653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416952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57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745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03316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2080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5608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896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184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47244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760080" y="2937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16952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57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745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503316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532080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608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896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184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47244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760080" y="322200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416952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4457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745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03316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32080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5608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896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184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647244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6760080" y="350604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16952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7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745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03316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32080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5608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5896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6184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647244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6760080" y="37900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16952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457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745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503316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532080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5608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896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6184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647244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6760080" y="407448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6952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457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745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503316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532080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5608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5896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6184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647244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6760080" y="43585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6952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457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745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503316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32080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608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896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6184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647244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6760080" y="464292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16952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457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745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03316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2080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608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896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84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47244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6760080" y="49269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16952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457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745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503316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532080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5608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5896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6184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647244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6760080" y="5211360"/>
                    <a:ext cx="287640" cy="284040"/>
                  </a:xfrm>
                  <a:prstGeom prst="rect">
                    <a:avLst/>
                  </a:prstGeom>
                  <a:noFill/>
                  <a:ln w="9360">
                    <a:solidFill>
                      <a:srgbClr val="33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3838680" y="2310480"/>
                  <a:ext cx="3540600" cy="3494520"/>
                  <a:chOff x="3838680" y="2310480"/>
                  <a:chExt cx="3540600" cy="3494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5608800" y="2310480"/>
                    <a:ext cx="0" cy="3494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838680" y="4074480"/>
                    <a:ext cx="3540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26" name=""/>
              <p:cNvSpPr/>
              <p:nvPr/>
            </p:nvSpPr>
            <p:spPr>
              <a:xfrm>
                <a:off x="7126200" y="367416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72160" y="2209680"/>
                <a:ext cx="67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5284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48040" y="39387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3388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319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8957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81560" y="3929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476760" y="39434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7579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048440" y="39196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71680" y="3914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438520" y="3214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438520" y="3505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52920" y="3795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57600" y="43671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52920" y="4648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48240" y="4929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52920" y="52149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38520" y="54957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38520" y="26668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38520" y="2943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6544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98080" y="41212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193280" y="41450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3684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600600" y="4121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36840" y="3282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24240" y="2716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83840" y="442584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50720" y="495936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4041720" y="2527200"/>
            <a:ext cx="3137040" cy="3121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64040" y="3435480"/>
            <a:ext cx="123840" cy="123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49880" y="3735360"/>
            <a:ext cx="12384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537160" y="4033800"/>
            <a:ext cx="11448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830920" y="4319640"/>
            <a:ext cx="114120" cy="112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774880" y="182556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–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812880" y="1473120"/>
            <a:ext cx="80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graph to make a table and to write an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096920" y="217800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66960" y="410832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1658880" y="2860560"/>
          <a:ext cx="1378080" cy="2278080"/>
        </p:xfrm>
        <a:graphic>
          <a:graphicData uri="http://schemas.openxmlformats.org/drawingml/2006/table">
            <a:tbl>
              <a:tblPr/>
              <a:tblGrid>
                <a:gridCol w="690480"/>
                <a:gridCol w="68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8" name=""/>
          <p:cNvSpPr/>
          <p:nvPr/>
        </p:nvSpPr>
        <p:spPr>
          <a:xfrm>
            <a:off x="2957400" y="183996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= 4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3781440" y="2370240"/>
            <a:ext cx="3448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1960" y="1108080"/>
            <a:ext cx="7154640" cy="4788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 each function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4, and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= –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3.8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1.6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5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06960" y="2830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, 21, –3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06960" y="3687840"/>
            <a:ext cx="29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, 3.2, –3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6320" y="4554360"/>
            <a:ext cx="361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5.9, 12.3, –2.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66640" y="1704960"/>
            <a:ext cx="7961400" cy="3327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buy two fruit baskets. Each basket contains three bunches of bananas. Each bunch contains five bananas. How many bananas do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4560" y="4334040"/>
            <a:ext cx="7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8800" y="2089080"/>
            <a:ext cx="7319880" cy="9795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generate different representations of the same dat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6400" y="475632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23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Equation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720" y="195912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 airplan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2s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6544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98640" y="404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226120" y="5079960"/>
            <a:ext cx="3767040" cy="1405440"/>
            <a:chOff x="5226120" y="5079960"/>
            <a:chExt cx="3767040" cy="1405440"/>
          </a:xfrm>
        </p:grpSpPr>
        <p:sp>
          <p:nvSpPr>
            <p:cNvPr id="70" name=""/>
            <p:cNvSpPr/>
            <p:nvPr/>
          </p:nvSpPr>
          <p:spPr>
            <a:xfrm>
              <a:off x="5226120" y="5476680"/>
              <a:ext cx="3767040" cy="1008720"/>
            </a:xfrm>
            <a:prstGeom prst="rect">
              <a:avLst/>
            </a:prstGeom>
            <a:noFill/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number of seconds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input value. The dept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is the output valu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6120" y="5079960"/>
              <a:ext cx="183204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84080" y="3313080"/>
            <a:ext cx="429120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3817800"/>
            <a:ext cx="429084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73240" y="4614840"/>
            <a:ext cx="307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43120" y="2139840"/>
          <a:ext cx="1579320" cy="22780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954080" y="14144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127400" y="1987560"/>
            <a:ext cx="3801960" cy="3460680"/>
            <a:chOff x="4127400" y="1987560"/>
            <a:chExt cx="3801960" cy="3460680"/>
          </a:xfrm>
        </p:grpSpPr>
        <p:grpSp>
          <p:nvGrpSpPr>
            <p:cNvPr id="79" name=""/>
            <p:cNvGrpSpPr/>
            <p:nvPr/>
          </p:nvGrpSpPr>
          <p:grpSpPr>
            <a:xfrm>
              <a:off x="4127400" y="1987560"/>
              <a:ext cx="3435120" cy="3460680"/>
              <a:chOff x="4127400" y="1987560"/>
              <a:chExt cx="3435120" cy="3460680"/>
            </a:xfrm>
          </p:grpSpPr>
          <p:sp>
            <p:nvSpPr>
              <p:cNvPr id="80" name=""/>
              <p:cNvSpPr/>
              <p:nvPr/>
            </p:nvSpPr>
            <p:spPr>
              <a:xfrm>
                <a:off x="4779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40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0388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656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82876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090120" y="23788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52200" y="23788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500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76720" y="23788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40240" y="23788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79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40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388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656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876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90120" y="26460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2200" y="26460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1500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76720" y="26460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140240" y="26460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79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40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0388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656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2876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0120" y="29124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52200" y="29124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1500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6720" y="29124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40240" y="29124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9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40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0388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56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2876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0120" y="31791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52200" y="31791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1500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76720" y="31791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40240" y="31791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79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40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0388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656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2876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90120" y="34459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52200" y="34459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1500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876720" y="34459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0240" y="34459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79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40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388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56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2876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90120" y="371232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52200" y="371232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1500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76720" y="371232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0240" y="371232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79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0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0388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56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876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0120" y="397908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52200" y="397908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1500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76720" y="397908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40240" y="397908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79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0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0388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56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2876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0120" y="424584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52200" y="424584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1500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76720" y="424584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40240" y="424584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79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0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0388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656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2876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90120" y="4512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52200" y="4512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1500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76720" y="4512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0240" y="4512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79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40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0388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656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2876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90120" y="477900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52200" y="477900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1500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76720" y="477900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0240" y="477900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35520" y="198756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768920" y="215856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55960" y="5050440"/>
                <a:ext cx="280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27400" y="2215080"/>
                <a:ext cx="56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402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7464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691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372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8572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8600" y="4947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410240" y="4952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046480" y="493848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1108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58400" y="493416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60560" y="2632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56240" y="29048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60560" y="3191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69200" y="3432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56240" y="3691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60560" y="39776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60560" y="23774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56240" y="47642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51920" y="450504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60560" y="421884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18480" y="27201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62400" y="3220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32880" y="37929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32880" y="432036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504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74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74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2980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772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86680" y="50799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543440" y="492516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94400" y="497196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7280" y="434340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51360" y="37432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84880" y="30574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781520" y="2560320"/>
            <a:ext cx="2022480" cy="247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6720" y="5394240"/>
            <a:ext cx="37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97400" y="141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7480" y="1938240"/>
            <a:ext cx="3051000" cy="4551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5600" y="1947960"/>
            <a:ext cx="3871800" cy="453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58920" y="4784760"/>
            <a:ext cx="464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65ff"/>
                </a:solidFill>
                <a:latin typeface="Verdana"/>
              </a:rPr>
              <a:t>An equation shows how the variables are rel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9040" y="1496880"/>
            <a:ext cx="77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eigh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 helicopt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econds from take-off i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Make a table and sketch a graph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27480" y="3309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0400" y="4043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9080" y="3313080"/>
            <a:ext cx="4459320" cy="50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89080" y="3817800"/>
            <a:ext cx="4459320" cy="194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82600" y="5224320"/>
            <a:ext cx="312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table identifies values that make the function tr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695600" y="2311560"/>
          <a:ext cx="1579320" cy="2733480"/>
        </p:xfrm>
        <a:graphic>
          <a:graphicData uri="http://schemas.openxmlformats.org/drawingml/2006/table">
            <a:tbl>
              <a:tblPr/>
              <a:tblGrid>
                <a:gridCol w="790560"/>
                <a:gridCol w="78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782720" y="1471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013280" y="1930320"/>
            <a:ext cx="3811320" cy="3460680"/>
            <a:chOff x="4013280" y="1930320"/>
            <a:chExt cx="3811320" cy="3460680"/>
          </a:xfrm>
        </p:grpSpPr>
        <p:grpSp>
          <p:nvGrpSpPr>
            <p:cNvPr id="238" name=""/>
            <p:cNvGrpSpPr/>
            <p:nvPr/>
          </p:nvGrpSpPr>
          <p:grpSpPr>
            <a:xfrm>
              <a:off x="4013280" y="1930320"/>
              <a:ext cx="3449520" cy="3460680"/>
              <a:chOff x="4013280" y="1930320"/>
              <a:chExt cx="3449520" cy="3460680"/>
            </a:xfrm>
          </p:grpSpPr>
          <p:sp>
            <p:nvSpPr>
              <p:cNvPr id="239" name=""/>
              <p:cNvSpPr/>
              <p:nvPr/>
            </p:nvSpPr>
            <p:spPr>
              <a:xfrm>
                <a:off x="4674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35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99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608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7236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85360" y="23216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247440" y="23216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1024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1960" y="23216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35120" y="23216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74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35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9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608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236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85360" y="25887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7440" y="25887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1024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1960" y="25887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120" y="25887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4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35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99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608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36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85360" y="28551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47440" y="28551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024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71960" y="28551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35120" y="28551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74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35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9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608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236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5360" y="312192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47440" y="312192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024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71960" y="312192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120" y="312192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74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35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9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608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7236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5360" y="33886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247440" y="33886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1024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71960" y="33886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35120" y="33886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4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35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99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608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236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85360" y="365508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47440" y="365508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1024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1960" y="365508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35120" y="365508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74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35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99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608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236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85360" y="392184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47440" y="392184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1024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71960" y="392184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35120" y="392184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74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35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99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608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36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5360" y="418860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7440" y="418860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1024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1960" y="418860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35120" y="418860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74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5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9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608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236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985360" y="4455360"/>
                <a:ext cx="26172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47440" y="4455360"/>
                <a:ext cx="26280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1024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771960" y="4455360"/>
                <a:ext cx="2631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035120" y="4455360"/>
                <a:ext cx="261360" cy="26640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74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35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99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608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236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85360" y="4721760"/>
                <a:ext cx="26172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47440" y="4721760"/>
                <a:ext cx="26280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1024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71960" y="4721760"/>
                <a:ext cx="2631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35120" y="4721760"/>
                <a:ext cx="261360" cy="266760"/>
              </a:xfrm>
              <a:prstGeom prst="rect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30760" y="1930320"/>
                <a:ext cx="61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664160" y="2101320"/>
                <a:ext cx="0" cy="28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651200" y="4993200"/>
                <a:ext cx="280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13280" y="2157840"/>
                <a:ext cx="50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7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355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6952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643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2896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8096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53840" y="4890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05480" y="4894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41720" y="488124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0632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53640" y="4876920"/>
                <a:ext cx="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55440" y="257508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51480" y="28476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55440" y="3133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64440" y="3375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51480" y="3634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5440" y="39204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55440" y="23202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1480" y="47070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47160" y="444780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55440" y="4161600"/>
                <a:ext cx="23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3720" y="26629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6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57640" y="316368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28120" y="37357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28120" y="4263120"/>
                <a:ext cx="44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456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695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6992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25040" y="5022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188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91640" y="50227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7438680" y="4867920"/>
              <a:ext cx="3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589640" y="4915080"/>
            <a:ext cx="14256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4006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27520" y="386568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80120" y="332892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676760" y="2587680"/>
            <a:ext cx="2343240" cy="2394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71960" y="547056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A graph is a visual image of the values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9080" y="14605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3920" y="2786040"/>
            <a:ext cx="142920" cy="112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87480" y="1366920"/>
            <a:ext cx="30510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87480" y="1938240"/>
            <a:ext cx="30510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5600" y="1366920"/>
            <a:ext cx="387180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5600" y="1938240"/>
            <a:ext cx="3871800" cy="442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54040" y="193356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able to make a graph and to write an equati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160" y="92376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Tables to Generate Different Representation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10000" y="300204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 for a pattern in the val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38080" y="2967120"/>
          <a:ext cx="1220760" cy="2278080"/>
        </p:xfrm>
        <a:graphic>
          <a:graphicData uri="http://schemas.openxmlformats.org/drawingml/2006/table">
            <a:tbl>
              <a:tblPr/>
              <a:tblGrid>
                <a:gridCol w="611280"/>
                <a:gridCol w="60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4532400" y="4083120"/>
            <a:ext cx="360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ach value of y is the value of x minu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47800" y="38876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 = 1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47800" y="4307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2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7520" y="474516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3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/>
  <dc:description/>
  <dc:language>en-US</dc:language>
  <cp:lastModifiedBy>stevenh</cp:lastModifiedBy>
  <dcterms:modified xsi:type="dcterms:W3CDTF">2006-04-26T18:22:38Z</dcterms:modified>
  <cp:revision>622</cp:revision>
  <dc:subject/>
  <dc:title>PowerPoint Presentation</dc:title>
</cp:coreProperties>
</file>