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C86-D866-4B27-AEB8-A9806179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809-14A8-4F0B-82BF-DB6BC0F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3E0-6E2B-40A9-B99F-F1F577FE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04D-7B9E-4FAC-B9B1-0379FF14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CDE-F371-48DC-BAAA-369464A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4DF-9491-4018-94BA-B427B833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6D0-AAAA-415E-90DF-D0A8449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901-1A79-40AF-98EB-B11D509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9F0-EB93-45DA-AD9F-E4B34842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BCA-B3F7-42A6-8108-7807D08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859-3112-4DDE-ACF0-A74ED6A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39F-C9D8-46CA-A00C-012E5B2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9D43-A882-4A58-AE10-861400C65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716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756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15238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relationship is a function, each input has exactly one output. When the relationship is graphed, use th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vertical line t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Place a vertical line on the graph. If the line intersects the graph at only one point, then the relationship is a function. If the line intersects the graph at more than one point, then the relationship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2 has two outputs, y = 3 and y = 6. The input x = 3 also has more than one out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3200400"/>
          <a:ext cx="1752480" cy="2438280"/>
        </p:xfrm>
        <a:graphic>
          <a:graphicData uri="http://schemas.openxmlformats.org/drawingml/2006/table">
            <a:tbl>
              <a:tblPr/>
              <a:tblGrid>
                <a:gridCol w="91440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971800" y="48927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048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0 has two outputs, y = 2 and y = –2. Other x-values also have more than one y-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733920" cy="379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48006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29528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715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2971800"/>
          <a:ext cx="3429000" cy="275112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0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91040" cy="324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n input-output table and use it to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581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3276720"/>
          <a:ext cx="1752120" cy="2514240"/>
        </p:xfrm>
        <a:graphic>
          <a:graphicData uri="http://schemas.openxmlformats.org/drawingml/2006/table">
            <a:tbl>
              <a:tblPr/>
              <a:tblGrid>
                <a:gridCol w="875880"/>
                <a:gridCol w="876240"/>
              </a:tblGrid>
              <a:tr h="50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809880" y="4527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3355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nce the relationship is linear there can only be one output y for each input 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2652840"/>
            <a:ext cx="3962160" cy="3595320"/>
            <a:chOff x="838080" y="2652840"/>
            <a:chExt cx="3962160" cy="3595320"/>
          </a:xfrm>
        </p:grpSpPr>
        <p:grpSp>
          <p:nvGrpSpPr>
            <p:cNvPr id="237" name=""/>
            <p:cNvGrpSpPr/>
            <p:nvPr/>
          </p:nvGrpSpPr>
          <p:grpSpPr>
            <a:xfrm>
              <a:off x="838080" y="2753640"/>
              <a:ext cx="3540960" cy="3494520"/>
              <a:chOff x="838080" y="2753640"/>
              <a:chExt cx="3540960" cy="34945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168920" y="3097080"/>
                <a:ext cx="2878920" cy="2841480"/>
                <a:chOff x="1168920" y="3097080"/>
                <a:chExt cx="2878920" cy="2841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16892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45692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74456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03256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320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60820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96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183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47184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759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6892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5692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4456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03256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20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60820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96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83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7184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59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6892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5692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74456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3256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20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820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6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83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7184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59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16892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5692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74456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3256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20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820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96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183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7184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59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6892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5692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4456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3256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20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0820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896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3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7184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759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6892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5692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4456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3256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20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0820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896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83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47184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759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6892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45692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4456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3256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320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60820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96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83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47184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59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6892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5692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74456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03256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20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60820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896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83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7184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759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6892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5692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74456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03256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20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0820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96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83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7184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759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16892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5692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456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03256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20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0820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96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183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84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59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38080" y="2753640"/>
                <a:ext cx="3540960" cy="3494520"/>
                <a:chOff x="838080" y="2753640"/>
                <a:chExt cx="3540960" cy="34945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608560" y="27536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8080" y="451764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4125960" y="41173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1920" y="26528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>
            <a:off x="1294920" y="3657600"/>
            <a:ext cx="2667240" cy="1752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48164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3520" y="3772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3840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47840" y="4915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8128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5638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666880" y="3124080"/>
          <a:ext cx="3353040" cy="2343240"/>
        </p:xfrm>
        <a:graphic>
          <a:graphicData uri="http://schemas.openxmlformats.org/drawingml/2006/table">
            <a:tbl>
              <a:tblPr/>
              <a:tblGrid>
                <a:gridCol w="507960"/>
                <a:gridCol w="2151360"/>
                <a:gridCol w="693720"/>
              </a:tblGrid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75080"/>
            <a:ext cx="792468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0920" y="2271600"/>
            <a:ext cx="3961800" cy="3595320"/>
            <a:chOff x="2590920" y="2271600"/>
            <a:chExt cx="3961800" cy="3595320"/>
          </a:xfrm>
        </p:grpSpPr>
        <p:grpSp>
          <p:nvGrpSpPr>
            <p:cNvPr id="357" name=""/>
            <p:cNvGrpSpPr/>
            <p:nvPr/>
          </p:nvGrpSpPr>
          <p:grpSpPr>
            <a:xfrm>
              <a:off x="2590920" y="2271600"/>
              <a:ext cx="3961800" cy="3595320"/>
              <a:chOff x="2590920" y="2271600"/>
              <a:chExt cx="3961800" cy="35953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590920" y="2372400"/>
                <a:ext cx="3540600" cy="3494520"/>
                <a:chOff x="2590920" y="2372400"/>
                <a:chExt cx="3540600" cy="3494520"/>
              </a:xfrm>
            </p:grpSpPr>
            <p:grpSp>
              <p:nvGrpSpPr>
                <p:cNvPr id="359" name=""/>
                <p:cNvGrpSpPr/>
                <p:nvPr/>
              </p:nvGrpSpPr>
              <p:grpSpPr>
                <a:xfrm>
                  <a:off x="2921760" y="2715840"/>
                  <a:ext cx="2878200" cy="2841480"/>
                  <a:chOff x="2921760" y="2715840"/>
                  <a:chExt cx="2878200" cy="28414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92176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09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97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785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7304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360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648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936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224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51232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92176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209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97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85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07304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360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648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936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24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51232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92176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209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497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785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07304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360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648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936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24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51232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92176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09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497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785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304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360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648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936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5224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51232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92176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209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497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785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07304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360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648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36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224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1232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92176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209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497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785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07304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360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648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936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24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51232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92176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209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97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785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07304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60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48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936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224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51232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92176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209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97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785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07304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60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48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936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224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51232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92176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209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497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785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07304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360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48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36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24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51232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92176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209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497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785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07304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360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648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36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24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51232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590920" y="2372400"/>
                  <a:ext cx="3540600" cy="3494520"/>
                  <a:chOff x="2590920" y="2372400"/>
                  <a:chExt cx="3540600" cy="34945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361040" y="237240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590920" y="413640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5878440" y="3736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24400" y="22716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05324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536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80880" y="45720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028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3240" y="2819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888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664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80880" y="51055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90920" y="2800440"/>
              <a:ext cx="1752480" cy="2209680"/>
            </a:xfrm>
            <a:custGeom>
              <a:avLst/>
              <a:gdLst/>
              <a:ahLst/>
              <a:rect l="l" t="t" r="r" b="b"/>
              <a:pathLst>
                <a:path w="1056" h="1392">
                  <a:moveTo>
                    <a:pt x="0" y="0"/>
                  </a:moveTo>
                  <a:cubicBezTo>
                    <a:pt x="176" y="696"/>
                    <a:pt x="352" y="1392"/>
                    <a:pt x="528" y="1392"/>
                  </a:cubicBezTo>
                  <a:cubicBezTo>
                    <a:pt x="704" y="1392"/>
                    <a:pt x="1008" y="216"/>
                    <a:pt x="105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1413720"/>
            <a:ext cx="79246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35384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14400" y="4876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90720" y="2471760"/>
            <a:ext cx="694368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143000"/>
            <a:ext cx="8153280" cy="5181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three terms come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, 12, 15, 18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8, –3, 2, 7, 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 10, 12, 15, 19, …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68800" y="2684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1, 24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7640" y="3418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, 17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4190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4, 30,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600200"/>
            <a:ext cx="75438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ndra, Greg, and Michael team up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etitive eating contest. If Sandra can eat 3 hot dogs per minute, Gre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eat 4 hot dogs per minute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hael can eat 5    hot dogs per minute, how long will it take them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t a combined total of 100 hot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3760" y="526716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05440" y="3913200"/>
            <a:ext cx="380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represent functions with tables, graphs, o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28800"/>
            <a:ext cx="71629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 lin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00200"/>
            <a:ext cx="7086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ule that relates two quantities so that eac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 corresponds to exactly 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input values,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output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4479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s can be represented in many ways, including tables, graphs, and equations. If the domain of a function has infinitely many values, it is impossible to represent them all in a table, but a table can be used to show some of the values and to help in creating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Different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2728800"/>
            <a:ext cx="381960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57200" y="3200400"/>
          <a:ext cx="4343400" cy="31050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19160" y="37479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267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80060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3000" y="528624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8197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7623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5791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76560" y="42958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0960" y="4815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0960" y="53197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133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200400"/>
          <a:ext cx="3581280" cy="2438280"/>
        </p:xfrm>
        <a:graphic>
          <a:graphicData uri="http://schemas.openxmlformats.org/drawingml/2006/table">
            <a:tbl>
              <a:tblPr/>
              <a:tblGrid>
                <a:gridCol w="861840"/>
                <a:gridCol w="188136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66880" y="3762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2670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7242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1814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7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29200" y="2819520"/>
            <a:ext cx="3962160" cy="3595320"/>
            <a:chOff x="5029200" y="2819520"/>
            <a:chExt cx="3962160" cy="3595320"/>
          </a:xfrm>
        </p:grpSpPr>
        <p:grpSp>
          <p:nvGrpSpPr>
            <p:cNvPr id="95" name=""/>
            <p:cNvGrpSpPr/>
            <p:nvPr/>
          </p:nvGrpSpPr>
          <p:grpSpPr>
            <a:xfrm>
              <a:off x="5029200" y="2819520"/>
              <a:ext cx="3962160" cy="3595320"/>
              <a:chOff x="5029200" y="2819520"/>
              <a:chExt cx="3962160" cy="35953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29200" y="2920320"/>
                <a:ext cx="3540960" cy="3494520"/>
                <a:chOff x="5029200" y="2920320"/>
                <a:chExt cx="3540960" cy="349452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5360040" y="3263760"/>
                  <a:ext cx="2878920" cy="2841480"/>
                  <a:chOff x="5360040" y="3263760"/>
                  <a:chExt cx="2878920" cy="28414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36004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4804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93568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2368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511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79932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087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74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66296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950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36004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64804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93568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22368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511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79932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087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374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6296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950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36004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4804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93568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22368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11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79932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087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374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66296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50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36004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64804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93568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22368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11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79932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87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74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66296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950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36004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64804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93568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368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511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9932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087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74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66296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950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36004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64804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3568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22368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511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79932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087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374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66296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950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36004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64804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93568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22368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511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79932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087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374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66296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950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36004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64804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93568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22368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11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79932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087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374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66296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50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36004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4804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93568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22368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511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79932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087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374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6296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950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6004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64804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93568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2368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511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9932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87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374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66296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950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5029200" y="2920320"/>
                  <a:ext cx="3540960" cy="3494520"/>
                  <a:chOff x="5029200" y="2920320"/>
                  <a:chExt cx="3540960" cy="34945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799680" y="29203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029200" y="468432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"/>
              <p:cNvSpPr/>
              <p:nvPr/>
            </p:nvSpPr>
            <p:spPr>
              <a:xfrm>
                <a:off x="8317080" y="42840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3040" y="28195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224840" y="4633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36576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15000" y="4648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29240" y="46054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19760" y="4348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0719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0800" y="37958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43040" y="3005280"/>
            <a:ext cx="3048120" cy="2895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8:26:45Z</dcterms:modified>
  <cp:revision>120</cp:revision>
  <dc:subject/>
  <dc:title>Slide 1</dc:title>
</cp:coreProperties>
</file>