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969D-4DCE-44E4-9B9C-513CE3DE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E20C-A9A4-48B4-9951-B4AA3285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AD37-BFD3-45E7-9035-9810987F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4AD5-3344-4F6B-BBD7-E438C6AB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9063-A4AD-4DDD-8593-D870732D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F766-7538-4E69-BC6D-858CF59A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90B1-1F05-4BF5-B64A-DC6D190A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C769-9089-40A0-BFE6-ED6FC35E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4EE0-60A4-450B-AD7B-B72C38F9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0244-A5D1-4CD3-B2A1-0C169416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178-7418-4760-AC49-FC250FAD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ECC6-DA72-4D99-8EA6-A524657B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23FB-3E59-47AC-840E-B7ACB4137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3-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Func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07160" y="137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3-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Func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629160" y="237564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14400" y="1523880"/>
            <a:ext cx="7238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 relationship is a function, each input has exactly one output. When the relationship is graphed, use th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vertical line t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Place a vertical line on the graph. If the line intersects the graph at only one point, then the relationship is a function. If the line intersects the graph at more than one point, then the relationship is not a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relationship represent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: Identifying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33526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input x = 2 has two outputs, y = 3 and y = 6. The input x = 3 also has more than one outpu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85800" y="3200400"/>
          <a:ext cx="1752480" cy="2438280"/>
        </p:xfrm>
        <a:graphic>
          <a:graphicData uri="http://schemas.openxmlformats.org/drawingml/2006/table">
            <a:tbl>
              <a:tblPr/>
              <a:tblGrid>
                <a:gridCol w="914400"/>
                <a:gridCol w="838080"/>
              </a:tblGrid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971800" y="489276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relationship is not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088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relationship represent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: Identifying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0481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input x = 0 has two outputs, y = 2 and y = –2. Other x-values also have more than one y-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3733920" cy="3790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72000" y="48006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relationship is not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57200" y="1295280"/>
            <a:ext cx="8237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relationship represent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C: Identifying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" y="57150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ach input x has only one output y. The relationship i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85800" y="2971800"/>
          <a:ext cx="3429000" cy="2751120"/>
        </p:xfrm>
        <a:graphic>
          <a:graphicData uri="http://schemas.openxmlformats.org/drawingml/2006/table">
            <a:tbl>
              <a:tblPr/>
              <a:tblGrid>
                <a:gridCol w="914400"/>
                <a:gridCol w="251460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(–2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= –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(–1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= –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(0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=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(1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=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(2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=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715000" y="3276720"/>
            <a:ext cx="3191040" cy="3247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57200" y="2590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an input-output table and use it to graph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relationship represent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35812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ach input x has only one output 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219320" y="3276720"/>
          <a:ext cx="1752120" cy="2514240"/>
        </p:xfrm>
        <a:graphic>
          <a:graphicData uri="http://schemas.openxmlformats.org/drawingml/2006/table">
            <a:tbl>
              <a:tblPr/>
              <a:tblGrid>
                <a:gridCol w="875880"/>
                <a:gridCol w="876240"/>
              </a:tblGrid>
              <a:tr h="50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3809880" y="45277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relationship i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relationship represent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33559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ince the relationship is linear there can only be one output y for each input x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38080" y="2652840"/>
            <a:ext cx="3962160" cy="3595320"/>
            <a:chOff x="838080" y="2652840"/>
            <a:chExt cx="3962160" cy="3595320"/>
          </a:xfrm>
        </p:grpSpPr>
        <p:grpSp>
          <p:nvGrpSpPr>
            <p:cNvPr id="237" name=""/>
            <p:cNvGrpSpPr/>
            <p:nvPr/>
          </p:nvGrpSpPr>
          <p:grpSpPr>
            <a:xfrm>
              <a:off x="838080" y="2753640"/>
              <a:ext cx="3540960" cy="3494520"/>
              <a:chOff x="838080" y="2753640"/>
              <a:chExt cx="3540960" cy="349452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1168920" y="3097080"/>
                <a:ext cx="2878920" cy="2841480"/>
                <a:chOff x="1168920" y="3097080"/>
                <a:chExt cx="2878920" cy="28414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1168920" y="309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456920" y="309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744560" y="309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032560" y="309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320200" y="309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608200" y="309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896200" y="309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183840" y="309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471840" y="309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759840" y="309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168920" y="338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56920" y="338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744560" y="338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032560" y="338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320200" y="338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608200" y="338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896200" y="338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183840" y="338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471840" y="338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759840" y="338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168920" y="36651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456920" y="36651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744560" y="36651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032560" y="36651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320200" y="36651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608200" y="36651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896200" y="36651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183840" y="36651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471840" y="36651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759840" y="36651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168920" y="39492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456920" y="39492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744560" y="39492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032560" y="39492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320200" y="39492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608200" y="39492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896200" y="39492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183840" y="39492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471840" y="39492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759840" y="39492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168920" y="42332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456920" y="42332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744560" y="42332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032560" y="42332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320200" y="42332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608200" y="42332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896200" y="42332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183840" y="42332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471840" y="42332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759840" y="42332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168920" y="4517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456920" y="4517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744560" y="4517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032560" y="4517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320200" y="4517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608200" y="4517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896200" y="4517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183840" y="4517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471840" y="4517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759840" y="4517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168920" y="4801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456920" y="4801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744560" y="4801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032560" y="4801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320200" y="4801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608200" y="4801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896200" y="4801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183840" y="4801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471840" y="4801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759840" y="4801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168920" y="5086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456920" y="5086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744560" y="5086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032560" y="5086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320200" y="5086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608200" y="5086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896200" y="5086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183840" y="5086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471840" y="5086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759840" y="5086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168920" y="5370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456920" y="5370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744560" y="5370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032560" y="5370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320200" y="5370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608200" y="5370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896200" y="5370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183840" y="5370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471840" y="5370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759840" y="5370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168920" y="5654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456920" y="5654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744560" y="5654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032560" y="5654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320200" y="5654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608200" y="5654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896200" y="5654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183840" y="5654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471840" y="5654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759840" y="5654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838080" y="2753640"/>
                <a:ext cx="3540960" cy="3494520"/>
                <a:chOff x="838080" y="2753640"/>
                <a:chExt cx="3540960" cy="34945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2608560" y="2753640"/>
                  <a:ext cx="0" cy="3494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838080" y="4517640"/>
                  <a:ext cx="354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" name=""/>
            <p:cNvSpPr/>
            <p:nvPr/>
          </p:nvSpPr>
          <p:spPr>
            <a:xfrm>
              <a:off x="4125960" y="411732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71920" y="265284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 flipH="1">
            <a:off x="1294920" y="3657600"/>
            <a:ext cx="2667240" cy="1752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95680" y="481644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relationship i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333520" y="37720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38400" y="44863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47840" y="49150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81280" y="44863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457200" y="1828800"/>
            <a:ext cx="8237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relationship represent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" y="563868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ach input x has only one output y.  The relationship i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2666880" y="3124080"/>
          <a:ext cx="3353040" cy="2343240"/>
        </p:xfrm>
        <a:graphic>
          <a:graphicData uri="http://schemas.openxmlformats.org/drawingml/2006/table">
            <a:tbl>
              <a:tblPr/>
              <a:tblGrid>
                <a:gridCol w="507960"/>
                <a:gridCol w="2151360"/>
                <a:gridCol w="693720"/>
              </a:tblGrid>
              <a:tr h="46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–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 –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 –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 –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 –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1675080"/>
            <a:ext cx="792468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raph the functio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590920" y="2271600"/>
            <a:ext cx="3961800" cy="3595320"/>
            <a:chOff x="2590920" y="2271600"/>
            <a:chExt cx="3961800" cy="3595320"/>
          </a:xfrm>
        </p:grpSpPr>
        <p:grpSp>
          <p:nvGrpSpPr>
            <p:cNvPr id="357" name=""/>
            <p:cNvGrpSpPr/>
            <p:nvPr/>
          </p:nvGrpSpPr>
          <p:grpSpPr>
            <a:xfrm>
              <a:off x="2590920" y="2271600"/>
              <a:ext cx="3961800" cy="3595320"/>
              <a:chOff x="2590920" y="2271600"/>
              <a:chExt cx="3961800" cy="359532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2590920" y="2372400"/>
                <a:ext cx="3540600" cy="3494520"/>
                <a:chOff x="2590920" y="2372400"/>
                <a:chExt cx="3540600" cy="3494520"/>
              </a:xfrm>
            </p:grpSpPr>
            <p:grpSp>
              <p:nvGrpSpPr>
                <p:cNvPr id="359" name=""/>
                <p:cNvGrpSpPr/>
                <p:nvPr/>
              </p:nvGrpSpPr>
              <p:grpSpPr>
                <a:xfrm>
                  <a:off x="2921760" y="2715840"/>
                  <a:ext cx="2878200" cy="2841480"/>
                  <a:chOff x="2921760" y="2715840"/>
                  <a:chExt cx="2878200" cy="28414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292176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320940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349740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378540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407304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436068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464868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493668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522468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551232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92176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320940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349740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78540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407304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436068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464868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493668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522468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551232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292176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320940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349740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378540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407304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436068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464868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493668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522468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551232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92176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320940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349740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378540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407304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436068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464868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493668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522468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551232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292176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320940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349740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378540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407304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436068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464868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493668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522468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551232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292176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320940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349740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378540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407304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436068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464868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93668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522468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551232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292176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320940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349740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78540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07304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436068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464868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493668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522468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551232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292176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20940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49740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378540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407304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36068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64868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93668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522468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551232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92176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320940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349740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78540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07304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36068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464868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493668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522468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551232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292176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320940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349740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378540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407304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36068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64868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493668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522468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551232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"/>
                <p:cNvGrpSpPr/>
                <p:nvPr/>
              </p:nvGrpSpPr>
              <p:grpSpPr>
                <a:xfrm>
                  <a:off x="2590920" y="2372400"/>
                  <a:ext cx="3540600" cy="3494520"/>
                  <a:chOff x="2590920" y="2372400"/>
                  <a:chExt cx="3540600" cy="349452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>
                    <a:off x="4361040" y="2372400"/>
                    <a:ext cx="0" cy="3494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2590920" y="4136400"/>
                    <a:ext cx="354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3" name=""/>
              <p:cNvSpPr/>
              <p:nvPr/>
            </p:nvSpPr>
            <p:spPr>
              <a:xfrm>
                <a:off x="5878440" y="373608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424400" y="227160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4053240" y="34290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15360" y="41148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80880" y="4572000"/>
              <a:ext cx="34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-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02880" y="4114800"/>
              <a:ext cx="34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-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53240" y="28195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48880" y="41148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066480" y="4114800"/>
              <a:ext cx="34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-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980880" y="5105520"/>
              <a:ext cx="34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-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490920" y="2800440"/>
              <a:ext cx="1752480" cy="2209680"/>
            </a:xfrm>
            <a:custGeom>
              <a:avLst/>
              <a:gdLst/>
              <a:ahLst/>
              <a:rect l="l" t="t" r="r" b="b"/>
              <a:pathLst>
                <a:path w="1056" h="1392">
                  <a:moveTo>
                    <a:pt x="0" y="0"/>
                  </a:moveTo>
                  <a:cubicBezTo>
                    <a:pt x="176" y="696"/>
                    <a:pt x="352" y="1392"/>
                    <a:pt x="528" y="1392"/>
                  </a:cubicBezTo>
                  <a:cubicBezTo>
                    <a:pt x="704" y="1392"/>
                    <a:pt x="1008" y="216"/>
                    <a:pt x="105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33520" y="1413720"/>
            <a:ext cx="792468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each relationship represent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990720" y="35384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14400" y="4876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90720" y="2471760"/>
            <a:ext cx="6943680" cy="11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1143000"/>
            <a:ext cx="8153280" cy="51814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three terms come nex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9, 12, 15, 18,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8, –3, 2, 7, 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, 10, 12, 15, 19, …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68800" y="268488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21, 24,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57640" y="34185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2, 17,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41900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24, 30, 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1600200"/>
            <a:ext cx="7543800" cy="44197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ndra, Greg, and Michael team up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petitive eating contest. If Sandra can eat 3 hot dogs per minute, Gre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eat 4 hot dogs per minute,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chael can eat 5    hot dogs per minute, how long will it take them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t a combined total of 100 hot do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23760" y="5267160"/>
            <a:ext cx="22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8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05440" y="3913200"/>
            <a:ext cx="3808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represent functions with tables, graphs, or equatio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828800"/>
            <a:ext cx="7162920" cy="35812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tical lin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1600200"/>
            <a:ext cx="70866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rule that relates two quantities so that each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alue corresponds to exactly on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omai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set of all possible input values, and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a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set of all possible output val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1447920"/>
            <a:ext cx="7238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nctions can be represented in many ways, including tables, graphs, and equations. If the domain of a function has infinitely many values, it is impossible to represent them all in a table, but a table can be used to show some of the values and to help in creating a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ke a table and a graph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3 –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Finding Different Representations of a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2096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a table of inputs and outputs. Use the table to make a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29200" y="2728800"/>
            <a:ext cx="3819600" cy="381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457200" y="3200400"/>
          <a:ext cx="4343400" cy="3105000"/>
        </p:xfrm>
        <a:graphic>
          <a:graphicData uri="http://schemas.openxmlformats.org/drawingml/2006/table">
            <a:tbl>
              <a:tblPr/>
              <a:tblGrid>
                <a:gridCol w="1447920"/>
                <a:gridCol w="1600200"/>
                <a:gridCol w="129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–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919160" y="3747960"/>
            <a:ext cx="17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– (–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5120" y="426708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– (–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4800600"/>
            <a:ext cx="17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– (0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43000" y="5286240"/>
            <a:ext cx="17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– (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5819760"/>
            <a:ext cx="17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– (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37623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579132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76560" y="42958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90960" y="481500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0960" y="531972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16002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ke a table and a graph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21337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a table of inputs and outputs. Use the table to make a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3200400"/>
          <a:ext cx="3581280" cy="2438280"/>
        </p:xfrm>
        <a:graphic>
          <a:graphicData uri="http://schemas.openxmlformats.org/drawingml/2006/table">
            <a:tbl>
              <a:tblPr/>
              <a:tblGrid>
                <a:gridCol w="861840"/>
                <a:gridCol w="1881360"/>
                <a:gridCol w="838080"/>
              </a:tblGrid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+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1766880" y="37623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4267080"/>
            <a:ext cx="11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4724280"/>
            <a:ext cx="11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5181480"/>
            <a:ext cx="11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37670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4267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029200" y="2819520"/>
            <a:ext cx="3962160" cy="3595320"/>
            <a:chOff x="5029200" y="2819520"/>
            <a:chExt cx="3962160" cy="3595320"/>
          </a:xfrm>
        </p:grpSpPr>
        <p:grpSp>
          <p:nvGrpSpPr>
            <p:cNvPr id="95" name=""/>
            <p:cNvGrpSpPr/>
            <p:nvPr/>
          </p:nvGrpSpPr>
          <p:grpSpPr>
            <a:xfrm>
              <a:off x="5029200" y="2819520"/>
              <a:ext cx="3962160" cy="3595320"/>
              <a:chOff x="5029200" y="2819520"/>
              <a:chExt cx="3962160" cy="359532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5029200" y="2920320"/>
                <a:ext cx="3540960" cy="3494520"/>
                <a:chOff x="5029200" y="2920320"/>
                <a:chExt cx="3540960" cy="3494520"/>
              </a:xfrm>
            </p:grpSpPr>
            <p:grpSp>
              <p:nvGrpSpPr>
                <p:cNvPr id="97" name=""/>
                <p:cNvGrpSpPr/>
                <p:nvPr/>
              </p:nvGrpSpPr>
              <p:grpSpPr>
                <a:xfrm>
                  <a:off x="5360040" y="3263760"/>
                  <a:ext cx="2878920" cy="2841480"/>
                  <a:chOff x="5360040" y="3263760"/>
                  <a:chExt cx="2878920" cy="284148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5360040" y="3263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5648040" y="3263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5935680" y="3263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23680" y="3263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511320" y="3263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799320" y="3263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7087320" y="3263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7374960" y="3263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7662960" y="3263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7950960" y="3263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5360040" y="3547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648040" y="3547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5935680" y="3547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6223680" y="3547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6511320" y="3547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6799320" y="3547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7087320" y="3547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374960" y="3547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7662960" y="3547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7950960" y="3547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5360040" y="38318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5648040" y="3831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5935680" y="38318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6223680" y="3831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11320" y="3831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799320" y="38318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7087320" y="3831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374960" y="38318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7662960" y="3831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7950960" y="38318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5360040" y="411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5648040" y="411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5935680" y="411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6223680" y="411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6511320" y="411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799320" y="411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087320" y="411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374960" y="411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7662960" y="411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7950960" y="411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5360040" y="4399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5648040" y="4399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5935680" y="4399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223680" y="4399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6511320" y="4399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6799320" y="4399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7087320" y="4399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374960" y="4399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7662960" y="4399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7950960" y="4399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5360040" y="468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5648040" y="468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5935680" y="468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6223680" y="468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6511320" y="468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6799320" y="468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7087320" y="468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7374960" y="468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7662960" y="468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7950960" y="468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5360040" y="4968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5648040" y="4968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5935680" y="4968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6223680" y="4968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6511320" y="4968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6799320" y="4968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7087320" y="4968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7374960" y="4968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7662960" y="4968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7950960" y="4968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360040" y="5252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5648040" y="5252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5935680" y="5252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223680" y="5252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6511320" y="5252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6799320" y="5252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7087320" y="5252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7374960" y="5252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7662960" y="5252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7950960" y="5252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5360040" y="5536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5648040" y="5536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935680" y="5536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6223680" y="5536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6511320" y="5536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6799320" y="5536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7087320" y="5536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7374960" y="5536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7662960" y="5536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7950960" y="5536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5360040" y="5821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5648040" y="5821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5935680" y="5821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6223680" y="5821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511320" y="5821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6799320" y="5821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7087320" y="5821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7374960" y="5821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7662960" y="5821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7950960" y="5821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5029200" y="2920320"/>
                  <a:ext cx="3540960" cy="3494520"/>
                  <a:chOff x="5029200" y="2920320"/>
                  <a:chExt cx="3540960" cy="349452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6799680" y="2920320"/>
                    <a:ext cx="0" cy="3494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5029200" y="4684320"/>
                    <a:ext cx="3540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1" name=""/>
              <p:cNvSpPr/>
              <p:nvPr/>
            </p:nvSpPr>
            <p:spPr>
              <a:xfrm>
                <a:off x="8317080" y="428400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63040" y="281952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7224840" y="463392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77120" y="36576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15000" y="464832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429240" y="460548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19760" y="4348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10280" y="407196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00800" y="379584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243040" y="3005280"/>
            <a:ext cx="3048120" cy="2895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4-26T18:26:45Z</dcterms:modified>
  <cp:revision>120</cp:revision>
  <dc:subject/>
  <dc:title>Slide 1</dc:title>
</cp:coreProperties>
</file>