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D03-33F8-4FE8-8A44-5559E3E0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775-D5AB-426E-9C49-4FED3AAB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F25-1ED6-47E8-B122-8D58CC9F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6D0-9CBB-4CB7-B253-7BF97350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0C6-B343-42B4-9597-165B2AE6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3E0-7E4B-4264-B32F-DCB2B813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999-AD58-4DBD-9D2B-FD46EB7E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75B-C8E1-4103-982A-C33D32FC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F1E-E1D4-46D6-82A2-D651DA6C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F9E-2378-4FC6-8685-16170A83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80F-258A-49B4-8C48-C124D2DD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38C-83C9-41D4-9B07-CC4FB74F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9571-8F95-4887-A1BA-69BC5C271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3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716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Fun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7564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1523880"/>
            <a:ext cx="7238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relationship is a function, each input has exactly one output. When the relationship is graphed, use th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vertical line te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Place a vertical line on the graph. If the line intersects the graph at only one point, then the relationship is a function. If the line intersects the graph at more than one point, then the relationship is not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Identifying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33526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input x = 2 has two outputs, y = 3 and y = 6. The input x = 3 also has more than one outp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85800" y="3200400"/>
          <a:ext cx="1752480" cy="2438280"/>
        </p:xfrm>
        <a:graphic>
          <a:graphicData uri="http://schemas.openxmlformats.org/drawingml/2006/table">
            <a:tbl>
              <a:tblPr/>
              <a:tblGrid>
                <a:gridCol w="914400"/>
                <a:gridCol w="838080"/>
              </a:tblGrid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971800" y="489276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relationship is not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088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Identifying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0481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input x = 0 has two outputs, y = 2 and y = –2. Other x-values also have more than one y-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3733920" cy="3790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0" y="48006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relationship is not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295280"/>
            <a:ext cx="8237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C: Identifying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57150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input x has only one output y. The relationship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2971800"/>
          <a:ext cx="3429000" cy="2751120"/>
        </p:xfrm>
        <a:graphic>
          <a:graphicData uri="http://schemas.openxmlformats.org/drawingml/2006/table">
            <a:tbl>
              <a:tblPr/>
              <a:tblGrid>
                <a:gridCol w="914400"/>
                <a:gridCol w="25146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–2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–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–1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–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0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1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(2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=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715000" y="3276720"/>
            <a:ext cx="3191040" cy="3247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" y="2590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n input-output table and use it to grap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3581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input x has only one output 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219320" y="3276720"/>
          <a:ext cx="1752120" cy="2514240"/>
        </p:xfrm>
        <a:graphic>
          <a:graphicData uri="http://schemas.openxmlformats.org/drawingml/2006/table">
            <a:tbl>
              <a:tblPr/>
              <a:tblGrid>
                <a:gridCol w="875880"/>
                <a:gridCol w="876240"/>
              </a:tblGrid>
              <a:tr h="50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3809880" y="45277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relationship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33559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Since the relationship is linear there can only be one output y for each input x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38080" y="2652840"/>
            <a:ext cx="3962160" cy="3595320"/>
            <a:chOff x="838080" y="2652840"/>
            <a:chExt cx="3962160" cy="3595320"/>
          </a:xfrm>
        </p:grpSpPr>
        <p:grpSp>
          <p:nvGrpSpPr>
            <p:cNvPr id="237" name=""/>
            <p:cNvGrpSpPr/>
            <p:nvPr/>
          </p:nvGrpSpPr>
          <p:grpSpPr>
            <a:xfrm>
              <a:off x="838080" y="2753640"/>
              <a:ext cx="3540960" cy="3494520"/>
              <a:chOff x="838080" y="2753640"/>
              <a:chExt cx="3540960" cy="34945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1168920" y="3097080"/>
                <a:ext cx="2878920" cy="2841480"/>
                <a:chOff x="1168920" y="3097080"/>
                <a:chExt cx="2878920" cy="28414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116892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45692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74456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03256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32020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60820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89620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18384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471840" y="3097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759840" y="3097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16892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5692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4456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03256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32020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60820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89620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18384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71840" y="3381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759840" y="3381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16892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45692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74456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03256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32020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60820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9620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18384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471840" y="366516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759840" y="366516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16892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45692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74456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03256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32020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0820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89620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18384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71840" y="394920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759840" y="394920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16892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45692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74456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3256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32020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60820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89620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18384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471840" y="42332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759840" y="42332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16892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45692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74456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03256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32020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60820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89620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18384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471840" y="451764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759840" y="451764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16892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45692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74456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3256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32020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60820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89620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18384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471840" y="48016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759840" y="48016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16892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45692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74456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03256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32020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60820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89620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18384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471840" y="508608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759840" y="508608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16892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5692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74456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03256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2020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60820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89620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18384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471840" y="53701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759840" y="53701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16892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45692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4456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03256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2020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60820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9620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18384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71840" y="5654520"/>
                  <a:ext cx="28764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759840" y="5654520"/>
                  <a:ext cx="288000" cy="284040"/>
                </a:xfrm>
                <a:prstGeom prst="rect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838080" y="2753640"/>
                <a:ext cx="3540960" cy="3494520"/>
                <a:chOff x="838080" y="2753640"/>
                <a:chExt cx="3540960" cy="34945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608560" y="2753640"/>
                  <a:ext cx="0" cy="349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38080" y="4517640"/>
                  <a:ext cx="3540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"/>
            <p:cNvSpPr/>
            <p:nvPr/>
          </p:nvSpPr>
          <p:spPr>
            <a:xfrm>
              <a:off x="4125960" y="411732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71920" y="2652840"/>
              <a:ext cx="6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H="1">
            <a:off x="1294920" y="3657600"/>
            <a:ext cx="2667240" cy="1752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48164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relationship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33520" y="3772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38400" y="4486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47840" y="4915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81280" y="4486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57200" y="1828800"/>
            <a:ext cx="8237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56386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input x has only one output y.  The relationship i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666880" y="3124080"/>
          <a:ext cx="3353040" cy="2343240"/>
        </p:xfrm>
        <a:graphic>
          <a:graphicData uri="http://schemas.openxmlformats.org/drawingml/2006/table">
            <a:tbl>
              <a:tblPr/>
              <a:tblGrid>
                <a:gridCol w="507960"/>
                <a:gridCol w="2151360"/>
                <a:gridCol w="693720"/>
              </a:tblGrid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 –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1675080"/>
            <a:ext cx="792468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raph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590920" y="2271600"/>
            <a:ext cx="3961800" cy="3595320"/>
            <a:chOff x="2590920" y="2271600"/>
            <a:chExt cx="3961800" cy="3595320"/>
          </a:xfrm>
        </p:grpSpPr>
        <p:grpSp>
          <p:nvGrpSpPr>
            <p:cNvPr id="357" name=""/>
            <p:cNvGrpSpPr/>
            <p:nvPr/>
          </p:nvGrpSpPr>
          <p:grpSpPr>
            <a:xfrm>
              <a:off x="2590920" y="2271600"/>
              <a:ext cx="3961800" cy="3595320"/>
              <a:chOff x="2590920" y="2271600"/>
              <a:chExt cx="3961800" cy="359532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2590920" y="2372400"/>
                <a:ext cx="3540600" cy="3494520"/>
                <a:chOff x="2590920" y="2372400"/>
                <a:chExt cx="3540600" cy="3494520"/>
              </a:xfrm>
            </p:grpSpPr>
            <p:grpSp>
              <p:nvGrpSpPr>
                <p:cNvPr id="359" name=""/>
                <p:cNvGrpSpPr/>
                <p:nvPr/>
              </p:nvGrpSpPr>
              <p:grpSpPr>
                <a:xfrm>
                  <a:off x="2921760" y="2715840"/>
                  <a:ext cx="2878200" cy="2841480"/>
                  <a:chOff x="2921760" y="2715840"/>
                  <a:chExt cx="2878200" cy="28414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292176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20940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49740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78540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07304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36068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464868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493668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22468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512320" y="2715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92176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20940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49740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78540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407304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436068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64868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93668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22468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5512320" y="2999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92176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20940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49740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78540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07304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36068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64868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93668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522468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5512320" y="328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92176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20940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49740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78540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07304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36068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64868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93668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522468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512320" y="356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92176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320940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349740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78540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07304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436068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64868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93668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522468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512320" y="385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92176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320940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349740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78540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07304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36068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64868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93668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22468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512320" y="4136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92176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20940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49740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78540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07304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6068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4868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93668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22468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512320" y="4420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92176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20940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49740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78540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07304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6068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4868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93668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22468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5512320" y="4704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92176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20940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49740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78540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07304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36068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4868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3668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22468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512320" y="4988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92176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20940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49740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78540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07304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36068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64868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3668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22468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512320" y="52732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2590920" y="2372400"/>
                  <a:ext cx="3540600" cy="3494520"/>
                  <a:chOff x="2590920" y="2372400"/>
                  <a:chExt cx="3540600" cy="349452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4361040" y="237240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590920" y="4136400"/>
                    <a:ext cx="354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3" name=""/>
              <p:cNvSpPr/>
              <p:nvPr/>
            </p:nvSpPr>
            <p:spPr>
              <a:xfrm>
                <a:off x="5878440" y="37360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424400" y="227160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4053240" y="34290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15360" y="4114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80880" y="457200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02880" y="411480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53240" y="2819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48880" y="4114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66480" y="411480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80880" y="510552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490920" y="2800440"/>
              <a:ext cx="1752480" cy="2209680"/>
            </a:xfrm>
            <a:custGeom>
              <a:avLst/>
              <a:gdLst/>
              <a:ahLst/>
              <a:rect l="l" t="t" r="r" b="b"/>
              <a:pathLst>
                <a:path w="1056" h="1392">
                  <a:moveTo>
                    <a:pt x="0" y="0"/>
                  </a:moveTo>
                  <a:cubicBezTo>
                    <a:pt x="176" y="696"/>
                    <a:pt x="352" y="1392"/>
                    <a:pt x="528" y="1392"/>
                  </a:cubicBezTo>
                  <a:cubicBezTo>
                    <a:pt x="704" y="1392"/>
                    <a:pt x="1008" y="216"/>
                    <a:pt x="105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3520" y="1413720"/>
            <a:ext cx="792468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each relationship represents a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35384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14400" y="4876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90720" y="2471760"/>
            <a:ext cx="6943680" cy="11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143000"/>
            <a:ext cx="8153280" cy="51814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three terms come nex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9, 12, 15, 18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8, –3, 2, 7, 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, 10, 12, 15, 19, …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68800" y="26848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1, 24,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7640" y="34185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, 17,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4190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24, 30,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1600200"/>
            <a:ext cx="7543800" cy="4419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ndra, Greg, and Michael team up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petitive eating contest. If Sandra can eat 3 hot dogs per minute, Gre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eat 4 hot dogs per minute,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hael can eat 5    hot dogs per minute, how long will it take them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t a combined total of 100 hot do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23760" y="5267160"/>
            <a:ext cx="22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8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05440" y="3913200"/>
            <a:ext cx="3808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represent functions with tables, graphs, or equa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828800"/>
            <a:ext cx="7162920" cy="3581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tical lin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600200"/>
            <a:ext cx="70866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rule that relates two quantities so that eac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alue corresponds to exactly on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set of all possible input values, an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a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set of all possible output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144792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ctions can be represented in many ways, including tables, graphs, and equations. If the domain of a function has infinitely many values, it is impossible to represent them all in a table, but a table can be used to show some of the values and to help in creating a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ke a table and a graph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 –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Different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209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table of inputs and outputs. Use the table to make a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29200" y="2728800"/>
            <a:ext cx="381960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457200" y="3200400"/>
          <a:ext cx="4343400" cy="3105000"/>
        </p:xfrm>
        <a:graphic>
          <a:graphicData uri="http://schemas.openxmlformats.org/drawingml/2006/table">
            <a:tbl>
              <a:tblPr/>
              <a:tblGrid>
                <a:gridCol w="1447920"/>
                <a:gridCol w="160020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919160" y="374796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–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4267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–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80060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43000" y="528624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5819760"/>
            <a:ext cx="17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(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37623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57913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76560" y="42958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0960" y="481500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0960" y="53197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ke a table and a graph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1337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table of inputs and outputs. Use the table to make a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3200400"/>
          <a:ext cx="3581280" cy="2438280"/>
        </p:xfrm>
        <a:graphic>
          <a:graphicData uri="http://schemas.openxmlformats.org/drawingml/2006/table">
            <a:tbl>
              <a:tblPr/>
              <a:tblGrid>
                <a:gridCol w="861840"/>
                <a:gridCol w="1881360"/>
                <a:gridCol w="838080"/>
              </a:tblGrid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x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766880" y="3762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267080"/>
            <a:ext cx="11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4724280"/>
            <a:ext cx="11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5181480"/>
            <a:ext cx="11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7670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029200" y="2819520"/>
            <a:ext cx="3962160" cy="3595320"/>
            <a:chOff x="5029200" y="2819520"/>
            <a:chExt cx="3962160" cy="3595320"/>
          </a:xfrm>
        </p:grpSpPr>
        <p:grpSp>
          <p:nvGrpSpPr>
            <p:cNvPr id="95" name=""/>
            <p:cNvGrpSpPr/>
            <p:nvPr/>
          </p:nvGrpSpPr>
          <p:grpSpPr>
            <a:xfrm>
              <a:off x="5029200" y="2819520"/>
              <a:ext cx="3962160" cy="3595320"/>
              <a:chOff x="5029200" y="2819520"/>
              <a:chExt cx="3962160" cy="359532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5029200" y="2920320"/>
                <a:ext cx="3540960" cy="3494520"/>
                <a:chOff x="5029200" y="2920320"/>
                <a:chExt cx="3540960" cy="349452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5360040" y="3263760"/>
                  <a:ext cx="2878920" cy="2841480"/>
                  <a:chOff x="5360040" y="3263760"/>
                  <a:chExt cx="2878920" cy="284148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536004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564804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93568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2368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51132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79932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708732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37496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662960" y="3263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950960" y="3263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36004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64804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93568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622368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651132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679932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08732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37496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62960" y="3547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7950960" y="3547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536004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564804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93568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622368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1132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79932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08732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37496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662960" y="38318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50960" y="38318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36004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564804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93568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22368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651132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79932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08732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37496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662960" y="4115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950960" y="4115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36004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64804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593568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22368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651132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79932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708732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37496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7662960" y="4399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7950960" y="4399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36004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64804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93568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622368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51132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679932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708732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37496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662960" y="4684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950960" y="4684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536004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564804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593568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22368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51132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79932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08732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37496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7662960" y="4968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7950960" y="4968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36004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64804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593568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22368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651132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679932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08732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737496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662960" y="5252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950960" y="5252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536004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564804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93568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22368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51132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79932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708732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737496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662960" y="55368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7950960" y="55368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36004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64804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593568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22368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51132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79932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08732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37496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662960" y="5821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950960" y="5821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5029200" y="2920320"/>
                  <a:ext cx="3540960" cy="3494520"/>
                  <a:chOff x="5029200" y="2920320"/>
                  <a:chExt cx="3540960" cy="34945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6799680" y="292032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5029200" y="4684320"/>
                    <a:ext cx="3540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"/>
              <p:cNvSpPr/>
              <p:nvPr/>
            </p:nvSpPr>
            <p:spPr>
              <a:xfrm>
                <a:off x="8317080" y="428400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63040" y="281952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7224840" y="46339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7120" y="36576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15000" y="464832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429240" y="460548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19760" y="4348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07196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00800" y="379584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243040" y="3005280"/>
            <a:ext cx="3048120" cy="2895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6T18:26:45Z</dcterms:modified>
  <cp:revision>120</cp:revision>
  <dc:subject/>
  <dc:title>Slide 1</dc:title>
</cp:coreProperties>
</file>