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8D84-A118-4427-BE42-E019B606D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37E2-526A-423E-9227-322F3715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6C40-636D-4F0D-88AB-DBA5D7068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A748-00A6-4EE2-9A3A-AA602241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6DFB-C6FC-4D5C-8810-BC739590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8C91-D9A6-49AE-B6C8-CBC663BE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0860-DC5D-49B5-9684-E87807DF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A190-1B12-4620-8943-3B229140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2AFC-03EE-4FC0-994C-A9A0A1AC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FE86-327C-4C18-ADFF-D4966847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D4B4-CDDA-4341-AC41-F93C29BB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E0E4-1638-4C57-8FC7-B82D42A5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70D0-B25B-4869-B03B-39036B066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3-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24840" y="91080"/>
              <a:ext cx="632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Graphing on a Coordinate Plan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05360" y="137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3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05920" y="145080"/>
            <a:ext cx="632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raphing on a Coordinate 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6553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ours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657600" y="23623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" action="ppaction://hlinksldjump"/>
          </p:cNvPr>
          <p:cNvSpPr/>
          <p:nvPr/>
        </p:nvSpPr>
        <p:spPr>
          <a:xfrm>
            <a:off x="3657600" y="30481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3" action="ppaction://hlinksldjump"/>
          </p:cNvPr>
          <p:cNvSpPr/>
          <p:nvPr/>
        </p:nvSpPr>
        <p:spPr>
          <a:xfrm>
            <a:off x="3657600" y="368604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46160" indent="-19461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95560" y="2514600"/>
            <a:ext cx="52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48400" y="243828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(0, 2); no quad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86200" y="294804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0 units right, 2 units 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95560" y="3406680"/>
            <a:ext cx="52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595840" y="3330720"/>
            <a:ext cx="35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(2, 0); no quad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86200" y="384012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2 units right, 0 units 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95560" y="4267080"/>
            <a:ext cx="52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72080" y="419112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(–1, 4); Quadrant 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86200" y="470052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1 unit left, 4 units 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05280" y="5159520"/>
            <a:ext cx="50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83160" y="5083200"/>
            <a:ext cx="36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(–3, –2); Quadrant l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95560" y="5592600"/>
            <a:ext cx="4038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3 units left, 2 units dow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04920" y="2424240"/>
            <a:ext cx="3961800" cy="3595320"/>
            <a:chOff x="304920" y="2424240"/>
            <a:chExt cx="3961800" cy="3595320"/>
          </a:xfrm>
        </p:grpSpPr>
        <p:grpSp>
          <p:nvGrpSpPr>
            <p:cNvPr id="342" name=""/>
            <p:cNvGrpSpPr/>
            <p:nvPr/>
          </p:nvGrpSpPr>
          <p:grpSpPr>
            <a:xfrm>
              <a:off x="304920" y="2525040"/>
              <a:ext cx="3540600" cy="3494520"/>
              <a:chOff x="304920" y="2525040"/>
              <a:chExt cx="3540600" cy="349452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635760" y="2868480"/>
                <a:ext cx="2878200" cy="2841480"/>
                <a:chOff x="635760" y="2868480"/>
                <a:chExt cx="2878200" cy="284148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63576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92340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21140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49940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78704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07468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36268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65068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93868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22632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3576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92340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21140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49940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78704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07468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36268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65068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93868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322632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3576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92340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21140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49940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78704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07468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36268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65068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93868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322632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63576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92340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21140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49940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78704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07468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36268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65068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93868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322632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3576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92340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21140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49940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78704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07468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36268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65068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93868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322632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3576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92340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121140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149940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178704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07468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36268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65068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93868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322632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3576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92340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121140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149940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78704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07468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36268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65068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93868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22632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3576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92340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121140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149940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178704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207468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36268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265068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293868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22632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63576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92340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21140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149940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78704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07468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36268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65068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293868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322632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63576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92340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121140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149940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178704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207468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236268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265068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293868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22632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304920" y="2525040"/>
                <a:ext cx="3540600" cy="3494520"/>
                <a:chOff x="304920" y="2525040"/>
                <a:chExt cx="3540600" cy="34945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2075040" y="2525040"/>
                  <a:ext cx="0" cy="3494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04920" y="4289040"/>
                  <a:ext cx="354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"/>
            <p:cNvSpPr/>
            <p:nvPr/>
          </p:nvSpPr>
          <p:spPr>
            <a:xfrm>
              <a:off x="3592440" y="388872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38400" y="242424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1995480" y="36291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143000" y="47815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709640" y="307656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76520" y="42195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133720" y="3370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219320" y="447984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738440" y="276084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666880" y="39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52280" y="1828800"/>
            <a:ext cx="88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ive the coordinates and quadrants of each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1095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: Graphing Points on a Coordinate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49280" y="167652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aph each point on the coordinate pla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37960" y="3124080"/>
            <a:ext cx="19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,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8600" y="355752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right 3, up 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600280" y="311616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4,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590920" y="354960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right 4, up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" y="40053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4,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19240" y="443880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left 4, up 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90920" y="4016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1, –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581200" y="4449600"/>
            <a:ext cx="4038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left 1, down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4800600" y="2438280"/>
            <a:ext cx="3962160" cy="3595320"/>
            <a:chOff x="4800600" y="2438280"/>
            <a:chExt cx="3962160" cy="3595320"/>
          </a:xfrm>
        </p:grpSpPr>
        <p:grpSp>
          <p:nvGrpSpPr>
            <p:cNvPr id="469" name=""/>
            <p:cNvGrpSpPr/>
            <p:nvPr/>
          </p:nvGrpSpPr>
          <p:grpSpPr>
            <a:xfrm>
              <a:off x="4800600" y="2539080"/>
              <a:ext cx="3540960" cy="3494520"/>
              <a:chOff x="4800600" y="2539080"/>
              <a:chExt cx="3540960" cy="3494520"/>
            </a:xfrm>
          </p:grpSpPr>
          <p:grpSp>
            <p:nvGrpSpPr>
              <p:cNvPr id="470" name=""/>
              <p:cNvGrpSpPr/>
              <p:nvPr/>
            </p:nvGrpSpPr>
            <p:grpSpPr>
              <a:xfrm>
                <a:off x="5131440" y="2882520"/>
                <a:ext cx="2878920" cy="2841480"/>
                <a:chOff x="5131440" y="2882520"/>
                <a:chExt cx="2878920" cy="284148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131440" y="2882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419440" y="288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5707080" y="2882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5995080" y="288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282720" y="288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6570720" y="2882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858720" y="288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146360" y="2882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434360" y="288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7722360" y="2882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5131440" y="3166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5419440" y="316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5707080" y="3166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995080" y="316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282720" y="316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570720" y="3166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858720" y="316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7146360" y="3166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7434360" y="316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7722360" y="3166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5131440" y="34506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5419440" y="345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707080" y="34506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5995080" y="345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6282720" y="345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570720" y="34506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6858720" y="345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7146360" y="34506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434360" y="345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722360" y="34506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131440" y="3734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419440" y="373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5707080" y="3734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5995080" y="373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6282720" y="373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6570720" y="3734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6858720" y="373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7146360" y="3734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7434360" y="373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7722360" y="3734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5131440" y="4018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5419440" y="4018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5707080" y="4018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5995080" y="4018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282720" y="4018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6570720" y="4018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6858720" y="4018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7146360" y="4018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7434360" y="4018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7722360" y="4018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5131440" y="4303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5419440" y="430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707080" y="4303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5995080" y="430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282720" y="430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570720" y="4303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858720" y="430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7146360" y="4303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434360" y="430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7722360" y="4303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5131440" y="4587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5419440" y="4587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5707080" y="4587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5995080" y="4587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6282720" y="4587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570720" y="4587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858720" y="4587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7146360" y="4587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7434360" y="4587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7722360" y="4587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131440" y="4871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5419440" y="487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5707080" y="4871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5995080" y="487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6282720" y="487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570720" y="4871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6858720" y="487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7146360" y="4871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7434360" y="487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7722360" y="4871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5131440" y="5155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5419440" y="5155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5707080" y="5155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995080" y="5155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6282720" y="5155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6570720" y="5155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6858720" y="5155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7146360" y="5155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7434360" y="5155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7722360" y="5155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5131440" y="5439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5419440" y="5439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5707080" y="5439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5995080" y="5439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6282720" y="5439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6570720" y="5439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6858720" y="5439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7146360" y="5439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7434360" y="5439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7722360" y="5439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4800600" y="2539080"/>
                <a:ext cx="3540960" cy="3494520"/>
                <a:chOff x="4800600" y="2539080"/>
                <a:chExt cx="3540960" cy="349452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6571080" y="2539080"/>
                  <a:ext cx="0" cy="3494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4800600" y="4303080"/>
                  <a:ext cx="3540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4" name=""/>
            <p:cNvSpPr/>
            <p:nvPr/>
          </p:nvSpPr>
          <p:spPr>
            <a:xfrm>
              <a:off x="8088480" y="390276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634440" y="243828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7343640" y="2852640"/>
            <a:ext cx="552600" cy="398880"/>
            <a:chOff x="7343640" y="2852640"/>
            <a:chExt cx="552600" cy="398880"/>
          </a:xfrm>
        </p:grpSpPr>
        <p:sp>
          <p:nvSpPr>
            <p:cNvPr id="577" name=""/>
            <p:cNvSpPr/>
            <p:nvPr/>
          </p:nvSpPr>
          <p:spPr>
            <a:xfrm>
              <a:off x="7343640" y="309564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439040" y="28526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7648560" y="4219560"/>
            <a:ext cx="519120" cy="444960"/>
            <a:chOff x="7648560" y="4219560"/>
            <a:chExt cx="519120" cy="444960"/>
          </a:xfrm>
        </p:grpSpPr>
        <p:sp>
          <p:nvSpPr>
            <p:cNvPr id="580" name=""/>
            <p:cNvSpPr/>
            <p:nvPr/>
          </p:nvSpPr>
          <p:spPr>
            <a:xfrm>
              <a:off x="7648560" y="4219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710480" y="42656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Verdan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6200640" y="4772160"/>
            <a:ext cx="509760" cy="442800"/>
            <a:chOff x="6200640" y="4772160"/>
            <a:chExt cx="509760" cy="442800"/>
          </a:xfrm>
        </p:grpSpPr>
        <p:sp>
          <p:nvSpPr>
            <p:cNvPr id="583" name=""/>
            <p:cNvSpPr/>
            <p:nvPr/>
          </p:nvSpPr>
          <p:spPr>
            <a:xfrm>
              <a:off x="6200640" y="506268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53200" y="47721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Verdana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5334120" y="2803680"/>
            <a:ext cx="519120" cy="439560"/>
            <a:chOff x="5334120" y="2803680"/>
            <a:chExt cx="519120" cy="439560"/>
          </a:xfrm>
        </p:grpSpPr>
        <p:sp>
          <p:nvSpPr>
            <p:cNvPr id="586" name=""/>
            <p:cNvSpPr/>
            <p:nvPr/>
          </p:nvSpPr>
          <p:spPr>
            <a:xfrm>
              <a:off x="5334120" y="30909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396040" y="2803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Verdan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46160" indent="-19461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2960" y="161604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aph each point on the coordinate pla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37960" y="3124080"/>
            <a:ext cx="19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,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28600" y="355752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right 2, up 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600280" y="311616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,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590920" y="354960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right 2, up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28600" y="400536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2,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19240" y="443880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left 2, up 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590920" y="4016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1, –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581200" y="4449600"/>
            <a:ext cx="4038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left 1, down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4800600" y="2438280"/>
            <a:ext cx="3962160" cy="3595320"/>
            <a:chOff x="4800600" y="2438280"/>
            <a:chExt cx="3962160" cy="3595320"/>
          </a:xfrm>
        </p:grpSpPr>
        <p:grpSp>
          <p:nvGrpSpPr>
            <p:cNvPr id="599" name=""/>
            <p:cNvGrpSpPr/>
            <p:nvPr/>
          </p:nvGrpSpPr>
          <p:grpSpPr>
            <a:xfrm>
              <a:off x="4800600" y="2539080"/>
              <a:ext cx="3540960" cy="3494520"/>
              <a:chOff x="4800600" y="2539080"/>
              <a:chExt cx="3540960" cy="3494520"/>
            </a:xfrm>
          </p:grpSpPr>
          <p:grpSp>
            <p:nvGrpSpPr>
              <p:cNvPr id="600" name=""/>
              <p:cNvGrpSpPr/>
              <p:nvPr/>
            </p:nvGrpSpPr>
            <p:grpSpPr>
              <a:xfrm>
                <a:off x="5131440" y="2882520"/>
                <a:ext cx="2878920" cy="2841480"/>
                <a:chOff x="5131440" y="2882520"/>
                <a:chExt cx="2878920" cy="284148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5131440" y="2882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419440" y="288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5707080" y="2882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995080" y="288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6282720" y="288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6570720" y="2882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6858720" y="288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7146360" y="2882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7434360" y="288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7722360" y="2882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5131440" y="3166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5419440" y="316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707080" y="3166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5995080" y="316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6282720" y="316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570720" y="3166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6858720" y="316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7146360" y="3166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434360" y="316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7722360" y="3166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131440" y="34506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419440" y="345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707080" y="34506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995080" y="345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282720" y="345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6570720" y="34506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6858720" y="345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7146360" y="34506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7434360" y="345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7722360" y="34506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131440" y="3734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5419440" y="373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5707080" y="3734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5995080" y="373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6282720" y="373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6570720" y="3734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6858720" y="373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7146360" y="3734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7434360" y="373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7722360" y="3734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5131440" y="4018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5419440" y="4018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5707080" y="4018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5995080" y="4018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6282720" y="4018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6570720" y="4018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6858720" y="4018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7146360" y="4018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7434360" y="4018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7722360" y="4018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5131440" y="4303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5419440" y="430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707080" y="4303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995080" y="430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282720" y="430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570720" y="4303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6858720" y="430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7146360" y="4303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7434360" y="430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7722360" y="4303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5131440" y="4587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5419440" y="4587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5707080" y="4587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5995080" y="4587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6282720" y="4587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6570720" y="4587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6858720" y="4587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7146360" y="4587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434360" y="4587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7722360" y="4587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131440" y="4871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5419440" y="487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707080" y="4871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5995080" y="487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6282720" y="487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6570720" y="4871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6858720" y="487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7146360" y="4871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7434360" y="487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7722360" y="4871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131440" y="5155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419440" y="5155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5707080" y="5155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995080" y="5155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6282720" y="5155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6570720" y="5155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6858720" y="5155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7146360" y="5155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7434360" y="5155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7722360" y="5155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5131440" y="5439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419440" y="5439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707080" y="5439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995080" y="5439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6282720" y="5439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6570720" y="5439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6858720" y="5439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7146360" y="5439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7434360" y="5439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7722360" y="5439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1" name=""/>
              <p:cNvGrpSpPr/>
              <p:nvPr/>
            </p:nvGrpSpPr>
            <p:grpSpPr>
              <a:xfrm>
                <a:off x="4800600" y="2539080"/>
                <a:ext cx="3540960" cy="3494520"/>
                <a:chOff x="4800600" y="2539080"/>
                <a:chExt cx="3540960" cy="349452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6571080" y="2539080"/>
                  <a:ext cx="0" cy="3494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4800600" y="4303080"/>
                  <a:ext cx="3540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4" name=""/>
            <p:cNvSpPr/>
            <p:nvPr/>
          </p:nvSpPr>
          <p:spPr>
            <a:xfrm>
              <a:off x="8088480" y="390276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634440" y="243828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7067520" y="2852640"/>
            <a:ext cx="552600" cy="398880"/>
            <a:chOff x="7067520" y="2852640"/>
            <a:chExt cx="552600" cy="398880"/>
          </a:xfrm>
        </p:grpSpPr>
        <p:sp>
          <p:nvSpPr>
            <p:cNvPr id="707" name=""/>
            <p:cNvSpPr/>
            <p:nvPr/>
          </p:nvSpPr>
          <p:spPr>
            <a:xfrm>
              <a:off x="7067520" y="309564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62920" y="28526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7067520" y="4224240"/>
            <a:ext cx="519120" cy="444960"/>
            <a:chOff x="7067520" y="4224240"/>
            <a:chExt cx="519120" cy="444960"/>
          </a:xfrm>
        </p:grpSpPr>
        <p:sp>
          <p:nvSpPr>
            <p:cNvPr id="710" name=""/>
            <p:cNvSpPr/>
            <p:nvPr/>
          </p:nvSpPr>
          <p:spPr>
            <a:xfrm>
              <a:off x="7067520" y="4224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29440" y="42703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Verdan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6210360" y="4219560"/>
            <a:ext cx="509040" cy="442800"/>
            <a:chOff x="6210360" y="4219560"/>
            <a:chExt cx="509040" cy="442800"/>
          </a:xfrm>
        </p:grpSpPr>
        <p:sp>
          <p:nvSpPr>
            <p:cNvPr id="713" name=""/>
            <p:cNvSpPr/>
            <p:nvPr/>
          </p:nvSpPr>
          <p:spPr>
            <a:xfrm>
              <a:off x="6210360" y="45100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262560" y="4219560"/>
              <a:ext cx="45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Verdana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5915160" y="2803680"/>
            <a:ext cx="519120" cy="439560"/>
            <a:chOff x="5915160" y="2803680"/>
            <a:chExt cx="519120" cy="439560"/>
          </a:xfrm>
        </p:grpSpPr>
        <p:sp>
          <p:nvSpPr>
            <p:cNvPr id="716" name=""/>
            <p:cNvSpPr/>
            <p:nvPr/>
          </p:nvSpPr>
          <p:spPr>
            <a:xfrm>
              <a:off x="5915160" y="30909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977080" y="2803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Verdan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762120" y="1600200"/>
            <a:ext cx="7391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graph of an equ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the set of all ordered pairs that are solutions of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46160" indent="-19461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: Graphing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5421240" y="2730600"/>
            <a:ext cx="2879640" cy="2841480"/>
            <a:chOff x="5421240" y="2730600"/>
            <a:chExt cx="2879640" cy="2841480"/>
          </a:xfrm>
        </p:grpSpPr>
        <p:sp>
          <p:nvSpPr>
            <p:cNvPr id="721" name=""/>
            <p:cNvSpPr/>
            <p:nvPr/>
          </p:nvSpPr>
          <p:spPr>
            <a:xfrm>
              <a:off x="5421240" y="2730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709240" y="2730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996880" y="2730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285240" y="2730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572880" y="2730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860880" y="2730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148880" y="2730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436880" y="2730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724880" y="2730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012880" y="2730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421240" y="3014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709240" y="3014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996880" y="3014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285240" y="3014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572880" y="3014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860880" y="3014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148880" y="3014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436880" y="3014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724880" y="3014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012880" y="3014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421240" y="329868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709240" y="329868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996880" y="329868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285240" y="329868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572880" y="329868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860880" y="329868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148880" y="329868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436880" y="329868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724880" y="329868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012880" y="329868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421240" y="358272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709240" y="358272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996880" y="358272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85240" y="358272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572880" y="358272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860880" y="358272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148880" y="358272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436880" y="358272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724880" y="358272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012880" y="358272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421240" y="38667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709240" y="38667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996880" y="38667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285240" y="38667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572880" y="38667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860880" y="38667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148880" y="38667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436880" y="38667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724880" y="38667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012880" y="38667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421240" y="41511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709240" y="41511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996880" y="41511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285240" y="41511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572880" y="41511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860880" y="41511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148880" y="41511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436880" y="41511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724880" y="41511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012880" y="41511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421240" y="44352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709240" y="44352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996880" y="44352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285240" y="44352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572880" y="44352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860880" y="44352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148880" y="44352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436880" y="44352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724880" y="44352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012880" y="44352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421240" y="4719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709240" y="4719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996880" y="4719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285240" y="4719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572880" y="4719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860880" y="4719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148880" y="4719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436880" y="4719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724880" y="4719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012880" y="4719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21240" y="5003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709240" y="5003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996880" y="5003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285240" y="5003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572880" y="5003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860880" y="5003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148880" y="5003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436880" y="5003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724880" y="5003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012880" y="5003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421240" y="52880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709240" y="52880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996880" y="52880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285240" y="52880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572880" y="52880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860880" y="52880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148880" y="52880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436880" y="52880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724880" y="52880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012880" y="52880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6859440" y="2373480"/>
            <a:ext cx="0" cy="3493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8393040" y="4038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916680" y="22860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57200" y="3276720"/>
            <a:ext cx="3809880" cy="232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 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57200" y="3733920"/>
            <a:ext cx="380988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990720" y="3276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048120" y="3276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414520" y="3276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57200" y="419112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57200" y="464832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57200" y="510552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61960" y="373392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33520" y="419112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33520" y="464832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33520" y="510552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966960" y="37242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(0) –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438280" y="3733920"/>
            <a:ext cx="8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052800" y="3733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0, –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981000" y="4191120"/>
            <a:ext cx="14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(1) –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438280" y="4191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038400" y="4191120"/>
            <a:ext cx="13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, –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966960" y="4648320"/>
            <a:ext cx="14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(2) –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519280" y="4648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095640" y="4648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2,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961920" y="510552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(3) –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514600" y="5105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09096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3,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6553080" y="2610000"/>
            <a:ext cx="1676520" cy="3200400"/>
          </a:xfrm>
          <a:prstGeom prst="line">
            <a:avLst/>
          </a:prstGeom>
          <a:ln w="28440">
            <a:solidFill>
              <a:srgbClr val="00008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053120" y="46483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362720" y="408132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653240" y="35053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105520" y="443376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777000" y="52149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97000" y="1371600"/>
            <a:ext cx="823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lete the tabl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- 3. Graph the ordered pairs on a coordinate plane and draw a line through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46160" indent="-19461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5421240" y="2730600"/>
            <a:ext cx="2879640" cy="2841480"/>
            <a:chOff x="5421240" y="2730600"/>
            <a:chExt cx="2879640" cy="2841480"/>
          </a:xfrm>
        </p:grpSpPr>
        <p:sp>
          <p:nvSpPr>
            <p:cNvPr id="857" name=""/>
            <p:cNvSpPr/>
            <p:nvPr/>
          </p:nvSpPr>
          <p:spPr>
            <a:xfrm>
              <a:off x="5421240" y="2730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709240" y="2730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996880" y="2730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85240" y="2730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72880" y="2730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860880" y="2730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148880" y="2730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436880" y="2730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724880" y="2730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8012880" y="2730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421240" y="3014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709240" y="3014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996880" y="3014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285240" y="3014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572880" y="3014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60880" y="3014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148880" y="3014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436880" y="3014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724880" y="3014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012880" y="3014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421240" y="329868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709240" y="329868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996880" y="329868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285240" y="329868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572880" y="329868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860880" y="329868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148880" y="329868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436880" y="329868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724880" y="329868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012880" y="329868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421240" y="358272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709240" y="358272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996880" y="358272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285240" y="358272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572880" y="358272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860880" y="358272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148880" y="358272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436880" y="358272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724880" y="358272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012880" y="358272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421240" y="38667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709240" y="38667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996880" y="38667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85240" y="38667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572880" y="38667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860880" y="38667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148880" y="38667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436880" y="38667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724880" y="38667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012880" y="38667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421240" y="41511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709240" y="41511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996880" y="41511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285240" y="41511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572880" y="41511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860880" y="41511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148880" y="41511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436880" y="41511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724880" y="41511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012880" y="41511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421240" y="44352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09240" y="44352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996880" y="44352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285240" y="44352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572880" y="44352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860880" y="44352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148880" y="44352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436880" y="44352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724880" y="44352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012880" y="44352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421240" y="4719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709240" y="4719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996880" y="4719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285240" y="4719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572880" y="4719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860880" y="4719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148880" y="4719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436880" y="4719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724880" y="4719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012880" y="4719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421240" y="5003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709240" y="5003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996880" y="5003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285240" y="5003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572880" y="5003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860880" y="5003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148880" y="5003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436880" y="5003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724880" y="5003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8012880" y="5003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421240" y="52880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709240" y="52880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996880" y="52880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285240" y="52880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572880" y="52880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860880" y="52880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148880" y="52880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436880" y="52880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724880" y="52880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012880" y="52880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7" name=""/>
          <p:cNvSpPr/>
          <p:nvPr/>
        </p:nvSpPr>
        <p:spPr>
          <a:xfrm>
            <a:off x="6859440" y="2387520"/>
            <a:ext cx="0" cy="3494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8393040" y="4038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916680" y="22860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57200" y="3276720"/>
            <a:ext cx="3809880" cy="232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 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57200" y="3733920"/>
            <a:ext cx="380988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990720" y="3276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048120" y="3276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414520" y="3276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57200" y="419112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57200" y="464832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57200" y="510552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61960" y="373392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33520" y="419112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33520" y="464832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33520" y="510552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966960" y="37242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(0) –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438280" y="3733920"/>
            <a:ext cx="8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052800" y="3733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0, –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981000" y="4191120"/>
            <a:ext cx="14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(1) –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438280" y="4191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038400" y="4191120"/>
            <a:ext cx="13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, –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966960" y="4648320"/>
            <a:ext cx="14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(2) –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519280" y="4648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095640" y="4648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2,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961920" y="510552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(3) –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514600" y="5105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09096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3,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V="1">
            <a:off x="6705720" y="2286000"/>
            <a:ext cx="1295280" cy="3657600"/>
          </a:xfrm>
          <a:prstGeom prst="line">
            <a:avLst/>
          </a:prstGeom>
          <a:ln w="28440">
            <a:solidFill>
              <a:srgbClr val="00008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53120" y="46483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362720" y="38098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653240" y="293832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105520" y="443376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777000" y="5486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97000" y="1447920"/>
            <a:ext cx="823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lete the tabl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- 4. Graph the ordered pairs on a coordinate plane and draw a line through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33520" y="1618920"/>
            <a:ext cx="4419360" cy="46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ive the coordinates and quadrant of each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aph each point on the given coordinate plane. Label points C,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 (5, –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 (0,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752120" y="342792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3, 4); Quadrant 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672920" y="280548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(2, 0); 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4648320" y="1660680"/>
            <a:ext cx="3962160" cy="4282560"/>
            <a:chOff x="4648320" y="1660680"/>
            <a:chExt cx="3962160" cy="4282560"/>
          </a:xfrm>
        </p:grpSpPr>
        <p:grpSp>
          <p:nvGrpSpPr>
            <p:cNvPr id="996" name=""/>
            <p:cNvGrpSpPr/>
            <p:nvPr/>
          </p:nvGrpSpPr>
          <p:grpSpPr>
            <a:xfrm>
              <a:off x="4648320" y="2057400"/>
              <a:ext cx="3657600" cy="3885840"/>
              <a:chOff x="4648320" y="2057400"/>
              <a:chExt cx="3657600" cy="3885840"/>
            </a:xfrm>
          </p:grpSpPr>
          <p:grpSp>
            <p:nvGrpSpPr>
              <p:cNvPr id="997" name=""/>
              <p:cNvGrpSpPr/>
              <p:nvPr/>
            </p:nvGrpSpPr>
            <p:grpSpPr>
              <a:xfrm>
                <a:off x="4989960" y="2439000"/>
                <a:ext cx="2973240" cy="3159000"/>
                <a:chOff x="4989960" y="2439000"/>
                <a:chExt cx="2973240" cy="3159000"/>
              </a:xfrm>
            </p:grpSpPr>
            <p:sp>
              <p:nvSpPr>
                <p:cNvPr id="998" name=""/>
                <p:cNvSpPr/>
                <p:nvPr/>
              </p:nvSpPr>
              <p:spPr>
                <a:xfrm>
                  <a:off x="4989960" y="243900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5287320" y="243900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5584680" y="243900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5882040" y="243900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6179400" y="243900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6476400" y="243900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6774120" y="243900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7071120" y="243900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7368840" y="243900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7665840" y="243900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4989960" y="275472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5287320" y="275472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5584680" y="275472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5882040" y="275472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6179400" y="275472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6476400" y="275472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6774120" y="275472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7071120" y="275472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7368840" y="275472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7665840" y="275472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4989960" y="307080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5287320" y="307080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5584680" y="307080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5882040" y="307080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6179400" y="307080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6476400" y="307080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6774120" y="307080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7071120" y="307080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7368840" y="307080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7665840" y="307080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989960" y="338652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5287320" y="338652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5584680" y="338652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882040" y="338652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6179400" y="338652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6476400" y="338652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774120" y="338652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7071120" y="338652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7368840" y="338652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665840" y="338652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4989960" y="37026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5287320" y="37026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5584680" y="37026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5882040" y="37026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6179400" y="37026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6476400" y="37026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6774120" y="37026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7071120" y="37026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7368840" y="37026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7665840" y="37026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989960" y="40186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5287320" y="40186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5584680" y="40186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5882040" y="40186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179400" y="40186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6476400" y="40186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6774120" y="40186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071120" y="40186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7368840" y="40186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7665840" y="40186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4989960" y="43344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5287320" y="43344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5584680" y="43344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5882040" y="43344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6179400" y="43344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6476400" y="43344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6774120" y="43344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7071120" y="43344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7368840" y="43344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7665840" y="43344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4989960" y="46504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5287320" y="46504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5584680" y="46504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5882040" y="46504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6179400" y="46504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6476400" y="46504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6774120" y="46504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7071120" y="46504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7368840" y="46504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7665840" y="46504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4989960" y="49662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5287320" y="49662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5584680" y="49662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5882040" y="49662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6179400" y="49662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6476400" y="49662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6774120" y="49662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7071120" y="49662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7368840" y="49662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7665840" y="49662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4989960" y="52822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5287320" y="52822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5584680" y="52822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5882040" y="52822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6179400" y="52822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6476400" y="52822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6774120" y="52822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7071120" y="52822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7368840" y="52822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7665840" y="52822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4648320" y="2057400"/>
                <a:ext cx="3657600" cy="3885840"/>
                <a:chOff x="4648320" y="2057400"/>
                <a:chExt cx="3657600" cy="388584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6477120" y="2057400"/>
                  <a:ext cx="0" cy="3885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648320" y="4019040"/>
                  <a:ext cx="3657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01" name=""/>
            <p:cNvSpPr/>
            <p:nvPr/>
          </p:nvSpPr>
          <p:spPr>
            <a:xfrm>
              <a:off x="8305920" y="379404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324480" y="16606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996240" y="3948120"/>
              <a:ext cx="152280" cy="15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514840" y="26953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086600" y="367164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514840" y="23763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7" name=""/>
          <p:cNvGrpSpPr/>
          <p:nvPr/>
        </p:nvGrpSpPr>
        <p:grpSpPr>
          <a:xfrm>
            <a:off x="6400800" y="2362320"/>
            <a:ext cx="1295280" cy="485280"/>
            <a:chOff x="6400800" y="2362320"/>
            <a:chExt cx="1295280" cy="485280"/>
          </a:xfrm>
        </p:grpSpPr>
        <p:sp>
          <p:nvSpPr>
            <p:cNvPr id="1108" name=""/>
            <p:cNvSpPr/>
            <p:nvPr/>
          </p:nvSpPr>
          <p:spPr>
            <a:xfrm>
              <a:off x="6477120" y="236232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33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400800" y="26953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0" name=""/>
          <p:cNvGrpSpPr/>
          <p:nvPr/>
        </p:nvGrpSpPr>
        <p:grpSpPr>
          <a:xfrm>
            <a:off x="7877160" y="4253040"/>
            <a:ext cx="1295280" cy="470880"/>
            <a:chOff x="7877160" y="4253040"/>
            <a:chExt cx="1295280" cy="470880"/>
          </a:xfrm>
        </p:grpSpPr>
        <p:sp>
          <p:nvSpPr>
            <p:cNvPr id="1111" name=""/>
            <p:cNvSpPr/>
            <p:nvPr/>
          </p:nvSpPr>
          <p:spPr>
            <a:xfrm>
              <a:off x="7953120" y="42530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33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877160" y="457164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80880" y="1336320"/>
            <a:ext cx="784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95280" indent="-395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Complete the table 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3. Graph each ordered pair on the coordinate pl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95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4572000" y="2682720"/>
            <a:ext cx="3657600" cy="3886200"/>
            <a:chOff x="4572000" y="2682720"/>
            <a:chExt cx="3657600" cy="3886200"/>
          </a:xfrm>
        </p:grpSpPr>
        <p:grpSp>
          <p:nvGrpSpPr>
            <p:cNvPr id="1116" name=""/>
            <p:cNvGrpSpPr/>
            <p:nvPr/>
          </p:nvGrpSpPr>
          <p:grpSpPr>
            <a:xfrm>
              <a:off x="4913640" y="3064320"/>
              <a:ext cx="2973240" cy="3159360"/>
              <a:chOff x="4913640" y="3064320"/>
              <a:chExt cx="2973240" cy="3159360"/>
            </a:xfrm>
          </p:grpSpPr>
          <p:sp>
            <p:nvSpPr>
              <p:cNvPr id="1117" name=""/>
              <p:cNvSpPr/>
              <p:nvPr/>
            </p:nvSpPr>
            <p:spPr>
              <a:xfrm>
                <a:off x="4913640" y="306432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211000" y="306432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508360" y="306432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805720" y="306432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103080" y="306432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400080" y="306432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697800" y="306432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994800" y="306432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292520" y="306432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589520" y="306432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913640" y="338004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211000" y="338004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508360" y="338004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805720" y="338004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103080" y="338004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400080" y="338004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697800" y="338004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994800" y="338004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292520" y="338004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589520" y="338004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4913640" y="369612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211000" y="369612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508360" y="369612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805720" y="369612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103080" y="369612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400080" y="369612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697800" y="369612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994800" y="369612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292520" y="369612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589520" y="369612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4913640" y="401220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211000" y="401220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508360" y="401220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805720" y="401220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103080" y="401220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400080" y="401220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697800" y="401220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994800" y="401220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292520" y="401220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589520" y="401220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913640" y="432792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211000" y="432792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508360" y="432792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805720" y="432792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103080" y="432792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400080" y="432792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697800" y="432792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994800" y="432792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7292520" y="432792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7589520" y="432792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4913640" y="464400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211000" y="464400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508360" y="464400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805720" y="464400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103080" y="464400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6400080" y="464400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6697800" y="464400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994800" y="464400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292520" y="464400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589520" y="464400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913640" y="496008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211000" y="496008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508360" y="496008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805720" y="496008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103080" y="496008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400080" y="496008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697800" y="496008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994800" y="496008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292520" y="496008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589520" y="496008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913640" y="527616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211000" y="527616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508360" y="527616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805720" y="527616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103080" y="527616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400080" y="527616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697800" y="527616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994800" y="527616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292520" y="527616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589520" y="527616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913640" y="559188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211000" y="559188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5508360" y="559188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5805720" y="559188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6103080" y="559188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400080" y="559188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697800" y="559188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994800" y="559188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7292520" y="559188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589520" y="559188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913640" y="590796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211000" y="590796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508360" y="590796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805720" y="590796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103080" y="590796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00080" y="590796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697800" y="590796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994800" y="590796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7292520" y="590796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589520" y="590796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4572000" y="2682720"/>
              <a:ext cx="3657600" cy="3886200"/>
              <a:chOff x="4572000" y="2682720"/>
              <a:chExt cx="3657600" cy="3886200"/>
            </a:xfrm>
          </p:grpSpPr>
          <p:sp>
            <p:nvSpPr>
              <p:cNvPr id="1218" name=""/>
              <p:cNvSpPr/>
              <p:nvPr/>
            </p:nvSpPr>
            <p:spPr>
              <a:xfrm>
                <a:off x="6400800" y="2682720"/>
                <a:ext cx="0" cy="3886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572000" y="4644360"/>
                <a:ext cx="3657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0" name=""/>
          <p:cNvSpPr/>
          <p:nvPr/>
        </p:nvSpPr>
        <p:spPr>
          <a:xfrm>
            <a:off x="8229600" y="44197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248520" y="22860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2" name=""/>
          <p:cNvGrpSpPr/>
          <p:nvPr/>
        </p:nvGrpSpPr>
        <p:grpSpPr>
          <a:xfrm>
            <a:off x="6324480" y="5248440"/>
            <a:ext cx="1981440" cy="423720"/>
            <a:chOff x="6324480" y="5248440"/>
            <a:chExt cx="1981440" cy="423720"/>
          </a:xfrm>
        </p:grpSpPr>
        <p:sp>
          <p:nvSpPr>
            <p:cNvPr id="1223" name=""/>
            <p:cNvSpPr/>
            <p:nvPr/>
          </p:nvSpPr>
          <p:spPr>
            <a:xfrm>
              <a:off x="6324480" y="5519880"/>
              <a:ext cx="152640" cy="152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400800" y="524844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Verdana"/>
                </a:rPr>
                <a:t>(0, </a:t>
              </a:r>
              <a:r>
                <a:rPr b="0" i="1" lang="en-US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</a:t>
              </a:r>
              <a:r>
                <a:rPr b="0" lang="en-US" sz="1800" spc="-1" strike="noStrike">
                  <a:solidFill>
                    <a:srgbClr val="ff3300"/>
                  </a:solidFill>
                  <a:latin typeface="Verdana"/>
                </a:rPr>
                <a:t>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5" name=""/>
          <p:cNvGrpSpPr/>
          <p:nvPr/>
        </p:nvGrpSpPr>
        <p:grpSpPr>
          <a:xfrm>
            <a:off x="6629400" y="3962520"/>
            <a:ext cx="1981080" cy="457200"/>
            <a:chOff x="6629400" y="3962520"/>
            <a:chExt cx="1981080" cy="457200"/>
          </a:xfrm>
        </p:grpSpPr>
        <p:sp>
          <p:nvSpPr>
            <p:cNvPr id="1226" name=""/>
            <p:cNvSpPr/>
            <p:nvPr/>
          </p:nvSpPr>
          <p:spPr>
            <a:xfrm>
              <a:off x="6629400" y="42670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705720" y="396252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Verdana"/>
                </a:rPr>
                <a:t>(1, 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6905520" y="2681280"/>
            <a:ext cx="1933560" cy="461880"/>
            <a:chOff x="6905520" y="2681280"/>
            <a:chExt cx="1933560" cy="461880"/>
          </a:xfrm>
        </p:grpSpPr>
        <p:sp>
          <p:nvSpPr>
            <p:cNvPr id="1229" name=""/>
            <p:cNvSpPr/>
            <p:nvPr/>
          </p:nvSpPr>
          <p:spPr>
            <a:xfrm>
              <a:off x="6905520" y="2990880"/>
              <a:ext cx="152640" cy="152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934320" y="268128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ff3300"/>
                  </a:solidFill>
                  <a:latin typeface="Verdana"/>
                </a:rPr>
                <a:t>(2, 5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1" name=""/>
          <p:cNvSpPr/>
          <p:nvPr/>
        </p:nvSpPr>
        <p:spPr>
          <a:xfrm flipV="1">
            <a:off x="6296040" y="2666880"/>
            <a:ext cx="790560" cy="33530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2" name=""/>
          <p:cNvGraphicFramePr/>
          <p:nvPr/>
        </p:nvGraphicFramePr>
        <p:xfrm>
          <a:off x="304920" y="3352680"/>
          <a:ext cx="4267080" cy="2133720"/>
        </p:xfrm>
        <a:graphic>
          <a:graphicData uri="http://schemas.openxmlformats.org/drawingml/2006/table">
            <a:tbl>
              <a:tblPr/>
              <a:tblGrid>
                <a:gridCol w="681120"/>
                <a:gridCol w="1299960"/>
                <a:gridCol w="1219320"/>
                <a:gridCol w="10666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– 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33" name=""/>
          <p:cNvGrpSpPr/>
          <p:nvPr/>
        </p:nvGrpSpPr>
        <p:grpSpPr>
          <a:xfrm>
            <a:off x="990720" y="3962520"/>
            <a:ext cx="3962160" cy="1449720"/>
            <a:chOff x="990720" y="3962520"/>
            <a:chExt cx="3962160" cy="1449720"/>
          </a:xfrm>
        </p:grpSpPr>
        <p:sp>
          <p:nvSpPr>
            <p:cNvPr id="1234" name=""/>
            <p:cNvSpPr/>
            <p:nvPr/>
          </p:nvSpPr>
          <p:spPr>
            <a:xfrm>
              <a:off x="990720" y="39625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4(0) </a:t>
              </a:r>
              <a:r>
                <a:rPr b="0" i="1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000" spc="-1" strike="noStrike">
                  <a:solidFill>
                    <a:srgbClr val="ff33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990720" y="44798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4(1) </a:t>
              </a:r>
              <a:r>
                <a:rPr b="0" i="1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000" spc="-1" strike="noStrike">
                  <a:solidFill>
                    <a:srgbClr val="ff33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990720" y="50133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4(2) </a:t>
              </a:r>
              <a:r>
                <a:rPr b="0" i="1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000" spc="-1" strike="noStrike">
                  <a:solidFill>
                    <a:srgbClr val="ff33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590920" y="39625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743200" y="447984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743200" y="501336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524400" y="39625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(0, </a:t>
              </a:r>
              <a:r>
                <a:rPr b="0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3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581280" y="44956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(1, 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581280" y="50133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(2, 5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1219320"/>
            <a:ext cx="8153280" cy="38862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d the values for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by substituting 1, 3, 5, and 7 for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26280" y="2985480"/>
            <a:ext cx="18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1, 3, 7,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38680" y="3490200"/>
            <a:ext cx="21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5, 13, 21, 2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29320" y="4004640"/>
            <a:ext cx="21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0, 10, 20,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97656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5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34909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9862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1600200"/>
            <a:ext cx="7467480" cy="28195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day is four days after the day before Satur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3276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2438280"/>
            <a:ext cx="8305920" cy="10670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o graph points and lines on the coordinate plane</a:t>
            </a:r>
            <a:r>
              <a:rPr b="0" lang="en-US" sz="3500" spc="-1" strike="noStrike">
                <a:solidFill>
                  <a:srgbClr val="000000"/>
                </a:solidFill>
                <a:latin typeface="AGaramond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1828800"/>
            <a:ext cx="7162920" cy="42292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ordinate pl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d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ordi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coordi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ph of an eq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1616040"/>
            <a:ext cx="739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oordinate plan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formed by two number lines,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x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-axi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y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-axi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They intersect at right angles and divide the plane into f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quadra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38098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x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-coordin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first number in an ordered pair.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y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-coordin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second number in an ordered p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62120" y="186048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plot an ordered pair, begin at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rigi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he point (0, 0). It is the intersection of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axis a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axis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361332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coordinate tells how many units to move left or right;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coordinate tells how many units to move up or dow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828800" y="181296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3600" spc="-1" strike="noStrike">
                <a:solidFill>
                  <a:srgbClr val="3333cc"/>
                </a:solidFill>
                <a:latin typeface="Verdana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04920" y="4327560"/>
            <a:ext cx="4343040" cy="1722600"/>
            <a:chOff x="304920" y="4327560"/>
            <a:chExt cx="4343040" cy="1722600"/>
          </a:xfrm>
        </p:grpSpPr>
        <p:sp>
          <p:nvSpPr>
            <p:cNvPr id="72" name=""/>
            <p:cNvSpPr/>
            <p:nvPr/>
          </p:nvSpPr>
          <p:spPr>
            <a:xfrm>
              <a:off x="304920" y="4724280"/>
              <a:ext cx="4343040" cy="1325880"/>
            </a:xfrm>
            <a:prstGeom prst="rect">
              <a:avLst/>
            </a:prstGeom>
            <a:noFill/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The sign of a number indicates which direction to move.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ositive: up or right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Negative: down or le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920" y="4327560"/>
              <a:ext cx="211248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724280" y="990720"/>
            <a:ext cx="3962160" cy="3595320"/>
            <a:chOff x="4724280" y="990720"/>
            <a:chExt cx="3962160" cy="3595320"/>
          </a:xfrm>
        </p:grpSpPr>
        <p:grpSp>
          <p:nvGrpSpPr>
            <p:cNvPr id="75" name=""/>
            <p:cNvGrpSpPr/>
            <p:nvPr/>
          </p:nvGrpSpPr>
          <p:grpSpPr>
            <a:xfrm>
              <a:off x="4724280" y="1091520"/>
              <a:ext cx="3540960" cy="3494520"/>
              <a:chOff x="4724280" y="1091520"/>
              <a:chExt cx="3540960" cy="3494520"/>
            </a:xfrm>
          </p:grpSpPr>
          <p:grpSp>
            <p:nvGrpSpPr>
              <p:cNvPr id="76" name=""/>
              <p:cNvGrpSpPr/>
              <p:nvPr/>
            </p:nvGrpSpPr>
            <p:grpSpPr>
              <a:xfrm>
                <a:off x="5055120" y="1434960"/>
                <a:ext cx="2878920" cy="2841480"/>
                <a:chOff x="5055120" y="1434960"/>
                <a:chExt cx="2878920" cy="28414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5055120" y="1434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343120" y="1434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630760" y="1434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918760" y="1434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206400" y="1434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494400" y="1434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6782400" y="1434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070040" y="1434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358040" y="1434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646040" y="1434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055120" y="17190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343120" y="17190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5630760" y="17190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5918760" y="17190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6206400" y="17190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6494400" y="17190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6782400" y="17190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7070040" y="17190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358040" y="17190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646040" y="17190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055120" y="20030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343120" y="2003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5630760" y="20030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918760" y="2003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6206400" y="2003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494400" y="20030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6782400" y="2003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7070040" y="20030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7358040" y="2003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7646040" y="20030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055120" y="2287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5343120" y="2287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630760" y="2287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5918760" y="2287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206400" y="2287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494400" y="2287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6782400" y="2287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070040" y="2287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358040" y="2287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7646040" y="2287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055120" y="2571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343120" y="2571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630760" y="2571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918760" y="2571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206400" y="2571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6494400" y="2571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782400" y="2571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070040" y="2571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358040" y="2571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646040" y="2571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055120" y="2855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5343120" y="2855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5630760" y="2855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918760" y="2855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206400" y="2855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494400" y="2855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782400" y="2855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070040" y="2855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7358040" y="2855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7646040" y="2855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055120" y="3139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343120" y="3139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630760" y="3139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918760" y="3139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206400" y="3139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494400" y="3139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782400" y="3139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070040" y="3139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358040" y="3139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646040" y="3139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055120" y="3423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343120" y="3423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630760" y="3423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918760" y="3423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206400" y="3423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494400" y="3423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782400" y="3423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070040" y="3423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358040" y="3423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646040" y="3423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055120" y="37080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343120" y="37080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630760" y="37080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918760" y="37080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206400" y="37080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494400" y="37080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782400" y="37080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070040" y="37080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358040" y="37080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646040" y="37080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055120" y="39924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343120" y="39924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630760" y="39924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918760" y="39924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206400" y="39924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494400" y="39924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782400" y="39924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070040" y="39924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358040" y="39924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646040" y="39924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724280" y="1091520"/>
                <a:ext cx="3540960" cy="3494520"/>
                <a:chOff x="4724280" y="1091520"/>
                <a:chExt cx="3540960" cy="349452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494760" y="1091520"/>
                  <a:ext cx="0" cy="3494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724280" y="2855520"/>
                  <a:ext cx="3540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0" name=""/>
            <p:cNvSpPr/>
            <p:nvPr/>
          </p:nvSpPr>
          <p:spPr>
            <a:xfrm>
              <a:off x="8012160" y="245520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558120" y="99072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 flipV="1">
            <a:off x="5867280" y="2895120"/>
            <a:ext cx="533520" cy="6858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19720" y="34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Verdana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7043760" y="1600200"/>
            <a:ext cx="1100160" cy="679320"/>
            <a:chOff x="7043760" y="1600200"/>
            <a:chExt cx="1100160" cy="679320"/>
          </a:xfrm>
        </p:grpSpPr>
        <p:sp>
          <p:nvSpPr>
            <p:cNvPr id="185" name=""/>
            <p:cNvSpPr/>
            <p:nvPr/>
          </p:nvSpPr>
          <p:spPr>
            <a:xfrm>
              <a:off x="7043760" y="19857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05680" y="1600200"/>
              <a:ext cx="10382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lang="en-US" sz="2000" spc="-1" strike="noStrike">
                  <a:solidFill>
                    <a:srgbClr val="3333cc"/>
                  </a:solidFill>
                  <a:latin typeface="Verdana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04920" y="181296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move right    2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19960" y="2857680"/>
            <a:ext cx="547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79712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move up 3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5667480" y="2467080"/>
            <a:ext cx="1038240" cy="423720"/>
            <a:chOff x="5667480" y="2467080"/>
            <a:chExt cx="1038240" cy="423720"/>
          </a:xfrm>
        </p:grpSpPr>
        <p:sp>
          <p:nvSpPr>
            <p:cNvPr id="191" name=""/>
            <p:cNvSpPr/>
            <p:nvPr/>
          </p:nvSpPr>
          <p:spPr>
            <a:xfrm>
              <a:off x="6443640" y="28148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67480" y="2467080"/>
              <a:ext cx="103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lang="en-US" sz="2000" spc="-1" strike="noStrike">
                  <a:solidFill>
                    <a:srgbClr val="3333cc"/>
                  </a:solidFill>
                  <a:latin typeface="Verdana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 flipV="1">
            <a:off x="7062840" y="2000160"/>
            <a:ext cx="0" cy="85104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0800" y="13860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uadrant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00600" y="13971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uadrant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24280" y="39625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uadrant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53080" y="39513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uadrant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912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Additional Example 1: Finding the Coordinates and Quadrants of Points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280" y="1828800"/>
            <a:ext cx="88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ive the coordinates and quadrants of each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71880" y="2514600"/>
            <a:ext cx="49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24360" y="24382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(1, 3); Quadrant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62520" y="294804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1 unit right, 3 units 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71880" y="34066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72160" y="3330720"/>
            <a:ext cx="36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(0, –3); no quadr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384012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0 units right, 3 units dow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71880" y="42670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48400" y="4191120"/>
            <a:ext cx="34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(–2, 2); Quadrant 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470052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2 units left, 2 units 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81600" y="5159520"/>
            <a:ext cx="50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48400" y="5083200"/>
            <a:ext cx="34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(–3, 0); no quad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71880" y="559260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3 units left, 0 units 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04920" y="2424240"/>
            <a:ext cx="3961800" cy="3595320"/>
            <a:chOff x="304920" y="2424240"/>
            <a:chExt cx="3961800" cy="3595320"/>
          </a:xfrm>
        </p:grpSpPr>
        <p:grpSp>
          <p:nvGrpSpPr>
            <p:cNvPr id="213" name=""/>
            <p:cNvGrpSpPr/>
            <p:nvPr/>
          </p:nvGrpSpPr>
          <p:grpSpPr>
            <a:xfrm>
              <a:off x="304920" y="2525040"/>
              <a:ext cx="3540600" cy="3494520"/>
              <a:chOff x="304920" y="2525040"/>
              <a:chExt cx="3540600" cy="3494520"/>
            </a:xfrm>
          </p:grpSpPr>
          <p:grpSp>
            <p:nvGrpSpPr>
              <p:cNvPr id="214" name=""/>
              <p:cNvGrpSpPr/>
              <p:nvPr/>
            </p:nvGrpSpPr>
            <p:grpSpPr>
              <a:xfrm>
                <a:off x="635760" y="2868480"/>
                <a:ext cx="2878200" cy="2841480"/>
                <a:chOff x="635760" y="2868480"/>
                <a:chExt cx="2878200" cy="284148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63576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92340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1140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49940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178704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07468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36268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265068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93868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22632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3576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92340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21140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49940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178704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07468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236268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65068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93868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22632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3576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92340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21140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49940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78704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07468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36268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265068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93868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22632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3576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92340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21140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49940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78704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07468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36268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65068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93868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22632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63576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92340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21140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49940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78704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07468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236268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65068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93868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22632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3576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92340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121140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49940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78704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207468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36268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65068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93868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22632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63576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92340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21140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49940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78704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07468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36268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65068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93868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22632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63576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92340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121140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49940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78704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07468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36268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65068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93868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22632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3576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92340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21140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149940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78704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07468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36268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65068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93868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22632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3576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92340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21140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49940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78704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07468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36268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65068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93868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22632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304920" y="2525040"/>
                <a:ext cx="3540600" cy="3494520"/>
                <a:chOff x="304920" y="2525040"/>
                <a:chExt cx="3540600" cy="3494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2075040" y="2525040"/>
                  <a:ext cx="0" cy="3494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04920" y="4289040"/>
                  <a:ext cx="354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8" name=""/>
            <p:cNvSpPr/>
            <p:nvPr/>
          </p:nvSpPr>
          <p:spPr>
            <a:xfrm>
              <a:off x="3592440" y="388872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138400" y="242424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2286000" y="336708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95480" y="50673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428840" y="364320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128600" y="421956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381400" y="3124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057400" y="49528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81040" y="33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176480" y="425124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21:42:53Z</dcterms:created>
  <dc:creator>Manda Reid</dc:creator>
  <dc:description/>
  <dc:language>en-US</dc:language>
  <cp:lastModifiedBy>stevenh</cp:lastModifiedBy>
  <cp:lastPrinted>2002-10-02T16:48:48Z</cp:lastPrinted>
  <dcterms:modified xsi:type="dcterms:W3CDTF">2006-04-26T18:33:00Z</dcterms:modified>
  <cp:revision>57</cp:revision>
  <dc:subject/>
  <dc:title>No Slide Title</dc:title>
</cp:coreProperties>
</file>