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E23-CA15-4BB8-8A1F-1EEEE4A3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FD1-F4F0-48AD-BFE0-5804C3BF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C27-809A-4C2B-BFB8-5BFDF588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08B-7BDC-4041-92D4-D32DC6AF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AB7-E032-49DB-B4DF-EA3E1DC5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0AF-5C2A-4EB5-9194-EF802C1F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38B-A3F6-4BDD-ACC7-42440E4E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ECE-4FA5-4CA4-BE75-6480E146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DAF-7170-4D17-8380-F76824BB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FE3-039A-438C-A123-0591808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61E-3F6B-44FB-A929-B71CC7C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1B8-C781-48F6-AAF2-39B0199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E25-3E16-407D-B130-300F826DD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24840" y="91080"/>
              <a:ext cx="63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Graphing on a Coordinate Pla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536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05920" y="145080"/>
            <a:ext cx="63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aphing o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53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65760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95560" y="251460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8400" y="24382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0, 2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294804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0 units right, 2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95560" y="34066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95840" y="333072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2, 0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38401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2 units right, 0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95560" y="42670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72080" y="4191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1, 4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4700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1 unit left, 4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05280" y="51595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3160" y="5083200"/>
            <a:ext cx="36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3, –2); Quadrant l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95560" y="5592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3 units left, 2 units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4920" y="2424240"/>
            <a:ext cx="3961800" cy="3595320"/>
            <a:chOff x="304920" y="2424240"/>
            <a:chExt cx="3961800" cy="3595320"/>
          </a:xfrm>
        </p:grpSpPr>
        <p:grpSp>
          <p:nvGrpSpPr>
            <p:cNvPr id="342" name=""/>
            <p:cNvGrpSpPr/>
            <p:nvPr/>
          </p:nvGrpSpPr>
          <p:grpSpPr>
            <a:xfrm>
              <a:off x="304920" y="2525040"/>
              <a:ext cx="3540600" cy="3494520"/>
              <a:chOff x="304920" y="2525040"/>
              <a:chExt cx="3540600" cy="34945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35760" y="2868480"/>
                <a:ext cx="2878200" cy="2841480"/>
                <a:chOff x="635760" y="2868480"/>
                <a:chExt cx="2878200" cy="2841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3576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923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211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99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8704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074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2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0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938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22632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76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923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211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99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78704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074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62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650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938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22632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576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923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211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499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704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074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362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50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938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22632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576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923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211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499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78704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074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362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650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938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22632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3576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923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211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499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78704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62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650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938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22632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576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923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211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499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78704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074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362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50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38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22632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3576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923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11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499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78704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74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362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50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938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22632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3576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923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211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499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78704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074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62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650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938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22632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576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923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211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499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8704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74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62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50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938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22632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3576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923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211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499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78704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074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62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650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938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22632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04920" y="2525040"/>
                <a:ext cx="3540600" cy="3494520"/>
                <a:chOff x="304920" y="2525040"/>
                <a:chExt cx="3540600" cy="34945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075040" y="25250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04920" y="4289040"/>
                  <a:ext cx="354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592440" y="3888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8400" y="24242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995480" y="36291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781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09640" y="30765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76520" y="4219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3370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4479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38440" y="2760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39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1828800"/>
            <a:ext cx="88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s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10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Graphing Points on a Coordinat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coordinate 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7960" y="31240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3557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3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00280" y="311616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0920" y="3549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4, up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40053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4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9240" y="44388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4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401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81200" y="4449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1, down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800600" y="2438280"/>
            <a:ext cx="3962160" cy="3595320"/>
            <a:chOff x="4800600" y="2438280"/>
            <a:chExt cx="3962160" cy="3595320"/>
          </a:xfrm>
        </p:grpSpPr>
        <p:grpSp>
          <p:nvGrpSpPr>
            <p:cNvPr id="469" name=""/>
            <p:cNvGrpSpPr/>
            <p:nvPr/>
          </p:nvGrpSpPr>
          <p:grpSpPr>
            <a:xfrm>
              <a:off x="4800600" y="2539080"/>
              <a:ext cx="3540960" cy="3494520"/>
              <a:chOff x="4800600" y="2539080"/>
              <a:chExt cx="3540960" cy="349452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5131440" y="2882520"/>
                <a:ext cx="2878920" cy="2841480"/>
                <a:chOff x="5131440" y="2882520"/>
                <a:chExt cx="2878920" cy="28414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3144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41944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70708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99508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82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57072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858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146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43436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22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13144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41944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0708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99508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282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7072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858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146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43436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722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13144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1944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70708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9508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282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7072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58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46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43436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722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13144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1944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0708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9508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82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57072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858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146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3436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22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13144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41944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70708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9508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282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57072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858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146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43436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722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13144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41944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0708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99508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282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57072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858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146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3436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722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13144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41944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70708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99508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282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57072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58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146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43436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722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13144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41944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70708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99508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282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57072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858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146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43436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722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13144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41944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70708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99508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282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57072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858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146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3436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722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13144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41944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70708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99508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282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57072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858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46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3436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722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800600" y="2539080"/>
                <a:ext cx="3540960" cy="3494520"/>
                <a:chOff x="4800600" y="2539080"/>
                <a:chExt cx="3540960" cy="34945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6571080" y="253908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800600" y="430308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4" name=""/>
            <p:cNvSpPr/>
            <p:nvPr/>
          </p:nvSpPr>
          <p:spPr>
            <a:xfrm>
              <a:off x="8088480" y="39027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34440" y="243828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43640" y="2852640"/>
            <a:ext cx="552600" cy="398880"/>
            <a:chOff x="7343640" y="2852640"/>
            <a:chExt cx="552600" cy="398880"/>
          </a:xfrm>
        </p:grpSpPr>
        <p:sp>
          <p:nvSpPr>
            <p:cNvPr id="577" name=""/>
            <p:cNvSpPr/>
            <p:nvPr/>
          </p:nvSpPr>
          <p:spPr>
            <a:xfrm>
              <a:off x="7343640" y="3095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39040" y="2852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48560" y="4219560"/>
            <a:ext cx="519120" cy="444960"/>
            <a:chOff x="7648560" y="4219560"/>
            <a:chExt cx="519120" cy="444960"/>
          </a:xfrm>
        </p:grpSpPr>
        <p:sp>
          <p:nvSpPr>
            <p:cNvPr id="580" name=""/>
            <p:cNvSpPr/>
            <p:nvPr/>
          </p:nvSpPr>
          <p:spPr>
            <a:xfrm>
              <a:off x="7648560" y="4219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0480" y="42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200640" y="4772160"/>
            <a:ext cx="509760" cy="442800"/>
            <a:chOff x="6200640" y="4772160"/>
            <a:chExt cx="509760" cy="442800"/>
          </a:xfrm>
        </p:grpSpPr>
        <p:sp>
          <p:nvSpPr>
            <p:cNvPr id="583" name=""/>
            <p:cNvSpPr/>
            <p:nvPr/>
          </p:nvSpPr>
          <p:spPr>
            <a:xfrm>
              <a:off x="6200640" y="50626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53200" y="4772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334120" y="2803680"/>
            <a:ext cx="519120" cy="439560"/>
            <a:chOff x="5334120" y="2803680"/>
            <a:chExt cx="519120" cy="439560"/>
          </a:xfrm>
        </p:grpSpPr>
        <p:sp>
          <p:nvSpPr>
            <p:cNvPr id="586" name=""/>
            <p:cNvSpPr/>
            <p:nvPr/>
          </p:nvSpPr>
          <p:spPr>
            <a:xfrm>
              <a:off x="5334120" y="309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96040" y="2803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2960" y="16160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coordinate 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7960" y="31240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3557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2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00280" y="311616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90920" y="3549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2, up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0053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9240" y="44388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2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0920" y="401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1200" y="4449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1, down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800600" y="2438280"/>
            <a:ext cx="3962160" cy="3595320"/>
            <a:chOff x="4800600" y="2438280"/>
            <a:chExt cx="3962160" cy="3595320"/>
          </a:xfrm>
        </p:grpSpPr>
        <p:grpSp>
          <p:nvGrpSpPr>
            <p:cNvPr id="599" name=""/>
            <p:cNvGrpSpPr/>
            <p:nvPr/>
          </p:nvGrpSpPr>
          <p:grpSpPr>
            <a:xfrm>
              <a:off x="4800600" y="2539080"/>
              <a:ext cx="3540960" cy="3494520"/>
              <a:chOff x="4800600" y="2539080"/>
              <a:chExt cx="3540960" cy="34945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131440" y="2882520"/>
                <a:ext cx="2878920" cy="2841480"/>
                <a:chOff x="5131440" y="2882520"/>
                <a:chExt cx="2878920" cy="2841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13144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41944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70708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99508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282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57072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858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146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43436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22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13144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1944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0708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9508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282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57072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858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146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3436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722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3144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41944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0708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9508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282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57072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858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146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43436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722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13144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41944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0708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99508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282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57072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858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146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43436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722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13144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41944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0708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99508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282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57072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858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46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43436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722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13144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41944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0708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99508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2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57072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858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146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43436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722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3144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41944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708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99508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282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57072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858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146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43436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722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13144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41944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70708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99508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282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57072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858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7146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43436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722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3144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41944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0708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99508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282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57072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858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146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43436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722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3144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41944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70708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99508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282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57072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858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146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43436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722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4800600" y="2539080"/>
                <a:ext cx="3540960" cy="3494520"/>
                <a:chOff x="4800600" y="2539080"/>
                <a:chExt cx="3540960" cy="34945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6571080" y="253908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800600" y="430308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4" name=""/>
            <p:cNvSpPr/>
            <p:nvPr/>
          </p:nvSpPr>
          <p:spPr>
            <a:xfrm>
              <a:off x="8088480" y="39027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34440" y="243828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067520" y="2852640"/>
            <a:ext cx="552600" cy="398880"/>
            <a:chOff x="7067520" y="2852640"/>
            <a:chExt cx="552600" cy="398880"/>
          </a:xfrm>
        </p:grpSpPr>
        <p:sp>
          <p:nvSpPr>
            <p:cNvPr id="707" name=""/>
            <p:cNvSpPr/>
            <p:nvPr/>
          </p:nvSpPr>
          <p:spPr>
            <a:xfrm>
              <a:off x="7067520" y="3095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2852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067520" y="4224240"/>
            <a:ext cx="519120" cy="444960"/>
            <a:chOff x="7067520" y="4224240"/>
            <a:chExt cx="519120" cy="444960"/>
          </a:xfrm>
        </p:grpSpPr>
        <p:sp>
          <p:nvSpPr>
            <p:cNvPr id="710" name=""/>
            <p:cNvSpPr/>
            <p:nvPr/>
          </p:nvSpPr>
          <p:spPr>
            <a:xfrm>
              <a:off x="7067520" y="4224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9440" y="42703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210360" y="4219560"/>
            <a:ext cx="509040" cy="442800"/>
            <a:chOff x="6210360" y="4219560"/>
            <a:chExt cx="509040" cy="442800"/>
          </a:xfrm>
        </p:grpSpPr>
        <p:sp>
          <p:nvSpPr>
            <p:cNvPr id="713" name=""/>
            <p:cNvSpPr/>
            <p:nvPr/>
          </p:nvSpPr>
          <p:spPr>
            <a:xfrm>
              <a:off x="6210360" y="4510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62560" y="42195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915160" y="2803680"/>
            <a:ext cx="519120" cy="439560"/>
            <a:chOff x="5915160" y="2803680"/>
            <a:chExt cx="519120" cy="439560"/>
          </a:xfrm>
        </p:grpSpPr>
        <p:sp>
          <p:nvSpPr>
            <p:cNvPr id="716" name=""/>
            <p:cNvSpPr/>
            <p:nvPr/>
          </p:nvSpPr>
          <p:spPr>
            <a:xfrm>
              <a:off x="5915160" y="309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77080" y="2803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762120" y="160020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ph of an equ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ordered pairs that are solutions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Graphing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5421240" y="2730600"/>
            <a:ext cx="2879640" cy="2841480"/>
            <a:chOff x="5421240" y="2730600"/>
            <a:chExt cx="2879640" cy="2841480"/>
          </a:xfrm>
        </p:grpSpPr>
        <p:sp>
          <p:nvSpPr>
            <p:cNvPr id="721" name=""/>
            <p:cNvSpPr/>
            <p:nvPr/>
          </p:nvSpPr>
          <p:spPr>
            <a:xfrm>
              <a:off x="542124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09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9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5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72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60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48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3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24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12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2124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09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9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85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72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60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48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3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24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12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2124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09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9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85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72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60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48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3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24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12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2124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09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9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85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72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60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48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3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24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12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2124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09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9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85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72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60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48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3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24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012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2124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09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9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85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72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48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24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12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2124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09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9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85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72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60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48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43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724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012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2124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09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9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85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72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60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48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43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724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12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2124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09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9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85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72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60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48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3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24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12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2124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09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9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85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72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60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48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3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24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12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859440" y="2373480"/>
            <a:ext cx="0" cy="349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39304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916680" y="2286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3276720"/>
            <a:ext cx="3809880" cy="232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7200" y="3733920"/>
            <a:ext cx="38098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907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81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4145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" y="41911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7200" y="4648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" y="5105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1960" y="3733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4191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46483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3520" y="51055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66960" y="37242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0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8280" y="3733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52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, 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981000" y="41911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1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382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38400" y="41911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66960" y="464832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2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192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9564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61920" y="51055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3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146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9096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553080" y="2610000"/>
            <a:ext cx="1676520" cy="32004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053120" y="4648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362720" y="40813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53240" y="3505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05520" y="44337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777000" y="5214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7000" y="13716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tabl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- 3. Graph the ordered pairs on a coordinate plane and draw a line throug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421240" y="2730600"/>
            <a:ext cx="2879640" cy="2841480"/>
            <a:chOff x="5421240" y="2730600"/>
            <a:chExt cx="2879640" cy="2841480"/>
          </a:xfrm>
        </p:grpSpPr>
        <p:sp>
          <p:nvSpPr>
            <p:cNvPr id="857" name=""/>
            <p:cNvSpPr/>
            <p:nvPr/>
          </p:nvSpPr>
          <p:spPr>
            <a:xfrm>
              <a:off x="542124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09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9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85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72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60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48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3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24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012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2124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09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9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85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72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60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48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3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24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012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2124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09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9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5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72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60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48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3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724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012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42124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09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9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85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72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60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48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3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24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12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42124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09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9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85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72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60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48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3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24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12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2124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09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9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85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72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60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48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3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24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012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2124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09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9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85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72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60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48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3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24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012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2124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09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9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85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72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860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48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3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724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12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42124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709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9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285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72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60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48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3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24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012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2124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709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99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85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72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60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48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3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24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12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6859440" y="2387520"/>
            <a:ext cx="0" cy="3494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9304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16680" y="2286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57200" y="3276720"/>
            <a:ext cx="3809880" cy="232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" y="3733920"/>
            <a:ext cx="38098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907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4145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" y="41911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57200" y="4648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7200" y="5105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61960" y="3733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3520" y="4191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3520" y="46483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33520" y="51055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66960" y="37242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0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38280" y="3733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52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, –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81000" y="41911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1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382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38400" y="41911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66960" y="464832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2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192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09564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61920" y="51055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3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5146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9096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705720" y="2286000"/>
            <a:ext cx="1295280" cy="36576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53120" y="4648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2720" y="3809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653240" y="29383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105520" y="44337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7770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7000" y="14479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tabl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- 4. Graph the ordered pairs on a coordinate plane and draw a line throug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33520" y="1618920"/>
            <a:ext cx="441936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given coordinate plane. Label points C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 (5, –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 (0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752120" y="34279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, 4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72920" y="28054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0);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4648320" y="1660680"/>
            <a:ext cx="3962160" cy="4282560"/>
            <a:chOff x="4648320" y="1660680"/>
            <a:chExt cx="3962160" cy="4282560"/>
          </a:xfrm>
        </p:grpSpPr>
        <p:grpSp>
          <p:nvGrpSpPr>
            <p:cNvPr id="996" name=""/>
            <p:cNvGrpSpPr/>
            <p:nvPr/>
          </p:nvGrpSpPr>
          <p:grpSpPr>
            <a:xfrm>
              <a:off x="4648320" y="2057400"/>
              <a:ext cx="3657600" cy="3885840"/>
              <a:chOff x="4648320" y="2057400"/>
              <a:chExt cx="3657600" cy="388584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4989960" y="2439000"/>
                <a:ext cx="2973240" cy="3159000"/>
                <a:chOff x="4989960" y="2439000"/>
                <a:chExt cx="2973240" cy="315900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498996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8732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8468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88204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17940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47640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77412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07112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36884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66584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98996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28732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58468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88204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17940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7640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77412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07112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884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66584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98996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28732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58468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88204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17940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647640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77412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07112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36884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66584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8996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28732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58468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88204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17940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7640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77412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07112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36884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66584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98996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28732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58468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88204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17940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47640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77412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07112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6884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66584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8996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28732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58468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88204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7940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47640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77412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07112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36884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66584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98996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28732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558468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88204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17940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47640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7412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07112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36884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66584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98996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28732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58468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88204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17940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47640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77412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07112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36884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6584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98996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28732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58468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88204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17940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47640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77412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07112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36884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66584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98996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28732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58468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88204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17940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47640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77412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07112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36884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66584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648320" y="2057400"/>
                <a:ext cx="3657600" cy="3885840"/>
                <a:chOff x="4648320" y="2057400"/>
                <a:chExt cx="3657600" cy="388584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477120" y="2057400"/>
                  <a:ext cx="0" cy="388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648320" y="4019040"/>
                  <a:ext cx="3657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1" name=""/>
            <p:cNvSpPr/>
            <p:nvPr/>
          </p:nvSpPr>
          <p:spPr>
            <a:xfrm>
              <a:off x="8305920" y="37940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24480" y="1660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996240" y="3948120"/>
              <a:ext cx="15228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14840" y="2695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086600" y="36716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514840" y="23763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6400800" y="2362320"/>
            <a:ext cx="1295280" cy="485280"/>
            <a:chOff x="6400800" y="2362320"/>
            <a:chExt cx="1295280" cy="485280"/>
          </a:xfrm>
        </p:grpSpPr>
        <p:sp>
          <p:nvSpPr>
            <p:cNvPr id="1108" name=""/>
            <p:cNvSpPr/>
            <p:nvPr/>
          </p:nvSpPr>
          <p:spPr>
            <a:xfrm>
              <a:off x="6477120" y="2362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00800" y="26953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7877160" y="4253040"/>
            <a:ext cx="1295280" cy="470880"/>
            <a:chOff x="7877160" y="4253040"/>
            <a:chExt cx="1295280" cy="470880"/>
          </a:xfrm>
        </p:grpSpPr>
        <p:sp>
          <p:nvSpPr>
            <p:cNvPr id="1111" name=""/>
            <p:cNvSpPr/>
            <p:nvPr/>
          </p:nvSpPr>
          <p:spPr>
            <a:xfrm>
              <a:off x="7953120" y="4253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877160" y="45716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880" y="13363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5280" indent="-39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Complete the table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. Graph each ordered pair on the coordinat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572000" y="2682720"/>
            <a:ext cx="3657600" cy="3886200"/>
            <a:chOff x="4572000" y="2682720"/>
            <a:chExt cx="3657600" cy="3886200"/>
          </a:xfrm>
        </p:grpSpPr>
        <p:grpSp>
          <p:nvGrpSpPr>
            <p:cNvPr id="1116" name=""/>
            <p:cNvGrpSpPr/>
            <p:nvPr/>
          </p:nvGrpSpPr>
          <p:grpSpPr>
            <a:xfrm>
              <a:off x="4913640" y="3064320"/>
              <a:ext cx="2973240" cy="3159360"/>
              <a:chOff x="4913640" y="3064320"/>
              <a:chExt cx="2973240" cy="3159360"/>
            </a:xfrm>
          </p:grpSpPr>
          <p:sp>
            <p:nvSpPr>
              <p:cNvPr id="1117" name=""/>
              <p:cNvSpPr/>
              <p:nvPr/>
            </p:nvSpPr>
            <p:spPr>
              <a:xfrm>
                <a:off x="491364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21100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0836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0572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0308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40008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69780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99480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29252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8952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91364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21100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0836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0572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10308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40008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69780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99480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29252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8952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91364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21100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50836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0572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10308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40008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9780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9480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29252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58952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91364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21100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50836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0572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0308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008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69780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9480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29252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58952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1364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21100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50836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0572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0308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40008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9780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9480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29252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8952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1364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1100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50836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0572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0308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40008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69780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99480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29252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8952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91364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1100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50836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0572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0308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0008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69780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99480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29252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58952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91364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21100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0836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0572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0308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40008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69780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99480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29252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8952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91364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1100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50836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0572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10308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0008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69780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99480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29252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8952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91364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21100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50836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0572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10308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0008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69780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99480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29252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8952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4572000" y="2682720"/>
              <a:ext cx="3657600" cy="3886200"/>
              <a:chOff x="4572000" y="2682720"/>
              <a:chExt cx="3657600" cy="3886200"/>
            </a:xfrm>
          </p:grpSpPr>
          <p:sp>
            <p:nvSpPr>
              <p:cNvPr id="1218" name=""/>
              <p:cNvSpPr/>
              <p:nvPr/>
            </p:nvSpPr>
            <p:spPr>
              <a:xfrm>
                <a:off x="6400800" y="2682720"/>
                <a:ext cx="0" cy="388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572000" y="4644360"/>
                <a:ext cx="3657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0" name=""/>
          <p:cNvSpPr/>
          <p:nvPr/>
        </p:nvSpPr>
        <p:spPr>
          <a:xfrm>
            <a:off x="8229600" y="4419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48520" y="2286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6324480" y="5248440"/>
            <a:ext cx="1981440" cy="423720"/>
            <a:chOff x="6324480" y="5248440"/>
            <a:chExt cx="1981440" cy="423720"/>
          </a:xfrm>
        </p:grpSpPr>
        <p:sp>
          <p:nvSpPr>
            <p:cNvPr id="1223" name=""/>
            <p:cNvSpPr/>
            <p:nvPr/>
          </p:nvSpPr>
          <p:spPr>
            <a:xfrm>
              <a:off x="6324480" y="55198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00800" y="5248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0, </a:t>
              </a:r>
              <a:r>
                <a:rPr b="0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629400" y="3962520"/>
            <a:ext cx="1981080" cy="457200"/>
            <a:chOff x="6629400" y="3962520"/>
            <a:chExt cx="1981080" cy="457200"/>
          </a:xfrm>
        </p:grpSpPr>
        <p:sp>
          <p:nvSpPr>
            <p:cNvPr id="1226" name=""/>
            <p:cNvSpPr/>
            <p:nvPr/>
          </p:nvSpPr>
          <p:spPr>
            <a:xfrm>
              <a:off x="6629400" y="4267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705720" y="396252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1, 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6905520" y="2681280"/>
            <a:ext cx="1933560" cy="461880"/>
            <a:chOff x="6905520" y="2681280"/>
            <a:chExt cx="1933560" cy="461880"/>
          </a:xfrm>
        </p:grpSpPr>
        <p:sp>
          <p:nvSpPr>
            <p:cNvPr id="1229" name=""/>
            <p:cNvSpPr/>
            <p:nvPr/>
          </p:nvSpPr>
          <p:spPr>
            <a:xfrm>
              <a:off x="6905520" y="29908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34320" y="268128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2, 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 flipV="1">
            <a:off x="6296040" y="2666880"/>
            <a:ext cx="790560" cy="33530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2" name=""/>
          <p:cNvGraphicFramePr/>
          <p:nvPr/>
        </p:nvGraphicFramePr>
        <p:xfrm>
          <a:off x="304920" y="3352680"/>
          <a:ext cx="4267080" cy="2133720"/>
        </p:xfrm>
        <a:graphic>
          <a:graphicData uri="http://schemas.openxmlformats.org/drawingml/2006/table">
            <a:tbl>
              <a:tblPr/>
              <a:tblGrid>
                <a:gridCol w="681120"/>
                <a:gridCol w="1299960"/>
                <a:gridCol w="1219320"/>
                <a:gridCol w="1066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– 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3" name=""/>
          <p:cNvGrpSpPr/>
          <p:nvPr/>
        </p:nvGrpSpPr>
        <p:grpSpPr>
          <a:xfrm>
            <a:off x="990720" y="3962520"/>
            <a:ext cx="3962160" cy="1449720"/>
            <a:chOff x="990720" y="3962520"/>
            <a:chExt cx="3962160" cy="1449720"/>
          </a:xfrm>
        </p:grpSpPr>
        <p:sp>
          <p:nvSpPr>
            <p:cNvPr id="1234" name=""/>
            <p:cNvSpPr/>
            <p:nvPr/>
          </p:nvSpPr>
          <p:spPr>
            <a:xfrm>
              <a:off x="99072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0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90720" y="44798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1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90720" y="5013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2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90920" y="3962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743200" y="44798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743200" y="50133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2440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0, </a:t>
              </a:r>
              <a:r>
                <a:rPr b="0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81280" y="44956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1,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581280" y="5013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2, 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1932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values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by substituting 1, 3, 5, and 7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6280" y="298548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, 3, 7,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38680" y="34902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, 13, 21, 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9320" y="400464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0, 10, 20,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9765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90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986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600200"/>
            <a:ext cx="746748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ay is four days after the day before Satu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graph points and lines on the coordinate plane</a:t>
            </a:r>
            <a:r>
              <a:rPr b="0" lang="en-US" sz="35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828800"/>
            <a:ext cx="7162920" cy="4229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e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d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 of a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61604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ordinate pl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formed by two number lines,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y intersect at right angles and divide the plane into f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quadra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809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coordin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first number in an ordered pair.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coordin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econd number in an ordered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8604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plot an ordered pair, begin 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point (0, 0). It is the intersection of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133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 tells how many units to move left or right;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 tells how many units to move up or do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18129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04920" y="4327560"/>
            <a:ext cx="4343040" cy="1722600"/>
            <a:chOff x="304920" y="4327560"/>
            <a:chExt cx="4343040" cy="1722600"/>
          </a:xfrm>
        </p:grpSpPr>
        <p:sp>
          <p:nvSpPr>
            <p:cNvPr id="72" name=""/>
            <p:cNvSpPr/>
            <p:nvPr/>
          </p:nvSpPr>
          <p:spPr>
            <a:xfrm>
              <a:off x="304920" y="4724280"/>
              <a:ext cx="4343040" cy="13258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sign of a number indicates which direction to move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ositive: up or righ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egative: down or le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327560"/>
              <a:ext cx="21124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724280" y="990720"/>
            <a:ext cx="3962160" cy="3595320"/>
            <a:chOff x="4724280" y="990720"/>
            <a:chExt cx="3962160" cy="3595320"/>
          </a:xfrm>
        </p:grpSpPr>
        <p:grpSp>
          <p:nvGrpSpPr>
            <p:cNvPr id="75" name=""/>
            <p:cNvGrpSpPr/>
            <p:nvPr/>
          </p:nvGrpSpPr>
          <p:grpSpPr>
            <a:xfrm>
              <a:off x="4724280" y="1091520"/>
              <a:ext cx="3540960" cy="3494520"/>
              <a:chOff x="4724280" y="1091520"/>
              <a:chExt cx="3540960" cy="34945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5055120" y="1434960"/>
                <a:ext cx="2878920" cy="2841480"/>
                <a:chOff x="5055120" y="1434960"/>
                <a:chExt cx="2878920" cy="2841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05512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4312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3076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91876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20640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9440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78240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07004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5804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64604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5512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4312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63076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91876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20640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49440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78240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07004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35804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604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5512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34312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63076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91876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0640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9440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8240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07004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35804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64604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5512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34312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63076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91876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20640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49440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78240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07004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35804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4604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05512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34312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3076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1876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20640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49440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8240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7004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5804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4604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5512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34312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63076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91876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20640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49440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78240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07004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35804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64604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5512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34312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63076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91876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20640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9440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78240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004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5804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4604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5512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34312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3076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91876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20640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9440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8240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07004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5804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4604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05512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4312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63076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1876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0640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9440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78240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7004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5804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4604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05512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4312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63076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91876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0640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9440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8240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7004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5804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4604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24280" y="1091520"/>
                <a:ext cx="3540960" cy="3494520"/>
                <a:chOff x="4724280" y="1091520"/>
                <a:chExt cx="3540960" cy="34945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94760" y="109152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24280" y="285552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8012160" y="245520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58120" y="990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5867280" y="2895120"/>
            <a:ext cx="53352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19720" y="34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043760" y="1600200"/>
            <a:ext cx="1100160" cy="679320"/>
            <a:chOff x="7043760" y="1600200"/>
            <a:chExt cx="1100160" cy="679320"/>
          </a:xfrm>
        </p:grpSpPr>
        <p:sp>
          <p:nvSpPr>
            <p:cNvPr id="185" name=""/>
            <p:cNvSpPr/>
            <p:nvPr/>
          </p:nvSpPr>
          <p:spPr>
            <a:xfrm>
              <a:off x="7043760" y="198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05680" y="1600200"/>
              <a:ext cx="10382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4920" y="181296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ove right    2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2857680"/>
            <a:ext cx="547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797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move up 3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667480" y="2467080"/>
            <a:ext cx="1038240" cy="423720"/>
            <a:chOff x="5667480" y="2467080"/>
            <a:chExt cx="1038240" cy="423720"/>
          </a:xfrm>
        </p:grpSpPr>
        <p:sp>
          <p:nvSpPr>
            <p:cNvPr id="191" name=""/>
            <p:cNvSpPr/>
            <p:nvPr/>
          </p:nvSpPr>
          <p:spPr>
            <a:xfrm>
              <a:off x="6443640" y="2814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7480" y="2467080"/>
              <a:ext cx="10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V="1">
            <a:off x="7062840" y="2000160"/>
            <a:ext cx="0" cy="8510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1386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1397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3951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dditional Example 1: Finding the Coordinates and Quadrants of Points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828800"/>
            <a:ext cx="88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s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71880" y="2514600"/>
            <a:ext cx="49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2438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1, 3); Quadrant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294804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1 unit right, 3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1880" y="34066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72160" y="3330720"/>
            <a:ext cx="36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0, –3); no quad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8401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0 units right, 3 units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71880" y="42670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48400" y="41911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2, 2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700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2 units left, 2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0" y="5159520"/>
            <a:ext cx="50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8400" y="508320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3, 0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1880" y="5592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3 units left, 0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04920" y="2424240"/>
            <a:ext cx="3961800" cy="3595320"/>
            <a:chOff x="304920" y="2424240"/>
            <a:chExt cx="3961800" cy="3595320"/>
          </a:xfrm>
        </p:grpSpPr>
        <p:grpSp>
          <p:nvGrpSpPr>
            <p:cNvPr id="213" name=""/>
            <p:cNvGrpSpPr/>
            <p:nvPr/>
          </p:nvGrpSpPr>
          <p:grpSpPr>
            <a:xfrm>
              <a:off x="304920" y="2525040"/>
              <a:ext cx="3540600" cy="3494520"/>
              <a:chOff x="304920" y="2525040"/>
              <a:chExt cx="3540600" cy="34945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35760" y="2868480"/>
                <a:ext cx="2878200" cy="2841480"/>
                <a:chOff x="635760" y="2868480"/>
                <a:chExt cx="2878200" cy="2841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3576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23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11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99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78704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074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362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650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38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2632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576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23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11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499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78704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074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362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650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938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22632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3576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23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11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499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78704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074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362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650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38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22632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576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923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11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499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8704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074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62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650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38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2632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3576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923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211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99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8704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074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362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650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38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22632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3576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923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211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9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78704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74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362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650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38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2632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3576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923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11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499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8704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74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362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0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8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2632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3576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923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211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499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78704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074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62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650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938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2632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576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23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11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499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78704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74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362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650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38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22632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3576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923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211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499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8704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074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62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650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938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2632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04920" y="2525040"/>
                <a:ext cx="3540600" cy="3494520"/>
                <a:chOff x="304920" y="2525040"/>
                <a:chExt cx="3540600" cy="3494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075040" y="25250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04920" y="4289040"/>
                  <a:ext cx="354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3592440" y="3888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38400" y="24242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286000" y="3367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95480" y="50673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28840" y="36432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28600" y="42195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8140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952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81040" y="33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76480" y="42512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stevenh</cp:lastModifiedBy>
  <cp:lastPrinted>2002-10-02T16:48:48Z</cp:lastPrinted>
  <dcterms:modified xsi:type="dcterms:W3CDTF">2006-04-26T18:33:00Z</dcterms:modified>
  <cp:revision>57</cp:revision>
  <dc:subject/>
  <dc:title>No Slide Title</dc:title>
</cp:coreProperties>
</file>