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0E4-6B65-4F77-ACF3-2F841DC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380-2D9A-44FB-8678-5248196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1DA-3E0D-4BF9-A319-BB5E5A6C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E56-CAC7-446C-90CF-7E0E5855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B65-3717-45D2-8947-4E573165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813-A490-49BE-A8E6-CE597BC0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5AE-A3A0-41E1-B2DA-3C5989FA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EC0-DFC7-49CE-B9DB-F344D69F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0A4-C8B1-4F69-8654-89B4D0D6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B74-E846-4765-A9E3-6F3BBD1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406-BDBE-4163-B8BB-B7085CF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D7C-EC21-44C5-8B24-9F49160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5FE-E376-48F3-AC14-24E37000C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24840" y="91080"/>
              <a:ext cx="63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Graphing on a Coordinate Pla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536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5920" y="145080"/>
            <a:ext cx="63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phing o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553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6576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95560" y="251460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8400" y="2438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2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95560" y="34066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95840" y="333072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2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righ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95560" y="42670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72080" y="4191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1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left, 4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05280" y="51595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3160" y="5083200"/>
            <a:ext cx="36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–2); Quadrant l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95560" y="5592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2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342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995480" y="3629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781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709640" y="3076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76520" y="42195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3370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4479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38440" y="2760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6880" y="39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0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Graphing Points on a Coordinat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3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4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4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0053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4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4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46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43640" y="2852640"/>
            <a:ext cx="552600" cy="398880"/>
            <a:chOff x="7343640" y="2852640"/>
            <a:chExt cx="552600" cy="398880"/>
          </a:xfrm>
        </p:grpSpPr>
        <p:sp>
          <p:nvSpPr>
            <p:cNvPr id="577" name=""/>
            <p:cNvSpPr/>
            <p:nvPr/>
          </p:nvSpPr>
          <p:spPr>
            <a:xfrm>
              <a:off x="734364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3904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48560" y="4219560"/>
            <a:ext cx="519120" cy="444960"/>
            <a:chOff x="7648560" y="4219560"/>
            <a:chExt cx="519120" cy="444960"/>
          </a:xfrm>
        </p:grpSpPr>
        <p:sp>
          <p:nvSpPr>
            <p:cNvPr id="580" name=""/>
            <p:cNvSpPr/>
            <p:nvPr/>
          </p:nvSpPr>
          <p:spPr>
            <a:xfrm>
              <a:off x="7648560" y="4219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0480" y="42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200640" y="4772160"/>
            <a:ext cx="509760" cy="442800"/>
            <a:chOff x="6200640" y="4772160"/>
            <a:chExt cx="509760" cy="442800"/>
          </a:xfrm>
        </p:grpSpPr>
        <p:sp>
          <p:nvSpPr>
            <p:cNvPr id="583" name=""/>
            <p:cNvSpPr/>
            <p:nvPr/>
          </p:nvSpPr>
          <p:spPr>
            <a:xfrm>
              <a:off x="6200640" y="50626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53200" y="4772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34120" y="2803680"/>
            <a:ext cx="519120" cy="439560"/>
            <a:chOff x="5334120" y="2803680"/>
            <a:chExt cx="519120" cy="439560"/>
          </a:xfrm>
        </p:grpSpPr>
        <p:sp>
          <p:nvSpPr>
            <p:cNvPr id="586" name=""/>
            <p:cNvSpPr/>
            <p:nvPr/>
          </p:nvSpPr>
          <p:spPr>
            <a:xfrm>
              <a:off x="533412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9604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2960" y="161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coordinate pla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7960" y="31240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3557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00280" y="311616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,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90920" y="3549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right 2, up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0053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9240" y="44388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2, up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401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1200" y="444960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left 1, dow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800600" y="2438280"/>
            <a:ext cx="3962160" cy="3595320"/>
            <a:chOff x="4800600" y="2438280"/>
            <a:chExt cx="3962160" cy="3595320"/>
          </a:xfrm>
        </p:grpSpPr>
        <p:grpSp>
          <p:nvGrpSpPr>
            <p:cNvPr id="599" name=""/>
            <p:cNvGrpSpPr/>
            <p:nvPr/>
          </p:nvGrpSpPr>
          <p:grpSpPr>
            <a:xfrm>
              <a:off x="4800600" y="2539080"/>
              <a:ext cx="3540960" cy="3494520"/>
              <a:chOff x="4800600" y="2539080"/>
              <a:chExt cx="3540960" cy="3494520"/>
            </a:xfrm>
          </p:grpSpPr>
          <p:grpSp>
            <p:nvGrpSpPr>
              <p:cNvPr id="600" name=""/>
              <p:cNvGrpSpPr/>
              <p:nvPr/>
            </p:nvGrpSpPr>
            <p:grpSpPr>
              <a:xfrm>
                <a:off x="5131440" y="2882520"/>
                <a:ext cx="2878920" cy="2841480"/>
                <a:chOff x="5131440" y="2882520"/>
                <a:chExt cx="2878920" cy="2841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13144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41944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70708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99508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282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57072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85872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146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434360" y="288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22360" y="2882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13144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1944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0708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9508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282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57072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872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146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34360" y="316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722360" y="3166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3144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41944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0708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9508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282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57072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5872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146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34360" y="345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722360" y="34506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13144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41944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0708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99508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282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57072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85872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146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434360" y="373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7722360" y="3734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13144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41944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0708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99508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282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57072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85872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46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434360" y="4018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722360" y="4018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13144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41944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0708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99508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2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57072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85872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46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34360" y="430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7722360" y="4303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13144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41944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708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99508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282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57072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85872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146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434360" y="4587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722360" y="4587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13144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41944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70708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99508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282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57072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85872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146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434360" y="487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722360" y="4871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3144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41944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70708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99508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82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57072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85872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146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434360" y="5155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722360" y="5155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13144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41944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70708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99508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282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57072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85872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146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7434360" y="5439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722360" y="5439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800600" y="2539080"/>
                <a:ext cx="3540960" cy="3494520"/>
                <a:chOff x="4800600" y="2539080"/>
                <a:chExt cx="3540960" cy="34945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6571080" y="253908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800600" y="430308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4" name=""/>
            <p:cNvSpPr/>
            <p:nvPr/>
          </p:nvSpPr>
          <p:spPr>
            <a:xfrm>
              <a:off x="8088480" y="390276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34440" y="243828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067520" y="2852640"/>
            <a:ext cx="552600" cy="398880"/>
            <a:chOff x="7067520" y="2852640"/>
            <a:chExt cx="552600" cy="398880"/>
          </a:xfrm>
        </p:grpSpPr>
        <p:sp>
          <p:nvSpPr>
            <p:cNvPr id="707" name=""/>
            <p:cNvSpPr/>
            <p:nvPr/>
          </p:nvSpPr>
          <p:spPr>
            <a:xfrm>
              <a:off x="7067520" y="30956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2852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067520" y="4224240"/>
            <a:ext cx="519120" cy="444960"/>
            <a:chOff x="7067520" y="4224240"/>
            <a:chExt cx="519120" cy="444960"/>
          </a:xfrm>
        </p:grpSpPr>
        <p:sp>
          <p:nvSpPr>
            <p:cNvPr id="710" name=""/>
            <p:cNvSpPr/>
            <p:nvPr/>
          </p:nvSpPr>
          <p:spPr>
            <a:xfrm>
              <a:off x="7067520" y="4224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9440" y="4270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210360" y="4219560"/>
            <a:ext cx="509040" cy="442800"/>
            <a:chOff x="6210360" y="4219560"/>
            <a:chExt cx="509040" cy="442800"/>
          </a:xfrm>
        </p:grpSpPr>
        <p:sp>
          <p:nvSpPr>
            <p:cNvPr id="713" name=""/>
            <p:cNvSpPr/>
            <p:nvPr/>
          </p:nvSpPr>
          <p:spPr>
            <a:xfrm>
              <a:off x="6210360" y="4510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2560" y="42195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915160" y="2803680"/>
            <a:ext cx="519120" cy="439560"/>
            <a:chOff x="5915160" y="2803680"/>
            <a:chExt cx="519120" cy="439560"/>
          </a:xfrm>
        </p:grpSpPr>
        <p:sp>
          <p:nvSpPr>
            <p:cNvPr id="716" name=""/>
            <p:cNvSpPr/>
            <p:nvPr/>
          </p:nvSpPr>
          <p:spPr>
            <a:xfrm>
              <a:off x="5915160" y="309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77080" y="2803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762120" y="160020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ph of an equ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ordered pairs that are solutions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Graphing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721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859440" y="2373480"/>
            <a:ext cx="0" cy="349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0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1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2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(3)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553080" y="2610000"/>
            <a:ext cx="1676520" cy="32004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62720" y="4081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53240" y="3505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777000" y="5214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97000" y="13716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3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46160" indent="-1946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421240" y="2730600"/>
            <a:ext cx="2879640" cy="2841480"/>
            <a:chOff x="5421240" y="2730600"/>
            <a:chExt cx="2879640" cy="2841480"/>
          </a:xfrm>
        </p:grpSpPr>
        <p:sp>
          <p:nvSpPr>
            <p:cNvPr id="857" name=""/>
            <p:cNvSpPr/>
            <p:nvPr/>
          </p:nvSpPr>
          <p:spPr>
            <a:xfrm>
              <a:off x="542124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09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9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8524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72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60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48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36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724880" y="2730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012880" y="2730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2124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09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9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8524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72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60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48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6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24880" y="3014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012880" y="3014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2124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09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9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524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572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60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48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36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24880" y="329868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012880" y="329868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42124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09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9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8524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72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60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48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36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24880" y="358272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12880" y="358272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2124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09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8524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572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60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48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36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24880" y="38667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012880" y="38667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2124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09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9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8524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72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60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48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36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24880" y="415116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012880" y="415116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2124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09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9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8524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72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860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48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36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724880" y="44352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012880" y="44352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2124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09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9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8524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572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860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48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6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724880" y="471960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2880" y="471960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42124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709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9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8524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72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860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48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36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24880" y="50036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12880" y="50036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2124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09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9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8524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2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60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48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36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24880" y="5288040"/>
              <a:ext cx="28764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12880" y="5288040"/>
              <a:ext cx="288000" cy="284040"/>
            </a:xfrm>
            <a:prstGeom prst="rect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859440" y="2387520"/>
            <a:ext cx="0" cy="3494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9304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16680" y="2286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7200" y="3276720"/>
            <a:ext cx="3809880" cy="232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(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" y="3733920"/>
            <a:ext cx="380988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41452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" y="41911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" y="46483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5105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1960" y="37339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520" y="41911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3520" y="46483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20" y="510552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66960" y="37242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0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38280" y="3733920"/>
            <a:ext cx="8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2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0, 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81000" y="41911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1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4382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38400" y="419112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,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966960" y="464832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2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192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9564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961920" y="51055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(3) 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5146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9096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6705720" y="2286000"/>
            <a:ext cx="1295280" cy="365760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53120" y="4648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2720" y="3809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653240" y="2938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105520" y="443376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7770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0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tabl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- 4. Graph the ordered pairs on a coordinate plane and draw a line through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520" y="1618920"/>
            <a:ext cx="441936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each point on the given coordinate plane. Label points C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 (5, 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 (0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752120" y="34279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3, 4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72920" y="280548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(2, 0);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4648320" y="1660680"/>
            <a:ext cx="3962160" cy="4282560"/>
            <a:chOff x="4648320" y="1660680"/>
            <a:chExt cx="3962160" cy="4282560"/>
          </a:xfrm>
        </p:grpSpPr>
        <p:grpSp>
          <p:nvGrpSpPr>
            <p:cNvPr id="996" name=""/>
            <p:cNvGrpSpPr/>
            <p:nvPr/>
          </p:nvGrpSpPr>
          <p:grpSpPr>
            <a:xfrm>
              <a:off x="4648320" y="2057400"/>
              <a:ext cx="3657600" cy="3885840"/>
              <a:chOff x="4648320" y="2057400"/>
              <a:chExt cx="3657600" cy="38858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4989960" y="2439000"/>
                <a:ext cx="2973240" cy="3159000"/>
                <a:chOff x="4989960" y="2439000"/>
                <a:chExt cx="2973240" cy="31590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498996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873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58468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8820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7940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47640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77412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7112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68840" y="24390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665840" y="24390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98996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2873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58468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820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7940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7640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77412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07112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8840" y="275472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665840" y="275472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8996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2873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58468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8820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7940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47640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7412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07112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368840" y="307080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665840" y="307080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8996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2873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8468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8820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17940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7640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77412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07112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368840" y="338652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665840" y="338652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98996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2873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58468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8820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7940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47640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77412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07112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368840" y="37026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665840" y="37026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8996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2873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58468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8820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7940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47640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77412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7112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368840" y="40186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65840" y="40186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98996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52873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558468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8820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7940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47640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7412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07112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368840" y="43344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665840" y="43344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98996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2873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58468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8820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7940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47640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77412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07112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368840" y="46504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665840" y="46504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98996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2873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58468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58820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17940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47640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77412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07112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368840" y="4966200"/>
                  <a:ext cx="29700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665840" y="4966200"/>
                  <a:ext cx="297360" cy="31608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98996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2873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58468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8820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617940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47640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77412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07112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368840" y="5282280"/>
                  <a:ext cx="29700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665840" y="5282280"/>
                  <a:ext cx="297360" cy="31572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648320" y="2057400"/>
                <a:ext cx="3657600" cy="3885840"/>
                <a:chOff x="4648320" y="2057400"/>
                <a:chExt cx="3657600" cy="38858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6477120" y="2057400"/>
                  <a:ext cx="0" cy="388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648320" y="4019040"/>
                  <a:ext cx="3657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1" name=""/>
            <p:cNvSpPr/>
            <p:nvPr/>
          </p:nvSpPr>
          <p:spPr>
            <a:xfrm>
              <a:off x="8305920" y="37940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24480" y="1660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96240" y="3948120"/>
              <a:ext cx="15228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14840" y="2695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086600" y="367164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514840" y="23763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6400800" y="2362320"/>
            <a:ext cx="1295280" cy="485280"/>
            <a:chOff x="6400800" y="2362320"/>
            <a:chExt cx="1295280" cy="485280"/>
          </a:xfrm>
        </p:grpSpPr>
        <p:sp>
          <p:nvSpPr>
            <p:cNvPr id="1108" name=""/>
            <p:cNvSpPr/>
            <p:nvPr/>
          </p:nvSpPr>
          <p:spPr>
            <a:xfrm>
              <a:off x="6477120" y="23623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400800" y="2695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7877160" y="4253040"/>
            <a:ext cx="1295280" cy="470880"/>
            <a:chOff x="7877160" y="4253040"/>
            <a:chExt cx="1295280" cy="470880"/>
          </a:xfrm>
        </p:grpSpPr>
        <p:sp>
          <p:nvSpPr>
            <p:cNvPr id="1111" name=""/>
            <p:cNvSpPr/>
            <p:nvPr/>
          </p:nvSpPr>
          <p:spPr>
            <a:xfrm>
              <a:off x="7953120" y="42530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877160" y="45716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880" y="13363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Complete the table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. Graph each ordered pair on the coordinat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572000" y="2682720"/>
            <a:ext cx="3657600" cy="3886200"/>
            <a:chOff x="4572000" y="2682720"/>
            <a:chExt cx="3657600" cy="3886200"/>
          </a:xfrm>
        </p:grpSpPr>
        <p:grpSp>
          <p:nvGrpSpPr>
            <p:cNvPr id="1116" name=""/>
            <p:cNvGrpSpPr/>
            <p:nvPr/>
          </p:nvGrpSpPr>
          <p:grpSpPr>
            <a:xfrm>
              <a:off x="4913640" y="3064320"/>
              <a:ext cx="2973240" cy="3159360"/>
              <a:chOff x="4913640" y="3064320"/>
              <a:chExt cx="2973240" cy="3159360"/>
            </a:xfrm>
          </p:grpSpPr>
          <p:sp>
            <p:nvSpPr>
              <p:cNvPr id="1117" name=""/>
              <p:cNvSpPr/>
              <p:nvPr/>
            </p:nvSpPr>
            <p:spPr>
              <a:xfrm>
                <a:off x="491364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2110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0836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057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0308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0008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9780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9480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292520" y="30643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89520" y="30643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1364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2110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0836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057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0308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0008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69780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9480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292520" y="338004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89520" y="338004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91364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2110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50836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057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10308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40008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69780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9480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292520" y="369612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589520" y="369612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91364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110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50836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057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0308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0008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9780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9480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292520" y="40122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589520" y="40122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1364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2110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50836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057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0308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40008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9780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9480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292520" y="432792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89520" y="432792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1364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110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836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057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0308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0008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69780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99480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292520" y="464400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89520" y="464400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91364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2110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50836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057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0308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40008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69780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9480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292520" y="49600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89520" y="49600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91364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2110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0836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057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0308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40008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9780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99480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92520" y="52761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89520" y="52761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1364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2110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0836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057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10308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0008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69780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99480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292520" y="5591880"/>
                <a:ext cx="29700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89520" y="5591880"/>
                <a:ext cx="297360" cy="31608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91364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2110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50836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057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0308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0008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9780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9480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292520" y="5907960"/>
                <a:ext cx="29700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9520" y="5907960"/>
                <a:ext cx="297360" cy="31572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4572000" y="2682720"/>
              <a:ext cx="3657600" cy="3886200"/>
              <a:chOff x="4572000" y="2682720"/>
              <a:chExt cx="3657600" cy="3886200"/>
            </a:xfrm>
          </p:grpSpPr>
          <p:sp>
            <p:nvSpPr>
              <p:cNvPr id="1218" name=""/>
              <p:cNvSpPr/>
              <p:nvPr/>
            </p:nvSpPr>
            <p:spPr>
              <a:xfrm>
                <a:off x="6400800" y="2682720"/>
                <a:ext cx="0" cy="388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72000" y="4644360"/>
                <a:ext cx="3657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0" name=""/>
          <p:cNvSpPr/>
          <p:nvPr/>
        </p:nvSpPr>
        <p:spPr>
          <a:xfrm>
            <a:off x="8229600" y="44197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48520" y="2286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6324480" y="5248440"/>
            <a:ext cx="1981440" cy="423720"/>
            <a:chOff x="6324480" y="5248440"/>
            <a:chExt cx="1981440" cy="423720"/>
          </a:xfrm>
        </p:grpSpPr>
        <p:sp>
          <p:nvSpPr>
            <p:cNvPr id="1223" name=""/>
            <p:cNvSpPr/>
            <p:nvPr/>
          </p:nvSpPr>
          <p:spPr>
            <a:xfrm>
              <a:off x="6324480" y="5519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00800" y="5248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i="1" lang="en-US" sz="1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629400" y="3962520"/>
            <a:ext cx="1981080" cy="457200"/>
            <a:chOff x="6629400" y="3962520"/>
            <a:chExt cx="1981080" cy="457200"/>
          </a:xfrm>
        </p:grpSpPr>
        <p:sp>
          <p:nvSpPr>
            <p:cNvPr id="1226" name=""/>
            <p:cNvSpPr/>
            <p:nvPr/>
          </p:nvSpPr>
          <p:spPr>
            <a:xfrm>
              <a:off x="6629400" y="4267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705720" y="396252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6905520" y="2681280"/>
            <a:ext cx="1933560" cy="461880"/>
            <a:chOff x="6905520" y="2681280"/>
            <a:chExt cx="1933560" cy="461880"/>
          </a:xfrm>
        </p:grpSpPr>
        <p:sp>
          <p:nvSpPr>
            <p:cNvPr id="1229" name=""/>
            <p:cNvSpPr/>
            <p:nvPr/>
          </p:nvSpPr>
          <p:spPr>
            <a:xfrm>
              <a:off x="6905520" y="2990880"/>
              <a:ext cx="152640" cy="152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934320" y="26812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 flipV="1">
            <a:off x="6296040" y="2666880"/>
            <a:ext cx="790560" cy="33530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2" name=""/>
          <p:cNvGraphicFramePr/>
          <p:nvPr/>
        </p:nvGraphicFramePr>
        <p:xfrm>
          <a:off x="304920" y="3352680"/>
          <a:ext cx="4267080" cy="2133720"/>
        </p:xfrm>
        <a:graphic>
          <a:graphicData uri="http://schemas.openxmlformats.org/drawingml/2006/table">
            <a:tbl>
              <a:tblPr/>
              <a:tblGrid>
                <a:gridCol w="681120"/>
                <a:gridCol w="1299960"/>
                <a:gridCol w="1219320"/>
                <a:gridCol w="1066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– 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3" name=""/>
          <p:cNvGrpSpPr/>
          <p:nvPr/>
        </p:nvGrpSpPr>
        <p:grpSpPr>
          <a:xfrm>
            <a:off x="990720" y="3962520"/>
            <a:ext cx="3962160" cy="1449720"/>
            <a:chOff x="990720" y="3962520"/>
            <a:chExt cx="3962160" cy="1449720"/>
          </a:xfrm>
        </p:grpSpPr>
        <p:sp>
          <p:nvSpPr>
            <p:cNvPr id="1234" name=""/>
            <p:cNvSpPr/>
            <p:nvPr/>
          </p:nvSpPr>
          <p:spPr>
            <a:xfrm>
              <a:off x="99072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0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90720" y="4479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1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9072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4(2) 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0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90920" y="3962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43200" y="44798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43200" y="50133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2440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0, </a:t>
              </a:r>
              <a:r>
                <a:rPr b="0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581280" y="44956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1,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581280" y="5013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(2, 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1932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the values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by substituting 1, 3, 5, and 7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6280" y="298548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, 3, 7,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38680" y="3490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, 13, 21, 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9320" y="400464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0, 10, 20,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9765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90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986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ay is four days after the day before Satu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graph points and lines on the coordinate plane</a:t>
            </a:r>
            <a:r>
              <a:rPr b="0" lang="en-US" sz="35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828800"/>
            <a:ext cx="7162920" cy="4229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d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 of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61604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ordinate 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formed by two number lines,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ax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intersect at right angles and divide the plane into f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quadra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8098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first number in an ordered pair.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-coordin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econd number in an ordered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18604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plot an ordered pair, begin 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point (0, 0). It is the intersection of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 a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axi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6133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left or right;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coordinate tells how many units to move up or dow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28800" y="18129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4327560"/>
            <a:ext cx="4343040" cy="1722600"/>
            <a:chOff x="304920" y="4327560"/>
            <a:chExt cx="4343040" cy="1722600"/>
          </a:xfrm>
        </p:grpSpPr>
        <p:sp>
          <p:nvSpPr>
            <p:cNvPr id="72" name=""/>
            <p:cNvSpPr/>
            <p:nvPr/>
          </p:nvSpPr>
          <p:spPr>
            <a:xfrm>
              <a:off x="304920" y="4724280"/>
              <a:ext cx="4343040" cy="1325880"/>
            </a:xfrm>
            <a:prstGeom prst="rect">
              <a:avLst/>
            </a:prstGeom>
            <a:noFill/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sign of a number indicates which direction to move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ositive: up or right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egative: down or l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327560"/>
              <a:ext cx="21124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724280" y="990720"/>
            <a:ext cx="3962160" cy="3595320"/>
            <a:chOff x="4724280" y="990720"/>
            <a:chExt cx="3962160" cy="3595320"/>
          </a:xfrm>
        </p:grpSpPr>
        <p:grpSp>
          <p:nvGrpSpPr>
            <p:cNvPr id="75" name=""/>
            <p:cNvGrpSpPr/>
            <p:nvPr/>
          </p:nvGrpSpPr>
          <p:grpSpPr>
            <a:xfrm>
              <a:off x="4724280" y="1091520"/>
              <a:ext cx="3540960" cy="3494520"/>
              <a:chOff x="4724280" y="1091520"/>
              <a:chExt cx="3540960" cy="34945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5055120" y="1434960"/>
                <a:ext cx="2878920" cy="2841480"/>
                <a:chOff x="5055120" y="1434960"/>
                <a:chExt cx="2878920" cy="2841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5512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34312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3076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91876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06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9440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8240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70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58040" y="1434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646040" y="1434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5512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4312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3076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91876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206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49440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8240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070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358040" y="1719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6040" y="1719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5512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34312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63076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1876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06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9440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8240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70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358040" y="2003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646040" y="20030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5512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34312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63076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91876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206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9440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78240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070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58040" y="228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46040" y="228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05512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34312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3076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1876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206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9440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8240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70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358040" y="257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46040" y="257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5512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4312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63076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91876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06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49440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78240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070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58040" y="2855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46040" y="2855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05512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34312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63076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91876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206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9440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8240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0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58040" y="3139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46040" y="31395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5512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34312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3076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91876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06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9440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8240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070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358040" y="34239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46040" y="34239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05512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4312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63076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1876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06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49440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78240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070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58040" y="37080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46040" y="37080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05512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4312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63076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91876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06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9440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8240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0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58040" y="39924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46040" y="39924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24280" y="1091520"/>
                <a:ext cx="3540960" cy="3494520"/>
                <a:chOff x="4724280" y="1091520"/>
                <a:chExt cx="3540960" cy="34945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94760" y="109152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4280" y="285552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8012160" y="245520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58120" y="990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5867280" y="2895120"/>
            <a:ext cx="53352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19720" y="34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043760" y="1600200"/>
            <a:ext cx="1100160" cy="679320"/>
            <a:chOff x="7043760" y="1600200"/>
            <a:chExt cx="1100160" cy="679320"/>
          </a:xfrm>
        </p:grpSpPr>
        <p:sp>
          <p:nvSpPr>
            <p:cNvPr id="185" name=""/>
            <p:cNvSpPr/>
            <p:nvPr/>
          </p:nvSpPr>
          <p:spPr>
            <a:xfrm>
              <a:off x="7043760" y="1985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05680" y="1600200"/>
              <a:ext cx="10382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4920" y="181296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move right    2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19960" y="2857680"/>
            <a:ext cx="547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797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move up 3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667480" y="2467080"/>
            <a:ext cx="1038240" cy="423720"/>
            <a:chOff x="5667480" y="2467080"/>
            <a:chExt cx="1038240" cy="423720"/>
          </a:xfrm>
        </p:grpSpPr>
        <p:sp>
          <p:nvSpPr>
            <p:cNvPr id="191" name=""/>
            <p:cNvSpPr/>
            <p:nvPr/>
          </p:nvSpPr>
          <p:spPr>
            <a:xfrm>
              <a:off x="6443640" y="2814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7480" y="246708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0" lang="en-US" sz="2000" spc="-1" strike="noStrike">
                  <a:solidFill>
                    <a:srgbClr val="ff3300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lang="en-US" sz="2000" spc="-1" strike="noStrike">
                  <a:solidFill>
                    <a:srgbClr val="3333cc"/>
                  </a:solidFill>
                  <a:latin typeface="Verdana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V="1">
            <a:off x="7062840" y="2000160"/>
            <a:ext cx="0" cy="8510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13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1397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9513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drant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91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Additional Example 1: Finding the Coordinates and Quadrants of Points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828800"/>
            <a:ext cx="88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the coordinates and quadrants of each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71880" y="251460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2438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1, 3); Quadrant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94804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1 unit right, 3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1880" y="34066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72160" y="333072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0, –3); no quadr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8401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0 units right, 3 units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71880" y="42670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48400" y="41911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2, 2); Quadrant 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7005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2 units left, 2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0" y="5159520"/>
            <a:ext cx="50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8400" y="508320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(–3, 0); no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1880" y="559260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Verdana"/>
              </a:rPr>
              <a:t>3 units left, 0 units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04920" y="2424240"/>
            <a:ext cx="3961800" cy="3595320"/>
            <a:chOff x="304920" y="2424240"/>
            <a:chExt cx="3961800" cy="3595320"/>
          </a:xfrm>
        </p:grpSpPr>
        <p:grpSp>
          <p:nvGrpSpPr>
            <p:cNvPr id="213" name=""/>
            <p:cNvGrpSpPr/>
            <p:nvPr/>
          </p:nvGrpSpPr>
          <p:grpSpPr>
            <a:xfrm>
              <a:off x="304920" y="2525040"/>
              <a:ext cx="3540600" cy="3494520"/>
              <a:chOff x="304920" y="2525040"/>
              <a:chExt cx="3540600" cy="34945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35760" y="2868480"/>
                <a:ext cx="2878200" cy="2841480"/>
                <a:chOff x="635760" y="2868480"/>
                <a:chExt cx="2878200" cy="2841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3576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923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11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49940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78704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74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362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650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3868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26320" y="2868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576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23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11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9940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78704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074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362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650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3868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26320" y="3152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3576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923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11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49940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8704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074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362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650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93868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226320" y="34365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576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923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11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49940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704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74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2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650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3868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26320" y="37206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3576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23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11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49940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704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074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362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650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3868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226320" y="4004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3576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23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211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940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78704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74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362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50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3868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226320" y="42890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3576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23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11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49940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8704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74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362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0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868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26320" y="4573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3576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923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211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9940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78704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74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62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650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3868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26320" y="48574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576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23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11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49940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78704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74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362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650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3868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226320" y="5141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576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23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211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49940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78704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074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62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50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93868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26320" y="54259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04920" y="2525040"/>
                <a:ext cx="3540600" cy="3494520"/>
                <a:chOff x="304920" y="2525040"/>
                <a:chExt cx="3540600" cy="3494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075040" y="25250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04920" y="4289040"/>
                  <a:ext cx="354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3592440" y="38887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38400" y="24242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286000" y="33670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95480" y="50673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28840" y="3643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28600" y="42195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81400" y="3124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81040" y="33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76480" y="42512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stevenh</cp:lastModifiedBy>
  <cp:lastPrinted>2002-10-02T16:48:48Z</cp:lastPrinted>
  <dcterms:modified xsi:type="dcterms:W3CDTF">2006-04-26T18:33:00Z</dcterms:modified>
  <cp:revision>57</cp:revision>
  <dc:subject/>
  <dc:title>No Slide Title</dc:title>
</cp:coreProperties>
</file>