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D1A6-F807-41AD-B8AB-EF7CE354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902-46EF-4D03-AA3E-9EDE4C99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55A4-E9E9-4DE5-90F0-8F96ED48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E562-4415-4128-B9B4-238A25CC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8194-20B3-4BE5-B441-0818AAF4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F995-4FF8-465D-B2D6-0CA60F5A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C368-3A77-4C9C-B276-989C5385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28B5-885A-4056-A323-4C18AC2B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C9C9-2C00-4ED8-8C95-4602F400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DB4B-381E-42FF-AFB5-D015CFEC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DCE3-C197-4FB5-89B8-D6ECD335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3E9D-79CC-4E6D-8680-5B2780CC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4D3E-417E-40CE-8E2A-C03D9ED76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3-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38120" y="91080"/>
              <a:ext cx="284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Ordered Pai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536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43040" y="14508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rdered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440" y="653904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urs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657600" y="23623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3657600" y="30481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3657600" y="368604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3124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733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8080" y="4114800"/>
            <a:ext cx="2743200" cy="535680"/>
            <a:chOff x="838080" y="4114800"/>
            <a:chExt cx="2743200" cy="535680"/>
          </a:xfrm>
        </p:grpSpPr>
        <p:sp>
          <p:nvSpPr>
            <p:cNvPr id="109" name=""/>
            <p:cNvSpPr/>
            <p:nvPr/>
          </p:nvSpPr>
          <p:spPr>
            <a:xfrm>
              <a:off x="838080" y="419076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4(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1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–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41148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276720" y="41911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Substitute 10 for x and 3 for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838080" y="4572000"/>
            <a:ext cx="1371600" cy="535680"/>
            <a:chOff x="838080" y="4572000"/>
            <a:chExt cx="1371600" cy="535680"/>
          </a:xfrm>
        </p:grpSpPr>
        <p:sp>
          <p:nvSpPr>
            <p:cNvPr id="113" name=""/>
            <p:cNvSpPr/>
            <p:nvPr/>
          </p:nvSpPr>
          <p:spPr>
            <a:xfrm>
              <a:off x="838080" y="464796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= 3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19320" y="45720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981080" y="46245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5105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0, 3)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2960" y="207324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ordered pair is a solut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912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B: Deciding Whether an Ordered Pair Is a Solution of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72960" y="207324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ordered pair is a solut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3733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09480" y="4114800"/>
            <a:ext cx="2743200" cy="536040"/>
            <a:chOff x="609480" y="4114800"/>
            <a:chExt cx="2743200" cy="536040"/>
          </a:xfrm>
        </p:grpSpPr>
        <p:sp>
          <p:nvSpPr>
            <p:cNvPr id="124" name=""/>
            <p:cNvSpPr/>
            <p:nvPr/>
          </p:nvSpPr>
          <p:spPr>
            <a:xfrm>
              <a:off x="609480" y="41911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Verdana"/>
                </a:rPr>
                <a:t>38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5(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+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71440" y="41148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352680" y="41911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Substitute 7 for x and 38 for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09480" y="4572000"/>
            <a:ext cx="1752840" cy="536040"/>
            <a:chOff x="609480" y="4572000"/>
            <a:chExt cx="1752840" cy="536040"/>
          </a:xfrm>
        </p:grpSpPr>
        <p:sp>
          <p:nvSpPr>
            <p:cNvPr id="128" name=""/>
            <p:cNvSpPr/>
            <p:nvPr/>
          </p:nvSpPr>
          <p:spPr>
            <a:xfrm>
              <a:off x="609480" y="46483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8 = 3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09520" y="45720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981080" y="46623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5105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7, 38) is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72960" y="207324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ordered pair is a solut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3733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9480" y="4114800"/>
            <a:ext cx="2743200" cy="536040"/>
            <a:chOff x="609480" y="4114800"/>
            <a:chExt cx="2743200" cy="536040"/>
          </a:xfrm>
        </p:grpSpPr>
        <p:sp>
          <p:nvSpPr>
            <p:cNvPr id="137" name=""/>
            <p:cNvSpPr/>
            <p:nvPr/>
          </p:nvSpPr>
          <p:spPr>
            <a:xfrm>
              <a:off x="609480" y="41911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Verdana"/>
                </a:rPr>
                <a:t>17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5(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+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71440" y="41148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352680" y="41911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Substitute 9 for x and 17 for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09480" y="4572000"/>
            <a:ext cx="1752840" cy="536040"/>
            <a:chOff x="609480" y="4572000"/>
            <a:chExt cx="1752840" cy="536040"/>
          </a:xfrm>
        </p:grpSpPr>
        <p:sp>
          <p:nvSpPr>
            <p:cNvPr id="141" name=""/>
            <p:cNvSpPr/>
            <p:nvPr/>
          </p:nvSpPr>
          <p:spPr>
            <a:xfrm>
              <a:off x="609480" y="46483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7 = 4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09520" y="45720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981080" y="46623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105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9, 17)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920" y="19810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iven values to make a table of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912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: Creating a Table of Ordered Pai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840" y="2895480"/>
            <a:ext cx="54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, 2, 3,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48040" y="3657600"/>
            <a:ext cx="12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3657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7080" y="3656160"/>
            <a:ext cx="5110200" cy="251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3657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3657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3657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114800"/>
            <a:ext cx="51051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56386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510552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5910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143000" y="4133880"/>
            <a:ext cx="628560" cy="2040840"/>
            <a:chOff x="1143000" y="4133880"/>
            <a:chExt cx="628560" cy="2040840"/>
          </a:xfrm>
        </p:grpSpPr>
        <p:sp>
          <p:nvSpPr>
            <p:cNvPr id="161" name=""/>
            <p:cNvSpPr/>
            <p:nvPr/>
          </p:nvSpPr>
          <p:spPr>
            <a:xfrm>
              <a:off x="1162080" y="4133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3000" y="4648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43000" y="5181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43000" y="5715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066760" y="413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00360" y="413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10160" y="413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66760" y="46292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4629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10160" y="462924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66760" y="5181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5181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10160" y="5181480"/>
            <a:ext cx="17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,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66760" y="5715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5715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10160" y="5715000"/>
            <a:ext cx="14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4,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172200" y="4003560"/>
            <a:ext cx="2666520" cy="1694880"/>
            <a:chOff x="6172200" y="4003560"/>
            <a:chExt cx="2666520" cy="1694880"/>
          </a:xfrm>
        </p:grpSpPr>
        <p:sp>
          <p:nvSpPr>
            <p:cNvPr id="178" name=""/>
            <p:cNvSpPr/>
            <p:nvPr/>
          </p:nvSpPr>
          <p:spPr>
            <a:xfrm>
              <a:off x="6177960" y="4384800"/>
              <a:ext cx="2660760" cy="131364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 table of solutions can be set up vertically or horizontally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4003560"/>
              <a:ext cx="192816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4920" y="19810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iven values to make a table of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912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: Creating a Table of Ordered Pai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840" y="2895480"/>
            <a:ext cx="60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, 2,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4133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19440" y="413388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4133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46292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4629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4629240"/>
            <a:ext cx="7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51195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5105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72120" y="5124600"/>
            <a:ext cx="14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, 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7080" y="3657600"/>
            <a:ext cx="57960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3657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29200" y="3657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114800"/>
            <a:ext cx="57909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52400" y="4609800"/>
            <a:ext cx="579132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81200" y="3657600"/>
            <a:ext cx="5848200" cy="1926720"/>
            <a:chOff x="781200" y="3657600"/>
            <a:chExt cx="5848200" cy="1926720"/>
          </a:xfrm>
        </p:grpSpPr>
        <p:sp>
          <p:nvSpPr>
            <p:cNvPr id="199" name=""/>
            <p:cNvSpPr/>
            <p:nvPr/>
          </p:nvSpPr>
          <p:spPr>
            <a:xfrm>
              <a:off x="1143000" y="3657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66880" y="36576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91120" y="36576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562720" y="36576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1200" y="4133880"/>
              <a:ext cx="188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m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–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81240" y="4586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80920" y="51246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553080" y="3657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510552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iven values to make a table of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840" y="2743200"/>
            <a:ext cx="54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, 2, 3,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76480" y="3429000"/>
            <a:ext cx="12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3429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7080" y="3427560"/>
            <a:ext cx="5110200" cy="251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3429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3429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3429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3886200"/>
            <a:ext cx="51051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54100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487692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43624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143000" y="3905280"/>
            <a:ext cx="628560" cy="2040840"/>
            <a:chOff x="1143000" y="3905280"/>
            <a:chExt cx="628560" cy="2040840"/>
          </a:xfrm>
        </p:grpSpPr>
        <p:sp>
          <p:nvSpPr>
            <p:cNvPr id="223" name=""/>
            <p:cNvSpPr/>
            <p:nvPr/>
          </p:nvSpPr>
          <p:spPr>
            <a:xfrm>
              <a:off x="1162080" y="3905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43000" y="4419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43000" y="4952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3000" y="5486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2133720" y="39052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00360" y="3905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10160" y="3905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44006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05320" y="44006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440064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33720" y="4952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05320" y="4952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4952880"/>
            <a:ext cx="17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,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5486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053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486400"/>
            <a:ext cx="14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4,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4920" y="19810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iven values to make a table of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840" y="2895480"/>
            <a:ext cx="60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8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, 2, 3,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96240" y="46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3720" y="4133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19440" y="413388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05520" y="4133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43200" y="46292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86360" y="4629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4629240"/>
            <a:ext cx="7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62320" y="51195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38600" y="5105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72120" y="5124600"/>
            <a:ext cx="14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, 2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634080" y="5105520"/>
            <a:ext cx="14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4, 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53080" y="4114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757080" y="3656160"/>
            <a:ext cx="7320240" cy="1982520"/>
            <a:chOff x="757080" y="3656160"/>
            <a:chExt cx="7320240" cy="1982520"/>
          </a:xfrm>
        </p:grpSpPr>
        <p:sp>
          <p:nvSpPr>
            <p:cNvPr id="255" name=""/>
            <p:cNvSpPr/>
            <p:nvPr/>
          </p:nvSpPr>
          <p:spPr>
            <a:xfrm>
              <a:off x="2133720" y="36576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757080" y="3656160"/>
              <a:ext cx="7320240" cy="1982520"/>
              <a:chOff x="757080" y="3656160"/>
              <a:chExt cx="7320240" cy="1982520"/>
            </a:xfrm>
          </p:grpSpPr>
          <p:sp>
            <p:nvSpPr>
              <p:cNvPr id="257" name=""/>
              <p:cNvSpPr/>
              <p:nvPr/>
            </p:nvSpPr>
            <p:spPr>
              <a:xfrm>
                <a:off x="1143000" y="36576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666880" y="36576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191120" y="365760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562720" y="36576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57080" y="3656160"/>
                <a:ext cx="7243920" cy="1982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657600" y="3657600"/>
                <a:ext cx="0" cy="19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029200" y="3657600"/>
                <a:ext cx="0" cy="19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62120" y="4114800"/>
                <a:ext cx="723888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2120" y="4591080"/>
                <a:ext cx="723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81200" y="4133880"/>
                <a:ext cx="188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m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– 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281240" y="45864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80920" y="512460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,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553080" y="3657600"/>
                <a:ext cx="0" cy="19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010280" y="3657600"/>
                <a:ext cx="106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62120" y="5105520"/>
                <a:ext cx="723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80880" y="1828800"/>
            <a:ext cx="82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salesman marks up the price of everything he sells by 20%. The equation for the sales pric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.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 wholesale c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A: </a:t>
            </a:r>
            <a:r>
              <a:rPr b="0" i="1" lang="en-US" sz="2400" spc="-1" strike="noStrike">
                <a:solidFill>
                  <a:srgbClr val="cc0099"/>
                </a:solidFill>
                <a:latin typeface="Arial Black"/>
              </a:rPr>
              <a:t>Consumer</a:t>
            </a:r>
            <a:r>
              <a:rPr b="0" lang="en-US" sz="2400" spc="-1" strike="noStrike">
                <a:solidFill>
                  <a:srgbClr val="cc0099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cc0099"/>
                </a:solidFill>
                <a:latin typeface="Arial Black"/>
              </a:rPr>
              <a:t>Math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312408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will be the sales price of a sweater with a wholesale cost of $48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14400" y="4038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.2(4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14400" y="4495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7.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51814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$48 wholesale sweater will cost the customer $57.60, so (48, 57.60) is a solution of the equation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95480" y="409896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The wholesale cost of the sweater before tax is $48. Multi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B: </a:t>
            </a:r>
            <a:r>
              <a:rPr b="0" i="1" lang="en-US" sz="2400" spc="-1" strike="noStrike">
                <a:solidFill>
                  <a:srgbClr val="cc0099"/>
                </a:solidFill>
                <a:latin typeface="Arial Black"/>
              </a:rPr>
              <a:t>Consumer Math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312408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will be the sales price of a jacket with a wholesale cost of $85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4038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.2(8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4495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0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51814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$85.00 wholesale jacket will cost the customer $102, so (85, 102) is a solution of the equation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95480" y="409896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The wholesale cost of the jacket before tax is $85. Multi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1828800"/>
            <a:ext cx="82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salesman marks up the price of everything he sells by 20%. The equation for the sales pric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.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 wholesale c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0880" y="15238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most states, the price of each item is not the total cost. Sales tax must be added. If sales tax is 7.5%, the equation for total cost i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.07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the price before t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2960" y="34290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much will a $22 item cost after sales ta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8080" y="4114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.075(2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38080" y="4572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3.6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504504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sales tax, the $22 item will cost $23.65, so (22, 23.65) is a solution to the equation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411804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The price of the item before tax is $22. Multi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219320"/>
            <a:ext cx="8229600" cy="47242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ol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14280" y="251388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= 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05640" y="303300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=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90160" y="3580560"/>
            <a:ext cx="118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=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2560" y="4176720"/>
            <a:ext cx="11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c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=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03480" y="471024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7242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7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7 = 5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29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3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7 = 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581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7 +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0481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5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2514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8 =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80880" y="15238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most states, the price of each item is not the total cost. Sales tax must be added. If sales tax is 7.5%, the equation for total cost i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.07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the price before t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2960" y="344484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much will a $10 item cost after sales ta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38080" y="4191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.075(1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4648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0.7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080" y="527364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sales tax, the $10 item will cost $10.75, so (10, 10.75) is a solution to the equation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19112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The price of the item before tax is $10. Multi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1262160"/>
            <a:ext cx="792468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ordered pair is a solut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1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(4,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given values to make a table o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utions.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, 4, 6, 8, and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841280" y="2273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41360" y="22737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371600" y="4029120"/>
          <a:ext cx="5486400" cy="2371680"/>
        </p:xfrm>
        <a:graphic>
          <a:graphicData uri="http://schemas.openxmlformats.org/drawingml/2006/table">
            <a:tbl>
              <a:tblPr/>
              <a:tblGrid>
                <a:gridCol w="1066680"/>
                <a:gridCol w="1676520"/>
                <a:gridCol w="1371600"/>
                <a:gridCol w="1371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x 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– 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(2) 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(2, 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(4) 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(4, 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(6) 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(6, 1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(8) 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(8, 2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(10) 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(10, 3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04920" y="913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1985040"/>
            <a:ext cx="8305560" cy="31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lumbing company charges $50 for a servic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l and $15 per hour. They went on a 3-hou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b. How much did the company ea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34800" y="358020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15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+ 50; $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1676520"/>
            <a:ext cx="7543800" cy="32004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oving van travels 50 miles per hour. Use the equatio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50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re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the number of hours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far will the van travel in 4.5 hou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412920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225 m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write solutions of equations in two variables as ordered pairs</a:t>
            </a:r>
            <a:r>
              <a:rPr b="0" lang="en-US" sz="3500" spc="-1" strike="noStrike">
                <a:solidFill>
                  <a:srgbClr val="000000"/>
                </a:solidFill>
                <a:latin typeface="AGaramond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57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2171880"/>
            <a:ext cx="7391520" cy="8762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dered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1736640"/>
            <a:ext cx="761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mpany that makes team uniforms for a soccer league charges a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$2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ee for team artwork and </a:t>
            </a:r>
            <a:r>
              <a:rPr b="0" lang="en-US" sz="2400" spc="-1" strike="noStrike">
                <a:solidFill>
                  <a:srgbClr val="cc0099"/>
                </a:solidFill>
                <a:latin typeface="Verdana"/>
              </a:rPr>
              <a:t>$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each jersey. Dominic’s team has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layers, and Alyssa’s team has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layers. Find the cost for a set of jerseys for each t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46483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</a:t>
            </a: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he total cost of a set of jerseys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he number of jerseys nee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12408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$2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1" lang="en-US" sz="2400" spc="-1" strike="noStrike">
                <a:solidFill>
                  <a:srgbClr val="cc0099"/>
                </a:solidFill>
                <a:latin typeface="Verdana"/>
              </a:rPr>
              <a:t>$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3276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minic’s tea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19051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76600" y="188604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4240" y="479124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yssa’s tea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3276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$2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(</a:t>
            </a:r>
            <a:r>
              <a:rPr b="0" lang="en-US" sz="2400" spc="-1" strike="noStrike">
                <a:solidFill>
                  <a:srgbClr val="cc0099"/>
                </a:solidFill>
                <a:latin typeface="Verdana"/>
              </a:rPr>
              <a:t>$1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4800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$2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(</a:t>
            </a:r>
            <a:r>
              <a:rPr b="0" lang="en-US" sz="2400" spc="-1" strike="noStrike">
                <a:solidFill>
                  <a:srgbClr val="cc0099"/>
                </a:solidFill>
                <a:latin typeface="Verdana"/>
              </a:rPr>
              <a:t>$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3800" y="1828800"/>
            <a:ext cx="289584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tal cost of jers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1809720"/>
            <a:ext cx="685800" cy="533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1809720"/>
            <a:ext cx="685800" cy="53352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$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9920" y="1809720"/>
            <a:ext cx="1981080" cy="5335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# of jers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3886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$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5410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$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2120" y="14479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rdered pai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is a pair of numbers that can be used to locate a point on a coordinate plane. A solution of a two-variable equation can be written as an ordered p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35812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ed pair 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16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is a solution because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16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$2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(</a:t>
            </a:r>
            <a:r>
              <a:rPr b="0" lang="en-US" sz="2400" spc="-1" strike="noStrike">
                <a:solidFill>
                  <a:srgbClr val="cc0099"/>
                </a:solidFill>
                <a:latin typeface="Verdana"/>
              </a:rPr>
              <a:t>$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48164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ed pair 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14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is a solution because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14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$2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(</a:t>
            </a:r>
            <a:r>
              <a:rPr b="0" lang="en-US" sz="2400" spc="-1" strike="noStrike">
                <a:solidFill>
                  <a:srgbClr val="cc0099"/>
                </a:solidFill>
                <a:latin typeface="Verdana"/>
              </a:rPr>
              <a:t>$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72960" y="207324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ordered pair is a solut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912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A: Deciding Whether an Ordered Pair Is a Solution of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3124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505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38080" y="3886200"/>
            <a:ext cx="2743200" cy="536040"/>
            <a:chOff x="838080" y="3886200"/>
            <a:chExt cx="2743200" cy="536040"/>
          </a:xfrm>
        </p:grpSpPr>
        <p:sp>
          <p:nvSpPr>
            <p:cNvPr id="94" name=""/>
            <p:cNvSpPr/>
            <p:nvPr/>
          </p:nvSpPr>
          <p:spPr>
            <a:xfrm>
              <a:off x="838080" y="39625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Verdana"/>
                </a:rPr>
                <a:t>11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4(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–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00040" y="38862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200400" y="39625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Substitute 3 for x and 11 for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914400" y="4343400"/>
            <a:ext cx="1371600" cy="535680"/>
            <a:chOff x="914400" y="4343400"/>
            <a:chExt cx="1371600" cy="535680"/>
          </a:xfrm>
        </p:grpSpPr>
        <p:sp>
          <p:nvSpPr>
            <p:cNvPr id="98" name=""/>
            <p:cNvSpPr/>
            <p:nvPr/>
          </p:nvSpPr>
          <p:spPr>
            <a:xfrm>
              <a:off x="914400" y="441936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1= 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4343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133720" y="4433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4876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, 11) is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44197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A solution since 11=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219480" y="5362560"/>
            <a:ext cx="5638680" cy="1091160"/>
            <a:chOff x="3219480" y="5362560"/>
            <a:chExt cx="5638680" cy="1091160"/>
          </a:xfrm>
        </p:grpSpPr>
        <p:sp>
          <p:nvSpPr>
            <p:cNvPr id="104" name=""/>
            <p:cNvSpPr/>
            <p:nvPr/>
          </p:nvSpPr>
          <p:spPr>
            <a:xfrm>
              <a:off x="3225960" y="5749920"/>
              <a:ext cx="5632200" cy="70380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he order in which a solution is written is important. Always writ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first, the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19480" y="5362560"/>
              <a:ext cx="203832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1:42:53Z</dcterms:created>
  <dc:creator>Manda Reid</dc:creator>
  <dc:description/>
  <dc:language>en-US</dc:language>
  <cp:lastModifiedBy>stevenh</cp:lastModifiedBy>
  <dcterms:modified xsi:type="dcterms:W3CDTF">2006-04-26T18:35:54Z</dcterms:modified>
  <cp:revision>69</cp:revision>
  <dc:subject/>
  <dc:title>No Slide Title</dc:title>
</cp:coreProperties>
</file>