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91F-1FDA-4206-AD36-27EA8D30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A19-FB72-437E-8AF2-7C0D8C4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B35-5D41-4F7A-B082-4E1D31A4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2FA-6C66-4177-8C67-1A6537CE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72C-7D3F-4BE1-A5D8-6332B294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B6A-2E9C-4191-AEF7-ECC6BBC3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8DB-550A-4789-B068-ABE64CB4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6F3-AE59-4419-86D8-27C36E4F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E39-A779-4323-9957-40B2E724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0EE-2EF4-4670-B73E-A09DE01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442-9C09-4F39-A43E-36FE2554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9DA-C48B-4F44-84DA-25C1CC77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A8F-29AF-4D78-820E-D60A8036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38120" y="91080"/>
              <a:ext cx="28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Ordered Pai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536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43040" y="1450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rdered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40" y="65390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6576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4114800"/>
            <a:ext cx="2743200" cy="535680"/>
            <a:chOff x="838080" y="4114800"/>
            <a:chExt cx="2743200" cy="535680"/>
          </a:xfrm>
        </p:grpSpPr>
        <p:sp>
          <p:nvSpPr>
            <p:cNvPr id="109" name=""/>
            <p:cNvSpPr/>
            <p:nvPr/>
          </p:nvSpPr>
          <p:spPr>
            <a:xfrm>
              <a:off x="838080" y="41907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–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76720" y="4191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10 for x and 3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4572000"/>
            <a:ext cx="1371600" cy="535680"/>
            <a:chOff x="838080" y="4572000"/>
            <a:chExt cx="1371600" cy="535680"/>
          </a:xfrm>
        </p:grpSpPr>
        <p:sp>
          <p:nvSpPr>
            <p:cNvPr id="113" name=""/>
            <p:cNvSpPr/>
            <p:nvPr/>
          </p:nvSpPr>
          <p:spPr>
            <a:xfrm>
              <a:off x="838080" y="4647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=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5720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81080" y="4624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, 3)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Deciding Whether an Ordered Pair Is a Solution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9480" y="4114800"/>
            <a:ext cx="2743200" cy="536040"/>
            <a:chOff x="609480" y="4114800"/>
            <a:chExt cx="2743200" cy="536040"/>
          </a:xfrm>
        </p:grpSpPr>
        <p:sp>
          <p:nvSpPr>
            <p:cNvPr id="124" name=""/>
            <p:cNvSpPr/>
            <p:nvPr/>
          </p:nvSpPr>
          <p:spPr>
            <a:xfrm>
              <a:off x="60948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3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144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52680" y="4191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7 for x and 38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9480" y="4572000"/>
            <a:ext cx="1752840" cy="536040"/>
            <a:chOff x="609480" y="4572000"/>
            <a:chExt cx="1752840" cy="536040"/>
          </a:xfrm>
        </p:grpSpPr>
        <p:sp>
          <p:nvSpPr>
            <p:cNvPr id="128" name=""/>
            <p:cNvSpPr/>
            <p:nvPr/>
          </p:nvSpPr>
          <p:spPr>
            <a:xfrm>
              <a:off x="609480" y="4648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8 = 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9520" y="45720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981080" y="466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7, 38) 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4114800"/>
            <a:ext cx="2743200" cy="536040"/>
            <a:chOff x="609480" y="4114800"/>
            <a:chExt cx="2743200" cy="536040"/>
          </a:xfrm>
        </p:grpSpPr>
        <p:sp>
          <p:nvSpPr>
            <p:cNvPr id="137" name=""/>
            <p:cNvSpPr/>
            <p:nvPr/>
          </p:nvSpPr>
          <p:spPr>
            <a:xfrm>
              <a:off x="60948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7144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352680" y="4191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9 for x and 17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4572000"/>
            <a:ext cx="1752840" cy="536040"/>
            <a:chOff x="609480" y="4572000"/>
            <a:chExt cx="1752840" cy="536040"/>
          </a:xfrm>
        </p:grpSpPr>
        <p:sp>
          <p:nvSpPr>
            <p:cNvPr id="141" name=""/>
            <p:cNvSpPr/>
            <p:nvPr/>
          </p:nvSpPr>
          <p:spPr>
            <a:xfrm>
              <a:off x="609480" y="4648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7 =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9520" y="45720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81080" y="466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, 17)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Creating a Table of Ordered Pai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840" y="2895480"/>
            <a:ext cx="54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48040" y="36576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7080" y="3656160"/>
            <a:ext cx="5110200" cy="25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114800"/>
            <a:ext cx="5105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638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105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591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43000" y="4133880"/>
            <a:ext cx="628560" cy="2040840"/>
            <a:chOff x="1143000" y="4133880"/>
            <a:chExt cx="628560" cy="2040840"/>
          </a:xfrm>
        </p:grpSpPr>
        <p:sp>
          <p:nvSpPr>
            <p:cNvPr id="161" name=""/>
            <p:cNvSpPr/>
            <p:nvPr/>
          </p:nvSpPr>
          <p:spPr>
            <a:xfrm>
              <a:off x="1162080" y="4133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571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066760" y="413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360" y="413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10160" y="413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676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0160" y="46292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6676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181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10160" y="518148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6676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571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0160" y="57150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72200" y="4003560"/>
            <a:ext cx="2666520" cy="1694880"/>
            <a:chOff x="6172200" y="4003560"/>
            <a:chExt cx="2666520" cy="1694880"/>
          </a:xfrm>
        </p:grpSpPr>
        <p:sp>
          <p:nvSpPr>
            <p:cNvPr id="178" name=""/>
            <p:cNvSpPr/>
            <p:nvPr/>
          </p:nvSpPr>
          <p:spPr>
            <a:xfrm>
              <a:off x="6177960" y="4384800"/>
              <a:ext cx="2660760" cy="13136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table of solutions can be set up vertically or horizontal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003560"/>
              <a:ext cx="1928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1981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Creating a Table of Ordered Pai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840" y="289548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33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19440" y="41338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413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462924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5119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72120" y="51246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080" y="3657600"/>
            <a:ext cx="5796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114800"/>
            <a:ext cx="57909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2400" y="4609800"/>
            <a:ext cx="57913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81200" y="3657600"/>
            <a:ext cx="5848200" cy="1926720"/>
            <a:chOff x="781200" y="3657600"/>
            <a:chExt cx="5848200" cy="1926720"/>
          </a:xfrm>
        </p:grpSpPr>
        <p:sp>
          <p:nvSpPr>
            <p:cNvPr id="199" name=""/>
            <p:cNvSpPr/>
            <p:nvPr/>
          </p:nvSpPr>
          <p:spPr>
            <a:xfrm>
              <a:off x="114300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6880" y="36576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91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62720" y="3657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1200" y="4133880"/>
              <a:ext cx="18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81240" y="45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0920" y="5124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55308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1055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2743200"/>
            <a:ext cx="54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34290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7080" y="3427560"/>
            <a:ext cx="5110200" cy="25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886200"/>
            <a:ext cx="5105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410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8769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3624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43000" y="3905280"/>
            <a:ext cx="628560" cy="2040840"/>
            <a:chOff x="1143000" y="3905280"/>
            <a:chExt cx="628560" cy="2040840"/>
          </a:xfrm>
        </p:grpSpPr>
        <p:sp>
          <p:nvSpPr>
            <p:cNvPr id="223" name=""/>
            <p:cNvSpPr/>
            <p:nvPr/>
          </p:nvSpPr>
          <p:spPr>
            <a:xfrm>
              <a:off x="1162080" y="390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3000" y="4952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133720" y="3905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0360" y="390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160" y="390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4400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44006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44006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952880"/>
            <a:ext cx="17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5486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48640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981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289548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96240" y="46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4133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19440" y="41338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413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8636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462924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5119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86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72120" y="51246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34080" y="510552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57080" y="3656160"/>
            <a:ext cx="7320240" cy="1982520"/>
            <a:chOff x="757080" y="3656160"/>
            <a:chExt cx="7320240" cy="1982520"/>
          </a:xfrm>
        </p:grpSpPr>
        <p:sp>
          <p:nvSpPr>
            <p:cNvPr id="255" name=""/>
            <p:cNvSpPr/>
            <p:nvPr/>
          </p:nvSpPr>
          <p:spPr>
            <a:xfrm>
              <a:off x="213372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57080" y="3656160"/>
              <a:ext cx="7320240" cy="1982520"/>
              <a:chOff x="757080" y="3656160"/>
              <a:chExt cx="7320240" cy="1982520"/>
            </a:xfrm>
          </p:grpSpPr>
          <p:sp>
            <p:nvSpPr>
              <p:cNvPr id="257" name=""/>
              <p:cNvSpPr/>
              <p:nvPr/>
            </p:nvSpPr>
            <p:spPr>
              <a:xfrm>
                <a:off x="114300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66880" y="36576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91120" y="36576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62720" y="36576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7080" y="3656160"/>
                <a:ext cx="7243920" cy="198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760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920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120" y="4114800"/>
                <a:ext cx="7238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2120" y="459108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1200" y="4133880"/>
                <a:ext cx="188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m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81240" y="4586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0920" y="51246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5308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10280" y="36576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2120" y="510552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man marks up the price of everything he sells by 20%. The equation for the sales pri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wholesal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Consumer</a:t>
            </a:r>
            <a:r>
              <a:rPr b="0" lang="en-US" sz="2400" spc="-1" strike="noStrike">
                <a:solidFill>
                  <a:srgbClr val="cc0099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Mat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31240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ill be the sales price of a sweater with a wholesale cost of $48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(4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7.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$48 wholesale sweater will cost the customer $57.60, so (48, 57.60) is a solution of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0989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wholesale cost of the sweater before tax is $48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Consumer Mat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31240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ill be the sales price of a jacket with a wholesale cost of $85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(8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$85.00 wholesale jacket will cost the customer $102, so (85, 102) is a solution of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40989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wholesale cost of the jacket before tax is $85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man marks up the price of everything he sells by 20%. The equation for the sales pri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wholesal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523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most states, the price of each item is not the total cost. Sales tax must be added. If sales tax is 7.5%, the equation for total cos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07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price before t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2960" y="34290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much will a $22 item cost after sales ta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075(2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4572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3.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50450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sales tax, the $22 item will cost $23.65, so (22, 23.65) is a solution to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41180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price of the item before tax is $22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19320"/>
            <a:ext cx="822960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14280" y="251388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05640" y="30330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90160" y="3580560"/>
            <a:ext cx="11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2560" y="4176720"/>
            <a:ext cx="11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3480" y="47102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7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7 = 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2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7 =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7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8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514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8 =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15238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most states, the price of each item is not the total cost. Sales tax must be added. If sales tax is 7.5%, the equation for total cos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07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price before t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2960" y="34448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much will a $10 item cost after sales ta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4191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075(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.7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5273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sales tax, the $10 item will cost $10.75, so (10, 10.75) is a solution to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911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price of the item before tax is $10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262160"/>
            <a:ext cx="79246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(4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s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, 4, 6, 8, and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41280" y="2273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41360" y="22737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029120"/>
          <a:ext cx="5486400" cy="2371680"/>
        </p:xfrm>
        <a:graphic>
          <a:graphicData uri="http://schemas.openxmlformats.org/drawingml/2006/table">
            <a:tbl>
              <a:tblPr/>
              <a:tblGrid>
                <a:gridCol w="1066680"/>
                <a:gridCol w="1676520"/>
                <a:gridCol w="1371600"/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– 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2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2,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4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4, 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6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6, 1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8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8, 2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10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10, 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913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985040"/>
            <a:ext cx="830556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umbing company charges $50 for a servi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and $15 per hour. They went on a 3-hou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b. How much did the company ea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4800" y="35802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15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50; $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676520"/>
            <a:ext cx="7543800" cy="3200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ving van travels 50 miles per hour. Use the equati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50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the number of hour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far will the van travel in 4.5 ho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1292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225 m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write solutions of equations in two variables as ordered pairs</a:t>
            </a:r>
            <a:r>
              <a:rPr b="0" lang="en-US" sz="35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57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171880"/>
            <a:ext cx="7391520" cy="8762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red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73664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any that makes team uniforms for a soccer league charges a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ee for team artwork and 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each jersey. Dominic’s team ha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yers, and Alyssa’s team ha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yers. Find the cost for a set of jerseys for each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648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total cost of a set of jersey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jersey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2408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nic’s t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6600" y="18860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240" y="479124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yssa’s t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3276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3800" y="1828800"/>
            <a:ext cx="2895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tal cost of jers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809720"/>
            <a:ext cx="6858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809720"/>
            <a:ext cx="685800" cy="5335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809720"/>
            <a:ext cx="1981080" cy="533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# of jers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886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$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410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$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447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dered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pair of numbers that can be used to locate a point on a coordinate plane. A solution of a two-variable equation can be written as an ordered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581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solution because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816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solution because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Deciding Whether an Ordered Pair Is a Solution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886200"/>
            <a:ext cx="2743200" cy="536040"/>
            <a:chOff x="838080" y="3886200"/>
            <a:chExt cx="2743200" cy="536040"/>
          </a:xfrm>
        </p:grpSpPr>
        <p:sp>
          <p:nvSpPr>
            <p:cNvPr id="94" name=""/>
            <p:cNvSpPr/>
            <p:nvPr/>
          </p:nvSpPr>
          <p:spPr>
            <a:xfrm>
              <a:off x="838080" y="39625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–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0040" y="38862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00400" y="3962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3 for x and 11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4343400"/>
            <a:ext cx="1371600" cy="535680"/>
            <a:chOff x="914400" y="4343400"/>
            <a:chExt cx="1371600" cy="535680"/>
          </a:xfrm>
        </p:grpSpPr>
        <p:sp>
          <p:nvSpPr>
            <p:cNvPr id="98" name=""/>
            <p:cNvSpPr/>
            <p:nvPr/>
          </p:nvSpPr>
          <p:spPr>
            <a:xfrm>
              <a:off x="914400" y="4419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= 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4343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133720" y="4433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1) 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A solution since 11=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19480" y="5362560"/>
            <a:ext cx="5638680" cy="1091160"/>
            <a:chOff x="3219480" y="5362560"/>
            <a:chExt cx="5638680" cy="1091160"/>
          </a:xfrm>
        </p:grpSpPr>
        <p:sp>
          <p:nvSpPr>
            <p:cNvPr id="104" name=""/>
            <p:cNvSpPr/>
            <p:nvPr/>
          </p:nvSpPr>
          <p:spPr>
            <a:xfrm>
              <a:off x="3225960" y="5749920"/>
              <a:ext cx="5632200" cy="7038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order in which a solution is written is important. Always writ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first, t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19480" y="5362560"/>
              <a:ext cx="203832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stevenh</cp:lastModifiedBy>
  <dcterms:modified xsi:type="dcterms:W3CDTF">2006-04-26T18:35:54Z</dcterms:modified>
  <cp:revision>69</cp:revision>
  <dc:subject/>
  <dc:title>No Slide Title</dc:title>
</cp:coreProperties>
</file>