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911-8330-4396-B6A6-082DC60B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A5B-F2C2-4BA5-8B8E-B5B9069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CEA-00E6-4A69-8D7A-D207195C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5EF-05A6-4848-9DAE-0576420D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B82-59C4-46FA-B55A-507E354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59D-8263-491C-8E58-47F1FFA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3F7-2842-4F05-BD7C-E27DAD1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B2A-6AE3-4DA1-B763-F073F8E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837-BE26-4B1C-9C05-4C5590A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242-A701-404A-B4AA-176FFA4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C92-0898-4E24-9485-93814BC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538-C5A1-4971-9220-D65A38E0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59F6-3B8F-46C0-B369-AAB1D87E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38120" y="91080"/>
              <a:ext cx="28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Ordered Pai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43040" y="1450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rdered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440" y="65390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4114800"/>
            <a:ext cx="2743200" cy="535680"/>
            <a:chOff x="838080" y="4114800"/>
            <a:chExt cx="2743200" cy="535680"/>
          </a:xfrm>
        </p:grpSpPr>
        <p:sp>
          <p:nvSpPr>
            <p:cNvPr id="109" name=""/>
            <p:cNvSpPr/>
            <p:nvPr/>
          </p:nvSpPr>
          <p:spPr>
            <a:xfrm>
              <a:off x="838080" y="41907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76720" y="4191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10 for x and 3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4572000"/>
            <a:ext cx="1371600" cy="535680"/>
            <a:chOff x="838080" y="4572000"/>
            <a:chExt cx="1371600" cy="535680"/>
          </a:xfrm>
        </p:grpSpPr>
        <p:sp>
          <p:nvSpPr>
            <p:cNvPr id="113" name=""/>
            <p:cNvSpPr/>
            <p:nvPr/>
          </p:nvSpPr>
          <p:spPr>
            <a:xfrm>
              <a:off x="838080" y="4647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= 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5720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4624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0, 3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24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7 for x and 38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28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8 = 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, 38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733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4114800"/>
            <a:ext cx="2743200" cy="536040"/>
            <a:chOff x="609480" y="4114800"/>
            <a:chExt cx="2743200" cy="536040"/>
          </a:xfrm>
        </p:grpSpPr>
        <p:sp>
          <p:nvSpPr>
            <p:cNvPr id="137" name=""/>
            <p:cNvSpPr/>
            <p:nvPr/>
          </p:nvSpPr>
          <p:spPr>
            <a:xfrm>
              <a:off x="609480" y="4191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5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71440" y="41148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52680" y="4191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9 for x and 17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4572000"/>
            <a:ext cx="1752840" cy="536040"/>
            <a:chOff x="609480" y="4572000"/>
            <a:chExt cx="1752840" cy="536040"/>
          </a:xfrm>
        </p:grpSpPr>
        <p:sp>
          <p:nvSpPr>
            <p:cNvPr id="141" name=""/>
            <p:cNvSpPr/>
            <p:nvPr/>
          </p:nvSpPr>
          <p:spPr>
            <a:xfrm>
              <a:off x="609480" y="46483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7 =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9520" y="45720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81080" y="466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9, 17) i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840" y="289548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8040" y="36576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080" y="36561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657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1148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638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591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43000" y="4133880"/>
            <a:ext cx="628560" cy="2040840"/>
            <a:chOff x="1143000" y="4133880"/>
            <a:chExt cx="628560" cy="2040840"/>
          </a:xfrm>
        </p:grpSpPr>
        <p:sp>
          <p:nvSpPr>
            <p:cNvPr id="161" name=""/>
            <p:cNvSpPr/>
            <p:nvPr/>
          </p:nvSpPr>
          <p:spPr>
            <a:xfrm>
              <a:off x="1162080" y="4133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518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715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0667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360" y="413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10160" y="413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676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10160" y="46292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6760" y="5181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181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518148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676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57150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2200" y="4003560"/>
            <a:ext cx="2666520" cy="1694880"/>
            <a:chOff x="6172200" y="4003560"/>
            <a:chExt cx="2666520" cy="1694880"/>
          </a:xfrm>
        </p:grpSpPr>
        <p:sp>
          <p:nvSpPr>
            <p:cNvPr id="178" name=""/>
            <p:cNvSpPr/>
            <p:nvPr/>
          </p:nvSpPr>
          <p:spPr>
            <a:xfrm>
              <a:off x="6177960" y="4384800"/>
              <a:ext cx="2660760" cy="13136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table of solutions can be set up vertically or horizontal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003560"/>
              <a:ext cx="1928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Creating a Table of Ordered Pai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080" y="3657600"/>
            <a:ext cx="57960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114800"/>
            <a:ext cx="57909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2400" y="4609800"/>
            <a:ext cx="579132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81200" y="3657600"/>
            <a:ext cx="5848200" cy="1926720"/>
            <a:chOff x="781200" y="3657600"/>
            <a:chExt cx="5848200" cy="1926720"/>
          </a:xfrm>
        </p:grpSpPr>
        <p:sp>
          <p:nvSpPr>
            <p:cNvPr id="199" name=""/>
            <p:cNvSpPr/>
            <p:nvPr/>
          </p:nvSpPr>
          <p:spPr>
            <a:xfrm>
              <a:off x="114300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6880" y="36576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91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272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1200" y="4133880"/>
              <a:ext cx="188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81240" y="45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80920" y="5124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553080" y="36576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1055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2743200"/>
            <a:ext cx="54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342900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+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7080" y="3427560"/>
            <a:ext cx="5110200" cy="25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886200"/>
            <a:ext cx="51051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8769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43624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43000" y="3905280"/>
            <a:ext cx="628560" cy="2040840"/>
            <a:chOff x="1143000" y="3905280"/>
            <a:chExt cx="628560" cy="2040840"/>
          </a:xfrm>
        </p:grpSpPr>
        <p:sp>
          <p:nvSpPr>
            <p:cNvPr id="223" name=""/>
            <p:cNvSpPr/>
            <p:nvPr/>
          </p:nvSpPr>
          <p:spPr>
            <a:xfrm>
              <a:off x="1162080" y="390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4419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4952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133720" y="390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0360" y="390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160" y="390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400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44006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40064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9528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486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48640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981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840" y="289548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, 2, 3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96240" y="46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4133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19440" y="41338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413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629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86360" y="4629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462924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119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860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2120" y="512460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4080" y="5105520"/>
            <a:ext cx="14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57080" y="3656160"/>
            <a:ext cx="7320240" cy="1982520"/>
            <a:chOff x="757080" y="3656160"/>
            <a:chExt cx="7320240" cy="1982520"/>
          </a:xfrm>
        </p:grpSpPr>
        <p:sp>
          <p:nvSpPr>
            <p:cNvPr id="255" name=""/>
            <p:cNvSpPr/>
            <p:nvPr/>
          </p:nvSpPr>
          <p:spPr>
            <a:xfrm>
              <a:off x="2133720" y="3657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57080" y="3656160"/>
              <a:ext cx="7320240" cy="1982520"/>
              <a:chOff x="757080" y="3656160"/>
              <a:chExt cx="7320240" cy="1982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143000" y="3657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6880" y="3657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191120" y="365760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2720" y="36576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7080" y="3656160"/>
                <a:ext cx="7243920" cy="198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76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920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120" y="4114800"/>
                <a:ext cx="723888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2120" y="459108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1200" y="4133880"/>
                <a:ext cx="188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–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281240" y="4586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0920" y="5124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Verdana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53080" y="3657600"/>
                <a:ext cx="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10280" y="36576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2120" y="5105520"/>
                <a:ext cx="723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</a:t>
            </a:r>
            <a:r>
              <a:rPr b="0" lang="en-US" sz="2400" spc="-1" strike="noStrike">
                <a:solidFill>
                  <a:srgbClr val="cc0099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sweater with a wholesale cost of $48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4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7.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48 wholesale sweater will cost the customer $57.60, so (48, 57.60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sweater before tax is $48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</a:t>
            </a:r>
            <a:r>
              <a:rPr b="0" i="1" lang="en-US" sz="2400" spc="-1" strike="noStrike">
                <a:solidFill>
                  <a:srgbClr val="cc0099"/>
                </a:solidFill>
                <a:latin typeface="Arial Black"/>
              </a:rPr>
              <a:t>Consumer Math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1240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ill be the sales price of a jacket with a wholesale cost of $8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2(8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495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$85.00 wholesale jacket will cost the customer $102, so (85, 102) is a solution of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409896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wholesale cost of the jacket before tax is $85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alesman marks up the price of everything he sells by 20%. The equation for the sales pric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wholesal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523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2960" y="34290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22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3.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0450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22 item will cost $23.65, so (22, 23.6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41180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22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2296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14280" y="25138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05640" y="30330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90160" y="3580560"/>
            <a:ext cx="11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2560" y="4176720"/>
            <a:ext cx="11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3480" y="47102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7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7 =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7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 =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514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15238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most states, the price of each item is not the total cost. Sales tax must be added. If sales tax is 7.5%, the equation for total cost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.07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the price before t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2960" y="34448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much will a $10 item cost after sales ta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19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075(1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.7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527364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sales tax, the $10 item will cost $10.75, so (10, 10.75) is a solution to the equation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91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The price of the item before tax is $10.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262160"/>
            <a:ext cx="79246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(4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iven values to make a table o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s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fo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, 4, 6, 8,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1280" y="2273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1360" y="22737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029120"/>
          <a:ext cx="5486400" cy="2371680"/>
        </p:xfrm>
        <a:graphic>
          <a:graphicData uri="http://schemas.openxmlformats.org/drawingml/2006/table">
            <a:tbl>
              <a:tblPr/>
              <a:tblGrid>
                <a:gridCol w="1066680"/>
                <a:gridCol w="1676520"/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– 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2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2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4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4, 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6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6, 1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8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8, 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(10) 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i="1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10, 3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913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985040"/>
            <a:ext cx="830556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lumbing company charges $50 for a servi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and $15 per hour. They went on a 3-h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. How much did the company 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4800" y="35802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50; $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76520"/>
            <a:ext cx="7543800" cy="3200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ving van travels 50 miles per hour. Use the equati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the number of hour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far will the van travel in 4.5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1292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225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write solutions of equations in two variables as ordered pairs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57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171880"/>
            <a:ext cx="7391520" cy="876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73664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any that makes team uniforms for a soccer league charges a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 for team artwork and 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each jersey. Dominic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, and Alyssa’s team ha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layers. Find the cost for a set of jerseys for each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4648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total cost of a set of jerseys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he number of jersey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1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minic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05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6600" y="1886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240" y="479124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yssa’s t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3276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800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3800" y="1828800"/>
            <a:ext cx="2895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tal cost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809720"/>
            <a:ext cx="6858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809720"/>
            <a:ext cx="685800" cy="5335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809720"/>
            <a:ext cx="1981080" cy="533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# of jers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886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$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dered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pair of numbers that can be used to locate a point on a coordinate plane. A solution of a two-variable equation can be written as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581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8164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dered pair (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a solution because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1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$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(</a:t>
            </a:r>
            <a:r>
              <a:rPr b="0" lang="en-US" sz="2400" spc="-1" strike="noStrike">
                <a:solidFill>
                  <a:srgbClr val="cc0099"/>
                </a:solidFill>
                <a:latin typeface="Verdana"/>
              </a:rPr>
              <a:t>$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•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2960" y="20732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ordered pair is a solut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Deciding Whether an Ordered Pair Is a Solution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3886200"/>
            <a:ext cx="2743200" cy="536040"/>
            <a:chOff x="838080" y="3886200"/>
            <a:chExt cx="2743200" cy="536040"/>
          </a:xfrm>
        </p:grpSpPr>
        <p:sp>
          <p:nvSpPr>
            <p:cNvPr id="94" name=""/>
            <p:cNvSpPr/>
            <p:nvPr/>
          </p:nvSpPr>
          <p:spPr>
            <a:xfrm>
              <a:off x="838080" y="39625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Verdana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4(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) –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0040" y="38862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0400" y="39625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Substitute 3 for x and 11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4343400"/>
            <a:ext cx="1371600" cy="535680"/>
            <a:chOff x="914400" y="4343400"/>
            <a:chExt cx="1371600" cy="535680"/>
          </a:xfrm>
        </p:grpSpPr>
        <p:sp>
          <p:nvSpPr>
            <p:cNvPr id="98" name=""/>
            <p:cNvSpPr/>
            <p:nvPr/>
          </p:nvSpPr>
          <p:spPr>
            <a:xfrm>
              <a:off x="914400" y="44193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1=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4343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133720" y="4433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11) 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</a:rPr>
              <a:t>A solution since 11=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19480" y="5362560"/>
            <a:ext cx="5638680" cy="1091160"/>
            <a:chOff x="3219480" y="5362560"/>
            <a:chExt cx="5638680" cy="1091160"/>
          </a:xfrm>
        </p:grpSpPr>
        <p:sp>
          <p:nvSpPr>
            <p:cNvPr id="104" name=""/>
            <p:cNvSpPr/>
            <p:nvPr/>
          </p:nvSpPr>
          <p:spPr>
            <a:xfrm>
              <a:off x="3225960" y="5749920"/>
              <a:ext cx="5632200" cy="7038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order in which a solution is written is important. Always writ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first, the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19480" y="5362560"/>
              <a:ext cx="203832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dcterms:modified xsi:type="dcterms:W3CDTF">2006-04-26T18:35:54Z</dcterms:modified>
  <cp:revision>69</cp:revision>
  <dc:subject/>
  <dc:title>No Slide Title</dc:title>
</cp:coreProperties>
</file>