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A2F-EE62-4063-9F9D-43498C18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495-4204-4A15-88ED-2AA9AF67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001-2767-4FD9-B46D-23408975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926-C2B9-40C8-9FE8-F00A5AAB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6E9-698C-43BC-90FE-928080E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B6E-1A5A-4157-A0EE-9C94616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636-860E-4EE2-9F59-526C473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8C9-3510-4B00-A35D-514A6EBD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268-05CC-454F-9EB3-E7D5A2B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506-8280-456B-B121-83EDE19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71F-2356-4329-A6C2-E5518C0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3E3-D503-4249-B7BE-B23CDC6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37EC-EFCC-4C0B-8379-7442F9DE5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38120" y="91080"/>
              <a:ext cx="28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Ordered Pai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43040" y="1450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40" y="6539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4114800"/>
            <a:ext cx="2743200" cy="535680"/>
            <a:chOff x="838080" y="4114800"/>
            <a:chExt cx="2743200" cy="535680"/>
          </a:xfrm>
        </p:grpSpPr>
        <p:sp>
          <p:nvSpPr>
            <p:cNvPr id="109" name=""/>
            <p:cNvSpPr/>
            <p:nvPr/>
          </p:nvSpPr>
          <p:spPr>
            <a:xfrm>
              <a:off x="838080" y="41907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76720" y="4191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10 for x and 3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4572000"/>
            <a:ext cx="1371600" cy="535680"/>
            <a:chOff x="838080" y="4572000"/>
            <a:chExt cx="1371600" cy="535680"/>
          </a:xfrm>
        </p:grpSpPr>
        <p:sp>
          <p:nvSpPr>
            <p:cNvPr id="113" name=""/>
            <p:cNvSpPr/>
            <p:nvPr/>
          </p:nvSpPr>
          <p:spPr>
            <a:xfrm>
              <a:off x="838080" y="4647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=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5720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4624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, 3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24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7 for x and 38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28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8 = 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, 38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37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9 for x and 17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41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7 =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, 17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840" y="289548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8040" y="36576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080" y="36561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1148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638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59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43000" y="4133880"/>
            <a:ext cx="628560" cy="2040840"/>
            <a:chOff x="1143000" y="4133880"/>
            <a:chExt cx="628560" cy="2040840"/>
          </a:xfrm>
        </p:grpSpPr>
        <p:sp>
          <p:nvSpPr>
            <p:cNvPr id="161" name=""/>
            <p:cNvSpPr/>
            <p:nvPr/>
          </p:nvSpPr>
          <p:spPr>
            <a:xfrm>
              <a:off x="1162080" y="413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0667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360" y="413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101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676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4629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676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5181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676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57150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2200" y="4003560"/>
            <a:ext cx="2666520" cy="1694880"/>
            <a:chOff x="6172200" y="4003560"/>
            <a:chExt cx="2666520" cy="1694880"/>
          </a:xfrm>
        </p:grpSpPr>
        <p:sp>
          <p:nvSpPr>
            <p:cNvPr id="178" name=""/>
            <p:cNvSpPr/>
            <p:nvPr/>
          </p:nvSpPr>
          <p:spPr>
            <a:xfrm>
              <a:off x="6177960" y="4384800"/>
              <a:ext cx="2660760" cy="13136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table of solutions can be set up vertically or horizontal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003560"/>
              <a:ext cx="1928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080" y="3657600"/>
            <a:ext cx="579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114800"/>
            <a:ext cx="57909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2400" y="4609800"/>
            <a:ext cx="57913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1200" y="3657600"/>
            <a:ext cx="5848200" cy="1926720"/>
            <a:chOff x="781200" y="3657600"/>
            <a:chExt cx="5848200" cy="1926720"/>
          </a:xfrm>
        </p:grpSpPr>
        <p:sp>
          <p:nvSpPr>
            <p:cNvPr id="199" name=""/>
            <p:cNvSpPr/>
            <p:nvPr/>
          </p:nvSpPr>
          <p:spPr>
            <a:xfrm>
              <a:off x="11430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36576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272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1200" y="4133880"/>
              <a:ext cx="18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81240" y="45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0920" y="5124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1055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2743200"/>
            <a:ext cx="54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34290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7080" y="34275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862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3624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43000" y="3905280"/>
            <a:ext cx="628560" cy="2040840"/>
            <a:chOff x="1143000" y="3905280"/>
            <a:chExt cx="628560" cy="2040840"/>
          </a:xfrm>
        </p:grpSpPr>
        <p:sp>
          <p:nvSpPr>
            <p:cNvPr id="223" name=""/>
            <p:cNvSpPr/>
            <p:nvPr/>
          </p:nvSpPr>
          <p:spPr>
            <a:xfrm>
              <a:off x="1162080" y="390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133720" y="390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0360" y="390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160" y="390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40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440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4006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9528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486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96240" y="46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8636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8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51055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57080" y="3656160"/>
            <a:ext cx="7320240" cy="1982520"/>
            <a:chOff x="757080" y="3656160"/>
            <a:chExt cx="7320240" cy="1982520"/>
          </a:xfrm>
        </p:grpSpPr>
        <p:sp>
          <p:nvSpPr>
            <p:cNvPr id="255" name=""/>
            <p:cNvSpPr/>
            <p:nvPr/>
          </p:nvSpPr>
          <p:spPr>
            <a:xfrm>
              <a:off x="213372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57080" y="3656160"/>
              <a:ext cx="7320240" cy="1982520"/>
              <a:chOff x="757080" y="3656160"/>
              <a:chExt cx="7320240" cy="1982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14300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6880" y="3657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91120" y="3657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2720" y="36576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7080" y="3656160"/>
                <a:ext cx="7243920" cy="198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76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92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120" y="4114800"/>
                <a:ext cx="7238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2120" y="459108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1200" y="4133880"/>
                <a:ext cx="188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81240" y="4586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0920" y="5124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5308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10280" y="36576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2120" y="510552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</a:t>
            </a:r>
            <a:r>
              <a:rPr b="0" lang="en-US" sz="24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sweater with a wholesale cost of $48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7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48 wholesale sweater will cost the customer $57.60, so (48, 57.60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sweater before tax is $48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 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jacket with a wholesale cost of $8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8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85.00 wholesale jacket will cost the customer $102, so (85, 102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jacket before tax is $85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2960" y="34290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22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3.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0450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22 item will cost $23.65, so (22, 23.6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41180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22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2296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4280" y="25138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05640" y="30330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0160" y="3580560"/>
            <a:ext cx="1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417672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3480" y="47102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7 =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5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15238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960" y="34448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10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19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.7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5273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10 item will cost $10.75, so (10, 10.7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91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10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262160"/>
            <a:ext cx="79246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(4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s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, 4, 6, 8,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1280" y="2273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360" y="2273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029120"/>
          <a:ext cx="5486400" cy="2371680"/>
        </p:xfrm>
        <a:graphic>
          <a:graphicData uri="http://schemas.openxmlformats.org/drawingml/2006/table">
            <a:tbl>
              <a:tblPr/>
              <a:tblGrid>
                <a:gridCol w="1066680"/>
                <a:gridCol w="1676520"/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– 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2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2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4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4, 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6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6, 1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8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8, 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10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10, 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913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985040"/>
            <a:ext cx="830556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umbing company charges $50 for a servi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$15 per hour. They went on a 3-h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. How much did the company 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4800" y="35802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50; $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76520"/>
            <a:ext cx="754380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ving van travels 50 miles per hour. Us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the number of hour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far will the van travel in 4.5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292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225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write solutions of equations in two variables as ordered pairs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57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171880"/>
            <a:ext cx="7391520" cy="876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73664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any that makes team uniforms for a soccer league charges a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 for team artwork and 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ach jersey. Dominic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, and Alyssa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. Find the cost for a set of jerseys for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648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total cost of a set of jersey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jersey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ic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6600" y="1886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240" y="47912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yssa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276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3800" y="1828800"/>
            <a:ext cx="2895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tal cost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809720"/>
            <a:ext cx="6858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809720"/>
            <a:ext cx="685800" cy="5335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809720"/>
            <a:ext cx="1981080" cy="53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#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886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dered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pair of numbers that can be used to locate a point on a coordinate plane. A solution of a two-variable equation can be written as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581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16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86200"/>
            <a:ext cx="2743200" cy="536040"/>
            <a:chOff x="838080" y="3886200"/>
            <a:chExt cx="2743200" cy="536040"/>
          </a:xfrm>
        </p:grpSpPr>
        <p:sp>
          <p:nvSpPr>
            <p:cNvPr id="94" name=""/>
            <p:cNvSpPr/>
            <p:nvPr/>
          </p:nvSpPr>
          <p:spPr>
            <a:xfrm>
              <a:off x="838080" y="3962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0040" y="38862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0400" y="3962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3 for x and 11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4343400"/>
            <a:ext cx="1371600" cy="535680"/>
            <a:chOff x="914400" y="4343400"/>
            <a:chExt cx="1371600" cy="535680"/>
          </a:xfrm>
        </p:grpSpPr>
        <p:sp>
          <p:nvSpPr>
            <p:cNvPr id="98" name=""/>
            <p:cNvSpPr/>
            <p:nvPr/>
          </p:nvSpPr>
          <p:spPr>
            <a:xfrm>
              <a:off x="914400" y="4419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=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4343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720" y="443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1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A solution since 11=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19480" y="5362560"/>
            <a:ext cx="5638680" cy="1091160"/>
            <a:chOff x="3219480" y="5362560"/>
            <a:chExt cx="5638680" cy="1091160"/>
          </a:xfrm>
        </p:grpSpPr>
        <p:sp>
          <p:nvSpPr>
            <p:cNvPr id="104" name=""/>
            <p:cNvSpPr/>
            <p:nvPr/>
          </p:nvSpPr>
          <p:spPr>
            <a:xfrm>
              <a:off x="3225960" y="5749920"/>
              <a:ext cx="5632200" cy="703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order in which a solution is written is important. Always writ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first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19480" y="5362560"/>
              <a:ext cx="203832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dcterms:modified xsi:type="dcterms:W3CDTF">2006-04-26T18:35:54Z</dcterms:modified>
  <cp:revision>69</cp:revision>
  <dc:subject/>
  <dc:title>No Slide Title</dc:title>
</cp:coreProperties>
</file>