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227-0023-419F-A47F-64644BCB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F12-7002-49AC-B97A-2BA67593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D37-82BD-44C8-9023-59DD906F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54C-6409-4027-8149-A4D69DE6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E58-1433-49D6-A58E-16B6BA53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4C6-D881-45E9-8D50-AA045559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FAB2-BDB0-4CAC-8D0E-8DEB5A04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49D-E12F-44F4-B206-A84AEF32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241-A708-4C90-B918-A584C153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AE0-4BE7-4852-A2C6-B9837139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7B5-FD83-49F1-8742-C39A92A5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FBB-73B2-4A6A-A2F8-27574A4E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3F9E-D79F-4FC2-8929-78E825008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57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3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Linear 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445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3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Linear 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2438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2895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(x, y) = (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3352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3733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     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4191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4800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Writing the Equation for a 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62200" y="2362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cate two poi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2895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4) and (3,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3505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slope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m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81280" y="492444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alues of the point into the equation,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solve for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371600" y="2514600"/>
          <a:ext cx="1371240" cy="2514240"/>
        </p:xfrm>
        <a:graphic>
          <a:graphicData uri="http://schemas.openxmlformats.org/drawingml/2006/table">
            <a:tbl>
              <a:tblPr/>
              <a:tblGrid>
                <a:gridCol w="685800"/>
                <a:gridCol w="68544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9a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9a70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7" name=""/>
          <p:cNvGrpSpPr/>
          <p:nvPr/>
        </p:nvGrpSpPr>
        <p:grpSpPr>
          <a:xfrm>
            <a:off x="3581280" y="4019400"/>
            <a:ext cx="5562720" cy="840600"/>
            <a:chOff x="3581280" y="4019400"/>
            <a:chExt cx="5562720" cy="840600"/>
          </a:xfrm>
        </p:grpSpPr>
        <p:grpSp>
          <p:nvGrpSpPr>
            <p:cNvPr id="358" name=""/>
            <p:cNvGrpSpPr/>
            <p:nvPr/>
          </p:nvGrpSpPr>
          <p:grpSpPr>
            <a:xfrm>
              <a:off x="3581280" y="4019400"/>
              <a:ext cx="5562720" cy="840600"/>
              <a:chOff x="3581280" y="4019400"/>
              <a:chExt cx="5562720" cy="84060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3581280" y="4019400"/>
                <a:ext cx="5562720" cy="840600"/>
                <a:chOff x="3581280" y="4019400"/>
                <a:chExt cx="5562720" cy="8406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581280" y="4248000"/>
                  <a:ext cx="5562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m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=           =          =    = 3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1" name=""/>
                <p:cNvGrpSpPr/>
                <p:nvPr/>
              </p:nvGrpSpPr>
              <p:grpSpPr>
                <a:xfrm>
                  <a:off x="4343400" y="4019400"/>
                  <a:ext cx="2286000" cy="815040"/>
                  <a:chOff x="4343400" y="4019400"/>
                  <a:chExt cx="2286000" cy="81504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4343400" y="4019400"/>
                    <a:ext cx="18288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y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– </a:t>
                    </a: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y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4343400" y="4324320"/>
                    <a:ext cx="2286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– </a:t>
                    </a: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5715000" y="4095720"/>
                  <a:ext cx="3200400" cy="764280"/>
                  <a:chOff x="5715000" y="4095720"/>
                  <a:chExt cx="3200400" cy="76428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5715000" y="4095720"/>
                    <a:ext cx="320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rPr>
                      <a:t>10 – 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5867280" y="4400280"/>
                    <a:ext cx="114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3 – 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7" name=""/>
              <p:cNvGrpSpPr/>
              <p:nvPr/>
            </p:nvGrpSpPr>
            <p:grpSpPr>
              <a:xfrm>
                <a:off x="7086600" y="4095720"/>
                <a:ext cx="1371600" cy="764280"/>
                <a:chOff x="7086600" y="4095720"/>
                <a:chExt cx="1371600" cy="7642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086600" y="4095720"/>
                  <a:ext cx="137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086600" y="4400280"/>
                  <a:ext cx="114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"/>
            <p:cNvSpPr/>
            <p:nvPr/>
          </p:nvSpPr>
          <p:spPr>
            <a:xfrm>
              <a:off x="4357440" y="44766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2438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2895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(x, y) = (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3352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 3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28560" y="3733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4191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4800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9880" y="25146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dentify the y-intercept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the 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9880" y="3352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48040" y="3809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cate another point on the graph, such as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(5, 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09880" y="477216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alues of the point into the equation,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solve for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1828800"/>
            <a:ext cx="8237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04920" y="2590920"/>
            <a:ext cx="3961800" cy="3595320"/>
            <a:chOff x="304920" y="2590920"/>
            <a:chExt cx="3961800" cy="3595320"/>
          </a:xfrm>
        </p:grpSpPr>
        <p:grpSp>
          <p:nvGrpSpPr>
            <p:cNvPr id="385" name=""/>
            <p:cNvGrpSpPr/>
            <p:nvPr/>
          </p:nvGrpSpPr>
          <p:grpSpPr>
            <a:xfrm>
              <a:off x="304920" y="2590920"/>
              <a:ext cx="3961800" cy="3595320"/>
              <a:chOff x="304920" y="2590920"/>
              <a:chExt cx="3961800" cy="359532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304920" y="2691720"/>
                <a:ext cx="3540600" cy="3494520"/>
                <a:chOff x="304920" y="2691720"/>
                <a:chExt cx="3540600" cy="3494520"/>
              </a:xfrm>
            </p:grpSpPr>
            <p:grpSp>
              <p:nvGrpSpPr>
                <p:cNvPr id="387" name=""/>
                <p:cNvGrpSpPr/>
                <p:nvPr/>
              </p:nvGrpSpPr>
              <p:grpSpPr>
                <a:xfrm>
                  <a:off x="635760" y="3035160"/>
                  <a:ext cx="2878200" cy="2841480"/>
                  <a:chOff x="635760" y="3035160"/>
                  <a:chExt cx="2878200" cy="284148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63576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92340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21140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49940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78704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07468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36268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65068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93868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22632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3576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92340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21140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49940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78704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07468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36268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65068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93868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22632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3576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92340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21140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49940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78704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07468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36268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65068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93868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22632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3576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92340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21140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49940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178704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07468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36268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5068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93868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22632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3576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92340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121140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49940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178704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07468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36268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65068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93868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22632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3576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92340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121140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49940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178704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07468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36268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65068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93868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22632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3576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92340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21140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149940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178704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07468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36268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65068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93868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322632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3576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92340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121140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149940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178704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07468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36268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65068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93868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22632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3576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92340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121140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49940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178704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07468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36268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65068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93868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322632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576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92340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21140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149940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178704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07468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36268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65068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93868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322632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304920" y="2691720"/>
                  <a:ext cx="3540600" cy="3494520"/>
                  <a:chOff x="304920" y="2691720"/>
                  <a:chExt cx="3540600" cy="34945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2075040" y="269172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04920" y="4455720"/>
                    <a:ext cx="354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1" name=""/>
              <p:cNvSpPr/>
              <p:nvPr/>
            </p:nvSpPr>
            <p:spPr>
              <a:xfrm>
                <a:off x="3592440" y="405540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138400" y="259092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1767240" y="37483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29000" y="4434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16520" y="443412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67240" y="31388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62520" y="4434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0120" y="443412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4520" y="542484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H="1">
            <a:off x="609480" y="3886200"/>
            <a:ext cx="2895840" cy="5335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19810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14400" y="2438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(5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(x, y) = (5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1440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32767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         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3733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838080" y="4114800"/>
            <a:ext cx="2210040" cy="764640"/>
            <a:chOff x="838080" y="4114800"/>
            <a:chExt cx="2210040" cy="764640"/>
          </a:xfrm>
        </p:grpSpPr>
        <p:grpSp>
          <p:nvGrpSpPr>
            <p:cNvPr id="508" name=""/>
            <p:cNvGrpSpPr/>
            <p:nvPr/>
          </p:nvGrpSpPr>
          <p:grpSpPr>
            <a:xfrm>
              <a:off x="1600200" y="4114800"/>
              <a:ext cx="1447920" cy="764640"/>
              <a:chOff x="1600200" y="4114800"/>
              <a:chExt cx="1447920" cy="764640"/>
            </a:xfrm>
          </p:grpSpPr>
          <p:sp>
            <p:nvSpPr>
              <p:cNvPr id="509" name=""/>
              <p:cNvSpPr/>
              <p:nvPr/>
            </p:nvSpPr>
            <p:spPr>
              <a:xfrm>
                <a:off x="1600200" y="41148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600200" y="441972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838080" y="42670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33520" y="4876920"/>
            <a:ext cx="7924680" cy="764280"/>
            <a:chOff x="533520" y="4876920"/>
            <a:chExt cx="7924680" cy="764280"/>
          </a:xfrm>
        </p:grpSpPr>
        <p:sp>
          <p:nvSpPr>
            <p:cNvPr id="513" name=""/>
            <p:cNvSpPr/>
            <p:nvPr/>
          </p:nvSpPr>
          <p:spPr>
            <a:xfrm>
              <a:off x="533520" y="502920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ule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3200400" y="4876920"/>
              <a:ext cx="1371600" cy="764280"/>
              <a:chOff x="3200400" y="4876920"/>
              <a:chExt cx="1371600" cy="764280"/>
            </a:xfrm>
          </p:grpSpPr>
          <p:sp>
            <p:nvSpPr>
              <p:cNvPr id="515" name=""/>
              <p:cNvSpPr/>
              <p:nvPr/>
            </p:nvSpPr>
            <p:spPr>
              <a:xfrm>
                <a:off x="3200400" y="48769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200400" y="5181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62200" y="2362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cate two poi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2895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0, 5) and (1,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3505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slope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81280" y="492444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alues of the point into the equation,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solve for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1371600" y="2514600"/>
          <a:ext cx="1371240" cy="2514240"/>
        </p:xfrm>
        <a:graphic>
          <a:graphicData uri="http://schemas.openxmlformats.org/drawingml/2006/table">
            <a:tbl>
              <a:tblPr/>
              <a:tblGrid>
                <a:gridCol w="685800"/>
                <a:gridCol w="68544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9a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9a70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4" name=""/>
          <p:cNvGrpSpPr/>
          <p:nvPr/>
        </p:nvGrpSpPr>
        <p:grpSpPr>
          <a:xfrm>
            <a:off x="3505320" y="3962520"/>
            <a:ext cx="5562360" cy="840600"/>
            <a:chOff x="3505320" y="3962520"/>
            <a:chExt cx="5562360" cy="840600"/>
          </a:xfrm>
        </p:grpSpPr>
        <p:grpSp>
          <p:nvGrpSpPr>
            <p:cNvPr id="525" name=""/>
            <p:cNvGrpSpPr/>
            <p:nvPr/>
          </p:nvGrpSpPr>
          <p:grpSpPr>
            <a:xfrm>
              <a:off x="3505320" y="3962520"/>
              <a:ext cx="5562360" cy="840600"/>
              <a:chOff x="3505320" y="3962520"/>
              <a:chExt cx="5562360" cy="84060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3505320" y="3962520"/>
                <a:ext cx="5562360" cy="840600"/>
                <a:chOff x="3505320" y="3962520"/>
                <a:chExt cx="5562360" cy="84060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505320" y="4191120"/>
                  <a:ext cx="556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m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=           =          =    = 1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4267080" y="3962520"/>
                  <a:ext cx="2285640" cy="815040"/>
                  <a:chOff x="4267080" y="3962520"/>
                  <a:chExt cx="2285640" cy="81504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4267080" y="3962520"/>
                    <a:ext cx="182844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y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– </a:t>
                    </a: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y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267080" y="4267440"/>
                    <a:ext cx="228564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– </a:t>
                    </a: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5638680" y="4038840"/>
                  <a:ext cx="3200040" cy="764280"/>
                  <a:chOff x="5638680" y="4038840"/>
                  <a:chExt cx="3200040" cy="76428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5638680" y="4038840"/>
                    <a:ext cx="3200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</a:t>
                    </a:r>
                    <a:r>
                      <a:rPr b="0" lang="en-US" sz="24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rPr>
                      <a:t>6 – 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5790600" y="4343400"/>
                    <a:ext cx="1142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1 – 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4" name=""/>
              <p:cNvGrpSpPr/>
              <p:nvPr/>
            </p:nvGrpSpPr>
            <p:grpSpPr>
              <a:xfrm>
                <a:off x="7010280" y="4038840"/>
                <a:ext cx="1371240" cy="764280"/>
                <a:chOff x="7010280" y="4038840"/>
                <a:chExt cx="1371240" cy="7642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7010280" y="4038840"/>
                  <a:ext cx="137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10280" y="4343400"/>
                  <a:ext cx="1142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7" name=""/>
            <p:cNvSpPr/>
            <p:nvPr/>
          </p:nvSpPr>
          <p:spPr>
            <a:xfrm>
              <a:off x="4281120" y="44197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990720" y="2133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371600" y="2590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(x, y) = (0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3505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Mone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3520" y="1371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video club cost $15 to join. Each video that is rented costs $1.50. Find a rule for the linear function that describes the total cost of renting videos as a member of the club, and find the total cost of renting 12 vide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52280" y="3505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320" y="42051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6.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71800" y="351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y-intercept is the cost to join, $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971800" y="420516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ith 1 rental the cost will be $16.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320" y="4648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.5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28600" y="5029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1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" y="5518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5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95480" y="48006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for the function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1.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. After 12 video rentals, the cost will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 = 18 + 15 = $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152388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book club has a membership fee of $20. Each book purchased costs $2. Find a rule for the linear function that describes the total cost of buying books as a member of the club, and find the total cost of buying 10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505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4920" y="42051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71800" y="351936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y-intercept is the cost to join, $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71800" y="4038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ith 1 book purchase the cost will be $2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4648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2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52280" y="5029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3520" y="5518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492444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for the func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. After 10 books purchases, the cost will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 = 20 + 20 = $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533520" y="1431000"/>
            <a:ext cx="792468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function is 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05320" y="2686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lin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05320" y="1933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ot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80880" y="3811680"/>
            <a:ext cx="2743200" cy="27352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4572000" y="390060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581280" y="4037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) =  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371600"/>
            <a:ext cx="8153280" cy="4724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termine if each relationship represents a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For the functio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+ 2, fi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0)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3), a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–2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51320" y="3015720"/>
            <a:ext cx="69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03200" y="4066920"/>
            <a:ext cx="69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2200" y="5223960"/>
            <a:ext cx="128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Verdana"/>
              </a:rPr>
              <a:t>2, 11,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57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3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Linear 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066680" y="2666880"/>
            <a:ext cx="585792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533520" y="1750680"/>
            <a:ext cx="7924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rule for each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re sells toys at the craft fair. He pays $60 to rent the booth. Materials for his toys are $4.50 per toy. Find a rule for the linear function that describes Andre's expenses for the day. Determine his expenses if he sold 25 to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10080" y="25898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) = 3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990720" y="56376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) = 4.50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60; $172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066680" y="2362320"/>
          <a:ext cx="4024080" cy="963360"/>
        </p:xfrm>
        <a:graphic>
          <a:graphicData uri="http://schemas.openxmlformats.org/drawingml/2006/table">
            <a:tbl>
              <a:tblPr/>
              <a:tblGrid>
                <a:gridCol w="671400"/>
                <a:gridCol w="838080"/>
                <a:gridCol w="609840"/>
                <a:gridCol w="563400"/>
                <a:gridCol w="671400"/>
                <a:gridCol w="66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600200"/>
            <a:ext cx="7848720" cy="46483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the first 20 terms of the geometric sequence 1, 2, 4, 8, 16, 32, . . . .Why can’t you put those 20 numbers into two groups such that each group has the same s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956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All the numbers except 1 are even, so the sum of the 20 numbers is odd and cannot be divided into two equal integer s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438280"/>
            <a:ext cx="8305920" cy="6098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identify linear func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828800"/>
            <a:ext cx="7162920" cy="1447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2193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inear f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n be described by a linear equation. You can us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unction not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show that the output value of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ritten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f(x)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rresponds to the input value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590920" y="2971800"/>
            <a:ext cx="3809880" cy="1488240"/>
            <a:chOff x="2590920" y="2971800"/>
            <a:chExt cx="3809880" cy="1488240"/>
          </a:xfrm>
        </p:grpSpPr>
        <p:sp>
          <p:nvSpPr>
            <p:cNvPr id="73" name=""/>
            <p:cNvSpPr/>
            <p:nvPr/>
          </p:nvSpPr>
          <p:spPr>
            <a:xfrm>
              <a:off x="2590920" y="3444120"/>
              <a:ext cx="3809880" cy="1015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f(x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read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 x.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f(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 read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of 1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90920" y="2971800"/>
              <a:ext cx="2632320" cy="459720"/>
            </a:xfrm>
            <a:prstGeom prst="rect">
              <a:avLst/>
            </a:prstGeom>
            <a:solidFill>
              <a:srgbClr val="800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Reading 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85800" y="4832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of a linear function is a line. The linear function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as a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lop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a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-intercep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the func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 = 2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Identifying Linea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6728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38480" y="37339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es not represent a linear function because its graph is not in a straigh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2280" y="2133720"/>
            <a:ext cx="4189320" cy="3899880"/>
            <a:chOff x="152280" y="2133720"/>
            <a:chExt cx="4189320" cy="3899880"/>
          </a:xfrm>
        </p:grpSpPr>
        <p:grpSp>
          <p:nvGrpSpPr>
            <p:cNvPr id="82" name=""/>
            <p:cNvGrpSpPr/>
            <p:nvPr/>
          </p:nvGrpSpPr>
          <p:grpSpPr>
            <a:xfrm>
              <a:off x="152280" y="2133720"/>
              <a:ext cx="4189320" cy="3899880"/>
              <a:chOff x="152280" y="2133720"/>
              <a:chExt cx="4189320" cy="389988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152280" y="2133720"/>
                <a:ext cx="4189320" cy="3899880"/>
                <a:chOff x="152280" y="2133720"/>
                <a:chExt cx="4189320" cy="3899880"/>
              </a:xfrm>
            </p:grpSpPr>
            <p:grpSp>
              <p:nvGrpSpPr>
                <p:cNvPr id="84" name=""/>
                <p:cNvGrpSpPr/>
                <p:nvPr/>
              </p:nvGrpSpPr>
              <p:grpSpPr>
                <a:xfrm>
                  <a:off x="152280" y="2438280"/>
                  <a:ext cx="4189320" cy="3595320"/>
                  <a:chOff x="152280" y="2438280"/>
                  <a:chExt cx="4189320" cy="3595320"/>
                </a:xfrm>
              </p:grpSpPr>
              <p:grpSp>
                <p:nvGrpSpPr>
                  <p:cNvPr id="85" name=""/>
                  <p:cNvGrpSpPr/>
                  <p:nvPr/>
                </p:nvGrpSpPr>
                <p:grpSpPr>
                  <a:xfrm>
                    <a:off x="152280" y="2438280"/>
                    <a:ext cx="4189320" cy="3595320"/>
                    <a:chOff x="152280" y="2438280"/>
                    <a:chExt cx="4189320" cy="3595320"/>
                  </a:xfrm>
                </p:grpSpPr>
                <p:grpSp>
                  <p:nvGrpSpPr>
                    <p:cNvPr id="86" name=""/>
                    <p:cNvGrpSpPr/>
                    <p:nvPr/>
                  </p:nvGrpSpPr>
                  <p:grpSpPr>
                    <a:xfrm>
                      <a:off x="152280" y="2539080"/>
                      <a:ext cx="3744000" cy="3494520"/>
                      <a:chOff x="152280" y="2539080"/>
                      <a:chExt cx="3744000" cy="3494520"/>
                    </a:xfrm>
                  </p:grpSpPr>
                  <p:grpSp>
                    <p:nvGrpSpPr>
                      <p:cNvPr id="87" name=""/>
                      <p:cNvGrpSpPr/>
                      <p:nvPr/>
                    </p:nvGrpSpPr>
                    <p:grpSpPr>
                      <a:xfrm>
                        <a:off x="502200" y="2882520"/>
                        <a:ext cx="3043800" cy="2841480"/>
                        <a:chOff x="502200" y="2882520"/>
                        <a:chExt cx="3043800" cy="2841480"/>
                      </a:xfrm>
                    </p:grpSpPr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>
                          <a:off x="5022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>
                          <a:off x="8064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>
                          <a:off x="111096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>
                          <a:off x="14155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>
                          <a:off x="17197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>
                          <a:off x="20239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>
                          <a:off x="232848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>
                          <a:off x="263304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>
                          <a:off x="29376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>
                          <a:off x="32418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"/>
                        <p:cNvSpPr/>
                        <p:nvPr/>
                      </p:nvSpPr>
                      <p:spPr>
                        <a:xfrm>
                          <a:off x="5022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"/>
                        <p:cNvSpPr/>
                        <p:nvPr/>
                      </p:nvSpPr>
                      <p:spPr>
                        <a:xfrm>
                          <a:off x="8064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"/>
                        <p:cNvSpPr/>
                        <p:nvPr/>
                      </p:nvSpPr>
                      <p:spPr>
                        <a:xfrm>
                          <a:off x="111096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"/>
                        <p:cNvSpPr/>
                        <p:nvPr/>
                      </p:nvSpPr>
                      <p:spPr>
                        <a:xfrm>
                          <a:off x="14155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"/>
                        <p:cNvSpPr/>
                        <p:nvPr/>
                      </p:nvSpPr>
                      <p:spPr>
                        <a:xfrm>
                          <a:off x="17197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"/>
                        <p:cNvSpPr/>
                        <p:nvPr/>
                      </p:nvSpPr>
                      <p:spPr>
                        <a:xfrm>
                          <a:off x="20239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"/>
                        <p:cNvSpPr/>
                        <p:nvPr/>
                      </p:nvSpPr>
                      <p:spPr>
                        <a:xfrm>
                          <a:off x="232848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"/>
                        <p:cNvSpPr/>
                        <p:nvPr/>
                      </p:nvSpPr>
                      <p:spPr>
                        <a:xfrm>
                          <a:off x="263304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"/>
                        <p:cNvSpPr/>
                        <p:nvPr/>
                      </p:nvSpPr>
                      <p:spPr>
                        <a:xfrm>
                          <a:off x="29376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"/>
                        <p:cNvSpPr/>
                        <p:nvPr/>
                      </p:nvSpPr>
                      <p:spPr>
                        <a:xfrm>
                          <a:off x="32418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"/>
                        <p:cNvSpPr/>
                        <p:nvPr/>
                      </p:nvSpPr>
                      <p:spPr>
                        <a:xfrm>
                          <a:off x="5022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"/>
                        <p:cNvSpPr/>
                        <p:nvPr/>
                      </p:nvSpPr>
                      <p:spPr>
                        <a:xfrm>
                          <a:off x="8064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>
                          <a:off x="111096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>
                          <a:off x="14155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>
                          <a:off x="17197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>
                          <a:off x="20239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>
                          <a:off x="232848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263304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29376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2418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>
                          <a:off x="5022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>
                          <a:off x="8064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>
                          <a:off x="111096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>
                          <a:off x="14155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>
                          <a:off x="17197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>
                          <a:off x="20239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>
                          <a:off x="232848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>
                          <a:off x="263304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>
                          <a:off x="29376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>
                          <a:off x="32418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5022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8064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111096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>
                          <a:off x="14155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>
                          <a:off x="17197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>
                          <a:off x="20239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232848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263304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29376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32418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5022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8064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111096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14155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17197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>
                          <a:off x="20239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>
                          <a:off x="232848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63304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>
                          <a:off x="29376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>
                          <a:off x="32418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>
                          <a:off x="5022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8064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>
                          <a:off x="111096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14155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17197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>
                          <a:off x="20239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232848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263304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"/>
                        <p:cNvSpPr/>
                        <p:nvPr/>
                      </p:nvSpPr>
                      <p:spPr>
                        <a:xfrm>
                          <a:off x="29376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32418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5022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>
                          <a:off x="8064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111096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14155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>
                          <a:off x="17197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0239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232848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>
                          <a:off x="263304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29376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2418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5022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8064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111096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14155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17197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20239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>
                          <a:off x="232848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>
                          <a:off x="263304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>
                          <a:off x="29376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>
                          <a:off x="32418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5022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8064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111096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14155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>
                          <a:off x="17197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20239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232848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>
                          <a:off x="263304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>
                          <a:off x="29376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>
                          <a:off x="32418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8" name=""/>
                      <p:cNvGrpSpPr/>
                      <p:nvPr/>
                    </p:nvGrpSpPr>
                    <p:grpSpPr>
                      <a:xfrm>
                        <a:off x="152280" y="2539080"/>
                        <a:ext cx="3744000" cy="3494520"/>
                        <a:chOff x="152280" y="2539080"/>
                        <a:chExt cx="3744000" cy="3494520"/>
                      </a:xfrm>
                    </p:grpSpPr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>
                          <a:off x="2024280" y="2539080"/>
                          <a:ext cx="0" cy="34945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152280" y="4303080"/>
                          <a:ext cx="37440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3628800" y="3902760"/>
                      <a:ext cx="7128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2091240" y="2438280"/>
                      <a:ext cx="71280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3" name=""/>
                  <p:cNvSpPr/>
                  <p:nvPr/>
                </p:nvSpPr>
                <p:spPr>
                  <a:xfrm>
                    <a:off x="1698480" y="35956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504160" y="42814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1221120" y="428148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1698480" y="298620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067920" y="42814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53760" y="428148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1620720" y="527220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" name=""/>
                <p:cNvSpPr/>
                <p:nvPr/>
              </p:nvSpPr>
              <p:spPr>
                <a:xfrm>
                  <a:off x="1693080" y="2286000"/>
                  <a:ext cx="644760" cy="1981080"/>
                </a:xfrm>
                <a:prstGeom prst="ellipse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522080" y="2514600"/>
                  <a:ext cx="402480" cy="366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844280" y="2133720"/>
                  <a:ext cx="40284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522080" y="2362320"/>
                  <a:ext cx="40248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1713240" y="2790720"/>
                  <a:ext cx="0" cy="152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2318040" y="2809800"/>
                  <a:ext cx="0" cy="152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2086200" y="2514600"/>
                <a:ext cx="402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86200" y="2147760"/>
                <a:ext cx="402840" cy="36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V="1">
              <a:off x="2307960" y="2809800"/>
              <a:ext cx="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16002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the func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 = -2x + 4 is 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251460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373392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-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+ 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es represent a linear function because its graph is in a straight line. It has a slope of -2 and a y-intercept of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2280" y="2438280"/>
            <a:ext cx="4190400" cy="3595320"/>
            <a:chOff x="152280" y="2438280"/>
            <a:chExt cx="4190400" cy="3595320"/>
          </a:xfrm>
        </p:grpSpPr>
        <p:sp>
          <p:nvSpPr>
            <p:cNvPr id="215" name=""/>
            <p:cNvSpPr/>
            <p:nvPr/>
          </p:nvSpPr>
          <p:spPr>
            <a:xfrm>
              <a:off x="2085840" y="2514600"/>
              <a:ext cx="403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152280" y="2438280"/>
              <a:ext cx="4190400" cy="3595320"/>
              <a:chOff x="152280" y="2438280"/>
              <a:chExt cx="4190400" cy="359532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152280" y="2438280"/>
                <a:ext cx="4190400" cy="3595320"/>
                <a:chOff x="152280" y="2438280"/>
                <a:chExt cx="4190400" cy="359532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152280" y="2438280"/>
                  <a:ext cx="4190400" cy="3595320"/>
                  <a:chOff x="152280" y="2438280"/>
                  <a:chExt cx="4190400" cy="359532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152280" y="2438280"/>
                    <a:ext cx="4190400" cy="3595320"/>
                    <a:chOff x="152280" y="2438280"/>
                    <a:chExt cx="4190400" cy="359532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152280" y="2539080"/>
                      <a:ext cx="3744720" cy="3494520"/>
                      <a:chOff x="152280" y="2539080"/>
                      <a:chExt cx="3744720" cy="3494520"/>
                    </a:xfrm>
                  </p:grpSpPr>
                  <p:grpSp>
                    <p:nvGrpSpPr>
                      <p:cNvPr id="221" name=""/>
                      <p:cNvGrpSpPr/>
                      <p:nvPr/>
                    </p:nvGrpSpPr>
                    <p:grpSpPr>
                      <a:xfrm>
                        <a:off x="502200" y="2882520"/>
                        <a:ext cx="3044520" cy="2841480"/>
                        <a:chOff x="502200" y="2882520"/>
                        <a:chExt cx="3044520" cy="2841480"/>
                      </a:xfrm>
                    </p:grpSpPr>
                    <p:sp>
                      <p:nvSpPr>
                        <p:cNvPr id="222" name=""/>
                        <p:cNvSpPr/>
                        <p:nvPr/>
                      </p:nvSpPr>
                      <p:spPr>
                        <a:xfrm>
                          <a:off x="50220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>
                          <a:off x="80676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"/>
                        <p:cNvSpPr/>
                        <p:nvPr/>
                      </p:nvSpPr>
                      <p:spPr>
                        <a:xfrm>
                          <a:off x="111096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"/>
                        <p:cNvSpPr/>
                        <p:nvPr/>
                      </p:nvSpPr>
                      <p:spPr>
                        <a:xfrm>
                          <a:off x="14155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>
                          <a:off x="17197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>
                          <a:off x="202428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>
                          <a:off x="232884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>
                          <a:off x="263304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>
                          <a:off x="29376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>
                          <a:off x="324216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>
                          <a:off x="50220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>
                          <a:off x="80676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>
                          <a:off x="111096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>
                          <a:off x="14155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>
                          <a:off x="17197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>
                          <a:off x="202428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32884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63304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>
                          <a:off x="29376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>
                          <a:off x="324216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>
                          <a:off x="50220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>
                          <a:off x="80676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>
                          <a:off x="111096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>
                          <a:off x="14155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>
                          <a:off x="17197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>
                          <a:off x="202428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232884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263304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29376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324216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50220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80676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111096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14155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17197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202428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232884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>
                          <a:off x="263304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>
                          <a:off x="29376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324216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>
                          <a:off x="50220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>
                          <a:off x="80676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>
                          <a:off x="111096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>
                          <a:off x="14155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>
                          <a:off x="17197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>
                          <a:off x="202428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>
                          <a:off x="232884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>
                          <a:off x="263304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>
                          <a:off x="29376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>
                          <a:off x="324216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>
                          <a:off x="50220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>
                          <a:off x="80676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"/>
                        <p:cNvSpPr/>
                        <p:nvPr/>
                      </p:nvSpPr>
                      <p:spPr>
                        <a:xfrm>
                          <a:off x="111096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>
                          <a:off x="14155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>
                          <a:off x="17197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>
                          <a:off x="202428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>
                          <a:off x="232884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>
                          <a:off x="263304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>
                          <a:off x="29376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>
                          <a:off x="324216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>
                          <a:off x="50220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>
                          <a:off x="80676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>
                          <a:off x="111096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>
                          <a:off x="14155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>
                          <a:off x="17197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>
                          <a:off x="202428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>
                          <a:off x="232884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>
                          <a:off x="263304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>
                          <a:off x="29376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>
                          <a:off x="324216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>
                          <a:off x="50220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80676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111096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14155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17197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202428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232884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263304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29376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324216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50220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80676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111096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14155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17197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202428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>
                          <a:off x="232884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>
                          <a:off x="263304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29376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>
                          <a:off x="324216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>
                          <a:off x="50220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"/>
                        <p:cNvSpPr/>
                        <p:nvPr/>
                      </p:nvSpPr>
                      <p:spPr>
                        <a:xfrm>
                          <a:off x="80676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" name=""/>
                        <p:cNvSpPr/>
                        <p:nvPr/>
                      </p:nvSpPr>
                      <p:spPr>
                        <a:xfrm>
                          <a:off x="111096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" name=""/>
                        <p:cNvSpPr/>
                        <p:nvPr/>
                      </p:nvSpPr>
                      <p:spPr>
                        <a:xfrm>
                          <a:off x="14155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6" name=""/>
                        <p:cNvSpPr/>
                        <p:nvPr/>
                      </p:nvSpPr>
                      <p:spPr>
                        <a:xfrm>
                          <a:off x="17197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>
                          <a:off x="202428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>
                          <a:off x="232884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9" name=""/>
                        <p:cNvSpPr/>
                        <p:nvPr/>
                      </p:nvSpPr>
                      <p:spPr>
                        <a:xfrm>
                          <a:off x="263304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" name=""/>
                        <p:cNvSpPr/>
                        <p:nvPr/>
                      </p:nvSpPr>
                      <p:spPr>
                        <a:xfrm>
                          <a:off x="29376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1" name=""/>
                        <p:cNvSpPr/>
                        <p:nvPr/>
                      </p:nvSpPr>
                      <p:spPr>
                        <a:xfrm>
                          <a:off x="324216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2" name=""/>
                      <p:cNvGrpSpPr/>
                      <p:nvPr/>
                    </p:nvGrpSpPr>
                    <p:grpSpPr>
                      <a:xfrm>
                        <a:off x="152280" y="2539080"/>
                        <a:ext cx="3744720" cy="3494520"/>
                        <a:chOff x="152280" y="2539080"/>
                        <a:chExt cx="3744720" cy="3494520"/>
                      </a:xfrm>
                    </p:grpSpPr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>
                          <a:off x="2024640" y="2539080"/>
                          <a:ext cx="0" cy="34945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152280" y="4303080"/>
                          <a:ext cx="374472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3629520" y="3902760"/>
                      <a:ext cx="7131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2091600" y="2438280"/>
                      <a:ext cx="7131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7" name=""/>
                  <p:cNvSpPr/>
                  <p:nvPr/>
                </p:nvSpPr>
                <p:spPr>
                  <a:xfrm>
                    <a:off x="1699200" y="35956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504880" y="42814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221840" y="428148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1699200" y="298620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3069000" y="42814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54120" y="428148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1621080" y="527220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1638360" y="470520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 flipH="1" flipV="1">
                <a:off x="1676520" y="2485800"/>
                <a:ext cx="1752480" cy="3352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Writing the Equation for a 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25146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dentify the y-intercept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the 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3352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48040" y="3809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cate another point on the graph, such as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(1, 4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3504960" cy="3486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809880" y="477216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alues of the point into the equation,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solve for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7T16:48:55Z</dcterms:modified>
  <cp:revision>110</cp:revision>
  <dc:subject/>
  <dc:title>Slide 1</dc:title>
</cp:coreProperties>
</file>