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79B-57A7-478B-8786-E22FA6A3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5EC-1BA3-4B0A-B286-299B3254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82E-6D33-4628-B1FB-2C183B1D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1D7-9755-45DC-89DA-B0D4DC06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FC2-2AEB-4891-9938-77D7782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E6E-7034-4EDE-93B8-5D166D3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FB8-EC8A-447F-BC7D-5973DE52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A2A-5B60-4960-AA80-B323D0B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922-1F17-47FD-91A8-1AEE783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E04-E140-4BCC-AA24-00E4B87E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2B2-3D06-4CDB-A9D6-D44F883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E15-34DA-469B-9E6C-C26F0B0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EFA4-02C6-476C-8766-9A978B29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 and (3,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7" name=""/>
          <p:cNvGrpSpPr/>
          <p:nvPr/>
        </p:nvGrpSpPr>
        <p:grpSpPr>
          <a:xfrm>
            <a:off x="3581280" y="4019400"/>
            <a:ext cx="5562720" cy="840600"/>
            <a:chOff x="3581280" y="4019400"/>
            <a:chExt cx="5562720" cy="840600"/>
          </a:xfrm>
        </p:grpSpPr>
        <p:grpSp>
          <p:nvGrpSpPr>
            <p:cNvPr id="358" name=""/>
            <p:cNvGrpSpPr/>
            <p:nvPr/>
          </p:nvGrpSpPr>
          <p:grpSpPr>
            <a:xfrm>
              <a:off x="3581280" y="4019400"/>
              <a:ext cx="5562720" cy="840600"/>
              <a:chOff x="3581280" y="4019400"/>
              <a:chExt cx="5562720" cy="840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3581280" y="4019400"/>
                <a:ext cx="5562720" cy="840600"/>
                <a:chOff x="3581280" y="4019400"/>
                <a:chExt cx="5562720" cy="84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581280" y="4248000"/>
                  <a:ext cx="556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3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4343400" y="4019400"/>
                  <a:ext cx="2286000" cy="815040"/>
                  <a:chOff x="4343400" y="4019400"/>
                  <a:chExt cx="2286000" cy="81504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4343400" y="4019400"/>
                    <a:ext cx="1828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343400" y="4324320"/>
                    <a:ext cx="2286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715000" y="4095720"/>
                  <a:ext cx="3200400" cy="764280"/>
                  <a:chOff x="5715000" y="4095720"/>
                  <a:chExt cx="3200400" cy="7642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715000" y="4095720"/>
                    <a:ext cx="320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10 – 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867280" y="4400280"/>
                    <a:ext cx="114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3 –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7086600" y="4095720"/>
                <a:ext cx="1371600" cy="764280"/>
                <a:chOff x="7086600" y="4095720"/>
                <a:chExt cx="1371600" cy="7642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086600" y="4095720"/>
                  <a:ext cx="13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086600" y="4400280"/>
                  <a:ext cx="114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4357440" y="4476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 3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856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,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04920" y="2590920"/>
            <a:ext cx="3961800" cy="3595320"/>
            <a:chOff x="304920" y="2590920"/>
            <a:chExt cx="3961800" cy="3595320"/>
          </a:xfrm>
        </p:grpSpPr>
        <p:grpSp>
          <p:nvGrpSpPr>
            <p:cNvPr id="385" name=""/>
            <p:cNvGrpSpPr/>
            <p:nvPr/>
          </p:nvGrpSpPr>
          <p:grpSpPr>
            <a:xfrm>
              <a:off x="304920" y="2590920"/>
              <a:ext cx="3961800" cy="3595320"/>
              <a:chOff x="304920" y="2590920"/>
              <a:chExt cx="3961800" cy="359532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304920" y="2691720"/>
                <a:ext cx="3540600" cy="3494520"/>
                <a:chOff x="304920" y="2691720"/>
                <a:chExt cx="3540600" cy="349452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635760" y="3035160"/>
                  <a:ext cx="2878200" cy="2841480"/>
                  <a:chOff x="635760" y="3035160"/>
                  <a:chExt cx="2878200" cy="28414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63576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923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211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499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78704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074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362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650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938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2632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3576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23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11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499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78704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74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362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650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938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2632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576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923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211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499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78704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74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362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650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938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2632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3576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23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211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499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78704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74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62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50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938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22632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3576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923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211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499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178704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074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362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50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938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2632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3576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923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1211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499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78704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074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362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50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938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2632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3576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23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211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499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78704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074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362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50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938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22632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3576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923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1211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499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78704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074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362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650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938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22632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3576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923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211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499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78704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074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362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650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938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2632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576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23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211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499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178704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074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362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650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938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22632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304920" y="2691720"/>
                  <a:ext cx="3540600" cy="3494520"/>
                  <a:chOff x="304920" y="2691720"/>
                  <a:chExt cx="3540600" cy="34945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075040" y="26917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04920" y="445572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"/>
              <p:cNvSpPr/>
              <p:nvPr/>
            </p:nvSpPr>
            <p:spPr>
              <a:xfrm>
                <a:off x="3592440" y="40554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38400" y="25909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767240" y="3748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2900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165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7240" y="3138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6252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01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4520" y="5424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H="1">
            <a:off x="609480" y="3886200"/>
            <a:ext cx="2895840" cy="533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1981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243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5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3276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   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3733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38080" y="4114800"/>
            <a:ext cx="2210040" cy="764640"/>
            <a:chOff x="838080" y="4114800"/>
            <a:chExt cx="2210040" cy="764640"/>
          </a:xfrm>
        </p:grpSpPr>
        <p:grpSp>
          <p:nvGrpSpPr>
            <p:cNvPr id="508" name=""/>
            <p:cNvGrpSpPr/>
            <p:nvPr/>
          </p:nvGrpSpPr>
          <p:grpSpPr>
            <a:xfrm>
              <a:off x="1600200" y="4114800"/>
              <a:ext cx="1447920" cy="764640"/>
              <a:chOff x="1600200" y="4114800"/>
              <a:chExt cx="1447920" cy="764640"/>
            </a:xfrm>
          </p:grpSpPr>
          <p:sp>
            <p:nvSpPr>
              <p:cNvPr id="509" name=""/>
              <p:cNvSpPr/>
              <p:nvPr/>
            </p:nvSpPr>
            <p:spPr>
              <a:xfrm>
                <a:off x="1600200" y="41148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00200" y="441972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38080" y="4267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3520" y="4876920"/>
            <a:ext cx="7924680" cy="764280"/>
            <a:chOff x="533520" y="4876920"/>
            <a:chExt cx="7924680" cy="764280"/>
          </a:xfrm>
        </p:grpSpPr>
        <p:sp>
          <p:nvSpPr>
            <p:cNvPr id="513" name=""/>
            <p:cNvSpPr/>
            <p:nvPr/>
          </p:nvSpPr>
          <p:spPr>
            <a:xfrm>
              <a:off x="533520" y="502920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ul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200400" y="4876920"/>
              <a:ext cx="1371600" cy="764280"/>
              <a:chOff x="3200400" y="4876920"/>
              <a:chExt cx="1371600" cy="764280"/>
            </a:xfrm>
          </p:grpSpPr>
          <p:sp>
            <p:nvSpPr>
              <p:cNvPr id="515" name=""/>
              <p:cNvSpPr/>
              <p:nvPr/>
            </p:nvSpPr>
            <p:spPr>
              <a:xfrm>
                <a:off x="3200400" y="4876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20040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) and (1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3505320" y="3962520"/>
            <a:ext cx="5562360" cy="840600"/>
            <a:chOff x="3505320" y="3962520"/>
            <a:chExt cx="5562360" cy="840600"/>
          </a:xfrm>
        </p:grpSpPr>
        <p:grpSp>
          <p:nvGrpSpPr>
            <p:cNvPr id="525" name=""/>
            <p:cNvGrpSpPr/>
            <p:nvPr/>
          </p:nvGrpSpPr>
          <p:grpSpPr>
            <a:xfrm>
              <a:off x="3505320" y="3962520"/>
              <a:ext cx="5562360" cy="840600"/>
              <a:chOff x="3505320" y="3962520"/>
              <a:chExt cx="5562360" cy="84060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505320" y="3962520"/>
                <a:ext cx="5562360" cy="840600"/>
                <a:chOff x="3505320" y="3962520"/>
                <a:chExt cx="5562360" cy="8406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505320" y="4191120"/>
                  <a:ext cx="556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1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4267080" y="3962520"/>
                  <a:ext cx="2285640" cy="815040"/>
                  <a:chOff x="4267080" y="3962520"/>
                  <a:chExt cx="2285640" cy="81504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4267080" y="3962520"/>
                    <a:ext cx="18284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267080" y="4267440"/>
                    <a:ext cx="2285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5638680" y="4038840"/>
                  <a:ext cx="3200040" cy="764280"/>
                  <a:chOff x="5638680" y="4038840"/>
                  <a:chExt cx="3200040" cy="7642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5638680" y="4038840"/>
                    <a:ext cx="3200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6 – 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790600" y="4343400"/>
                    <a:ext cx="1142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1 –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7010280" y="4038840"/>
                <a:ext cx="1371240" cy="764280"/>
                <a:chOff x="7010280" y="4038840"/>
                <a:chExt cx="1371240" cy="764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010280" y="4038840"/>
                  <a:ext cx="137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10280" y="4343400"/>
                  <a:ext cx="114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4281120" y="4419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2133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2590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0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505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ost $15 to join. Each video that is rented costs $1.50. Find a rule for the linear function that describes the total cost of renting videos as a member of the club, and find the total cost of renting 12 vid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3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6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351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1800" y="42051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rental the cost will be $16.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3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4800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1.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After 12 video rentals, the cost wi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 = 18 + 15 = $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15238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ook club has a membership fee of $20. Each book purchased costs $2. Find a rule for the linear function that describes the total cost of buying books as a member of the club, and find the total cost of buying 10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35193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4038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book purchase the cost will be $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22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352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92444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. After 10 books purchases, the cost wi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 = 20 + 20 = $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3520" y="1431000"/>
            <a:ext cx="79246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function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2686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li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19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0880" y="3811680"/>
            <a:ext cx="2743200" cy="27352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572000" y="390060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403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 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371600"/>
            <a:ext cx="815328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the functio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, fi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0)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3),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–2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51320" y="30157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03200" y="40669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2200" y="5223960"/>
            <a:ext cx="128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2, 11,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58579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33520" y="1750680"/>
            <a:ext cx="7924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each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re sells toys at the craft fair. He pays $60 to rent the booth. Materials for his toys are $4.50 per toy. Find a rule for the linear function that describes Andre's expenses for the day. Determine his expenses if he sold 25 t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2589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5637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4.50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60; $17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066680" y="2362320"/>
          <a:ext cx="4024080" cy="963360"/>
        </p:xfrm>
        <a:graphic>
          <a:graphicData uri="http://schemas.openxmlformats.org/drawingml/2006/table">
            <a:tbl>
              <a:tblPr/>
              <a:tblGrid>
                <a:gridCol w="671400"/>
                <a:gridCol w="838080"/>
                <a:gridCol w="609840"/>
                <a:gridCol w="563400"/>
                <a:gridCol w="671400"/>
                <a:gridCol w="66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600200"/>
            <a:ext cx="7848720" cy="4648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he first 20 terms of the geometric sequence 1, 2, 4, 8, 16, 32, . . . .Why can’t you put those 20 numbers into two groups such that each group has the same s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956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ll the numbers except 1 are even, so the sum of the 20 numbers is odd and cannot be divided into two equal integer s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609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identify linear func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219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inear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described by a linear equation. You can 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unction no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show that the output value of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ritte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rresponds to the input valu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90920" y="2971800"/>
            <a:ext cx="3809880" cy="1488240"/>
            <a:chOff x="2590920" y="2971800"/>
            <a:chExt cx="3809880" cy="1488240"/>
          </a:xfrm>
        </p:grpSpPr>
        <p:sp>
          <p:nvSpPr>
            <p:cNvPr id="73" name=""/>
            <p:cNvSpPr/>
            <p:nvPr/>
          </p:nvSpPr>
          <p:spPr>
            <a:xfrm>
              <a:off x="2590920" y="3444120"/>
              <a:ext cx="3809880" cy="1015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x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 x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f 1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2971800"/>
              <a:ext cx="2632320" cy="459720"/>
            </a:xfrm>
            <a:prstGeom prst="rect">
              <a:avLst/>
            </a:prstGeom>
            <a:solidFill>
              <a:srgbClr val="800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5800" y="483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a linear function is a line. The linear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intercep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Identify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3733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not represent a linear function because its graph is not in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2280" y="2133720"/>
            <a:ext cx="4189320" cy="3899880"/>
            <a:chOff x="152280" y="2133720"/>
            <a:chExt cx="4189320" cy="3899880"/>
          </a:xfrm>
        </p:grpSpPr>
        <p:grpSp>
          <p:nvGrpSpPr>
            <p:cNvPr id="82" name=""/>
            <p:cNvGrpSpPr/>
            <p:nvPr/>
          </p:nvGrpSpPr>
          <p:grpSpPr>
            <a:xfrm>
              <a:off x="152280" y="2133720"/>
              <a:ext cx="4189320" cy="3899880"/>
              <a:chOff x="152280" y="2133720"/>
              <a:chExt cx="4189320" cy="389988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52280" y="2133720"/>
                <a:ext cx="4189320" cy="3899880"/>
                <a:chOff x="152280" y="2133720"/>
                <a:chExt cx="4189320" cy="389988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152280" y="2438280"/>
                  <a:ext cx="4189320" cy="3595320"/>
                  <a:chOff x="152280" y="2438280"/>
                  <a:chExt cx="4189320" cy="359532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52280" y="2438280"/>
                    <a:ext cx="4189320" cy="3595320"/>
                    <a:chOff x="152280" y="2438280"/>
                    <a:chExt cx="4189320" cy="359532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152280" y="2539080"/>
                      <a:ext cx="3744000" cy="3494520"/>
                      <a:chOff x="152280" y="2539080"/>
                      <a:chExt cx="3744000" cy="3494520"/>
                    </a:xfrm>
                  </p:grpSpPr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502200" y="2882520"/>
                        <a:ext cx="3043800" cy="2841480"/>
                        <a:chOff x="502200" y="2882520"/>
                        <a:chExt cx="3043800" cy="284148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5022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8064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20239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232848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32418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5022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8064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20239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>
                          <a:off x="232848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32418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>
                          <a:off x="5022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>
                          <a:off x="8064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20239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32848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2418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5022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8064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20239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232848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32418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5022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8064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0239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32848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32418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5022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8064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0239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32848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32418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5022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8064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20239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232848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32418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5022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8064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0239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232848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2418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022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8064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20239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232848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32418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5022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8064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20239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232848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32418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8" name=""/>
                      <p:cNvGrpSpPr/>
                      <p:nvPr/>
                    </p:nvGrpSpPr>
                    <p:grpSpPr>
                      <a:xfrm>
                        <a:off x="152280" y="2539080"/>
                        <a:ext cx="3744000" cy="3494520"/>
                        <a:chOff x="152280" y="2539080"/>
                        <a:chExt cx="3744000" cy="3494520"/>
                      </a:xfrm>
                    </p:grpSpPr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202428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0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3628800" y="3902760"/>
                      <a:ext cx="712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091240" y="2438280"/>
                      <a:ext cx="71280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169848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50416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221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69848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06792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5376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62072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>
                  <a:off x="1693080" y="2286000"/>
                  <a:ext cx="644760" cy="198108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2080" y="2514600"/>
                  <a:ext cx="402480" cy="36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44280" y="2133720"/>
                  <a:ext cx="40284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522080" y="2362320"/>
                  <a:ext cx="40248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1713240" y="279072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318040" y="280980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086200" y="2514600"/>
                <a:ext cx="402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86200" y="2147760"/>
                <a:ext cx="40284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2307960" y="280980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600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-2x + 4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25146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7339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+ 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represent a linear function because its graph is in a straight line. It has a slope of -2 and a y-intercept of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2280" y="2438280"/>
            <a:ext cx="4190400" cy="3595320"/>
            <a:chOff x="152280" y="2438280"/>
            <a:chExt cx="4190400" cy="3595320"/>
          </a:xfrm>
        </p:grpSpPr>
        <p:sp>
          <p:nvSpPr>
            <p:cNvPr id="215" name=""/>
            <p:cNvSpPr/>
            <p:nvPr/>
          </p:nvSpPr>
          <p:spPr>
            <a:xfrm>
              <a:off x="2085840" y="2514600"/>
              <a:ext cx="403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52280" y="2438280"/>
              <a:ext cx="4190400" cy="3595320"/>
              <a:chOff x="152280" y="2438280"/>
              <a:chExt cx="4190400" cy="35953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52280" y="2438280"/>
                <a:ext cx="4190400" cy="3595320"/>
                <a:chOff x="152280" y="2438280"/>
                <a:chExt cx="4190400" cy="359532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52280" y="2438280"/>
                  <a:ext cx="4190400" cy="3595320"/>
                  <a:chOff x="152280" y="2438280"/>
                  <a:chExt cx="4190400" cy="359532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52280" y="2438280"/>
                    <a:ext cx="4190400" cy="3595320"/>
                    <a:chOff x="152280" y="2438280"/>
                    <a:chExt cx="4190400" cy="35953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152280" y="2539080"/>
                      <a:ext cx="3744720" cy="3494520"/>
                      <a:chOff x="152280" y="2539080"/>
                      <a:chExt cx="3744720" cy="3494520"/>
                    </a:xfrm>
                  </p:grpSpPr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502200" y="2882520"/>
                        <a:ext cx="3044520" cy="2841480"/>
                        <a:chOff x="502200" y="2882520"/>
                        <a:chExt cx="3044520" cy="284148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50220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8067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202428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23288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32421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50220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8067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202428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3288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32421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50220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8067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202428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23288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421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50220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8067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02428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23288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2421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50220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8067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202428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23288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32421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50220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8067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202428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3288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32421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50220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8067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02428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3288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32421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>
                          <a:off x="50220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8067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02428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3288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32421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50220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8067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02428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3288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2421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50220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8067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202428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23288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2421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2" name=""/>
                      <p:cNvGrpSpPr/>
                      <p:nvPr/>
                    </p:nvGrpSpPr>
                    <p:grpSpPr>
                      <a:xfrm>
                        <a:off x="152280" y="2539080"/>
                        <a:ext cx="3744720" cy="3494520"/>
                        <a:chOff x="152280" y="2539080"/>
                        <a:chExt cx="3744720" cy="3494520"/>
                      </a:xfrm>
                    </p:grpSpPr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202464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629520" y="390276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091600" y="243828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169920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50488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22184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69920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06900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54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2108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1638360" y="470520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 flipH="1" flipV="1">
                <a:off x="1676520" y="2485800"/>
                <a:ext cx="1752480" cy="3352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, 4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504960" cy="348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48:55Z</dcterms:modified>
  <cp:revision>110</cp:revision>
  <dc:subject/>
  <dc:title>Slide 1</dc:title>
</cp:coreProperties>
</file>