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EA0-ECF1-4206-B936-454FB596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FF5-1D4E-466D-BDC4-C4F48E1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BAF-27FA-475E-B1F8-3BDB942A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536-7AF0-4B93-9156-5BCAF387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049-EFA7-44F9-93BE-01B5991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136-4B5D-465D-AFB1-9517BF29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337-D3DA-4F48-B3BA-CA9ABE8D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E90-7D65-4CFD-B030-9292A457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A06-E704-4EBC-A9D2-C1E75EA8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8AF-CEF6-49B6-BB7D-5539BE51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1BD-9273-4217-AE31-C11AB10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BDE-9AF5-4A9C-81EB-A78A1FFA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96D1-85A1-4A0B-B572-0AAE58DD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4520" y="16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 and (3,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7" name=""/>
          <p:cNvGrpSpPr/>
          <p:nvPr/>
        </p:nvGrpSpPr>
        <p:grpSpPr>
          <a:xfrm>
            <a:off x="3581280" y="4019400"/>
            <a:ext cx="5562720" cy="840600"/>
            <a:chOff x="3581280" y="4019400"/>
            <a:chExt cx="5562720" cy="840600"/>
          </a:xfrm>
        </p:grpSpPr>
        <p:grpSp>
          <p:nvGrpSpPr>
            <p:cNvPr id="358" name=""/>
            <p:cNvGrpSpPr/>
            <p:nvPr/>
          </p:nvGrpSpPr>
          <p:grpSpPr>
            <a:xfrm>
              <a:off x="3581280" y="4019400"/>
              <a:ext cx="5562720" cy="840600"/>
              <a:chOff x="3581280" y="4019400"/>
              <a:chExt cx="5562720" cy="8406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3581280" y="4019400"/>
                <a:ext cx="5562720" cy="840600"/>
                <a:chOff x="3581280" y="4019400"/>
                <a:chExt cx="5562720" cy="840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81280" y="4248000"/>
                  <a:ext cx="5562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3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4343400" y="4019400"/>
                  <a:ext cx="2286000" cy="815040"/>
                  <a:chOff x="4343400" y="4019400"/>
                  <a:chExt cx="2286000" cy="81504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4343400" y="4019400"/>
                    <a:ext cx="1828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343400" y="4324320"/>
                    <a:ext cx="22860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5715000" y="4095720"/>
                  <a:ext cx="3200400" cy="764280"/>
                  <a:chOff x="5715000" y="4095720"/>
                  <a:chExt cx="3200400" cy="7642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5715000" y="4095720"/>
                    <a:ext cx="320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10 – 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867280" y="4400280"/>
                    <a:ext cx="114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3 – 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7" name=""/>
              <p:cNvGrpSpPr/>
              <p:nvPr/>
            </p:nvGrpSpPr>
            <p:grpSpPr>
              <a:xfrm>
                <a:off x="7086600" y="4095720"/>
                <a:ext cx="1371600" cy="764280"/>
                <a:chOff x="7086600" y="4095720"/>
                <a:chExt cx="1371600" cy="7642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086600" y="4095720"/>
                  <a:ext cx="13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086600" y="4400280"/>
                  <a:ext cx="114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4357440" y="4476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895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1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 3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8560" y="3733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, 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04920" y="2590920"/>
            <a:ext cx="3961800" cy="3595320"/>
            <a:chOff x="304920" y="2590920"/>
            <a:chExt cx="3961800" cy="3595320"/>
          </a:xfrm>
        </p:grpSpPr>
        <p:grpSp>
          <p:nvGrpSpPr>
            <p:cNvPr id="385" name=""/>
            <p:cNvGrpSpPr/>
            <p:nvPr/>
          </p:nvGrpSpPr>
          <p:grpSpPr>
            <a:xfrm>
              <a:off x="304920" y="2590920"/>
              <a:ext cx="3961800" cy="3595320"/>
              <a:chOff x="304920" y="2590920"/>
              <a:chExt cx="3961800" cy="35953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304920" y="2691720"/>
                <a:ext cx="3540600" cy="3494520"/>
                <a:chOff x="304920" y="2691720"/>
                <a:chExt cx="3540600" cy="34945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35760" y="3035160"/>
                  <a:ext cx="2878200" cy="2841480"/>
                  <a:chOff x="635760" y="3035160"/>
                  <a:chExt cx="2878200" cy="284148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63576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923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211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49940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78704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074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362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650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93868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26320" y="3035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3576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23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11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49940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78704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74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362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650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93868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26320" y="3319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576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923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11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49940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78704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74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362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650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93868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26320" y="3603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3576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23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211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49940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78704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74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62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50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93868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226320" y="3887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3576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23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1211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49940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178704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074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362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50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93868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226320" y="4171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3576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23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211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49940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78704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074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362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0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93868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226320" y="44557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3576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23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211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49940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78704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074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362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50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93868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226320" y="4739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3576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923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1211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149940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8704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074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362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50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93868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226320" y="502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3576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923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211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49940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78704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074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362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650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93868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26320" y="530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576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923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211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49940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78704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074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362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50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93868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226320" y="5592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304920" y="2691720"/>
                  <a:ext cx="3540600" cy="3494520"/>
                  <a:chOff x="304920" y="2691720"/>
                  <a:chExt cx="3540600" cy="34945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075040" y="26917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04920" y="445572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1" name=""/>
              <p:cNvSpPr/>
              <p:nvPr/>
            </p:nvSpPr>
            <p:spPr>
              <a:xfrm>
                <a:off x="3592440" y="40554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38400" y="25909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1767240" y="3748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2900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5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7240" y="3138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62520" y="4434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0120" y="44341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4520" y="5424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H="1">
            <a:off x="609480" y="3886200"/>
            <a:ext cx="2895840" cy="5335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1981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5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5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27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         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3733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38080" y="4114800"/>
            <a:ext cx="2210040" cy="764640"/>
            <a:chOff x="838080" y="4114800"/>
            <a:chExt cx="2210040" cy="764640"/>
          </a:xfrm>
        </p:grpSpPr>
        <p:grpSp>
          <p:nvGrpSpPr>
            <p:cNvPr id="508" name=""/>
            <p:cNvGrpSpPr/>
            <p:nvPr/>
          </p:nvGrpSpPr>
          <p:grpSpPr>
            <a:xfrm>
              <a:off x="1600200" y="4114800"/>
              <a:ext cx="1447920" cy="764640"/>
              <a:chOff x="1600200" y="4114800"/>
              <a:chExt cx="1447920" cy="764640"/>
            </a:xfrm>
          </p:grpSpPr>
          <p:sp>
            <p:nvSpPr>
              <p:cNvPr id="509" name=""/>
              <p:cNvSpPr/>
              <p:nvPr/>
            </p:nvSpPr>
            <p:spPr>
              <a:xfrm>
                <a:off x="1600200" y="41148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600200" y="44197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838080" y="4267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3520" y="4876920"/>
            <a:ext cx="7924680" cy="764280"/>
            <a:chOff x="533520" y="4876920"/>
            <a:chExt cx="7924680" cy="764280"/>
          </a:xfrm>
        </p:grpSpPr>
        <p:sp>
          <p:nvSpPr>
            <p:cNvPr id="513" name=""/>
            <p:cNvSpPr/>
            <p:nvPr/>
          </p:nvSpPr>
          <p:spPr>
            <a:xfrm>
              <a:off x="533520" y="50292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ul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=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+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200400" y="4876920"/>
              <a:ext cx="1371600" cy="764280"/>
              <a:chOff x="3200400" y="4876920"/>
              <a:chExt cx="1371600" cy="764280"/>
            </a:xfrm>
          </p:grpSpPr>
          <p:sp>
            <p:nvSpPr>
              <p:cNvPr id="515" name=""/>
              <p:cNvSpPr/>
              <p:nvPr/>
            </p:nvSpPr>
            <p:spPr>
              <a:xfrm>
                <a:off x="3200400" y="48769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00400" y="51814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62200" y="2362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two p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0, 5) and (1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3505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slope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81280" y="492444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1371600" y="2514600"/>
          <a:ext cx="1371240" cy="2514240"/>
        </p:xfrm>
        <a:graphic>
          <a:graphicData uri="http://schemas.openxmlformats.org/drawingml/2006/table">
            <a:tbl>
              <a:tblPr/>
              <a:tblGrid>
                <a:gridCol w="685800"/>
                <a:gridCol w="685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9a70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4" name=""/>
          <p:cNvGrpSpPr/>
          <p:nvPr/>
        </p:nvGrpSpPr>
        <p:grpSpPr>
          <a:xfrm>
            <a:off x="3505320" y="3962520"/>
            <a:ext cx="5562360" cy="840600"/>
            <a:chOff x="3505320" y="3962520"/>
            <a:chExt cx="5562360" cy="840600"/>
          </a:xfrm>
        </p:grpSpPr>
        <p:grpSp>
          <p:nvGrpSpPr>
            <p:cNvPr id="525" name=""/>
            <p:cNvGrpSpPr/>
            <p:nvPr/>
          </p:nvGrpSpPr>
          <p:grpSpPr>
            <a:xfrm>
              <a:off x="3505320" y="3962520"/>
              <a:ext cx="5562360" cy="840600"/>
              <a:chOff x="3505320" y="3962520"/>
              <a:chExt cx="5562360" cy="84060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3505320" y="3962520"/>
                <a:ext cx="5562360" cy="840600"/>
                <a:chOff x="3505320" y="3962520"/>
                <a:chExt cx="5562360" cy="840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505320" y="4191120"/>
                  <a:ext cx="556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m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=           =          =    = 1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4267080" y="3962520"/>
                  <a:ext cx="2285640" cy="815040"/>
                  <a:chOff x="4267080" y="3962520"/>
                  <a:chExt cx="2285640" cy="81504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4267080" y="3962520"/>
                    <a:ext cx="1828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y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267080" y="4267440"/>
                    <a:ext cx="22856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– </a:t>
                    </a: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x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Verdana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5638680" y="4038840"/>
                  <a:ext cx="3200040" cy="764280"/>
                  <a:chOff x="5638680" y="4038840"/>
                  <a:chExt cx="3200040" cy="7642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5638680" y="4038840"/>
                    <a:ext cx="3200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 </a:t>
                    </a:r>
                    <a:r>
                      <a:rPr b="0" lang="en-US" sz="2400" spc="-1" strike="noStrike" u="sng">
                        <a:solidFill>
                          <a:srgbClr val="000000"/>
                        </a:solidFill>
                        <a:uFillTx/>
                        <a:latin typeface="Verdana"/>
                      </a:rPr>
                      <a:t>6 – 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5790600" y="4343400"/>
                    <a:ext cx="1142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Verdana"/>
                      </a:rPr>
                      <a:t>1 – 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7010280" y="4038840"/>
                <a:ext cx="1371240" cy="764280"/>
                <a:chOff x="7010280" y="4038840"/>
                <a:chExt cx="1371240" cy="76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010280" y="4038840"/>
                  <a:ext cx="137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10280" y="4343400"/>
                  <a:ext cx="1142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4281120" y="4419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2133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716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(x, y) = (0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505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Mone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video club cost $15 to join. Each video that is rented costs $1.50. Find a rule for the linear function that describes the total cost of renting videos as a member of the club, and find the total cost of renting 12 vide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3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1800" y="351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1800" y="4205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rental the cost will be $16.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3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5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800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1.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. After 12 video rentals, the cost 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5 = 18 + 15 = $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15238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ook club has a membership fee of $20. Each book purchased costs $2. Find a rule for the linear function that describes the total cost of buying books as a member of the club, and find the total cost of buying 1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505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42051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519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y-intercept is the cost to join, $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4038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ith 1 book purchase the cost will be $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648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2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–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3520" y="5518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4924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ule for the func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. After 10 books purchases, the cost wi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 = 20 + 20 = $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1431000"/>
            <a:ext cx="792468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function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268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1933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t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0880" y="3811680"/>
            <a:ext cx="2743200" cy="27352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572000" y="39006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403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 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15328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, fi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0)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3),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–2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320" y="30157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3200" y="4066920"/>
            <a:ext cx="69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2200" y="5223960"/>
            <a:ext cx="128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Verdana"/>
              </a:rPr>
              <a:t>2, 11,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" y="113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13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ar 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585792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3520" y="1750680"/>
            <a:ext cx="7924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rule for each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re sells toys at the craft fair. He pays $60 to rent the booth. Materials for his toys are $4.50 per toy. Find a rule for the linear function that describes Andre's expenses for the day. Determine his expenses if he sold 25 t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10080" y="2589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3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–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5637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) = 4.50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60; $172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66680" y="2362320"/>
          <a:ext cx="4024080" cy="963360"/>
        </p:xfrm>
        <a:graphic>
          <a:graphicData uri="http://schemas.openxmlformats.org/drawingml/2006/table">
            <a:tbl>
              <a:tblPr/>
              <a:tblGrid>
                <a:gridCol w="671400"/>
                <a:gridCol w="838080"/>
                <a:gridCol w="609840"/>
                <a:gridCol w="563400"/>
                <a:gridCol w="671400"/>
                <a:gridCol w="66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600200"/>
            <a:ext cx="784872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he first 20 terms of the geometric sequence 1, 2, 4, 8, 16, 32, . . . .Why can’t you put those 20 numbers into two groups such that each group has the same s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956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ll the numbers except 1 are even, so the sum of the 20 numbers is odd and cannot be divided into two equal integer s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438280"/>
            <a:ext cx="8305920" cy="609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identify linear func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1219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near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described by a linear equation. You can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unction not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show that the output value of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ritte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rresponds to the input value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90920" y="2971800"/>
            <a:ext cx="3809880" cy="1488240"/>
            <a:chOff x="2590920" y="2971800"/>
            <a:chExt cx="3809880" cy="1488240"/>
          </a:xfrm>
        </p:grpSpPr>
        <p:sp>
          <p:nvSpPr>
            <p:cNvPr id="73" name=""/>
            <p:cNvSpPr/>
            <p:nvPr/>
          </p:nvSpPr>
          <p:spPr>
            <a:xfrm>
              <a:off x="2590920" y="3444120"/>
              <a:ext cx="3809880" cy="1015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x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 x.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s rea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Georgia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f 1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2971800"/>
              <a:ext cx="2632320" cy="459720"/>
            </a:xfrm>
            <a:prstGeom prst="rect">
              <a:avLst/>
            </a:prstGeom>
            <a:solidFill>
              <a:srgbClr val="800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85800" y="483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ph of a linear function is a line. The linear functio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s a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lop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-intercep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Identifying Linea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733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not represent a linear function because its graph is not in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2280" y="2133720"/>
            <a:ext cx="4189320" cy="3899880"/>
            <a:chOff x="152280" y="2133720"/>
            <a:chExt cx="4189320" cy="3899880"/>
          </a:xfrm>
        </p:grpSpPr>
        <p:grpSp>
          <p:nvGrpSpPr>
            <p:cNvPr id="82" name=""/>
            <p:cNvGrpSpPr/>
            <p:nvPr/>
          </p:nvGrpSpPr>
          <p:grpSpPr>
            <a:xfrm>
              <a:off x="152280" y="2133720"/>
              <a:ext cx="4189320" cy="3899880"/>
              <a:chOff x="152280" y="2133720"/>
              <a:chExt cx="4189320" cy="38998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52280" y="2133720"/>
                <a:ext cx="4189320" cy="3899880"/>
                <a:chOff x="152280" y="2133720"/>
                <a:chExt cx="4189320" cy="389988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152280" y="2438280"/>
                  <a:ext cx="4189320" cy="3595320"/>
                  <a:chOff x="152280" y="2438280"/>
                  <a:chExt cx="4189320" cy="359532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52280" y="2438280"/>
                    <a:ext cx="4189320" cy="3595320"/>
                    <a:chOff x="152280" y="2438280"/>
                    <a:chExt cx="4189320" cy="3595320"/>
                  </a:xfrm>
                </p:grpSpPr>
                <p:grpSp>
                  <p:nvGrpSpPr>
                    <p:cNvPr id="86" name=""/>
                    <p:cNvGrpSpPr/>
                    <p:nvPr/>
                  </p:nvGrpSpPr>
                  <p:grpSpPr>
                    <a:xfrm>
                      <a:off x="152280" y="2539080"/>
                      <a:ext cx="3744000" cy="3494520"/>
                      <a:chOff x="152280" y="2539080"/>
                      <a:chExt cx="3744000" cy="3494520"/>
                    </a:xfrm>
                  </p:grpSpPr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502200" y="2882520"/>
                        <a:ext cx="3043800" cy="2841480"/>
                        <a:chOff x="502200" y="2882520"/>
                        <a:chExt cx="3043800" cy="28414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5022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8064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20239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232848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32418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5022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"/>
                        <p:cNvSpPr/>
                        <p:nvPr/>
                      </p:nvSpPr>
                      <p:spPr>
                        <a:xfrm>
                          <a:off x="8064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20239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>
                          <a:off x="232848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32418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5022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>
                          <a:off x="8064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20239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32848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2418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5022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>
                          <a:off x="8064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20239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232848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32418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5022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8064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0239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32848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32418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5022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8064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0239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232848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32418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5022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8064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0239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232848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32418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5022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8064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0239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32848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2418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022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8064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20239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232848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32418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5022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8064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20239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32848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32418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152280" y="2539080"/>
                        <a:ext cx="3744000" cy="3494520"/>
                        <a:chOff x="152280" y="2539080"/>
                        <a:chExt cx="3744000" cy="3494520"/>
                      </a:xfrm>
                    </p:grpSpPr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02428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628800" y="3902760"/>
                      <a:ext cx="7128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091240" y="2438280"/>
                      <a:ext cx="712800" cy="368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3" name=""/>
                  <p:cNvSpPr/>
                  <p:nvPr/>
                </p:nvSpPr>
                <p:spPr>
                  <a:xfrm>
                    <a:off x="169848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0416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21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69848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06792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76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62072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1693080" y="2286000"/>
                  <a:ext cx="644760" cy="198108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2080" y="2514600"/>
                  <a:ext cx="40248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44280" y="2133720"/>
                  <a:ext cx="40284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522080" y="2362320"/>
                  <a:ext cx="40248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1713240" y="279072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318040" y="2809800"/>
                  <a:ext cx="0" cy="152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086200" y="2514600"/>
                <a:ext cx="4028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86200" y="2147760"/>
                <a:ext cx="40284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2307960" y="2809800"/>
              <a:ext cx="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1600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the functi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= -2x + 4 is 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25146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7339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+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es represent a linear function because its graph is in a straight line. It has a slope of -2 and a y-intercept of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280" y="2438280"/>
            <a:ext cx="4190400" cy="3595320"/>
            <a:chOff x="152280" y="2438280"/>
            <a:chExt cx="4190400" cy="3595320"/>
          </a:xfrm>
        </p:grpSpPr>
        <p:sp>
          <p:nvSpPr>
            <p:cNvPr id="215" name=""/>
            <p:cNvSpPr/>
            <p:nvPr/>
          </p:nvSpPr>
          <p:spPr>
            <a:xfrm>
              <a:off x="2085840" y="2514600"/>
              <a:ext cx="403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52280" y="2438280"/>
              <a:ext cx="4190400" cy="3595320"/>
              <a:chOff x="152280" y="2438280"/>
              <a:chExt cx="4190400" cy="35953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52280" y="2438280"/>
                <a:ext cx="4190400" cy="3595320"/>
                <a:chOff x="152280" y="2438280"/>
                <a:chExt cx="4190400" cy="359532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52280" y="2438280"/>
                  <a:ext cx="4190400" cy="3595320"/>
                  <a:chOff x="152280" y="2438280"/>
                  <a:chExt cx="4190400" cy="359532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52280" y="2438280"/>
                    <a:ext cx="4190400" cy="3595320"/>
                    <a:chOff x="152280" y="2438280"/>
                    <a:chExt cx="4190400" cy="35953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152280" y="2539080"/>
                      <a:ext cx="3744720" cy="3494520"/>
                      <a:chOff x="152280" y="2539080"/>
                      <a:chExt cx="3744720" cy="3494520"/>
                    </a:xfrm>
                  </p:grpSpPr>
                  <p:grpSp>
                    <p:nvGrpSpPr>
                      <p:cNvPr id="221" name=""/>
                      <p:cNvGrpSpPr/>
                      <p:nvPr/>
                    </p:nvGrpSpPr>
                    <p:grpSpPr>
                      <a:xfrm>
                        <a:off x="502200" y="2882520"/>
                        <a:ext cx="3044520" cy="2841480"/>
                        <a:chOff x="502200" y="2882520"/>
                        <a:chExt cx="3044520" cy="2841480"/>
                      </a:xfrm>
                    </p:grpSpPr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50220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80676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11109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14155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171972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202428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232884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263304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2937600" y="2882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3242160" y="2882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0220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80676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11109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>
                          <a:off x="14155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171972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02428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32884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63304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937600" y="3166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3242160" y="3166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50220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80676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11109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14155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171972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202428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232884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263304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2937600" y="345060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42160" y="345060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50220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80676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1109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4155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171972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02428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232884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263304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2937600" y="373464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242160" y="373464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50220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80676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11109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5" name=""/>
                        <p:cNvSpPr/>
                        <p:nvPr/>
                      </p:nvSpPr>
                      <p:spPr>
                        <a:xfrm>
                          <a:off x="14155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171972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202428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>
                          <a:off x="232884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>
                          <a:off x="263304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>
                          <a:off x="2937600" y="40186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>
                          <a:off x="3242160" y="40186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>
                          <a:off x="50220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80676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>
                          <a:off x="11109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>
                          <a:off x="14155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>
                          <a:off x="171972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>
                          <a:off x="202428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>
                          <a:off x="232884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63304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937600" y="430308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3242160" y="430308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50220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80676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11109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14155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171972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02428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32884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63304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2937600" y="45871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3242160" y="45871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50220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80676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11109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14155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171972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02428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32884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63304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937600" y="487152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242160" y="487152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50220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80676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11109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14155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171972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02428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32884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63304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2937600" y="51555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242160" y="51555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0220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80676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11109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14155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171972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202428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232884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"/>
                        <p:cNvSpPr/>
                        <p:nvPr/>
                      </p:nvSpPr>
                      <p:spPr>
                        <a:xfrm>
                          <a:off x="263304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"/>
                        <p:cNvSpPr/>
                        <p:nvPr/>
                      </p:nvSpPr>
                      <p:spPr>
                        <a:xfrm>
                          <a:off x="2937600" y="5439960"/>
                          <a:ext cx="30420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242160" y="5439960"/>
                          <a:ext cx="304560" cy="28404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3399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2" name=""/>
                      <p:cNvGrpSpPr/>
                      <p:nvPr/>
                    </p:nvGrpSpPr>
                    <p:grpSpPr>
                      <a:xfrm>
                        <a:off x="152280" y="2539080"/>
                        <a:ext cx="3744720" cy="3494520"/>
                        <a:chOff x="152280" y="2539080"/>
                        <a:chExt cx="3744720" cy="3494520"/>
                      </a:xfrm>
                    </p:grpSpPr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2024640" y="2539080"/>
                          <a:ext cx="0" cy="34945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152280" y="4303080"/>
                          <a:ext cx="3744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629520" y="390276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091600" y="2438280"/>
                      <a:ext cx="713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1699200" y="3595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50488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22184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699200" y="298620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069000" y="42814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54120" y="428148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621080" y="5272200"/>
                    <a:ext cx="3409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-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1638360" y="470520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 flipH="1" flipV="1">
                <a:off x="1676520" y="2485800"/>
                <a:ext cx="1752480" cy="3352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Writing the Equation for a 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5146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dentify the y-intercept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4804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ocate another point on the graph, such as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(1, 4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3504960" cy="348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9880" y="477216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e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values of the point into the equation, 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i="1" lang="en-US" sz="2400" spc="-1" strike="noStrike">
                <a:solidFill>
                  <a:srgbClr val="333399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solve for </a:t>
            </a:r>
            <a:r>
              <a:rPr b="0" i="1" lang="en-US" sz="2400" spc="-1" strike="noStrike">
                <a:solidFill>
                  <a:srgbClr val="00cc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rule for the linea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7T16:48:55Z</dcterms:modified>
  <cp:revision>110</cp:revision>
  <dc:subject/>
  <dc:title>Slide 1</dc:title>
</cp:coreProperties>
</file>