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BC9A-D471-49B4-8439-EA5C32C0A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F4FD-206B-475B-B39A-EAF4AE82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DF14-7437-4E49-8066-BF4B71F5D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D342-0282-4FFE-9F1B-6C1302253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CA50-EE5B-4B04-A182-2B8AD8FC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B517-A6AD-4616-80EB-0B2BBF2A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A9F2-6512-47FB-B088-ED3287CC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2E7D-E2F9-40A4-8D4E-D34CC037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C3A5-F2C7-4E9D-A91F-695F24D8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FC25-FD51-478B-994B-81743A64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8A9A-3B29-437B-BF3C-DFE2ED6C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A812-AE50-46C3-9576-6D9C70AB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C153-7456-44AC-AFC5-96B4BB1C0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342720" y="16740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71600" y="162720"/>
              <a:ext cx="77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2280" y="65530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29160" y="236160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3699360" y="3021840"/>
            <a:ext cx="34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3679920" y="363132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38080" y="16002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2 =  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133720" y="1447920"/>
            <a:ext cx="685800" cy="764280"/>
            <a:chOff x="2133720" y="1447920"/>
            <a:chExt cx="685800" cy="764280"/>
          </a:xfrm>
        </p:grpSpPr>
        <p:sp>
          <p:nvSpPr>
            <p:cNvPr id="174" name=""/>
            <p:cNvSpPr/>
            <p:nvPr/>
          </p:nvSpPr>
          <p:spPr>
            <a:xfrm>
              <a:off x="2133720" y="1447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57120" y="1752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09480" y="4343400"/>
            <a:ext cx="312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(–3,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30481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Rewrite using subtraction instead of add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283400" y="2438280"/>
            <a:ext cx="2135160" cy="764640"/>
            <a:chOff x="1283400" y="2438280"/>
            <a:chExt cx="2135160" cy="764640"/>
          </a:xfrm>
        </p:grpSpPr>
        <p:grpSp>
          <p:nvGrpSpPr>
            <p:cNvPr id="179" name=""/>
            <p:cNvGrpSpPr/>
            <p:nvPr/>
          </p:nvGrpSpPr>
          <p:grpSpPr>
            <a:xfrm>
              <a:off x="2209680" y="2438280"/>
              <a:ext cx="685800" cy="764640"/>
              <a:chOff x="2209680" y="2438280"/>
              <a:chExt cx="685800" cy="764640"/>
            </a:xfrm>
          </p:grpSpPr>
          <p:sp>
            <p:nvSpPr>
              <p:cNvPr id="180" name=""/>
              <p:cNvSpPr/>
              <p:nvPr/>
            </p:nvSpPr>
            <p:spPr>
              <a:xfrm>
                <a:off x="2209680" y="24382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8000"/>
                    </a:solidFill>
                    <a:uFillTx/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221200" y="27432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8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1283400" y="2514600"/>
              <a:ext cx="21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</a:t>
              </a:r>
              <a:r>
                <a:rPr b="0" lang="en-US" sz="2400" spc="-1" strike="noStrike">
                  <a:solidFill>
                    <a:srgbClr val="006699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 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269720" y="3048120"/>
            <a:ext cx="2467080" cy="764280"/>
            <a:chOff x="1269720" y="3048120"/>
            <a:chExt cx="2467080" cy="764280"/>
          </a:xfrm>
        </p:grpSpPr>
        <p:sp>
          <p:nvSpPr>
            <p:cNvPr id="184" name=""/>
            <p:cNvSpPr/>
            <p:nvPr/>
          </p:nvSpPr>
          <p:spPr>
            <a:xfrm>
              <a:off x="1269720" y="3200400"/>
              <a:ext cx="24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2 =   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(–3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133720" y="3048120"/>
              <a:ext cx="685800" cy="764280"/>
              <a:chOff x="2133720" y="3048120"/>
              <a:chExt cx="685800" cy="764280"/>
            </a:xfrm>
          </p:grpSpPr>
          <p:sp>
            <p:nvSpPr>
              <p:cNvPr id="186" name=""/>
              <p:cNvSpPr/>
              <p:nvPr/>
            </p:nvSpPr>
            <p:spPr>
              <a:xfrm>
                <a:off x="2133720" y="3048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145240" y="33526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8" name=""/>
          <p:cNvGrpSpPr/>
          <p:nvPr/>
        </p:nvGrpSpPr>
        <p:grpSpPr>
          <a:xfrm>
            <a:off x="1447920" y="3657600"/>
            <a:ext cx="1981080" cy="764280"/>
            <a:chOff x="1447920" y="3657600"/>
            <a:chExt cx="1981080" cy="764280"/>
          </a:xfrm>
        </p:grpSpPr>
        <p:sp>
          <p:nvSpPr>
            <p:cNvPr id="189" name=""/>
            <p:cNvSpPr/>
            <p:nvPr/>
          </p:nvSpPr>
          <p:spPr>
            <a:xfrm>
              <a:off x="1447920" y="38098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m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2133720" y="3657600"/>
              <a:ext cx="685800" cy="764280"/>
              <a:chOff x="2133720" y="3657600"/>
              <a:chExt cx="685800" cy="764280"/>
            </a:xfrm>
          </p:grpSpPr>
          <p:sp>
            <p:nvSpPr>
              <p:cNvPr id="191" name=""/>
              <p:cNvSpPr/>
              <p:nvPr/>
            </p:nvSpPr>
            <p:spPr>
              <a:xfrm>
                <a:off x="2133720" y="36576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145240" y="3962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3" name=""/>
          <p:cNvGrpSpPr/>
          <p:nvPr/>
        </p:nvGrpSpPr>
        <p:grpSpPr>
          <a:xfrm>
            <a:off x="152280" y="4952880"/>
            <a:ext cx="8839440" cy="1068840"/>
            <a:chOff x="152280" y="4952880"/>
            <a:chExt cx="8839440" cy="1068840"/>
          </a:xfrm>
        </p:grpSpPr>
        <p:sp>
          <p:nvSpPr>
            <p:cNvPr id="194" name=""/>
            <p:cNvSpPr/>
            <p:nvPr/>
          </p:nvSpPr>
          <p:spPr>
            <a:xfrm>
              <a:off x="152280" y="5013360"/>
              <a:ext cx="8839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line defined by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2 =  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3) has slope   , and passes through the point (–3, 2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4419720" y="4952880"/>
              <a:ext cx="3657600" cy="764640"/>
              <a:chOff x="4419720" y="4952880"/>
              <a:chExt cx="3657600" cy="76464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4419720" y="4952880"/>
                <a:ext cx="685800" cy="764640"/>
                <a:chOff x="4419720" y="4952880"/>
                <a:chExt cx="685800" cy="76464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4419720" y="495288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431240" y="525780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7391520" y="4952880"/>
                <a:ext cx="685800" cy="764640"/>
                <a:chOff x="7391520" y="4952880"/>
                <a:chExt cx="685800" cy="7646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7391520" y="495288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403040" y="525780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2" name=""/>
          <p:cNvSpPr/>
          <p:nvPr/>
        </p:nvSpPr>
        <p:spPr>
          <a:xfrm>
            <a:off x="838080" y="205740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8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0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28600" y="1828800"/>
            <a:ext cx="8763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point-slope form of the equation with the given slope that passes through the indicated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line with slope 4 passing through (5, –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360" y="9129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A: Writing the Point-Slope Form of an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3581280"/>
            <a:ext cx="518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8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x –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512136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quation of the line with slope 4 that passes through (5, –2) in point-slope form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 = 4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09880" y="4038480"/>
            <a:ext cx="5486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stitute 5 for x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–2 for y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    and 4 for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4114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(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–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] =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572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 + 2 = 4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1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28600" y="18288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line with slope –5 passing through (–3,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360" y="9129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B: Writing the Point-Slope Form of an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236232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8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44956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quation of the line with slope –5 that passes through (–3, 7) in point-slope form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7 = –5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09880" y="2743200"/>
            <a:ext cx="5486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stitute –3 for x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7 for y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   and –5 for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28954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-5[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(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–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35053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7 = –5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28600" y="1508040"/>
            <a:ext cx="8763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point-slope form of the equation with the given slope that passes through the indicated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line with slope 2 passing through (2, –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3581280"/>
            <a:ext cx="518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8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x –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52280" y="512136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quation of the line with slope 2 that passes through (2, –2) in point-slope form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 = 2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09880" y="4038480"/>
            <a:ext cx="5486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stitute 2 for x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–2 for y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    and 2 for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2280" y="4114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(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–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] =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4572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 + 2 = 2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28600" y="18288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line with slope –4 passing through (–2,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0880" y="236232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8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44956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quation of the line with slope –4 that passes through (–2, 5) in point-slope form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5 = –4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09880" y="2743200"/>
            <a:ext cx="5486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stitute –2 for x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5 for y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   and –4 for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8954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–4[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– (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–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35053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5 = –4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5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57200" y="1371600"/>
            <a:ext cx="8153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roller coaster starts by ascending 20 feet for every 30 feet it moves forward. The coaster starts at a point 18 feet above the ground. Write the equation of the line that the roller coaster travels along in point-slope form, and use it to determine the height of the coaster after traveling 150 feet forward. Assume that the roller coaster travels in a straight line for the first 150 f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: </a:t>
            </a:r>
            <a:r>
              <a:rPr b="0" i="1" lang="en-US" sz="2400" spc="-1" strike="noStrike">
                <a:solidFill>
                  <a:srgbClr val="ff0000"/>
                </a:solidFill>
                <a:latin typeface="Arial Black"/>
              </a:rPr>
              <a:t>Entertainment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28600" y="5105520"/>
            <a:ext cx="8610480" cy="1381680"/>
            <a:chOff x="228600" y="5105520"/>
            <a:chExt cx="8610480" cy="1381680"/>
          </a:xfrm>
        </p:grpSpPr>
        <p:grpSp>
          <p:nvGrpSpPr>
            <p:cNvPr id="264" name=""/>
            <p:cNvGrpSpPr/>
            <p:nvPr/>
          </p:nvGrpSpPr>
          <p:grpSpPr>
            <a:xfrm>
              <a:off x="228600" y="5105520"/>
              <a:ext cx="8610480" cy="1381680"/>
              <a:chOff x="228600" y="5105520"/>
              <a:chExt cx="8610480" cy="1381680"/>
            </a:xfrm>
          </p:grpSpPr>
          <p:sp>
            <p:nvSpPr>
              <p:cNvPr id="265" name=""/>
              <p:cNvSpPr/>
              <p:nvPr/>
            </p:nvSpPr>
            <p:spPr>
              <a:xfrm>
                <a:off x="228600" y="5105520"/>
                <a:ext cx="8610480" cy="13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As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increases by 30,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increases by 20, so the slope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of the line is      or   . The line passes through the point (0, 18)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2252520" y="5519880"/>
                <a:ext cx="1600200" cy="764280"/>
                <a:chOff x="2252520" y="5519880"/>
                <a:chExt cx="1600200" cy="7642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2252520" y="551988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2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252520" y="5824440"/>
                  <a:ext cx="1066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3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"/>
            <p:cNvGrpSpPr/>
            <p:nvPr/>
          </p:nvGrpSpPr>
          <p:grpSpPr>
            <a:xfrm>
              <a:off x="3196080" y="5500800"/>
              <a:ext cx="918720" cy="808920"/>
              <a:chOff x="3196080" y="5500800"/>
              <a:chExt cx="918720" cy="808920"/>
            </a:xfrm>
          </p:grpSpPr>
          <p:sp>
            <p:nvSpPr>
              <p:cNvPr id="270" name=""/>
              <p:cNvSpPr/>
              <p:nvPr/>
            </p:nvSpPr>
            <p:spPr>
              <a:xfrm>
                <a:off x="3196080" y="5500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200400" y="58500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7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1600200"/>
            <a:ext cx="518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8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005360" y="1828800"/>
            <a:ext cx="4800600" cy="1188360"/>
            <a:chOff x="4005360" y="1828800"/>
            <a:chExt cx="4800600" cy="1188360"/>
          </a:xfrm>
        </p:grpSpPr>
        <p:sp>
          <p:nvSpPr>
            <p:cNvPr id="281" name=""/>
            <p:cNvSpPr/>
            <p:nvPr/>
          </p:nvSpPr>
          <p:spPr>
            <a:xfrm>
              <a:off x="4005360" y="1828800"/>
              <a:ext cx="4800600" cy="10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Substitute 0 for x</a:t>
              </a:r>
              <a:r>
                <a:rPr b="0" i="1" lang="en-US" sz="2400" spc="-1" strike="noStrike" baseline="-25000">
                  <a:solidFill>
                    <a:srgbClr val="3365ff"/>
                  </a:solidFill>
                  <a:latin typeface="Verdana"/>
                </a:rPr>
                <a:t>1</a:t>
              </a: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, 18 for y</a:t>
              </a:r>
              <a:r>
                <a:rPr b="0" i="1" lang="en-US" sz="2400" spc="-1" strike="noStrike" baseline="-25000">
                  <a:solidFill>
                    <a:srgbClr val="3365ff"/>
                  </a:solidFill>
                  <a:latin typeface="Verdana"/>
                </a:rPr>
                <a:t>1</a:t>
              </a: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and    for m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4724280" y="2252880"/>
              <a:ext cx="838080" cy="764280"/>
              <a:chOff x="4724280" y="2252880"/>
              <a:chExt cx="838080" cy="764280"/>
            </a:xfrm>
          </p:grpSpPr>
          <p:sp>
            <p:nvSpPr>
              <p:cNvPr id="283" name=""/>
              <p:cNvSpPr/>
              <p:nvPr/>
            </p:nvSpPr>
            <p:spPr>
              <a:xfrm>
                <a:off x="4724280" y="225288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 u="sng">
                    <a:solidFill>
                      <a:srgbClr val="3365ff"/>
                    </a:solidFill>
                    <a:uFillTx/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724280" y="25574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3365ff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5" name=""/>
          <p:cNvGrpSpPr/>
          <p:nvPr/>
        </p:nvGrpSpPr>
        <p:grpSpPr>
          <a:xfrm>
            <a:off x="152280" y="2819520"/>
            <a:ext cx="8991720" cy="1191240"/>
            <a:chOff x="152280" y="2819520"/>
            <a:chExt cx="8991720" cy="1191240"/>
          </a:xfrm>
        </p:grpSpPr>
        <p:sp>
          <p:nvSpPr>
            <p:cNvPr id="286" name=""/>
            <p:cNvSpPr/>
            <p:nvPr/>
          </p:nvSpPr>
          <p:spPr>
            <a:xfrm>
              <a:off x="152280" y="2819520"/>
              <a:ext cx="8991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equation of the line the roller coaster travels along, in point-slope form, i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18 =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 Substitute 150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to find the value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5029200" y="3095640"/>
              <a:ext cx="914400" cy="764640"/>
              <a:chOff x="5029200" y="3095640"/>
              <a:chExt cx="914400" cy="764640"/>
            </a:xfrm>
          </p:grpSpPr>
          <p:sp>
            <p:nvSpPr>
              <p:cNvPr id="288" name=""/>
              <p:cNvSpPr/>
              <p:nvPr/>
            </p:nvSpPr>
            <p:spPr>
              <a:xfrm>
                <a:off x="5029200" y="30956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029200" y="340056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0" name=""/>
          <p:cNvGrpSpPr/>
          <p:nvPr/>
        </p:nvGrpSpPr>
        <p:grpSpPr>
          <a:xfrm>
            <a:off x="457200" y="3962520"/>
            <a:ext cx="3886200" cy="764280"/>
            <a:chOff x="457200" y="3962520"/>
            <a:chExt cx="3886200" cy="764280"/>
          </a:xfrm>
        </p:grpSpPr>
        <p:sp>
          <p:nvSpPr>
            <p:cNvPr id="291" name=""/>
            <p:cNvSpPr/>
            <p:nvPr/>
          </p:nvSpPr>
          <p:spPr>
            <a:xfrm>
              <a:off x="457200" y="411480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18 =   (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150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1905120" y="3962520"/>
              <a:ext cx="1066680" cy="764280"/>
              <a:chOff x="1905120" y="3962520"/>
              <a:chExt cx="1066680" cy="764280"/>
            </a:xfrm>
          </p:grpSpPr>
          <p:sp>
            <p:nvSpPr>
              <p:cNvPr id="293" name=""/>
              <p:cNvSpPr/>
              <p:nvPr/>
            </p:nvSpPr>
            <p:spPr>
              <a:xfrm>
                <a:off x="1905120" y="39625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905120" y="42670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5" name=""/>
          <p:cNvSpPr/>
          <p:nvPr/>
        </p:nvSpPr>
        <p:spPr>
          <a:xfrm>
            <a:off x="457200" y="47242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18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" y="2057400"/>
            <a:ext cx="4647960" cy="764640"/>
            <a:chOff x="457200" y="2057400"/>
            <a:chExt cx="4647960" cy="764640"/>
          </a:xfrm>
        </p:grpSpPr>
        <p:sp>
          <p:nvSpPr>
            <p:cNvPr id="297" name=""/>
            <p:cNvSpPr/>
            <p:nvPr/>
          </p:nvSpPr>
          <p:spPr>
            <a:xfrm>
              <a:off x="457200" y="2210040"/>
              <a:ext cx="464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</a:t>
              </a:r>
              <a:r>
                <a:rPr b="0" lang="en-US" sz="2400" spc="-1" strike="noStrike">
                  <a:solidFill>
                    <a:srgbClr val="006699"/>
                  </a:solidFill>
                  <a:latin typeface="Verdana"/>
                </a:rPr>
                <a:t>18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 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1904760" y="2057400"/>
              <a:ext cx="1066680" cy="764640"/>
              <a:chOff x="1904760" y="2057400"/>
              <a:chExt cx="1066680" cy="764640"/>
            </a:xfrm>
          </p:grpSpPr>
          <p:sp>
            <p:nvSpPr>
              <p:cNvPr id="299" name=""/>
              <p:cNvSpPr/>
              <p:nvPr/>
            </p:nvSpPr>
            <p:spPr>
              <a:xfrm>
                <a:off x="1904760" y="205740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8000"/>
                    </a:solidFill>
                    <a:uFillTx/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904760" y="23623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8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1" name=""/>
          <p:cNvSpPr/>
          <p:nvPr/>
        </p:nvSpPr>
        <p:spPr>
          <a:xfrm>
            <a:off x="1219320" y="5181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" y="56386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118, so the roller coaster will be at a height of 118 feet after traveling 150 feet for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0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" y="1371600"/>
            <a:ext cx="8153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roller coaster starts by ascending 15 feet for every 45 feet it moves forward. The coaster starts at a point 15 feet above the ground. Write the equation of the line that the roller coaster travels along in point-slope form, and use it to determine the height of the coaster after traveling 300 feet forward. Assume that the roller coaster travels in a straight line for the first 300 f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8600" y="5105520"/>
            <a:ext cx="8610480" cy="1381680"/>
            <a:chOff x="228600" y="5105520"/>
            <a:chExt cx="8610480" cy="1381680"/>
          </a:xfrm>
        </p:grpSpPr>
        <p:grpSp>
          <p:nvGrpSpPr>
            <p:cNvPr id="312" name=""/>
            <p:cNvGrpSpPr/>
            <p:nvPr/>
          </p:nvGrpSpPr>
          <p:grpSpPr>
            <a:xfrm>
              <a:off x="228600" y="5105520"/>
              <a:ext cx="8610480" cy="1381680"/>
              <a:chOff x="228600" y="5105520"/>
              <a:chExt cx="8610480" cy="1381680"/>
            </a:xfrm>
          </p:grpSpPr>
          <p:sp>
            <p:nvSpPr>
              <p:cNvPr id="313" name=""/>
              <p:cNvSpPr/>
              <p:nvPr/>
            </p:nvSpPr>
            <p:spPr>
              <a:xfrm>
                <a:off x="228600" y="5105520"/>
                <a:ext cx="8610480" cy="13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As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increases by 45,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increases by 15, so the slope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of the line is      or   . The line passes through the point (0, 15)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4" name=""/>
              <p:cNvGrpSpPr/>
              <p:nvPr/>
            </p:nvGrpSpPr>
            <p:grpSpPr>
              <a:xfrm>
                <a:off x="2252520" y="5519880"/>
                <a:ext cx="1600200" cy="764280"/>
                <a:chOff x="2252520" y="5519880"/>
                <a:chExt cx="1600200" cy="76428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2252520" y="551988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1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252520" y="5824440"/>
                  <a:ext cx="1066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4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7" name=""/>
            <p:cNvGrpSpPr/>
            <p:nvPr/>
          </p:nvGrpSpPr>
          <p:grpSpPr>
            <a:xfrm>
              <a:off x="3196080" y="5500800"/>
              <a:ext cx="918720" cy="808920"/>
              <a:chOff x="3196080" y="5500800"/>
              <a:chExt cx="918720" cy="808920"/>
            </a:xfrm>
          </p:grpSpPr>
          <p:sp>
            <p:nvSpPr>
              <p:cNvPr id="318" name=""/>
              <p:cNvSpPr/>
              <p:nvPr/>
            </p:nvSpPr>
            <p:spPr>
              <a:xfrm>
                <a:off x="3196080" y="5500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200400" y="58500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0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2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1600200"/>
            <a:ext cx="518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8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4005360" y="1828800"/>
            <a:ext cx="4800600" cy="1188360"/>
            <a:chOff x="4005360" y="1828800"/>
            <a:chExt cx="4800600" cy="1188360"/>
          </a:xfrm>
        </p:grpSpPr>
        <p:sp>
          <p:nvSpPr>
            <p:cNvPr id="329" name=""/>
            <p:cNvSpPr/>
            <p:nvPr/>
          </p:nvSpPr>
          <p:spPr>
            <a:xfrm>
              <a:off x="4005360" y="1828800"/>
              <a:ext cx="4800600" cy="10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Substitute 0 for x</a:t>
              </a:r>
              <a:r>
                <a:rPr b="0" i="1" lang="en-US" sz="2400" spc="-1" strike="noStrike" baseline="-25000">
                  <a:solidFill>
                    <a:srgbClr val="3365ff"/>
                  </a:solidFill>
                  <a:latin typeface="Verdana"/>
                </a:rPr>
                <a:t>1</a:t>
              </a: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, 15 for y</a:t>
              </a:r>
              <a:r>
                <a:rPr b="0" i="1" lang="en-US" sz="2400" spc="-1" strike="noStrike" baseline="-25000">
                  <a:solidFill>
                    <a:srgbClr val="3365ff"/>
                  </a:solidFill>
                  <a:latin typeface="Verdana"/>
                </a:rPr>
                <a:t>1</a:t>
              </a: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and    for m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4724280" y="2252880"/>
              <a:ext cx="838080" cy="764280"/>
              <a:chOff x="4724280" y="2252880"/>
              <a:chExt cx="838080" cy="764280"/>
            </a:xfrm>
          </p:grpSpPr>
          <p:sp>
            <p:nvSpPr>
              <p:cNvPr id="331" name=""/>
              <p:cNvSpPr/>
              <p:nvPr/>
            </p:nvSpPr>
            <p:spPr>
              <a:xfrm>
                <a:off x="4724280" y="225288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 u="sng">
                    <a:solidFill>
                      <a:srgbClr val="3365ff"/>
                    </a:solidFill>
                    <a:uFillTx/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724280" y="25574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3365ff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3" name=""/>
          <p:cNvGrpSpPr/>
          <p:nvPr/>
        </p:nvGrpSpPr>
        <p:grpSpPr>
          <a:xfrm>
            <a:off x="152280" y="2819520"/>
            <a:ext cx="8991720" cy="1191240"/>
            <a:chOff x="152280" y="2819520"/>
            <a:chExt cx="8991720" cy="1191240"/>
          </a:xfrm>
        </p:grpSpPr>
        <p:sp>
          <p:nvSpPr>
            <p:cNvPr id="334" name=""/>
            <p:cNvSpPr/>
            <p:nvPr/>
          </p:nvSpPr>
          <p:spPr>
            <a:xfrm>
              <a:off x="152280" y="2819520"/>
              <a:ext cx="8991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equation of the line the roller coaster travels along, in point-slope form, i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15 =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 Substitute 300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to find the value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5029200" y="3095640"/>
              <a:ext cx="914400" cy="764640"/>
              <a:chOff x="5029200" y="3095640"/>
              <a:chExt cx="914400" cy="764640"/>
            </a:xfrm>
          </p:grpSpPr>
          <p:sp>
            <p:nvSpPr>
              <p:cNvPr id="336" name=""/>
              <p:cNvSpPr/>
              <p:nvPr/>
            </p:nvSpPr>
            <p:spPr>
              <a:xfrm>
                <a:off x="5029200" y="30956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029200" y="340056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"/>
          <p:cNvGrpSpPr/>
          <p:nvPr/>
        </p:nvGrpSpPr>
        <p:grpSpPr>
          <a:xfrm>
            <a:off x="457200" y="3962520"/>
            <a:ext cx="3886200" cy="764280"/>
            <a:chOff x="457200" y="3962520"/>
            <a:chExt cx="3886200" cy="764280"/>
          </a:xfrm>
        </p:grpSpPr>
        <p:sp>
          <p:nvSpPr>
            <p:cNvPr id="339" name=""/>
            <p:cNvSpPr/>
            <p:nvPr/>
          </p:nvSpPr>
          <p:spPr>
            <a:xfrm>
              <a:off x="457200" y="411480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15 =   (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00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1905120" y="3962520"/>
              <a:ext cx="1066680" cy="764280"/>
              <a:chOff x="1905120" y="3962520"/>
              <a:chExt cx="1066680" cy="764280"/>
            </a:xfrm>
          </p:grpSpPr>
          <p:sp>
            <p:nvSpPr>
              <p:cNvPr id="341" name=""/>
              <p:cNvSpPr/>
              <p:nvPr/>
            </p:nvSpPr>
            <p:spPr>
              <a:xfrm>
                <a:off x="1905120" y="39625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905120" y="42670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"/>
          <p:cNvSpPr/>
          <p:nvPr/>
        </p:nvSpPr>
        <p:spPr>
          <a:xfrm>
            <a:off x="457200" y="47242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15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457200" y="2057400"/>
            <a:ext cx="4647960" cy="764640"/>
            <a:chOff x="457200" y="2057400"/>
            <a:chExt cx="4647960" cy="764640"/>
          </a:xfrm>
        </p:grpSpPr>
        <p:sp>
          <p:nvSpPr>
            <p:cNvPr id="345" name=""/>
            <p:cNvSpPr/>
            <p:nvPr/>
          </p:nvSpPr>
          <p:spPr>
            <a:xfrm>
              <a:off x="457200" y="2210040"/>
              <a:ext cx="464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</a:t>
              </a:r>
              <a:r>
                <a:rPr b="0" lang="en-US" sz="2400" spc="-1" strike="noStrike">
                  <a:solidFill>
                    <a:srgbClr val="006699"/>
                  </a:solidFill>
                  <a:latin typeface="Verdana"/>
                </a:rPr>
                <a:t>15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 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1904760" y="2057400"/>
              <a:ext cx="1066680" cy="764640"/>
              <a:chOff x="1904760" y="2057400"/>
              <a:chExt cx="1066680" cy="764640"/>
            </a:xfrm>
          </p:grpSpPr>
          <p:sp>
            <p:nvSpPr>
              <p:cNvPr id="347" name=""/>
              <p:cNvSpPr/>
              <p:nvPr/>
            </p:nvSpPr>
            <p:spPr>
              <a:xfrm>
                <a:off x="1904760" y="205740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8000"/>
                    </a:solidFill>
                    <a:uFillTx/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904760" y="23623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8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9" name=""/>
          <p:cNvSpPr/>
          <p:nvPr/>
        </p:nvSpPr>
        <p:spPr>
          <a:xfrm>
            <a:off x="1219320" y="5181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56386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115, so the roller coaster will be at a height of 115 feet after traveling 300 feet for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5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533520" y="1272960"/>
            <a:ext cx="792468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point-slope form of each equation to identify a point the line passes through and the slope of the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 = 2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5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4 = – 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point-slope form of the equation with the given slope that passes through the indicated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line with slope 4 passing through (3,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line with slope –2 passing through (–2,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809880" y="269604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(–5, –6)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43000" y="975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sert Lesson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90720" y="556164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 – 5 = 4(</a:t>
            </a: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 –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90720" y="61711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 – 4 = –2(</a:t>
            </a: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 +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2438280" y="3184560"/>
            <a:ext cx="914400" cy="703440"/>
            <a:chOff x="2438280" y="3184560"/>
            <a:chExt cx="914400" cy="703440"/>
          </a:xfrm>
        </p:grpSpPr>
        <p:sp>
          <p:nvSpPr>
            <p:cNvPr id="364" name=""/>
            <p:cNvSpPr/>
            <p:nvPr/>
          </p:nvSpPr>
          <p:spPr>
            <a:xfrm>
              <a:off x="2438280" y="318456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438280" y="34891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886200" y="3137400"/>
            <a:ext cx="4876920" cy="673200"/>
            <a:chOff x="3886200" y="3137400"/>
            <a:chExt cx="4876920" cy="673200"/>
          </a:xfrm>
        </p:grpSpPr>
        <p:sp>
          <p:nvSpPr>
            <p:cNvPr id="367" name=""/>
            <p:cNvSpPr/>
            <p:nvPr/>
          </p:nvSpPr>
          <p:spPr>
            <a:xfrm>
              <a:off x="3886200" y="3229560"/>
              <a:ext cx="487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(6, 4), 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5291280" y="3137400"/>
              <a:ext cx="990360" cy="673200"/>
              <a:chOff x="5291280" y="3137400"/>
              <a:chExt cx="990360" cy="673200"/>
            </a:xfrm>
          </p:grpSpPr>
          <p:sp>
            <p:nvSpPr>
              <p:cNvPr id="369" name=""/>
              <p:cNvSpPr/>
              <p:nvPr/>
            </p:nvSpPr>
            <p:spPr>
              <a:xfrm>
                <a:off x="5291280" y="313740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 u="sng">
                    <a:solidFill>
                      <a:srgbClr val="ff3300"/>
                    </a:solidFill>
                    <a:uFillTx/>
                    <a:latin typeface="Verdana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291280" y="3411720"/>
                <a:ext cx="9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Verdan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1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7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371600"/>
            <a:ext cx="8153280" cy="45720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rite the equation of the line that passes through each pair of points in slope-intercept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0, –3) and (2, –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5, –3) and (5,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–6, 0) and (0, –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4, 6) and (–2,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98600" y="3504600"/>
            <a:ext cx="11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= –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85640" y="4037760"/>
            <a:ext cx="94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=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5074920" y="5271480"/>
            <a:ext cx="14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= </a:t>
            </a: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24600" y="4494960"/>
            <a:ext cx="1931760" cy="915840"/>
            <a:chOff x="5124600" y="4494960"/>
            <a:chExt cx="1931760" cy="915840"/>
          </a:xfrm>
        </p:grpSpPr>
        <p:sp>
          <p:nvSpPr>
            <p:cNvPr id="60" name=""/>
            <p:cNvSpPr/>
            <p:nvPr/>
          </p:nvSpPr>
          <p:spPr>
            <a:xfrm>
              <a:off x="5124600" y="4647600"/>
              <a:ext cx="193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3300"/>
                  </a:solidFill>
                  <a:latin typeface="Verdana"/>
                </a:rPr>
                <a:t>y</a:t>
              </a:r>
              <a:r>
                <a:rPr b="0" lang="en-US" sz="2800" spc="-1" strike="noStrike">
                  <a:solidFill>
                    <a:srgbClr val="ff3300"/>
                  </a:solidFill>
                  <a:latin typeface="Verdana"/>
                </a:rPr>
                <a:t> = –   </a:t>
              </a:r>
              <a:r>
                <a:rPr b="0" i="1" lang="en-US" sz="2800" spc="-1" strike="noStrike">
                  <a:solidFill>
                    <a:srgbClr val="ff3300"/>
                  </a:solidFill>
                  <a:latin typeface="Verdana"/>
                </a:rPr>
                <a:t>x</a:t>
              </a:r>
              <a:r>
                <a:rPr b="0" lang="en-US" sz="2800" spc="-1" strike="noStrike">
                  <a:solidFill>
                    <a:srgbClr val="ff3300"/>
                  </a:solidFill>
                  <a:latin typeface="Verdana"/>
                </a:rPr>
                <a:t> –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977080" y="4494960"/>
              <a:ext cx="391320" cy="915840"/>
              <a:chOff x="5977080" y="4494960"/>
              <a:chExt cx="391320" cy="915840"/>
            </a:xfrm>
          </p:grpSpPr>
          <p:sp>
            <p:nvSpPr>
              <p:cNvPr id="62" name=""/>
              <p:cNvSpPr/>
              <p:nvPr/>
            </p:nvSpPr>
            <p:spPr>
              <a:xfrm>
                <a:off x="5985000" y="44949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u="sng">
                    <a:solidFill>
                      <a:srgbClr val="ff3300"/>
                    </a:solidFill>
                    <a:uFillTx/>
                    <a:latin typeface="Verdana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977080" y="48902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Verdana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1600200"/>
            <a:ext cx="7620120" cy="35812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out using equations for horizontal or vertical lines, write the equations of four lines that form a squ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380988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Possible answer: 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y 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= 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+ 2, 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= 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– 2, 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= –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+ 2, 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= –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–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2438280"/>
            <a:ext cx="8305920" cy="10670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find the equation of a line given one point and the slop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1828800"/>
            <a:ext cx="7238880" cy="9144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int-slope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76080" y="91080"/>
            <a:ext cx="46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sert Lesson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8600" y="32767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oint on the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3747960"/>
            <a:ext cx="1828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1" lang="en-US" sz="2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19720" y="32767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oint-slope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67080" y="3672000"/>
            <a:ext cx="4114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1" lang="en-US" sz="2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en-US" sz="2800" spc="-1" strike="noStrike">
                <a:solidFill>
                  <a:srgbClr val="008000"/>
                </a:solidFill>
                <a:latin typeface="Verdan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172200" y="4114440"/>
            <a:ext cx="0" cy="609480"/>
          </a:xfrm>
          <a:prstGeom prst="line">
            <a:avLst/>
          </a:prstGeom>
          <a:ln w="2556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4724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sl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1523880"/>
            <a:ext cx="75438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oint-slope for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an equation of a line with slop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assing through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i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1614600"/>
            <a:ext cx="82375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point-slope form of each equation to identify a point the line passes through and the slope of the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7 = 3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360" y="92880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A: Using Point-Slope Form to Identify Information About a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335268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8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61920" y="3962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45720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5181480"/>
            <a:ext cx="312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(4,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56386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ine defined by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7 = 3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4) has slope 3, and passes through the point (4, 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3733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equation is in point-slope for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44197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Read the value of m from the equ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51814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Read the point from the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1 =  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360" y="92880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B: Using Point-Slope Form to Identify Information About a Li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28600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8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4648320"/>
            <a:ext cx="312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(–6,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19720" y="33526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Rewrite using subtraction instead of add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195640" y="1676520"/>
            <a:ext cx="685800" cy="764280"/>
            <a:chOff x="2195640" y="1676520"/>
            <a:chExt cx="685800" cy="764280"/>
          </a:xfrm>
        </p:grpSpPr>
        <p:sp>
          <p:nvSpPr>
            <p:cNvPr id="123" name=""/>
            <p:cNvSpPr/>
            <p:nvPr/>
          </p:nvSpPr>
          <p:spPr>
            <a:xfrm>
              <a:off x="2195640" y="1676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19040" y="1981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283760" y="2743200"/>
            <a:ext cx="2134440" cy="764640"/>
            <a:chOff x="1283760" y="2743200"/>
            <a:chExt cx="2134440" cy="764640"/>
          </a:xfrm>
        </p:grpSpPr>
        <p:grpSp>
          <p:nvGrpSpPr>
            <p:cNvPr id="126" name=""/>
            <p:cNvGrpSpPr/>
            <p:nvPr/>
          </p:nvGrpSpPr>
          <p:grpSpPr>
            <a:xfrm>
              <a:off x="2209680" y="2743200"/>
              <a:ext cx="685800" cy="764640"/>
              <a:chOff x="2209680" y="2743200"/>
              <a:chExt cx="685800" cy="764640"/>
            </a:xfrm>
          </p:grpSpPr>
          <p:sp>
            <p:nvSpPr>
              <p:cNvPr id="127" name=""/>
              <p:cNvSpPr/>
              <p:nvPr/>
            </p:nvSpPr>
            <p:spPr>
              <a:xfrm>
                <a:off x="2209680" y="27432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8000"/>
                    </a:solidFill>
                    <a:uFillTx/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221200" y="30481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8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1283760" y="2819520"/>
              <a:ext cx="213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1 =  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269720" y="3352680"/>
            <a:ext cx="2467080" cy="764640"/>
            <a:chOff x="1269720" y="3352680"/>
            <a:chExt cx="2467080" cy="764640"/>
          </a:xfrm>
        </p:grpSpPr>
        <p:sp>
          <p:nvSpPr>
            <p:cNvPr id="131" name=""/>
            <p:cNvSpPr/>
            <p:nvPr/>
          </p:nvSpPr>
          <p:spPr>
            <a:xfrm>
              <a:off x="1269720" y="3505320"/>
              <a:ext cx="24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1 =   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(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6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2133720" y="3352680"/>
              <a:ext cx="685800" cy="764640"/>
              <a:chOff x="2133720" y="3352680"/>
              <a:chExt cx="685800" cy="764640"/>
            </a:xfrm>
          </p:grpSpPr>
          <p:sp>
            <p:nvSpPr>
              <p:cNvPr id="133" name=""/>
              <p:cNvSpPr/>
              <p:nvPr/>
            </p:nvSpPr>
            <p:spPr>
              <a:xfrm>
                <a:off x="2133720" y="33526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145240" y="36576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" name=""/>
          <p:cNvGrpSpPr/>
          <p:nvPr/>
        </p:nvGrpSpPr>
        <p:grpSpPr>
          <a:xfrm>
            <a:off x="1447920" y="3962520"/>
            <a:ext cx="1981080" cy="764280"/>
            <a:chOff x="1447920" y="3962520"/>
            <a:chExt cx="1981080" cy="764280"/>
          </a:xfrm>
        </p:grpSpPr>
        <p:sp>
          <p:nvSpPr>
            <p:cNvPr id="136" name=""/>
            <p:cNvSpPr/>
            <p:nvPr/>
          </p:nvSpPr>
          <p:spPr>
            <a:xfrm>
              <a:off x="1447920" y="41148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m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2133720" y="3962520"/>
              <a:ext cx="685800" cy="764280"/>
              <a:chOff x="2133720" y="3962520"/>
              <a:chExt cx="685800" cy="764280"/>
            </a:xfrm>
          </p:grpSpPr>
          <p:sp>
            <p:nvSpPr>
              <p:cNvPr id="138" name=""/>
              <p:cNvSpPr/>
              <p:nvPr/>
            </p:nvSpPr>
            <p:spPr>
              <a:xfrm>
                <a:off x="2133720" y="39625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145240" y="4267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0" name=""/>
          <p:cNvGrpSpPr/>
          <p:nvPr/>
        </p:nvGrpSpPr>
        <p:grpSpPr>
          <a:xfrm>
            <a:off x="152280" y="5257800"/>
            <a:ext cx="8839440" cy="1068840"/>
            <a:chOff x="152280" y="5257800"/>
            <a:chExt cx="8839440" cy="1068840"/>
          </a:xfrm>
        </p:grpSpPr>
        <p:sp>
          <p:nvSpPr>
            <p:cNvPr id="141" name=""/>
            <p:cNvSpPr/>
            <p:nvPr/>
          </p:nvSpPr>
          <p:spPr>
            <a:xfrm>
              <a:off x="152280" y="5318280"/>
              <a:ext cx="8839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line defined by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1 =  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6) has slope   , and passes through the point (–6, 1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4419720" y="5257800"/>
              <a:ext cx="3657600" cy="764640"/>
              <a:chOff x="4419720" y="5257800"/>
              <a:chExt cx="3657600" cy="76464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4419720" y="5257800"/>
                <a:ext cx="685800" cy="764640"/>
                <a:chOff x="4419720" y="5257800"/>
                <a:chExt cx="685800" cy="76464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4419720" y="525780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431240" y="556272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7391520" y="5257800"/>
                <a:ext cx="685800" cy="764640"/>
                <a:chOff x="7391520" y="5257800"/>
                <a:chExt cx="685800" cy="76464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7391520" y="525780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403040" y="556272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57200" y="1432080"/>
            <a:ext cx="82375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point-slope form of each equation to identify a point the line passes through and the slope of the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5 = 2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71560" y="3138480"/>
            <a:ext cx="518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8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61920" y="3705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9544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4967280"/>
            <a:ext cx="312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(2,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556272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ine defined by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5 = 2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2) has slope 2, and passes through the point (2, 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35812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equation is in point-slope for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57600" y="426708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Read the value of m from the equ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0" y="50292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Read the point from the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stevenh</cp:lastModifiedBy>
  <dcterms:modified xsi:type="dcterms:W3CDTF">2006-04-27T16:25:17Z</dcterms:modified>
  <cp:revision>127</cp:revision>
  <dc:subject/>
  <dc:title>Slide 1</dc:title>
</cp:coreProperties>
</file>