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810-A830-4072-A188-0572C6A2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5155-B21D-464C-BD93-6C9F5A98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E68E-C042-45F8-9B09-3ACE33AE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CA8-C551-432E-89B4-0EE83A0E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B49-4A0E-499D-97CB-EB74478A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C67-637F-4950-BECB-CB6402C9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98DC-B624-4EA8-9E65-5AA37627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292-8D19-4992-9DA9-E10AC98A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D11-F278-4239-8615-3DD6CA34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60FF-7CA9-4A8F-B706-B120D259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D28E-A158-452B-80F1-A07DDDAE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869-9CA8-4677-8527-2635A6AD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8090-14BA-429E-BF53-07D816D0F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42720" y="16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2 =  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33720" y="1447920"/>
            <a:ext cx="685800" cy="764280"/>
            <a:chOff x="2133720" y="1447920"/>
            <a:chExt cx="685800" cy="764280"/>
          </a:xfrm>
        </p:grpSpPr>
        <p:sp>
          <p:nvSpPr>
            <p:cNvPr id="174" name=""/>
            <p:cNvSpPr/>
            <p:nvPr/>
          </p:nvSpPr>
          <p:spPr>
            <a:xfrm>
              <a:off x="2133720" y="1447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57120" y="1752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09480" y="4343400"/>
            <a:ext cx="312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(–3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30481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write using subtraction instead of ad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83400" y="2438280"/>
            <a:ext cx="2135160" cy="764640"/>
            <a:chOff x="1283400" y="2438280"/>
            <a:chExt cx="2135160" cy="764640"/>
          </a:xfrm>
        </p:grpSpPr>
        <p:grpSp>
          <p:nvGrpSpPr>
            <p:cNvPr id="179" name=""/>
            <p:cNvGrpSpPr/>
            <p:nvPr/>
          </p:nvGrpSpPr>
          <p:grpSpPr>
            <a:xfrm>
              <a:off x="2209680" y="2438280"/>
              <a:ext cx="685800" cy="764640"/>
              <a:chOff x="2209680" y="2438280"/>
              <a:chExt cx="685800" cy="764640"/>
            </a:xfrm>
          </p:grpSpPr>
          <p:sp>
            <p:nvSpPr>
              <p:cNvPr id="180" name=""/>
              <p:cNvSpPr/>
              <p:nvPr/>
            </p:nvSpPr>
            <p:spPr>
              <a:xfrm>
                <a:off x="2209680" y="24382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8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221200" y="2743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1283400" y="2514600"/>
              <a:ext cx="21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269720" y="3048120"/>
            <a:ext cx="2467080" cy="764280"/>
            <a:chOff x="1269720" y="3048120"/>
            <a:chExt cx="2467080" cy="764280"/>
          </a:xfrm>
        </p:grpSpPr>
        <p:sp>
          <p:nvSpPr>
            <p:cNvPr id="184" name=""/>
            <p:cNvSpPr/>
            <p:nvPr/>
          </p:nvSpPr>
          <p:spPr>
            <a:xfrm>
              <a:off x="1269720" y="3200400"/>
              <a:ext cx="24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2 =   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(–3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133720" y="3048120"/>
              <a:ext cx="685800" cy="764280"/>
              <a:chOff x="2133720" y="3048120"/>
              <a:chExt cx="685800" cy="764280"/>
            </a:xfrm>
          </p:grpSpPr>
          <p:sp>
            <p:nvSpPr>
              <p:cNvPr id="186" name=""/>
              <p:cNvSpPr/>
              <p:nvPr/>
            </p:nvSpPr>
            <p:spPr>
              <a:xfrm>
                <a:off x="213372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145240" y="33526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1447920" y="3657600"/>
            <a:ext cx="1981080" cy="764280"/>
            <a:chOff x="1447920" y="3657600"/>
            <a:chExt cx="1981080" cy="764280"/>
          </a:xfrm>
        </p:grpSpPr>
        <p:sp>
          <p:nvSpPr>
            <p:cNvPr id="189" name=""/>
            <p:cNvSpPr/>
            <p:nvPr/>
          </p:nvSpPr>
          <p:spPr>
            <a:xfrm>
              <a:off x="1447920" y="3809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2133720" y="3657600"/>
              <a:ext cx="685800" cy="764280"/>
              <a:chOff x="2133720" y="3657600"/>
              <a:chExt cx="685800" cy="764280"/>
            </a:xfrm>
          </p:grpSpPr>
          <p:sp>
            <p:nvSpPr>
              <p:cNvPr id="191" name=""/>
              <p:cNvSpPr/>
              <p:nvPr/>
            </p:nvSpPr>
            <p:spPr>
              <a:xfrm>
                <a:off x="2133720" y="3657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145240" y="396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152280" y="4952880"/>
            <a:ext cx="8839440" cy="1068840"/>
            <a:chOff x="152280" y="4952880"/>
            <a:chExt cx="8839440" cy="1068840"/>
          </a:xfrm>
        </p:grpSpPr>
        <p:sp>
          <p:nvSpPr>
            <p:cNvPr id="194" name=""/>
            <p:cNvSpPr/>
            <p:nvPr/>
          </p:nvSpPr>
          <p:spPr>
            <a:xfrm>
              <a:off x="152280" y="5013360"/>
              <a:ext cx="883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line defined b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2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3) has slope   , and passes through the point (–3, 2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419720" y="4952880"/>
              <a:ext cx="3657600" cy="764640"/>
              <a:chOff x="4419720" y="4952880"/>
              <a:chExt cx="3657600" cy="76464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4419720" y="4952880"/>
                <a:ext cx="685800" cy="764640"/>
                <a:chOff x="4419720" y="4952880"/>
                <a:chExt cx="685800" cy="7646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419720" y="49528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431240" y="52578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7391520" y="4952880"/>
                <a:ext cx="685800" cy="764640"/>
                <a:chOff x="7391520" y="4952880"/>
                <a:chExt cx="685800" cy="7646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391520" y="49528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03040" y="52578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838080" y="205740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8600" y="182880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point-slope form of the equation with the given slope that passes through the indicated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line with slope 4 passing through (5, –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Writing the Point-Slope Form of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35812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x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512136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ation of the line with slope 4 that passes through (5, –2) in point-slope form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 = 4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4038480"/>
            <a:ext cx="548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5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–2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   and 4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4114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(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]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572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+ 2 = 4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18288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line with slope –5 passing through (–3,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Writing the Point-Slope Form of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23623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4495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ation of the line with slope –5 that passes through (–3, 7) in point-slope form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7 = –5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2743200"/>
            <a:ext cx="548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–3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7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  and –5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28954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-5[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3505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7 = –5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150804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point-slope form of the equation with the given slope that passes through the indicated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line with slope 2 passing through (2, –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5812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x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512136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ation of the line with slope 2 that passes through (2, –2) in point-slope form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 = 2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4038480"/>
            <a:ext cx="548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2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–2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   and 2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280" y="4114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(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]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572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+ 2 = 2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8600" y="18288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line with slope –4 passing through (–2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236232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4495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ation of the line with slope –4 that passes through (–2, 5) in point-slope form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 = –4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2743200"/>
            <a:ext cx="5486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ubstitute –2 for x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5 for y</a:t>
            </a:r>
            <a:r>
              <a:rPr b="0" i="1" lang="en-US" sz="2400" spc="-1" strike="noStrike" baseline="-25000">
                <a:solidFill>
                  <a:srgbClr val="3365ff"/>
                </a:solidFill>
                <a:latin typeface="Verdana"/>
              </a:rPr>
              <a:t>1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,    and –4 for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8954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–4[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– 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3505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 = –4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137160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roller coaster starts by ascending 20 feet for every 30 feet it moves forward. The coaster starts at a point 18 feet above the ground. Write the equation of the line that the roller coaster travels along in point-slope form, and use it to determine the height of the coaster after traveling 150 feet forward. Assume that the roller coaster travels in a straight line for the first 15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Entertainment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28600" y="5105520"/>
            <a:ext cx="8610480" cy="1381680"/>
            <a:chOff x="228600" y="5105520"/>
            <a:chExt cx="8610480" cy="1381680"/>
          </a:xfrm>
        </p:grpSpPr>
        <p:grpSp>
          <p:nvGrpSpPr>
            <p:cNvPr id="264" name=""/>
            <p:cNvGrpSpPr/>
            <p:nvPr/>
          </p:nvGrpSpPr>
          <p:grpSpPr>
            <a:xfrm>
              <a:off x="228600" y="5105520"/>
              <a:ext cx="8610480" cy="1381680"/>
              <a:chOff x="228600" y="5105520"/>
              <a:chExt cx="8610480" cy="1381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28600" y="5105520"/>
                <a:ext cx="861048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As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increases by 30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increases by 20, so the slop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of the line is      or   . The line passes through the point (0, 18)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2252520" y="5519880"/>
                <a:ext cx="1600200" cy="764280"/>
                <a:chOff x="2252520" y="5519880"/>
                <a:chExt cx="1600200" cy="764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2252520" y="5519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2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252520" y="5824440"/>
                  <a:ext cx="106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3196080" y="5500800"/>
              <a:ext cx="918720" cy="808920"/>
              <a:chOff x="3196080" y="5500800"/>
              <a:chExt cx="918720" cy="808920"/>
            </a:xfrm>
          </p:grpSpPr>
          <p:sp>
            <p:nvSpPr>
              <p:cNvPr id="270" name=""/>
              <p:cNvSpPr/>
              <p:nvPr/>
            </p:nvSpPr>
            <p:spPr>
              <a:xfrm>
                <a:off x="3196080" y="5500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200400" y="58500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60020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005360" y="1828800"/>
            <a:ext cx="4800600" cy="1188360"/>
            <a:chOff x="4005360" y="1828800"/>
            <a:chExt cx="4800600" cy="1188360"/>
          </a:xfrm>
        </p:grpSpPr>
        <p:sp>
          <p:nvSpPr>
            <p:cNvPr id="281" name=""/>
            <p:cNvSpPr/>
            <p:nvPr/>
          </p:nvSpPr>
          <p:spPr>
            <a:xfrm>
              <a:off x="4005360" y="1828800"/>
              <a:ext cx="480060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ubstitute 0 for x</a:t>
              </a:r>
              <a:r>
                <a:rPr b="0" i="1" lang="en-US" sz="2400" spc="-1" strike="noStrike" baseline="-25000">
                  <a:solidFill>
                    <a:srgbClr val="3365ff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, 18 for y</a:t>
              </a:r>
              <a:r>
                <a:rPr b="0" i="1" lang="en-US" sz="2400" spc="-1" strike="noStrike" baseline="-25000">
                  <a:solidFill>
                    <a:srgbClr val="3365ff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and    for 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4724280" y="2252880"/>
              <a:ext cx="838080" cy="764280"/>
              <a:chOff x="4724280" y="2252880"/>
              <a:chExt cx="838080" cy="764280"/>
            </a:xfrm>
          </p:grpSpPr>
          <p:sp>
            <p:nvSpPr>
              <p:cNvPr id="283" name=""/>
              <p:cNvSpPr/>
              <p:nvPr/>
            </p:nvSpPr>
            <p:spPr>
              <a:xfrm>
                <a:off x="4724280" y="22528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3365ff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724280" y="25574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65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152280" y="2819520"/>
            <a:ext cx="8991720" cy="1191240"/>
            <a:chOff x="152280" y="2819520"/>
            <a:chExt cx="8991720" cy="1191240"/>
          </a:xfrm>
        </p:grpSpPr>
        <p:sp>
          <p:nvSpPr>
            <p:cNvPr id="286" name=""/>
            <p:cNvSpPr/>
            <p:nvPr/>
          </p:nvSpPr>
          <p:spPr>
            <a:xfrm>
              <a:off x="152280" y="2819520"/>
              <a:ext cx="8991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equation of the line the roller coaster travels along, in point-slope form,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8 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Substitute 150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to find the value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029200" y="3095640"/>
              <a:ext cx="914400" cy="764640"/>
              <a:chOff x="5029200" y="3095640"/>
              <a:chExt cx="914400" cy="764640"/>
            </a:xfrm>
          </p:grpSpPr>
          <p:sp>
            <p:nvSpPr>
              <p:cNvPr id="288" name=""/>
              <p:cNvSpPr/>
              <p:nvPr/>
            </p:nvSpPr>
            <p:spPr>
              <a:xfrm>
                <a:off x="5029200" y="3095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029200" y="34005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457200" y="3962520"/>
            <a:ext cx="3886200" cy="764280"/>
            <a:chOff x="457200" y="3962520"/>
            <a:chExt cx="3886200" cy="764280"/>
          </a:xfrm>
        </p:grpSpPr>
        <p:sp>
          <p:nvSpPr>
            <p:cNvPr id="291" name=""/>
            <p:cNvSpPr/>
            <p:nvPr/>
          </p:nvSpPr>
          <p:spPr>
            <a:xfrm>
              <a:off x="457200" y="41148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8 =   (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15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1905120" y="3962520"/>
              <a:ext cx="1066680" cy="764280"/>
              <a:chOff x="1905120" y="3962520"/>
              <a:chExt cx="1066680" cy="764280"/>
            </a:xfrm>
          </p:grpSpPr>
          <p:sp>
            <p:nvSpPr>
              <p:cNvPr id="293" name=""/>
              <p:cNvSpPr/>
              <p:nvPr/>
            </p:nvSpPr>
            <p:spPr>
              <a:xfrm>
                <a:off x="1905120" y="39625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905120" y="4267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457200" y="472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8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2057400"/>
            <a:ext cx="4647960" cy="764640"/>
            <a:chOff x="457200" y="2057400"/>
            <a:chExt cx="4647960" cy="764640"/>
          </a:xfrm>
        </p:grpSpPr>
        <p:sp>
          <p:nvSpPr>
            <p:cNvPr id="297" name=""/>
            <p:cNvSpPr/>
            <p:nvPr/>
          </p:nvSpPr>
          <p:spPr>
            <a:xfrm>
              <a:off x="457200" y="221004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18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1904760" y="2057400"/>
              <a:ext cx="1066680" cy="764640"/>
              <a:chOff x="1904760" y="2057400"/>
              <a:chExt cx="1066680" cy="764640"/>
            </a:xfrm>
          </p:grpSpPr>
          <p:sp>
            <p:nvSpPr>
              <p:cNvPr id="299" name=""/>
              <p:cNvSpPr/>
              <p:nvPr/>
            </p:nvSpPr>
            <p:spPr>
              <a:xfrm>
                <a:off x="1904760" y="20574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8000"/>
                    </a:solidFill>
                    <a:uFillTx/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04760" y="2362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1219320" y="5181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56386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118, so the roller coaster will be at a height of 118 feet after traveling 150 feet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137160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roller coaster starts by ascending 15 feet for every 45 feet it moves forward. The coaster starts at a point 15 feet above the ground. Write the equation of the line that the roller coaster travels along in point-slope form, and use it to determine the height of the coaster after traveling 300 feet forward. Assume that the roller coaster travels in a straight line for the first 30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8600" y="5105520"/>
            <a:ext cx="8610480" cy="1381680"/>
            <a:chOff x="228600" y="5105520"/>
            <a:chExt cx="8610480" cy="1381680"/>
          </a:xfrm>
        </p:grpSpPr>
        <p:grpSp>
          <p:nvGrpSpPr>
            <p:cNvPr id="312" name=""/>
            <p:cNvGrpSpPr/>
            <p:nvPr/>
          </p:nvGrpSpPr>
          <p:grpSpPr>
            <a:xfrm>
              <a:off x="228600" y="5105520"/>
              <a:ext cx="8610480" cy="1381680"/>
              <a:chOff x="228600" y="5105520"/>
              <a:chExt cx="8610480" cy="1381680"/>
            </a:xfrm>
          </p:grpSpPr>
          <p:sp>
            <p:nvSpPr>
              <p:cNvPr id="313" name=""/>
              <p:cNvSpPr/>
              <p:nvPr/>
            </p:nvSpPr>
            <p:spPr>
              <a:xfrm>
                <a:off x="228600" y="5105520"/>
                <a:ext cx="861048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As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increases by 45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increases by 15, so the slop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of the line is      or   . The line passes through the point (0, 15)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2252520" y="5519880"/>
                <a:ext cx="1600200" cy="764280"/>
                <a:chOff x="2252520" y="5519880"/>
                <a:chExt cx="1600200" cy="7642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2252520" y="5519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252520" y="5824440"/>
                  <a:ext cx="106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4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7" name=""/>
            <p:cNvGrpSpPr/>
            <p:nvPr/>
          </p:nvGrpSpPr>
          <p:grpSpPr>
            <a:xfrm>
              <a:off x="3196080" y="5500800"/>
              <a:ext cx="918720" cy="808920"/>
              <a:chOff x="3196080" y="5500800"/>
              <a:chExt cx="918720" cy="808920"/>
            </a:xfrm>
          </p:grpSpPr>
          <p:sp>
            <p:nvSpPr>
              <p:cNvPr id="318" name=""/>
              <p:cNvSpPr/>
              <p:nvPr/>
            </p:nvSpPr>
            <p:spPr>
              <a:xfrm>
                <a:off x="3196080" y="5500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00400" y="58500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160020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005360" y="1828800"/>
            <a:ext cx="4800600" cy="1188360"/>
            <a:chOff x="4005360" y="1828800"/>
            <a:chExt cx="4800600" cy="1188360"/>
          </a:xfrm>
        </p:grpSpPr>
        <p:sp>
          <p:nvSpPr>
            <p:cNvPr id="329" name=""/>
            <p:cNvSpPr/>
            <p:nvPr/>
          </p:nvSpPr>
          <p:spPr>
            <a:xfrm>
              <a:off x="4005360" y="1828800"/>
              <a:ext cx="480060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ubstitute 0 for x</a:t>
              </a:r>
              <a:r>
                <a:rPr b="0" i="1" lang="en-US" sz="2400" spc="-1" strike="noStrike" baseline="-25000">
                  <a:solidFill>
                    <a:srgbClr val="3365ff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, 15 for y</a:t>
              </a:r>
              <a:r>
                <a:rPr b="0" i="1" lang="en-US" sz="2400" spc="-1" strike="noStrike" baseline="-25000">
                  <a:solidFill>
                    <a:srgbClr val="3365ff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and    for 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4724280" y="2252880"/>
              <a:ext cx="838080" cy="764280"/>
              <a:chOff x="4724280" y="2252880"/>
              <a:chExt cx="838080" cy="764280"/>
            </a:xfrm>
          </p:grpSpPr>
          <p:sp>
            <p:nvSpPr>
              <p:cNvPr id="331" name=""/>
              <p:cNvSpPr/>
              <p:nvPr/>
            </p:nvSpPr>
            <p:spPr>
              <a:xfrm>
                <a:off x="4724280" y="22528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3365ff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24280" y="25574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65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152280" y="2819520"/>
            <a:ext cx="8991720" cy="1191240"/>
            <a:chOff x="152280" y="2819520"/>
            <a:chExt cx="8991720" cy="1191240"/>
          </a:xfrm>
        </p:grpSpPr>
        <p:sp>
          <p:nvSpPr>
            <p:cNvPr id="334" name=""/>
            <p:cNvSpPr/>
            <p:nvPr/>
          </p:nvSpPr>
          <p:spPr>
            <a:xfrm>
              <a:off x="152280" y="2819520"/>
              <a:ext cx="8991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equation of the line the roller coaster travels along, in point-slope form,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5 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Substitute 300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to find the value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5029200" y="3095640"/>
              <a:ext cx="914400" cy="764640"/>
              <a:chOff x="5029200" y="3095640"/>
              <a:chExt cx="914400" cy="764640"/>
            </a:xfrm>
          </p:grpSpPr>
          <p:sp>
            <p:nvSpPr>
              <p:cNvPr id="336" name=""/>
              <p:cNvSpPr/>
              <p:nvPr/>
            </p:nvSpPr>
            <p:spPr>
              <a:xfrm>
                <a:off x="5029200" y="3095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29200" y="34005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457200" y="3962520"/>
            <a:ext cx="3886200" cy="764280"/>
            <a:chOff x="457200" y="3962520"/>
            <a:chExt cx="3886200" cy="764280"/>
          </a:xfrm>
        </p:grpSpPr>
        <p:sp>
          <p:nvSpPr>
            <p:cNvPr id="339" name=""/>
            <p:cNvSpPr/>
            <p:nvPr/>
          </p:nvSpPr>
          <p:spPr>
            <a:xfrm>
              <a:off x="457200" y="41148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5 =   (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30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1905120" y="3962520"/>
              <a:ext cx="1066680" cy="764280"/>
              <a:chOff x="1905120" y="3962520"/>
              <a:chExt cx="1066680" cy="764280"/>
            </a:xfrm>
          </p:grpSpPr>
          <p:sp>
            <p:nvSpPr>
              <p:cNvPr id="341" name=""/>
              <p:cNvSpPr/>
              <p:nvPr/>
            </p:nvSpPr>
            <p:spPr>
              <a:xfrm>
                <a:off x="1905120" y="39625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05120" y="4267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>
            <a:off x="457200" y="472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5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57200" y="2057400"/>
            <a:ext cx="4647960" cy="764640"/>
            <a:chOff x="457200" y="2057400"/>
            <a:chExt cx="4647960" cy="764640"/>
          </a:xfrm>
        </p:grpSpPr>
        <p:sp>
          <p:nvSpPr>
            <p:cNvPr id="345" name=""/>
            <p:cNvSpPr/>
            <p:nvPr/>
          </p:nvSpPr>
          <p:spPr>
            <a:xfrm>
              <a:off x="457200" y="221004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006699"/>
                  </a:solidFill>
                  <a:latin typeface="Verdana"/>
                </a:rPr>
                <a:t>15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04760" y="2057400"/>
              <a:ext cx="1066680" cy="764640"/>
              <a:chOff x="1904760" y="2057400"/>
              <a:chExt cx="1066680" cy="764640"/>
            </a:xfrm>
          </p:grpSpPr>
          <p:sp>
            <p:nvSpPr>
              <p:cNvPr id="347" name=""/>
              <p:cNvSpPr/>
              <p:nvPr/>
            </p:nvSpPr>
            <p:spPr>
              <a:xfrm>
                <a:off x="1904760" y="20574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8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904760" y="2362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"/>
          <p:cNvSpPr/>
          <p:nvPr/>
        </p:nvSpPr>
        <p:spPr>
          <a:xfrm>
            <a:off x="1219320" y="5181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56386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115, so the roller coaster will be at a height of 115 feet after traveling 300 feet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5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3520" y="1272960"/>
            <a:ext cx="792468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point-slope form of each equation to identify a point the line passes through and the slope of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 = 2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 = – 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point-slope form of the equation with the given slope that passes through the indicated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line with slope 4 passing through (3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line with slope –2 passing through (–2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09880" y="26960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–5, –6)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4300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556164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– 5 = 4(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–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6171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– 4 = –2(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 +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438280" y="3184560"/>
            <a:ext cx="914400" cy="703440"/>
            <a:chOff x="2438280" y="3184560"/>
            <a:chExt cx="914400" cy="703440"/>
          </a:xfrm>
        </p:grpSpPr>
        <p:sp>
          <p:nvSpPr>
            <p:cNvPr id="364" name=""/>
            <p:cNvSpPr/>
            <p:nvPr/>
          </p:nvSpPr>
          <p:spPr>
            <a:xfrm>
              <a:off x="2438280" y="318456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38280" y="3489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886200" y="3137400"/>
            <a:ext cx="4876920" cy="673200"/>
            <a:chOff x="3886200" y="3137400"/>
            <a:chExt cx="4876920" cy="673200"/>
          </a:xfrm>
        </p:grpSpPr>
        <p:sp>
          <p:nvSpPr>
            <p:cNvPr id="367" name=""/>
            <p:cNvSpPr/>
            <p:nvPr/>
          </p:nvSpPr>
          <p:spPr>
            <a:xfrm>
              <a:off x="3886200" y="322956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(6, 4), 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5291280" y="3137400"/>
              <a:ext cx="990360" cy="673200"/>
              <a:chOff x="5291280" y="3137400"/>
              <a:chExt cx="990360" cy="673200"/>
            </a:xfrm>
          </p:grpSpPr>
          <p:sp>
            <p:nvSpPr>
              <p:cNvPr id="369" name=""/>
              <p:cNvSpPr/>
              <p:nvPr/>
            </p:nvSpPr>
            <p:spPr>
              <a:xfrm>
                <a:off x="5291280" y="313740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291280" y="341172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Verdan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7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371600"/>
            <a:ext cx="8153280" cy="4572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the equation of the line that passes through each pair of points in slope-intercept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0, –3) and (2, –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5, –3) and (5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–6, 0) and (0, –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4, 6) and (–2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98600" y="350460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–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85640" y="403776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074920" y="5271480"/>
            <a:ext cx="14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24600" y="4494960"/>
            <a:ext cx="1931760" cy="915840"/>
            <a:chOff x="5124600" y="4494960"/>
            <a:chExt cx="1931760" cy="915840"/>
          </a:xfrm>
        </p:grpSpPr>
        <p:sp>
          <p:nvSpPr>
            <p:cNvPr id="60" name=""/>
            <p:cNvSpPr/>
            <p:nvPr/>
          </p:nvSpPr>
          <p:spPr>
            <a:xfrm>
              <a:off x="5124600" y="4647600"/>
              <a:ext cx="193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3300"/>
                  </a:solidFill>
                  <a:latin typeface="Verdana"/>
                </a:rPr>
                <a:t>y</a:t>
              </a: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 = –   </a:t>
              </a:r>
              <a:r>
                <a:rPr b="0" i="1" lang="en-US" sz="2800" spc="-1" strike="noStrike">
                  <a:solidFill>
                    <a:srgbClr val="ff3300"/>
                  </a:solidFill>
                  <a:latin typeface="Verdana"/>
                </a:rPr>
                <a:t>x</a:t>
              </a:r>
              <a:r>
                <a:rPr b="0" lang="en-US" sz="2800" spc="-1" strike="noStrike">
                  <a:solidFill>
                    <a:srgbClr val="ff3300"/>
                  </a:solidFill>
                  <a:latin typeface="Verdana"/>
                </a:rPr>
                <a:t> –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977080" y="4494960"/>
              <a:ext cx="391320" cy="915840"/>
              <a:chOff x="5977080" y="4494960"/>
              <a:chExt cx="391320" cy="915840"/>
            </a:xfrm>
          </p:grpSpPr>
          <p:sp>
            <p:nvSpPr>
              <p:cNvPr id="62" name=""/>
              <p:cNvSpPr/>
              <p:nvPr/>
            </p:nvSpPr>
            <p:spPr>
              <a:xfrm>
                <a:off x="5985000" y="44949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977080" y="48902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Verdana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600200"/>
            <a:ext cx="7620120" cy="3581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out using equations for horizontal or vertical lines, write the equations of four lines that form a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8098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Possible answer: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=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+ 2,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– 2,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–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+ 2,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= –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the equation of a line given one point and the slop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828800"/>
            <a:ext cx="7238880" cy="914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int-slop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76080" y="9108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sert Lesson Tit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32767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int on the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74796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1" lang="en-US" sz="2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32767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int-slop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367200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1" lang="en-US" sz="28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8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172200" y="4114440"/>
            <a:ext cx="0" cy="60948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4724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s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523880"/>
            <a:ext cx="75438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oint-slope for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n equation of a line with slop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ssing through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614600"/>
            <a:ext cx="8237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point-slope form of each equation to identify a point the line passes through and the slope of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7 = 3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360" y="92880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: Using Point-Slope Form to Identify Information About a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35268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6192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4572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181480"/>
            <a:ext cx="31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(4,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5638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n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7 = 3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4) has slope 3, and passes through the point (4, 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3733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point-slope for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4419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ad the value of m from the equ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5181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ad the point from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1 =  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360" y="92880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: Using Point-Slope Form to Identify Information About a Li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4648320"/>
            <a:ext cx="312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(–6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33526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write using subtraction instead of ad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195640" y="1676520"/>
            <a:ext cx="685800" cy="764280"/>
            <a:chOff x="2195640" y="1676520"/>
            <a:chExt cx="685800" cy="764280"/>
          </a:xfrm>
        </p:grpSpPr>
        <p:sp>
          <p:nvSpPr>
            <p:cNvPr id="123" name=""/>
            <p:cNvSpPr/>
            <p:nvPr/>
          </p:nvSpPr>
          <p:spPr>
            <a:xfrm>
              <a:off x="2195640" y="1676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19040" y="1981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83760" y="2743200"/>
            <a:ext cx="2134440" cy="764640"/>
            <a:chOff x="1283760" y="2743200"/>
            <a:chExt cx="2134440" cy="764640"/>
          </a:xfrm>
        </p:grpSpPr>
        <p:grpSp>
          <p:nvGrpSpPr>
            <p:cNvPr id="126" name=""/>
            <p:cNvGrpSpPr/>
            <p:nvPr/>
          </p:nvGrpSpPr>
          <p:grpSpPr>
            <a:xfrm>
              <a:off x="2209680" y="2743200"/>
              <a:ext cx="685800" cy="764640"/>
              <a:chOff x="2209680" y="2743200"/>
              <a:chExt cx="685800" cy="764640"/>
            </a:xfrm>
          </p:grpSpPr>
          <p:sp>
            <p:nvSpPr>
              <p:cNvPr id="127" name=""/>
              <p:cNvSpPr/>
              <p:nvPr/>
            </p:nvSpPr>
            <p:spPr>
              <a:xfrm>
                <a:off x="2209680" y="2743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8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21200" y="3048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8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283760" y="2819520"/>
              <a:ext cx="213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269720" y="3352680"/>
            <a:ext cx="2467080" cy="764640"/>
            <a:chOff x="1269720" y="3352680"/>
            <a:chExt cx="2467080" cy="764640"/>
          </a:xfrm>
        </p:grpSpPr>
        <p:sp>
          <p:nvSpPr>
            <p:cNvPr id="131" name=""/>
            <p:cNvSpPr/>
            <p:nvPr/>
          </p:nvSpPr>
          <p:spPr>
            <a:xfrm>
              <a:off x="1269720" y="3505320"/>
              <a:ext cx="24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 =   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(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–6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133720" y="3352680"/>
              <a:ext cx="685800" cy="764640"/>
              <a:chOff x="2133720" y="3352680"/>
              <a:chExt cx="685800" cy="7646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3720" y="3352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45240" y="3657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1447920" y="3962520"/>
            <a:ext cx="1981080" cy="764280"/>
            <a:chOff x="1447920" y="3962520"/>
            <a:chExt cx="1981080" cy="764280"/>
          </a:xfrm>
        </p:grpSpPr>
        <p:sp>
          <p:nvSpPr>
            <p:cNvPr id="136" name=""/>
            <p:cNvSpPr/>
            <p:nvPr/>
          </p:nvSpPr>
          <p:spPr>
            <a:xfrm>
              <a:off x="1447920" y="4114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133720" y="3962520"/>
              <a:ext cx="685800" cy="764280"/>
              <a:chOff x="2133720" y="3962520"/>
              <a:chExt cx="685800" cy="764280"/>
            </a:xfrm>
          </p:grpSpPr>
          <p:sp>
            <p:nvSpPr>
              <p:cNvPr id="138" name=""/>
              <p:cNvSpPr/>
              <p:nvPr/>
            </p:nvSpPr>
            <p:spPr>
              <a:xfrm>
                <a:off x="2133720" y="39625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145240" y="4267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152280" y="5257800"/>
            <a:ext cx="8839440" cy="1068840"/>
            <a:chOff x="152280" y="5257800"/>
            <a:chExt cx="8839440" cy="1068840"/>
          </a:xfrm>
        </p:grpSpPr>
        <p:sp>
          <p:nvSpPr>
            <p:cNvPr id="141" name=""/>
            <p:cNvSpPr/>
            <p:nvPr/>
          </p:nvSpPr>
          <p:spPr>
            <a:xfrm>
              <a:off x="152280" y="5318280"/>
              <a:ext cx="883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line defined b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– 1 =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6) has slope   , and passes through the point (–6, 1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419720" y="5257800"/>
              <a:ext cx="3657600" cy="764640"/>
              <a:chOff x="4419720" y="5257800"/>
              <a:chExt cx="3657600" cy="76464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4419720" y="5257800"/>
                <a:ext cx="685800" cy="764640"/>
                <a:chOff x="4419720" y="5257800"/>
                <a:chExt cx="685800" cy="7646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4419720" y="52578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431240" y="55627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7391520" y="5257800"/>
                <a:ext cx="685800" cy="764640"/>
                <a:chOff x="7391520" y="5257800"/>
                <a:chExt cx="685800" cy="7646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7391520" y="525780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403040" y="55627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1432080"/>
            <a:ext cx="8237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point-slope form of each equation to identify a point the line passes through and the slope of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5 = 2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71560" y="31384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1920" y="3705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9544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4967280"/>
            <a:ext cx="31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(2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55627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n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 = 2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2) has slope 2, and passes through the point (2, 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3581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equation is in point-slope for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42670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ad the value of m from the equ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5029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ead the point from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39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2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oint-Slope Fo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7T16:25:17Z</dcterms:modified>
  <cp:revision>127</cp:revision>
  <dc:subject/>
  <dc:title>Slide 1</dc:title>
</cp:coreProperties>
</file>