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DCB-FBCE-4C27-8544-E09CDBED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189-8B70-4D5F-833A-298FB52E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402-5AA9-40EE-9B5E-68501752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277-F988-41DC-A627-ACFE7D6C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313-917C-4196-93A4-338E11A2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564-C3F1-408D-AD5B-96725674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6BE-F0CE-4F79-9631-255230E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9A5-0670-45CA-89CB-77748B76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4D4-0FB6-4001-81E3-CBD86086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A16-C252-45A2-99CF-CFC13F4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85E-5076-48BB-B1DB-72ECF19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F1A-7ADE-4F12-80D0-0A175947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6B5-5DF2-4903-9EFE-0F13206AE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 =  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33720" y="1447920"/>
            <a:ext cx="685800" cy="764280"/>
            <a:chOff x="2133720" y="1447920"/>
            <a:chExt cx="685800" cy="764280"/>
          </a:xfrm>
        </p:grpSpPr>
        <p:sp>
          <p:nvSpPr>
            <p:cNvPr id="174" name=""/>
            <p:cNvSpPr/>
            <p:nvPr/>
          </p:nvSpPr>
          <p:spPr>
            <a:xfrm>
              <a:off x="2133720" y="1447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5712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9480" y="434340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–3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048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write using subtraction instead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83400" y="2438280"/>
            <a:ext cx="2135160" cy="764640"/>
            <a:chOff x="1283400" y="2438280"/>
            <a:chExt cx="2135160" cy="764640"/>
          </a:xfrm>
        </p:grpSpPr>
        <p:grpSp>
          <p:nvGrpSpPr>
            <p:cNvPr id="179" name=""/>
            <p:cNvGrpSpPr/>
            <p:nvPr/>
          </p:nvGrpSpPr>
          <p:grpSpPr>
            <a:xfrm>
              <a:off x="2209680" y="2438280"/>
              <a:ext cx="685800" cy="764640"/>
              <a:chOff x="2209680" y="2438280"/>
              <a:chExt cx="685800" cy="764640"/>
            </a:xfrm>
          </p:grpSpPr>
          <p:sp>
            <p:nvSpPr>
              <p:cNvPr id="180" name=""/>
              <p:cNvSpPr/>
              <p:nvPr/>
            </p:nvSpPr>
            <p:spPr>
              <a:xfrm>
                <a:off x="2209680" y="2438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21200" y="2743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283400" y="2514600"/>
              <a:ext cx="21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69720" y="3048120"/>
            <a:ext cx="2467080" cy="764280"/>
            <a:chOff x="1269720" y="3048120"/>
            <a:chExt cx="2467080" cy="764280"/>
          </a:xfrm>
        </p:grpSpPr>
        <p:sp>
          <p:nvSpPr>
            <p:cNvPr id="184" name=""/>
            <p:cNvSpPr/>
            <p:nvPr/>
          </p:nvSpPr>
          <p:spPr>
            <a:xfrm>
              <a:off x="1269720" y="320040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 =  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(–3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133720" y="3048120"/>
              <a:ext cx="685800" cy="764280"/>
              <a:chOff x="2133720" y="3048120"/>
              <a:chExt cx="685800" cy="764280"/>
            </a:xfrm>
          </p:grpSpPr>
          <p:sp>
            <p:nvSpPr>
              <p:cNvPr id="186" name=""/>
              <p:cNvSpPr/>
              <p:nvPr/>
            </p:nvSpPr>
            <p:spPr>
              <a:xfrm>
                <a:off x="213372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45240" y="3352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447920" y="3657600"/>
            <a:ext cx="1981080" cy="764280"/>
            <a:chOff x="1447920" y="3657600"/>
            <a:chExt cx="1981080" cy="764280"/>
          </a:xfrm>
        </p:grpSpPr>
        <p:sp>
          <p:nvSpPr>
            <p:cNvPr id="189" name=""/>
            <p:cNvSpPr/>
            <p:nvPr/>
          </p:nvSpPr>
          <p:spPr>
            <a:xfrm>
              <a:off x="1447920" y="3809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133720" y="3657600"/>
              <a:ext cx="685800" cy="764280"/>
              <a:chOff x="2133720" y="3657600"/>
              <a:chExt cx="685800" cy="764280"/>
            </a:xfrm>
          </p:grpSpPr>
          <p:sp>
            <p:nvSpPr>
              <p:cNvPr id="191" name=""/>
              <p:cNvSpPr/>
              <p:nvPr/>
            </p:nvSpPr>
            <p:spPr>
              <a:xfrm>
                <a:off x="213372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45240" y="396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152280" y="4952880"/>
            <a:ext cx="8839440" cy="1068840"/>
            <a:chOff x="152280" y="4952880"/>
            <a:chExt cx="8839440" cy="1068840"/>
          </a:xfrm>
        </p:grpSpPr>
        <p:sp>
          <p:nvSpPr>
            <p:cNvPr id="194" name=""/>
            <p:cNvSpPr/>
            <p:nvPr/>
          </p:nvSpPr>
          <p:spPr>
            <a:xfrm>
              <a:off x="152280" y="5013360"/>
              <a:ext cx="883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i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) has slope   , and passes through the point (–3, 2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419720" y="4952880"/>
              <a:ext cx="3657600" cy="764640"/>
              <a:chOff x="4419720" y="4952880"/>
              <a:chExt cx="3657600" cy="7646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4419720" y="4952880"/>
                <a:ext cx="685800" cy="764640"/>
                <a:chOff x="4419720" y="4952880"/>
                <a:chExt cx="685800" cy="764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419720" y="49528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31240" y="5257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391520" y="4952880"/>
                <a:ext cx="685800" cy="764640"/>
                <a:chOff x="7391520" y="4952880"/>
                <a:chExt cx="685800" cy="7646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391520" y="49528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03040" y="5257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838080" y="205740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182880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4 passing through (5, –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Writing the Point-Slope Form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5812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5121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4 that passes through (5, –2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=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403848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5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2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 and 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4114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57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+ 2 =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828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–5 passing through (–3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Writing the Point-Slope Form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23623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495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–5 that passes through (–3, 7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–5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274320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3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7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and –5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895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-5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–5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080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2 passing through (2, –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812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5121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2 that passes through (2, –2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403848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2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 and 2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4114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57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+ 2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1828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–4 passing through (–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3623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495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–4 that passes through (–2, 5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–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74320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5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and –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895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–4[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–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–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13716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oller coaster starts by ascending 20 feet for every 30 feet it moves forward. The coaster starts at a point 18 feet above the ground. Write the equation of the line that the roller coaster travels along in point-slope form, and use it to determine the height of the coaster after traveling 150 feet forward. Assume that the roller coaster travels in a straight line for the first 15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ntertain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28600" y="5105520"/>
            <a:ext cx="8610480" cy="1381680"/>
            <a:chOff x="228600" y="5105520"/>
            <a:chExt cx="8610480" cy="138168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5105520"/>
              <a:ext cx="8610480" cy="1381680"/>
              <a:chOff x="228600" y="5105520"/>
              <a:chExt cx="8610480" cy="1381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28600" y="5105520"/>
                <a:ext cx="861048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A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30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20, so the slop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of the line is      or   . The line passes through the point (0, 18)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252520" y="5519880"/>
                <a:ext cx="1600200" cy="764280"/>
                <a:chOff x="2252520" y="5519880"/>
                <a:chExt cx="1600200" cy="764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252520" y="5519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252520" y="58244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3196080" y="5500800"/>
              <a:ext cx="918720" cy="808920"/>
              <a:chOff x="3196080" y="5500800"/>
              <a:chExt cx="918720" cy="808920"/>
            </a:xfrm>
          </p:grpSpPr>
          <p:sp>
            <p:nvSpPr>
              <p:cNvPr id="270" name=""/>
              <p:cNvSpPr/>
              <p:nvPr/>
            </p:nvSpPr>
            <p:spPr>
              <a:xfrm>
                <a:off x="3196080" y="550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00400" y="585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60020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005360" y="1828800"/>
            <a:ext cx="4800600" cy="1188360"/>
            <a:chOff x="4005360" y="1828800"/>
            <a:chExt cx="4800600" cy="1188360"/>
          </a:xfrm>
        </p:grpSpPr>
        <p:sp>
          <p:nvSpPr>
            <p:cNvPr id="281" name=""/>
            <p:cNvSpPr/>
            <p:nvPr/>
          </p:nvSpPr>
          <p:spPr>
            <a:xfrm>
              <a:off x="4005360" y="1828800"/>
              <a:ext cx="48006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ubstitute 0 for x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18 for y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and    for 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724280" y="2252880"/>
              <a:ext cx="838080" cy="764280"/>
              <a:chOff x="4724280" y="2252880"/>
              <a:chExt cx="838080" cy="764280"/>
            </a:xfrm>
          </p:grpSpPr>
          <p:sp>
            <p:nvSpPr>
              <p:cNvPr id="283" name=""/>
              <p:cNvSpPr/>
              <p:nvPr/>
            </p:nvSpPr>
            <p:spPr>
              <a:xfrm>
                <a:off x="4724280" y="22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5ff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24280" y="255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5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52280" y="2819520"/>
            <a:ext cx="8991720" cy="1191240"/>
            <a:chOff x="152280" y="2819520"/>
            <a:chExt cx="8991720" cy="1191240"/>
          </a:xfrm>
        </p:grpSpPr>
        <p:sp>
          <p:nvSpPr>
            <p:cNvPr id="286" name=""/>
            <p:cNvSpPr/>
            <p:nvPr/>
          </p:nvSpPr>
          <p:spPr>
            <a:xfrm>
              <a:off x="152280" y="2819520"/>
              <a:ext cx="899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equation of the line the roller coaster travels along, in point-slope form,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8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Substitute 150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029200" y="3095640"/>
              <a:ext cx="914400" cy="764640"/>
              <a:chOff x="5029200" y="3095640"/>
              <a:chExt cx="914400" cy="764640"/>
            </a:xfrm>
          </p:grpSpPr>
          <p:sp>
            <p:nvSpPr>
              <p:cNvPr id="288" name=""/>
              <p:cNvSpPr/>
              <p:nvPr/>
            </p:nvSpPr>
            <p:spPr>
              <a:xfrm>
                <a:off x="5029200" y="3095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29200" y="340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57200" y="3962520"/>
            <a:ext cx="3886200" cy="764280"/>
            <a:chOff x="457200" y="3962520"/>
            <a:chExt cx="3886200" cy="764280"/>
          </a:xfrm>
        </p:grpSpPr>
        <p:sp>
          <p:nvSpPr>
            <p:cNvPr id="291" name=""/>
            <p:cNvSpPr/>
            <p:nvPr/>
          </p:nvSpPr>
          <p:spPr>
            <a:xfrm>
              <a:off x="457200" y="4114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8 =  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5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905120" y="3962520"/>
              <a:ext cx="1066680" cy="764280"/>
              <a:chOff x="1905120" y="3962520"/>
              <a:chExt cx="1066680" cy="76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905120" y="39625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0512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4572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8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2057400"/>
            <a:ext cx="4647960" cy="764640"/>
            <a:chOff x="457200" y="2057400"/>
            <a:chExt cx="4647960" cy="764640"/>
          </a:xfrm>
        </p:grpSpPr>
        <p:sp>
          <p:nvSpPr>
            <p:cNvPr id="297" name=""/>
            <p:cNvSpPr/>
            <p:nvPr/>
          </p:nvSpPr>
          <p:spPr>
            <a:xfrm>
              <a:off x="457200" y="221004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04760" y="2057400"/>
              <a:ext cx="1066680" cy="764640"/>
              <a:chOff x="1904760" y="2057400"/>
              <a:chExt cx="1066680" cy="764640"/>
            </a:xfrm>
          </p:grpSpPr>
          <p:sp>
            <p:nvSpPr>
              <p:cNvPr id="299" name=""/>
              <p:cNvSpPr/>
              <p:nvPr/>
            </p:nvSpPr>
            <p:spPr>
              <a:xfrm>
                <a:off x="1904760" y="2057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4760" y="236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12193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118, so the roller coaster will be at a height of 118 feet after traveling 150 feet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3716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oller coaster starts by ascending 15 feet for every 45 feet it moves forward. The coaster starts at a point 15 feet above the ground. Write the equation of the line that the roller coaster travels along in point-slope form, and use it to determine the height of the coaster after traveling 300 feet forward. Assume that the roller coaster travels in a straight line for the first 3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5105520"/>
            <a:ext cx="8610480" cy="1381680"/>
            <a:chOff x="228600" y="5105520"/>
            <a:chExt cx="8610480" cy="1381680"/>
          </a:xfrm>
        </p:grpSpPr>
        <p:grpSp>
          <p:nvGrpSpPr>
            <p:cNvPr id="312" name=""/>
            <p:cNvGrpSpPr/>
            <p:nvPr/>
          </p:nvGrpSpPr>
          <p:grpSpPr>
            <a:xfrm>
              <a:off x="228600" y="5105520"/>
              <a:ext cx="8610480" cy="1381680"/>
              <a:chOff x="228600" y="5105520"/>
              <a:chExt cx="8610480" cy="1381680"/>
            </a:xfrm>
          </p:grpSpPr>
          <p:sp>
            <p:nvSpPr>
              <p:cNvPr id="313" name=""/>
              <p:cNvSpPr/>
              <p:nvPr/>
            </p:nvSpPr>
            <p:spPr>
              <a:xfrm>
                <a:off x="228600" y="5105520"/>
                <a:ext cx="861048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A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45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15, so the slop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of the line is      or   . The line passes through the point (0, 15)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252520" y="5519880"/>
                <a:ext cx="1600200" cy="764280"/>
                <a:chOff x="2252520" y="5519880"/>
                <a:chExt cx="1600200" cy="7642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252520" y="5519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52520" y="58244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3196080" y="5500800"/>
              <a:ext cx="918720" cy="808920"/>
              <a:chOff x="3196080" y="5500800"/>
              <a:chExt cx="918720" cy="80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3196080" y="550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00400" y="585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160020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005360" y="1828800"/>
            <a:ext cx="4800600" cy="1188360"/>
            <a:chOff x="4005360" y="1828800"/>
            <a:chExt cx="4800600" cy="1188360"/>
          </a:xfrm>
        </p:grpSpPr>
        <p:sp>
          <p:nvSpPr>
            <p:cNvPr id="329" name=""/>
            <p:cNvSpPr/>
            <p:nvPr/>
          </p:nvSpPr>
          <p:spPr>
            <a:xfrm>
              <a:off x="4005360" y="1828800"/>
              <a:ext cx="48006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ubstitute 0 for x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15 for y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and    for 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4724280" y="2252880"/>
              <a:ext cx="838080" cy="764280"/>
              <a:chOff x="4724280" y="2252880"/>
              <a:chExt cx="838080" cy="76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4724280" y="22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5ff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24280" y="255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5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152280" y="2819520"/>
            <a:ext cx="8991720" cy="1191240"/>
            <a:chOff x="152280" y="2819520"/>
            <a:chExt cx="8991720" cy="1191240"/>
          </a:xfrm>
        </p:grpSpPr>
        <p:sp>
          <p:nvSpPr>
            <p:cNvPr id="334" name=""/>
            <p:cNvSpPr/>
            <p:nvPr/>
          </p:nvSpPr>
          <p:spPr>
            <a:xfrm>
              <a:off x="152280" y="2819520"/>
              <a:ext cx="899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equation of the line the roller coaster travels along, in point-slope form,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Substitute 300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029200" y="3095640"/>
              <a:ext cx="914400" cy="764640"/>
              <a:chOff x="5029200" y="3095640"/>
              <a:chExt cx="914400" cy="764640"/>
            </a:xfrm>
          </p:grpSpPr>
          <p:sp>
            <p:nvSpPr>
              <p:cNvPr id="336" name=""/>
              <p:cNvSpPr/>
              <p:nvPr/>
            </p:nvSpPr>
            <p:spPr>
              <a:xfrm>
                <a:off x="5029200" y="3095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340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457200" y="3962520"/>
            <a:ext cx="3886200" cy="764280"/>
            <a:chOff x="457200" y="3962520"/>
            <a:chExt cx="3886200" cy="764280"/>
          </a:xfrm>
        </p:grpSpPr>
        <p:sp>
          <p:nvSpPr>
            <p:cNvPr id="339" name=""/>
            <p:cNvSpPr/>
            <p:nvPr/>
          </p:nvSpPr>
          <p:spPr>
            <a:xfrm>
              <a:off x="457200" y="4114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 =  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0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905120" y="3962520"/>
              <a:ext cx="1066680" cy="764280"/>
              <a:chOff x="1905120" y="3962520"/>
              <a:chExt cx="1066680" cy="764280"/>
            </a:xfrm>
          </p:grpSpPr>
          <p:sp>
            <p:nvSpPr>
              <p:cNvPr id="341" name=""/>
              <p:cNvSpPr/>
              <p:nvPr/>
            </p:nvSpPr>
            <p:spPr>
              <a:xfrm>
                <a:off x="1905120" y="39625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0512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4572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57200" y="2057400"/>
            <a:ext cx="4647960" cy="764640"/>
            <a:chOff x="457200" y="2057400"/>
            <a:chExt cx="4647960" cy="764640"/>
          </a:xfrm>
        </p:grpSpPr>
        <p:sp>
          <p:nvSpPr>
            <p:cNvPr id="345" name=""/>
            <p:cNvSpPr/>
            <p:nvPr/>
          </p:nvSpPr>
          <p:spPr>
            <a:xfrm>
              <a:off x="457200" y="221004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04760" y="2057400"/>
              <a:ext cx="1066680" cy="764640"/>
              <a:chOff x="1904760" y="2057400"/>
              <a:chExt cx="1066680" cy="764640"/>
            </a:xfrm>
          </p:grpSpPr>
          <p:sp>
            <p:nvSpPr>
              <p:cNvPr id="347" name=""/>
              <p:cNvSpPr/>
              <p:nvPr/>
            </p:nvSpPr>
            <p:spPr>
              <a:xfrm>
                <a:off x="1904760" y="2057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04760" y="236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2193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115, so the roller coaster will be at a height of 115 feet after traveling 300 feet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1272960"/>
            <a:ext cx="79246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 = –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line with slope 4 passing through (3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line with slope –2 passing through (–2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26960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–5, –6)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5616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5 = 4(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6171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4 = –2(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438280" y="3184560"/>
            <a:ext cx="914400" cy="703440"/>
            <a:chOff x="2438280" y="3184560"/>
            <a:chExt cx="914400" cy="703440"/>
          </a:xfrm>
        </p:grpSpPr>
        <p:sp>
          <p:nvSpPr>
            <p:cNvPr id="364" name=""/>
            <p:cNvSpPr/>
            <p:nvPr/>
          </p:nvSpPr>
          <p:spPr>
            <a:xfrm>
              <a:off x="2438280" y="31845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3489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86200" y="3137400"/>
            <a:ext cx="4876920" cy="673200"/>
            <a:chOff x="3886200" y="3137400"/>
            <a:chExt cx="4876920" cy="673200"/>
          </a:xfrm>
        </p:grpSpPr>
        <p:sp>
          <p:nvSpPr>
            <p:cNvPr id="367" name=""/>
            <p:cNvSpPr/>
            <p:nvPr/>
          </p:nvSpPr>
          <p:spPr>
            <a:xfrm>
              <a:off x="3886200" y="322956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(6, 4),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291280" y="3137400"/>
              <a:ext cx="990360" cy="673200"/>
              <a:chOff x="5291280" y="3137400"/>
              <a:chExt cx="990360" cy="673200"/>
            </a:xfrm>
          </p:grpSpPr>
          <p:sp>
            <p:nvSpPr>
              <p:cNvPr id="369" name=""/>
              <p:cNvSpPr/>
              <p:nvPr/>
            </p:nvSpPr>
            <p:spPr>
              <a:xfrm>
                <a:off x="5291280" y="313740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91280" y="34117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Verdan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equation of the line that passes through each pair of points in slope-intercep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0, –3) and (2, –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5, –3) and (5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–6, 0) and (0, 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4, 6) and (–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98600" y="350460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85640" y="403776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074920" y="5271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24600" y="4494960"/>
            <a:ext cx="1931760" cy="915840"/>
            <a:chOff x="5124600" y="4494960"/>
            <a:chExt cx="1931760" cy="915840"/>
          </a:xfrm>
        </p:grpSpPr>
        <p:sp>
          <p:nvSpPr>
            <p:cNvPr id="60" name=""/>
            <p:cNvSpPr/>
            <p:nvPr/>
          </p:nvSpPr>
          <p:spPr>
            <a:xfrm>
              <a:off x="5124600" y="4647600"/>
              <a:ext cx="193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00"/>
                  </a:solidFill>
                  <a:latin typeface="Verdana"/>
                </a:rPr>
                <a:t>y</a:t>
              </a: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 = –   </a:t>
              </a:r>
              <a:r>
                <a:rPr b="0" i="1" lang="en-US" sz="2800" spc="-1" strike="noStrike">
                  <a:solidFill>
                    <a:srgbClr val="ff3300"/>
                  </a:solidFill>
                  <a:latin typeface="Verdana"/>
                </a:rPr>
                <a:t>x</a:t>
              </a: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 –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977080" y="4494960"/>
              <a:ext cx="391320" cy="915840"/>
              <a:chOff x="5977080" y="4494960"/>
              <a:chExt cx="391320" cy="915840"/>
            </a:xfrm>
          </p:grpSpPr>
          <p:sp>
            <p:nvSpPr>
              <p:cNvPr id="62" name=""/>
              <p:cNvSpPr/>
              <p:nvPr/>
            </p:nvSpPr>
            <p:spPr>
              <a:xfrm>
                <a:off x="5985000" y="4494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77080" y="4890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600200"/>
            <a:ext cx="7620120" cy="3581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using equations for horizontal or vertical lines, write the equations of four lines that form a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98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Possible answer: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+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–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equation of a line given one point and the slop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828800"/>
            <a:ext cx="7238880" cy="914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-slop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276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int on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74796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32767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int-slop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67200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8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172200" y="4114440"/>
            <a:ext cx="0" cy="609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523880"/>
            <a:ext cx="7543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int-slope fo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n equation of a line with slop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ssing through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14600"/>
            <a:ext cx="8237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7 = 3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Using Point-Slope Form to Identify Information About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192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1814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4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n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3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) has slope 3, and passes through the point (4,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733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point-slop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419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value of m from the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81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point from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 =  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Using Point-Slope Form to Identify Information About a Li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64832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–6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3526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write using subtraction instead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95640" y="1676520"/>
            <a:ext cx="685800" cy="764280"/>
            <a:chOff x="2195640" y="1676520"/>
            <a:chExt cx="685800" cy="764280"/>
          </a:xfrm>
        </p:grpSpPr>
        <p:sp>
          <p:nvSpPr>
            <p:cNvPr id="123" name=""/>
            <p:cNvSpPr/>
            <p:nvPr/>
          </p:nvSpPr>
          <p:spPr>
            <a:xfrm>
              <a:off x="2195640" y="167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9040" y="1981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83760" y="2743200"/>
            <a:ext cx="2134440" cy="764640"/>
            <a:chOff x="1283760" y="2743200"/>
            <a:chExt cx="2134440" cy="764640"/>
          </a:xfrm>
        </p:grpSpPr>
        <p:grpSp>
          <p:nvGrpSpPr>
            <p:cNvPr id="126" name=""/>
            <p:cNvGrpSpPr/>
            <p:nvPr/>
          </p:nvGrpSpPr>
          <p:grpSpPr>
            <a:xfrm>
              <a:off x="2209680" y="2743200"/>
              <a:ext cx="685800" cy="764640"/>
              <a:chOff x="2209680" y="2743200"/>
              <a:chExt cx="685800" cy="764640"/>
            </a:xfrm>
          </p:grpSpPr>
          <p:sp>
            <p:nvSpPr>
              <p:cNvPr id="127" name=""/>
              <p:cNvSpPr/>
              <p:nvPr/>
            </p:nvSpPr>
            <p:spPr>
              <a:xfrm>
                <a:off x="2209680" y="2743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21200" y="3048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283760" y="2819520"/>
              <a:ext cx="213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69720" y="3352680"/>
            <a:ext cx="2467080" cy="764640"/>
            <a:chOff x="1269720" y="3352680"/>
            <a:chExt cx="2467080" cy="764640"/>
          </a:xfrm>
        </p:grpSpPr>
        <p:sp>
          <p:nvSpPr>
            <p:cNvPr id="131" name=""/>
            <p:cNvSpPr/>
            <p:nvPr/>
          </p:nvSpPr>
          <p:spPr>
            <a:xfrm>
              <a:off x="1269720" y="350532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3720" y="3352680"/>
              <a:ext cx="685800" cy="764640"/>
              <a:chOff x="2133720" y="3352680"/>
              <a:chExt cx="685800" cy="764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3720" y="3352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45240" y="3657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447920" y="3962520"/>
            <a:ext cx="1981080" cy="764280"/>
            <a:chOff x="1447920" y="3962520"/>
            <a:chExt cx="1981080" cy="764280"/>
          </a:xfrm>
        </p:grpSpPr>
        <p:sp>
          <p:nvSpPr>
            <p:cNvPr id="136" name=""/>
            <p:cNvSpPr/>
            <p:nvPr/>
          </p:nvSpPr>
          <p:spPr>
            <a:xfrm>
              <a:off x="1447920" y="4114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133720" y="3962520"/>
              <a:ext cx="685800" cy="764280"/>
              <a:chOff x="2133720" y="3962520"/>
              <a:chExt cx="685800" cy="764280"/>
            </a:xfrm>
          </p:grpSpPr>
          <p:sp>
            <p:nvSpPr>
              <p:cNvPr id="138" name=""/>
              <p:cNvSpPr/>
              <p:nvPr/>
            </p:nvSpPr>
            <p:spPr>
              <a:xfrm>
                <a:off x="2133720" y="3962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45240" y="4267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152280" y="5257800"/>
            <a:ext cx="8839440" cy="1068840"/>
            <a:chOff x="152280" y="5257800"/>
            <a:chExt cx="8839440" cy="1068840"/>
          </a:xfrm>
        </p:grpSpPr>
        <p:sp>
          <p:nvSpPr>
            <p:cNvPr id="141" name=""/>
            <p:cNvSpPr/>
            <p:nvPr/>
          </p:nvSpPr>
          <p:spPr>
            <a:xfrm>
              <a:off x="152280" y="5318280"/>
              <a:ext cx="883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i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) has slope   , and passes through the point (–6, 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419720" y="5257800"/>
              <a:ext cx="3657600" cy="764640"/>
              <a:chOff x="4419720" y="5257800"/>
              <a:chExt cx="3657600" cy="764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4419720" y="5257800"/>
                <a:ext cx="685800" cy="764640"/>
                <a:chOff x="4419720" y="5257800"/>
                <a:chExt cx="685800" cy="764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419720" y="5257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31240" y="5562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7391520" y="5257800"/>
                <a:ext cx="685800" cy="764640"/>
                <a:chOff x="7391520" y="5257800"/>
                <a:chExt cx="685800" cy="764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391520" y="5257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3040" y="5562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1432080"/>
            <a:ext cx="8237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 = 2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1560" y="31384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1920" y="37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544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9672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562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n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 has slope 2, and passes through the point (2,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point-slop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2670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value of m from the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point from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25:17Z</dcterms:modified>
  <cp:revision>127</cp:revision>
  <dc:subject/>
  <dc:title>Slide 1</dc:title>
</cp:coreProperties>
</file>