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218A-EB24-49D6-BA73-C8A3CF746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3BEE-3EA1-46D8-866B-4A5FFFD10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442E-E5C6-45B9-82FB-7C768D41F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7773-EB93-437D-9338-5E0CECF03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3CD3-AA82-4CB3-A159-D3AA0A052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5046-C12A-43F4-99A7-C2179E192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2713-1D37-4357-BB99-09E530BD1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679F-B72B-4D87-A68A-36DCC1DE2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F0EC-093B-490A-AF2D-FD28FB6AF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9ED4-2AC1-4EA0-829D-1A3B9A177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AEBD-7E25-43E1-BB21-B14D42E39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512B-8921-4666-A40E-B629000F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3961F-CD46-4731-99AB-BD2022DA6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61240"/>
            <a:chOff x="0" y="0"/>
            <a:chExt cx="9144000" cy="686124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6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342720" y="16740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12-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371600" y="162720"/>
              <a:ext cx="777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Point-Slope For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52280" y="655308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29160" y="236160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2" action="ppaction://hlinksldjump"/>
          </p:cNvPr>
          <p:cNvSpPr/>
          <p:nvPr/>
        </p:nvSpPr>
        <p:spPr>
          <a:xfrm>
            <a:off x="3699360" y="3021840"/>
            <a:ext cx="34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Problem of the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3" action="ppaction://hlinksldjump"/>
          </p:cNvPr>
          <p:cNvSpPr/>
          <p:nvPr/>
        </p:nvSpPr>
        <p:spPr>
          <a:xfrm>
            <a:off x="3679920" y="3631320"/>
            <a:ext cx="35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838080" y="160020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– 2 =   (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1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133720" y="1447920"/>
            <a:ext cx="685800" cy="764280"/>
            <a:chOff x="2133720" y="1447920"/>
            <a:chExt cx="685800" cy="764280"/>
          </a:xfrm>
        </p:grpSpPr>
        <p:sp>
          <p:nvSpPr>
            <p:cNvPr id="174" name=""/>
            <p:cNvSpPr/>
            <p:nvPr/>
          </p:nvSpPr>
          <p:spPr>
            <a:xfrm>
              <a:off x="2133720" y="14479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57120" y="17524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09480" y="4343400"/>
            <a:ext cx="312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= (–3,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19720" y="30481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Rewrite using subtraction instead of add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283400" y="2438280"/>
            <a:ext cx="2135160" cy="764640"/>
            <a:chOff x="1283400" y="2438280"/>
            <a:chExt cx="2135160" cy="764640"/>
          </a:xfrm>
        </p:grpSpPr>
        <p:grpSp>
          <p:nvGrpSpPr>
            <p:cNvPr id="179" name=""/>
            <p:cNvGrpSpPr/>
            <p:nvPr/>
          </p:nvGrpSpPr>
          <p:grpSpPr>
            <a:xfrm>
              <a:off x="2209680" y="2438280"/>
              <a:ext cx="685800" cy="764640"/>
              <a:chOff x="2209680" y="2438280"/>
              <a:chExt cx="685800" cy="764640"/>
            </a:xfrm>
          </p:grpSpPr>
          <p:sp>
            <p:nvSpPr>
              <p:cNvPr id="180" name=""/>
              <p:cNvSpPr/>
              <p:nvPr/>
            </p:nvSpPr>
            <p:spPr>
              <a:xfrm>
                <a:off x="2209680" y="243828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8000"/>
                    </a:solidFill>
                    <a:uFillTx/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221200" y="27432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8000"/>
                    </a:solidFill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"/>
            <p:cNvSpPr/>
            <p:nvPr/>
          </p:nvSpPr>
          <p:spPr>
            <a:xfrm>
              <a:off x="1283400" y="2514600"/>
              <a:ext cx="213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– </a:t>
              </a:r>
              <a:r>
                <a:rPr b="0" lang="en-US" sz="2400" spc="-1" strike="noStrike">
                  <a:solidFill>
                    <a:srgbClr val="006699"/>
                  </a:solidFill>
                  <a:latin typeface="Verdana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  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+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1269720" y="3048120"/>
            <a:ext cx="2467080" cy="764280"/>
            <a:chOff x="1269720" y="3048120"/>
            <a:chExt cx="2467080" cy="764280"/>
          </a:xfrm>
        </p:grpSpPr>
        <p:sp>
          <p:nvSpPr>
            <p:cNvPr id="184" name=""/>
            <p:cNvSpPr/>
            <p:nvPr/>
          </p:nvSpPr>
          <p:spPr>
            <a:xfrm>
              <a:off x="1269720" y="3200400"/>
              <a:ext cx="246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– 2 =   [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– </a:t>
              </a: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(–3)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2133720" y="3048120"/>
              <a:ext cx="685800" cy="764280"/>
              <a:chOff x="2133720" y="3048120"/>
              <a:chExt cx="685800" cy="764280"/>
            </a:xfrm>
          </p:grpSpPr>
          <p:sp>
            <p:nvSpPr>
              <p:cNvPr id="186" name=""/>
              <p:cNvSpPr/>
              <p:nvPr/>
            </p:nvSpPr>
            <p:spPr>
              <a:xfrm>
                <a:off x="2133720" y="30481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145240" y="33526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8" name=""/>
          <p:cNvGrpSpPr/>
          <p:nvPr/>
        </p:nvGrpSpPr>
        <p:grpSpPr>
          <a:xfrm>
            <a:off x="1447920" y="3657600"/>
            <a:ext cx="1981080" cy="764280"/>
            <a:chOff x="1447920" y="3657600"/>
            <a:chExt cx="1981080" cy="764280"/>
          </a:xfrm>
        </p:grpSpPr>
        <p:sp>
          <p:nvSpPr>
            <p:cNvPr id="189" name=""/>
            <p:cNvSpPr/>
            <p:nvPr/>
          </p:nvSpPr>
          <p:spPr>
            <a:xfrm>
              <a:off x="1447920" y="380988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m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"/>
            <p:cNvGrpSpPr/>
            <p:nvPr/>
          </p:nvGrpSpPr>
          <p:grpSpPr>
            <a:xfrm>
              <a:off x="2133720" y="3657600"/>
              <a:ext cx="685800" cy="764280"/>
              <a:chOff x="2133720" y="3657600"/>
              <a:chExt cx="685800" cy="764280"/>
            </a:xfrm>
          </p:grpSpPr>
          <p:sp>
            <p:nvSpPr>
              <p:cNvPr id="191" name=""/>
              <p:cNvSpPr/>
              <p:nvPr/>
            </p:nvSpPr>
            <p:spPr>
              <a:xfrm>
                <a:off x="2133720" y="36576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145240" y="39621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3" name=""/>
          <p:cNvGrpSpPr/>
          <p:nvPr/>
        </p:nvGrpSpPr>
        <p:grpSpPr>
          <a:xfrm>
            <a:off x="152280" y="4952880"/>
            <a:ext cx="8839440" cy="1068840"/>
            <a:chOff x="152280" y="4952880"/>
            <a:chExt cx="8839440" cy="1068840"/>
          </a:xfrm>
        </p:grpSpPr>
        <p:sp>
          <p:nvSpPr>
            <p:cNvPr id="194" name=""/>
            <p:cNvSpPr/>
            <p:nvPr/>
          </p:nvSpPr>
          <p:spPr>
            <a:xfrm>
              <a:off x="152280" y="5013360"/>
              <a:ext cx="8839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he line defined by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– 2 =   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+ 3) has slope   , and passes through the point (–3, 2)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4419720" y="4952880"/>
              <a:ext cx="3657600" cy="764640"/>
              <a:chOff x="4419720" y="4952880"/>
              <a:chExt cx="3657600" cy="764640"/>
            </a:xfrm>
          </p:grpSpPr>
          <p:grpSp>
            <p:nvGrpSpPr>
              <p:cNvPr id="196" name=""/>
              <p:cNvGrpSpPr/>
              <p:nvPr/>
            </p:nvGrpSpPr>
            <p:grpSpPr>
              <a:xfrm>
                <a:off x="4419720" y="4952880"/>
                <a:ext cx="685800" cy="764640"/>
                <a:chOff x="4419720" y="4952880"/>
                <a:chExt cx="685800" cy="76464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4419720" y="4952880"/>
                  <a:ext cx="685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4431240" y="525780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7391520" y="4952880"/>
                <a:ext cx="685800" cy="764640"/>
                <a:chOff x="7391520" y="4952880"/>
                <a:chExt cx="685800" cy="76464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7391520" y="4952880"/>
                  <a:ext cx="685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7403040" y="525780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02" name=""/>
          <p:cNvSpPr/>
          <p:nvPr/>
        </p:nvSpPr>
        <p:spPr>
          <a:xfrm>
            <a:off x="838080" y="2057400"/>
            <a:ext cx="5181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y</a:t>
            </a:r>
            <a:r>
              <a:rPr b="0" lang="en-US" sz="2400" spc="-1" strike="noStrike" baseline="-25000">
                <a:solidFill>
                  <a:srgbClr val="006699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8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20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Point-Slope For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228600" y="1828800"/>
            <a:ext cx="8763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the point-slope form of the equation with the given slope that passes through the indicated po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line with slope 4 passing through (5, –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3360" y="912960"/>
            <a:ext cx="908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2A: Writing the Point-Slope Form of an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04920" y="3581280"/>
            <a:ext cx="5181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y</a:t>
            </a:r>
            <a:r>
              <a:rPr b="0" lang="en-US" sz="2400" spc="-1" strike="noStrike" baseline="-25000">
                <a:solidFill>
                  <a:srgbClr val="006699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8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x –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52280" y="512136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equation of the line with slope 4 that passes through (5, –2) in point-slope form i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2 = 4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5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09880" y="4038480"/>
            <a:ext cx="54864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Substitute 5 for x</a:t>
            </a:r>
            <a:r>
              <a:rPr b="0" i="1" lang="en-US" sz="2400" spc="-1" strike="noStrike" baseline="-25000">
                <a:solidFill>
                  <a:srgbClr val="3365ff"/>
                </a:solidFill>
                <a:latin typeface="Verdana"/>
              </a:rPr>
              <a:t>1</a:t>
            </a: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, –2 for y</a:t>
            </a:r>
            <a:r>
              <a:rPr b="0" i="1" lang="en-US" sz="2400" spc="-1" strike="noStrike" baseline="-25000">
                <a:solidFill>
                  <a:srgbClr val="3365ff"/>
                </a:solidFill>
                <a:latin typeface="Verdana"/>
              </a:rPr>
              <a:t>1</a:t>
            </a: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,     and 4 for 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52280" y="41148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 (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–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] = 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5720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 + 2 = 4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21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Point-Slope For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228600" y="182880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line with slope –5 passing through (–3, 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3360" y="912960"/>
            <a:ext cx="908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2B: Writing the Point-Slope Form of an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0880" y="2362320"/>
            <a:ext cx="5181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y</a:t>
            </a:r>
            <a:r>
              <a:rPr b="0" lang="en-US" sz="2400" spc="-1" strike="noStrike" baseline="-25000">
                <a:solidFill>
                  <a:srgbClr val="006699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8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85800" y="449568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equation of the line with slope –5 that passes through (–3, 7) in point-slope form i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7 = –5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3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809880" y="2743200"/>
            <a:ext cx="54864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Substitute –3 for x</a:t>
            </a:r>
            <a:r>
              <a:rPr b="0" i="1" lang="en-US" sz="2400" spc="-1" strike="noStrike" baseline="-25000">
                <a:solidFill>
                  <a:srgbClr val="3365ff"/>
                </a:solidFill>
                <a:latin typeface="Verdana"/>
              </a:rPr>
              <a:t>1</a:t>
            </a: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, 7 for y</a:t>
            </a:r>
            <a:r>
              <a:rPr b="0" i="1" lang="en-US" sz="2400" spc="-1" strike="noStrike" baseline="-25000">
                <a:solidFill>
                  <a:srgbClr val="3365ff"/>
                </a:solidFill>
                <a:latin typeface="Verdana"/>
              </a:rPr>
              <a:t>1</a:t>
            </a: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,    and –5 for 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33520" y="289548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-5[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(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–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33520" y="35053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7 = –5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230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Point-Slope For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28600" y="1508040"/>
            <a:ext cx="8763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the point-slope form of the equation with the given slope that passes through the indicated po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line with slope 2 passing through (2, –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2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62120" y="3581280"/>
            <a:ext cx="5181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y</a:t>
            </a:r>
            <a:r>
              <a:rPr b="0" lang="en-US" sz="2400" spc="-1" strike="noStrike" baseline="-25000">
                <a:solidFill>
                  <a:srgbClr val="006699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8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x –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52280" y="512136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equation of the line with slope 2 that passes through (2, –2) in point-slope form i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2 = 2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2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809880" y="4038480"/>
            <a:ext cx="54864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Substitute 2 for x</a:t>
            </a:r>
            <a:r>
              <a:rPr b="0" i="1" lang="en-US" sz="2400" spc="-1" strike="noStrike" baseline="-25000">
                <a:solidFill>
                  <a:srgbClr val="3365ff"/>
                </a:solidFill>
                <a:latin typeface="Verdana"/>
              </a:rPr>
              <a:t>1</a:t>
            </a: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, –2 for y</a:t>
            </a:r>
            <a:r>
              <a:rPr b="0" i="1" lang="en-US" sz="2400" spc="-1" strike="noStrike" baseline="-25000">
                <a:solidFill>
                  <a:srgbClr val="3365ff"/>
                </a:solidFill>
                <a:latin typeface="Verdana"/>
              </a:rPr>
              <a:t>1</a:t>
            </a: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,     and 2 for 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52280" y="41148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 (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–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] = 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838080" y="45720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 + 2 = 2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243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Point-Slope For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228600" y="182880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line with slope –4 passing through (–2,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2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80880" y="2362320"/>
            <a:ext cx="5181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y</a:t>
            </a:r>
            <a:r>
              <a:rPr b="0" lang="en-US" sz="2400" spc="-1" strike="noStrike" baseline="-25000">
                <a:solidFill>
                  <a:srgbClr val="006699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8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85800" y="449568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equation of the line with slope –4 that passes through (–2, 5) in point-slope form i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5 = –4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2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809880" y="2743200"/>
            <a:ext cx="54864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Substitute –2 for x</a:t>
            </a:r>
            <a:r>
              <a:rPr b="0" i="1" lang="en-US" sz="2400" spc="-1" strike="noStrike" baseline="-25000">
                <a:solidFill>
                  <a:srgbClr val="3365ff"/>
                </a:solidFill>
                <a:latin typeface="Verdana"/>
              </a:rPr>
              <a:t>1</a:t>
            </a: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, 5 for y</a:t>
            </a:r>
            <a:r>
              <a:rPr b="0" i="1" lang="en-US" sz="2400" spc="-1" strike="noStrike" baseline="-25000">
                <a:solidFill>
                  <a:srgbClr val="3365ff"/>
                </a:solidFill>
                <a:latin typeface="Verdana"/>
              </a:rPr>
              <a:t>1</a:t>
            </a: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,    and –4 for 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89548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–4[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– (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–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33520" y="35053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5 = –4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256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Point-Slope For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457200" y="1371600"/>
            <a:ext cx="8153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roller coaster starts by ascending 20 feet for every 30 feet it moves forward. The coaster starts at a point 18 feet above the ground. Write the equation of the line that the roller coaster travels along in point-slope form, and use it to determine the height of the coaster after traveling 150 feet forward. Assume that the roller coaster travels in a straight line for the first 150 fe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3: </a:t>
            </a:r>
            <a:r>
              <a:rPr b="0" i="1" lang="en-US" sz="2400" spc="-1" strike="noStrike">
                <a:solidFill>
                  <a:srgbClr val="ff0000"/>
                </a:solidFill>
                <a:latin typeface="Arial Black"/>
              </a:rPr>
              <a:t>Entertainment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228600" y="5105520"/>
            <a:ext cx="8610480" cy="1381680"/>
            <a:chOff x="228600" y="5105520"/>
            <a:chExt cx="8610480" cy="1381680"/>
          </a:xfrm>
        </p:grpSpPr>
        <p:grpSp>
          <p:nvGrpSpPr>
            <p:cNvPr id="264" name=""/>
            <p:cNvGrpSpPr/>
            <p:nvPr/>
          </p:nvGrpSpPr>
          <p:grpSpPr>
            <a:xfrm>
              <a:off x="228600" y="5105520"/>
              <a:ext cx="8610480" cy="1381680"/>
              <a:chOff x="228600" y="5105520"/>
              <a:chExt cx="8610480" cy="1381680"/>
            </a:xfrm>
          </p:grpSpPr>
          <p:sp>
            <p:nvSpPr>
              <p:cNvPr id="265" name=""/>
              <p:cNvSpPr/>
              <p:nvPr/>
            </p:nvSpPr>
            <p:spPr>
              <a:xfrm>
                <a:off x="228600" y="5105520"/>
                <a:ext cx="8610480" cy="13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As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increases by 30,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y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increases by 20, so the slope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of the line is      or   . The line passes through the point (0, 18).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2252520" y="5519880"/>
                <a:ext cx="1600200" cy="764280"/>
                <a:chOff x="2252520" y="5519880"/>
                <a:chExt cx="1600200" cy="76428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2252520" y="5519880"/>
                  <a:ext cx="160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2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2252520" y="5824440"/>
                  <a:ext cx="10666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3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"/>
            <p:cNvGrpSpPr/>
            <p:nvPr/>
          </p:nvGrpSpPr>
          <p:grpSpPr>
            <a:xfrm>
              <a:off x="3196080" y="5500800"/>
              <a:ext cx="918720" cy="808920"/>
              <a:chOff x="3196080" y="5500800"/>
              <a:chExt cx="918720" cy="808920"/>
            </a:xfrm>
          </p:grpSpPr>
          <p:sp>
            <p:nvSpPr>
              <p:cNvPr id="270" name=""/>
              <p:cNvSpPr/>
              <p:nvPr/>
            </p:nvSpPr>
            <p:spPr>
              <a:xfrm>
                <a:off x="3196080" y="55008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200400" y="58500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2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273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Point-Slope For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3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33520" y="1600200"/>
            <a:ext cx="5181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y</a:t>
            </a:r>
            <a:r>
              <a:rPr b="0" lang="en-US" sz="2400" spc="-1" strike="noStrike" baseline="-25000">
                <a:solidFill>
                  <a:srgbClr val="006699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8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005360" y="1828800"/>
            <a:ext cx="4800600" cy="1188360"/>
            <a:chOff x="4005360" y="1828800"/>
            <a:chExt cx="4800600" cy="1188360"/>
          </a:xfrm>
        </p:grpSpPr>
        <p:sp>
          <p:nvSpPr>
            <p:cNvPr id="281" name=""/>
            <p:cNvSpPr/>
            <p:nvPr/>
          </p:nvSpPr>
          <p:spPr>
            <a:xfrm>
              <a:off x="4005360" y="1828800"/>
              <a:ext cx="4800600" cy="10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65ff"/>
                  </a:solidFill>
                  <a:latin typeface="Verdana"/>
                </a:rPr>
                <a:t>Substitute 0 for x</a:t>
              </a:r>
              <a:r>
                <a:rPr b="0" i="1" lang="en-US" sz="2400" spc="-1" strike="noStrike" baseline="-25000">
                  <a:solidFill>
                    <a:srgbClr val="3365ff"/>
                  </a:solidFill>
                  <a:latin typeface="Verdana"/>
                </a:rPr>
                <a:t>1</a:t>
              </a:r>
              <a:r>
                <a:rPr b="0" i="1" lang="en-US" sz="2400" spc="-1" strike="noStrike">
                  <a:solidFill>
                    <a:srgbClr val="3365ff"/>
                  </a:solidFill>
                  <a:latin typeface="Verdana"/>
                </a:rPr>
                <a:t>, 18 for y</a:t>
              </a:r>
              <a:r>
                <a:rPr b="0" i="1" lang="en-US" sz="2400" spc="-1" strike="noStrike" baseline="-25000">
                  <a:solidFill>
                    <a:srgbClr val="3365ff"/>
                  </a:solidFill>
                  <a:latin typeface="Verdana"/>
                </a:rPr>
                <a:t>1</a:t>
              </a:r>
              <a:r>
                <a:rPr b="0" i="1" lang="en-US" sz="2400" spc="-1" strike="noStrike">
                  <a:solidFill>
                    <a:srgbClr val="3365ff"/>
                  </a:solidFill>
                  <a:latin typeface="Verdana"/>
                </a:rPr>
                <a:t>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65ff"/>
                  </a:solidFill>
                  <a:latin typeface="Verdana"/>
                </a:rPr>
                <a:t>and    for m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2" name=""/>
            <p:cNvGrpSpPr/>
            <p:nvPr/>
          </p:nvGrpSpPr>
          <p:grpSpPr>
            <a:xfrm>
              <a:off x="4724280" y="2252880"/>
              <a:ext cx="838080" cy="764280"/>
              <a:chOff x="4724280" y="2252880"/>
              <a:chExt cx="838080" cy="764280"/>
            </a:xfrm>
          </p:grpSpPr>
          <p:sp>
            <p:nvSpPr>
              <p:cNvPr id="283" name=""/>
              <p:cNvSpPr/>
              <p:nvPr/>
            </p:nvSpPr>
            <p:spPr>
              <a:xfrm>
                <a:off x="4724280" y="225288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 u="sng">
                    <a:solidFill>
                      <a:srgbClr val="3365ff"/>
                    </a:solidFill>
                    <a:uFillTx/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724280" y="255744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3365ff"/>
                    </a:solidFill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5" name=""/>
          <p:cNvGrpSpPr/>
          <p:nvPr/>
        </p:nvGrpSpPr>
        <p:grpSpPr>
          <a:xfrm>
            <a:off x="152280" y="2819520"/>
            <a:ext cx="8991720" cy="1191240"/>
            <a:chOff x="152280" y="2819520"/>
            <a:chExt cx="8991720" cy="1191240"/>
          </a:xfrm>
        </p:grpSpPr>
        <p:sp>
          <p:nvSpPr>
            <p:cNvPr id="286" name=""/>
            <p:cNvSpPr/>
            <p:nvPr/>
          </p:nvSpPr>
          <p:spPr>
            <a:xfrm>
              <a:off x="152280" y="2819520"/>
              <a:ext cx="8991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he equation of the line the roller coaster travels along, in point-slope form, is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– 18 =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. Substitute 150 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to find the value o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5029200" y="3095640"/>
              <a:ext cx="914400" cy="764640"/>
              <a:chOff x="5029200" y="3095640"/>
              <a:chExt cx="914400" cy="764640"/>
            </a:xfrm>
          </p:grpSpPr>
          <p:sp>
            <p:nvSpPr>
              <p:cNvPr id="288" name=""/>
              <p:cNvSpPr/>
              <p:nvPr/>
            </p:nvSpPr>
            <p:spPr>
              <a:xfrm>
                <a:off x="5029200" y="309564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029200" y="340056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0" name=""/>
          <p:cNvGrpSpPr/>
          <p:nvPr/>
        </p:nvGrpSpPr>
        <p:grpSpPr>
          <a:xfrm>
            <a:off x="457200" y="3962520"/>
            <a:ext cx="3886200" cy="764280"/>
            <a:chOff x="457200" y="3962520"/>
            <a:chExt cx="3886200" cy="764280"/>
          </a:xfrm>
        </p:grpSpPr>
        <p:sp>
          <p:nvSpPr>
            <p:cNvPr id="291" name=""/>
            <p:cNvSpPr/>
            <p:nvPr/>
          </p:nvSpPr>
          <p:spPr>
            <a:xfrm>
              <a:off x="457200" y="411480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– 18 =   (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150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1905120" y="3962520"/>
              <a:ext cx="1066680" cy="764280"/>
              <a:chOff x="1905120" y="3962520"/>
              <a:chExt cx="1066680" cy="764280"/>
            </a:xfrm>
          </p:grpSpPr>
          <p:sp>
            <p:nvSpPr>
              <p:cNvPr id="293" name=""/>
              <p:cNvSpPr/>
              <p:nvPr/>
            </p:nvSpPr>
            <p:spPr>
              <a:xfrm>
                <a:off x="1905120" y="396252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905120" y="42670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5" name=""/>
          <p:cNvSpPr/>
          <p:nvPr/>
        </p:nvSpPr>
        <p:spPr>
          <a:xfrm>
            <a:off x="457200" y="47242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18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457200" y="2057400"/>
            <a:ext cx="4647960" cy="764640"/>
            <a:chOff x="457200" y="2057400"/>
            <a:chExt cx="4647960" cy="764640"/>
          </a:xfrm>
        </p:grpSpPr>
        <p:sp>
          <p:nvSpPr>
            <p:cNvPr id="297" name=""/>
            <p:cNvSpPr/>
            <p:nvPr/>
          </p:nvSpPr>
          <p:spPr>
            <a:xfrm>
              <a:off x="457200" y="2210040"/>
              <a:ext cx="464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– </a:t>
              </a:r>
              <a:r>
                <a:rPr b="0" lang="en-US" sz="2400" spc="-1" strike="noStrike">
                  <a:solidFill>
                    <a:srgbClr val="006699"/>
                  </a:solidFill>
                  <a:latin typeface="Verdana"/>
                </a:rPr>
                <a:t>18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  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–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8" name=""/>
            <p:cNvGrpSpPr/>
            <p:nvPr/>
          </p:nvGrpSpPr>
          <p:grpSpPr>
            <a:xfrm>
              <a:off x="1904760" y="2057400"/>
              <a:ext cx="1066680" cy="764640"/>
              <a:chOff x="1904760" y="2057400"/>
              <a:chExt cx="1066680" cy="764640"/>
            </a:xfrm>
          </p:grpSpPr>
          <p:sp>
            <p:nvSpPr>
              <p:cNvPr id="299" name=""/>
              <p:cNvSpPr/>
              <p:nvPr/>
            </p:nvSpPr>
            <p:spPr>
              <a:xfrm>
                <a:off x="1904760" y="205740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8000"/>
                    </a:solidFill>
                    <a:uFillTx/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904760" y="23623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8000"/>
                    </a:solidFill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1" name=""/>
          <p:cNvSpPr/>
          <p:nvPr/>
        </p:nvSpPr>
        <p:spPr>
          <a:xfrm>
            <a:off x="1219320" y="5181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28600" y="563868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value of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118, so the roller coaster will be at a height of 118 feet after traveling 150 feet forw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30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Point-Slope For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" y="1371600"/>
            <a:ext cx="8153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roller coaster starts by ascending 15 feet for every 45 feet it moves forward. The coaster starts at a point 15 feet above the ground. Write the equation of the line that the roller coaster travels along in point-slope form, and use it to determine the height of the coaster after traveling 300 feet forward. Assume that the roller coaster travels in a straight line for the first 300 fe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28600" y="5105520"/>
            <a:ext cx="8610480" cy="1381680"/>
            <a:chOff x="228600" y="5105520"/>
            <a:chExt cx="8610480" cy="1381680"/>
          </a:xfrm>
        </p:grpSpPr>
        <p:grpSp>
          <p:nvGrpSpPr>
            <p:cNvPr id="312" name=""/>
            <p:cNvGrpSpPr/>
            <p:nvPr/>
          </p:nvGrpSpPr>
          <p:grpSpPr>
            <a:xfrm>
              <a:off x="228600" y="5105520"/>
              <a:ext cx="8610480" cy="1381680"/>
              <a:chOff x="228600" y="5105520"/>
              <a:chExt cx="8610480" cy="1381680"/>
            </a:xfrm>
          </p:grpSpPr>
          <p:sp>
            <p:nvSpPr>
              <p:cNvPr id="313" name=""/>
              <p:cNvSpPr/>
              <p:nvPr/>
            </p:nvSpPr>
            <p:spPr>
              <a:xfrm>
                <a:off x="228600" y="5105520"/>
                <a:ext cx="8610480" cy="13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As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increases by 45,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y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increases by 15, so the slope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of the line is      or   . The line passes through the point (0, 15).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4" name=""/>
              <p:cNvGrpSpPr/>
              <p:nvPr/>
            </p:nvGrpSpPr>
            <p:grpSpPr>
              <a:xfrm>
                <a:off x="2252520" y="5519880"/>
                <a:ext cx="1600200" cy="764280"/>
                <a:chOff x="2252520" y="5519880"/>
                <a:chExt cx="1600200" cy="76428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2252520" y="5519880"/>
                  <a:ext cx="160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1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2252520" y="5824440"/>
                  <a:ext cx="10666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4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7" name=""/>
            <p:cNvGrpSpPr/>
            <p:nvPr/>
          </p:nvGrpSpPr>
          <p:grpSpPr>
            <a:xfrm>
              <a:off x="3196080" y="5500800"/>
              <a:ext cx="918720" cy="808920"/>
              <a:chOff x="3196080" y="5500800"/>
              <a:chExt cx="918720" cy="808920"/>
            </a:xfrm>
          </p:grpSpPr>
          <p:sp>
            <p:nvSpPr>
              <p:cNvPr id="318" name=""/>
              <p:cNvSpPr/>
              <p:nvPr/>
            </p:nvSpPr>
            <p:spPr>
              <a:xfrm>
                <a:off x="3196080" y="55008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200400" y="58500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0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321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Point-Slope For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3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33520" y="1600200"/>
            <a:ext cx="5181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y</a:t>
            </a:r>
            <a:r>
              <a:rPr b="0" lang="en-US" sz="2400" spc="-1" strike="noStrike" baseline="-25000">
                <a:solidFill>
                  <a:srgbClr val="006699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8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4005360" y="1828800"/>
            <a:ext cx="4800600" cy="1188360"/>
            <a:chOff x="4005360" y="1828800"/>
            <a:chExt cx="4800600" cy="1188360"/>
          </a:xfrm>
        </p:grpSpPr>
        <p:sp>
          <p:nvSpPr>
            <p:cNvPr id="329" name=""/>
            <p:cNvSpPr/>
            <p:nvPr/>
          </p:nvSpPr>
          <p:spPr>
            <a:xfrm>
              <a:off x="4005360" y="1828800"/>
              <a:ext cx="4800600" cy="10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65ff"/>
                  </a:solidFill>
                  <a:latin typeface="Verdana"/>
                </a:rPr>
                <a:t>Substitute 0 for x</a:t>
              </a:r>
              <a:r>
                <a:rPr b="0" i="1" lang="en-US" sz="2400" spc="-1" strike="noStrike" baseline="-25000">
                  <a:solidFill>
                    <a:srgbClr val="3365ff"/>
                  </a:solidFill>
                  <a:latin typeface="Verdana"/>
                </a:rPr>
                <a:t>1</a:t>
              </a:r>
              <a:r>
                <a:rPr b="0" i="1" lang="en-US" sz="2400" spc="-1" strike="noStrike">
                  <a:solidFill>
                    <a:srgbClr val="3365ff"/>
                  </a:solidFill>
                  <a:latin typeface="Verdana"/>
                </a:rPr>
                <a:t>, 15 for y</a:t>
              </a:r>
              <a:r>
                <a:rPr b="0" i="1" lang="en-US" sz="2400" spc="-1" strike="noStrike" baseline="-25000">
                  <a:solidFill>
                    <a:srgbClr val="3365ff"/>
                  </a:solidFill>
                  <a:latin typeface="Verdana"/>
                </a:rPr>
                <a:t>1</a:t>
              </a:r>
              <a:r>
                <a:rPr b="0" i="1" lang="en-US" sz="2400" spc="-1" strike="noStrike">
                  <a:solidFill>
                    <a:srgbClr val="3365ff"/>
                  </a:solidFill>
                  <a:latin typeface="Verdana"/>
                </a:rPr>
                <a:t>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65ff"/>
                  </a:solidFill>
                  <a:latin typeface="Verdana"/>
                </a:rPr>
                <a:t>and    for m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0" name=""/>
            <p:cNvGrpSpPr/>
            <p:nvPr/>
          </p:nvGrpSpPr>
          <p:grpSpPr>
            <a:xfrm>
              <a:off x="4724280" y="2252880"/>
              <a:ext cx="838080" cy="764280"/>
              <a:chOff x="4724280" y="2252880"/>
              <a:chExt cx="838080" cy="764280"/>
            </a:xfrm>
          </p:grpSpPr>
          <p:sp>
            <p:nvSpPr>
              <p:cNvPr id="331" name=""/>
              <p:cNvSpPr/>
              <p:nvPr/>
            </p:nvSpPr>
            <p:spPr>
              <a:xfrm>
                <a:off x="4724280" y="225288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 u="sng">
                    <a:solidFill>
                      <a:srgbClr val="3365ff"/>
                    </a:solidFill>
                    <a:uFillTx/>
                    <a:latin typeface="Verdan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724280" y="255744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3365ff"/>
                    </a:solidFill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3" name=""/>
          <p:cNvGrpSpPr/>
          <p:nvPr/>
        </p:nvGrpSpPr>
        <p:grpSpPr>
          <a:xfrm>
            <a:off x="152280" y="2819520"/>
            <a:ext cx="8991720" cy="1191240"/>
            <a:chOff x="152280" y="2819520"/>
            <a:chExt cx="8991720" cy="1191240"/>
          </a:xfrm>
        </p:grpSpPr>
        <p:sp>
          <p:nvSpPr>
            <p:cNvPr id="334" name=""/>
            <p:cNvSpPr/>
            <p:nvPr/>
          </p:nvSpPr>
          <p:spPr>
            <a:xfrm>
              <a:off x="152280" y="2819520"/>
              <a:ext cx="8991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he equation of the line the roller coaster travels along, in point-slope form, is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– 15 =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. Substitute 300 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to find the value o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5" name=""/>
            <p:cNvGrpSpPr/>
            <p:nvPr/>
          </p:nvGrpSpPr>
          <p:grpSpPr>
            <a:xfrm>
              <a:off x="5029200" y="3095640"/>
              <a:ext cx="914400" cy="764640"/>
              <a:chOff x="5029200" y="3095640"/>
              <a:chExt cx="914400" cy="764640"/>
            </a:xfrm>
          </p:grpSpPr>
          <p:sp>
            <p:nvSpPr>
              <p:cNvPr id="336" name=""/>
              <p:cNvSpPr/>
              <p:nvPr/>
            </p:nvSpPr>
            <p:spPr>
              <a:xfrm>
                <a:off x="5029200" y="309564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029200" y="340056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8" name=""/>
          <p:cNvGrpSpPr/>
          <p:nvPr/>
        </p:nvGrpSpPr>
        <p:grpSpPr>
          <a:xfrm>
            <a:off x="457200" y="3962520"/>
            <a:ext cx="3886200" cy="764280"/>
            <a:chOff x="457200" y="3962520"/>
            <a:chExt cx="3886200" cy="764280"/>
          </a:xfrm>
        </p:grpSpPr>
        <p:sp>
          <p:nvSpPr>
            <p:cNvPr id="339" name=""/>
            <p:cNvSpPr/>
            <p:nvPr/>
          </p:nvSpPr>
          <p:spPr>
            <a:xfrm>
              <a:off x="457200" y="411480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– 15 =   (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300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0" name=""/>
            <p:cNvGrpSpPr/>
            <p:nvPr/>
          </p:nvGrpSpPr>
          <p:grpSpPr>
            <a:xfrm>
              <a:off x="1905120" y="3962520"/>
              <a:ext cx="1066680" cy="764280"/>
              <a:chOff x="1905120" y="3962520"/>
              <a:chExt cx="1066680" cy="764280"/>
            </a:xfrm>
          </p:grpSpPr>
          <p:sp>
            <p:nvSpPr>
              <p:cNvPr id="341" name=""/>
              <p:cNvSpPr/>
              <p:nvPr/>
            </p:nvSpPr>
            <p:spPr>
              <a:xfrm>
                <a:off x="1905120" y="396252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905120" y="42670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"/>
          <p:cNvSpPr/>
          <p:nvPr/>
        </p:nvSpPr>
        <p:spPr>
          <a:xfrm>
            <a:off x="457200" y="47242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15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457200" y="2057400"/>
            <a:ext cx="4647960" cy="764640"/>
            <a:chOff x="457200" y="2057400"/>
            <a:chExt cx="4647960" cy="764640"/>
          </a:xfrm>
        </p:grpSpPr>
        <p:sp>
          <p:nvSpPr>
            <p:cNvPr id="345" name=""/>
            <p:cNvSpPr/>
            <p:nvPr/>
          </p:nvSpPr>
          <p:spPr>
            <a:xfrm>
              <a:off x="457200" y="2210040"/>
              <a:ext cx="464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– </a:t>
              </a:r>
              <a:r>
                <a:rPr b="0" lang="en-US" sz="2400" spc="-1" strike="noStrike">
                  <a:solidFill>
                    <a:srgbClr val="006699"/>
                  </a:solidFill>
                  <a:latin typeface="Verdana"/>
                </a:rPr>
                <a:t>15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  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–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6" name=""/>
            <p:cNvGrpSpPr/>
            <p:nvPr/>
          </p:nvGrpSpPr>
          <p:grpSpPr>
            <a:xfrm>
              <a:off x="1904760" y="2057400"/>
              <a:ext cx="1066680" cy="764640"/>
              <a:chOff x="1904760" y="2057400"/>
              <a:chExt cx="1066680" cy="764640"/>
            </a:xfrm>
          </p:grpSpPr>
          <p:sp>
            <p:nvSpPr>
              <p:cNvPr id="347" name=""/>
              <p:cNvSpPr/>
              <p:nvPr/>
            </p:nvSpPr>
            <p:spPr>
              <a:xfrm>
                <a:off x="1904760" y="205740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8000"/>
                    </a:solidFill>
                    <a:uFillTx/>
                    <a:latin typeface="Verdan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904760" y="23623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8000"/>
                    </a:solidFill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9" name=""/>
          <p:cNvSpPr/>
          <p:nvPr/>
        </p:nvSpPr>
        <p:spPr>
          <a:xfrm>
            <a:off x="1219320" y="5181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28600" y="563868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value of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115, so the roller coaster will be at a height of 115 feet after traveling 300 feet forw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352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Point-Slope For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533520" y="1272960"/>
            <a:ext cx="792468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the point-slope form of each equation to identify a point the line passes through and the slope of the 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6 = 2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5)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4 = –  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the point-slope form of the equation with the given slope that passes through the indicated po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e line with slope 4 passing through (3,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e line with slope –2 passing through (–2,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809880" y="269604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(–5, –6),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143000" y="9756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nsert Lesson Title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990720" y="556164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Verdana"/>
              </a:rPr>
              <a:t>y</a:t>
            </a:r>
            <a:r>
              <a:rPr b="0" lang="en-US" sz="2000" spc="-1" strike="noStrike">
                <a:solidFill>
                  <a:srgbClr val="ff3300"/>
                </a:solidFill>
                <a:latin typeface="Verdana"/>
              </a:rPr>
              <a:t> – 5 = 4(</a:t>
            </a:r>
            <a:r>
              <a:rPr b="0" i="1" lang="en-US" sz="2000" spc="-1" strike="noStrike">
                <a:solidFill>
                  <a:srgbClr val="ff3300"/>
                </a:solidFill>
                <a:latin typeface="Verdana"/>
              </a:rPr>
              <a:t>x</a:t>
            </a:r>
            <a:r>
              <a:rPr b="0" lang="en-US" sz="2000" spc="-1" strike="noStrike">
                <a:solidFill>
                  <a:srgbClr val="ff3300"/>
                </a:solidFill>
                <a:latin typeface="Verdana"/>
              </a:rPr>
              <a:t> –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990720" y="61711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Verdana"/>
              </a:rPr>
              <a:t>y</a:t>
            </a:r>
            <a:r>
              <a:rPr b="0" lang="en-US" sz="2000" spc="-1" strike="noStrike">
                <a:solidFill>
                  <a:srgbClr val="ff3300"/>
                </a:solidFill>
                <a:latin typeface="Verdana"/>
              </a:rPr>
              <a:t> – 4 = –2(</a:t>
            </a:r>
            <a:r>
              <a:rPr b="0" i="1" lang="en-US" sz="2000" spc="-1" strike="noStrike">
                <a:solidFill>
                  <a:srgbClr val="ff3300"/>
                </a:solidFill>
                <a:latin typeface="Verdana"/>
              </a:rPr>
              <a:t>x</a:t>
            </a:r>
            <a:r>
              <a:rPr b="0" lang="en-US" sz="2000" spc="-1" strike="noStrike">
                <a:solidFill>
                  <a:srgbClr val="ff3300"/>
                </a:solidFill>
                <a:latin typeface="Verdana"/>
              </a:rPr>
              <a:t> +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2438280" y="3184560"/>
            <a:ext cx="914400" cy="703440"/>
            <a:chOff x="2438280" y="3184560"/>
            <a:chExt cx="914400" cy="703440"/>
          </a:xfrm>
        </p:grpSpPr>
        <p:sp>
          <p:nvSpPr>
            <p:cNvPr id="364" name=""/>
            <p:cNvSpPr/>
            <p:nvPr/>
          </p:nvSpPr>
          <p:spPr>
            <a:xfrm>
              <a:off x="2438280" y="318456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Verdan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438280" y="348912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3886200" y="3137400"/>
            <a:ext cx="4876920" cy="673200"/>
            <a:chOff x="3886200" y="3137400"/>
            <a:chExt cx="4876920" cy="673200"/>
          </a:xfrm>
        </p:grpSpPr>
        <p:sp>
          <p:nvSpPr>
            <p:cNvPr id="367" name=""/>
            <p:cNvSpPr/>
            <p:nvPr/>
          </p:nvSpPr>
          <p:spPr>
            <a:xfrm>
              <a:off x="3886200" y="3229560"/>
              <a:ext cx="487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(6, 4), 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8" name=""/>
            <p:cNvGrpSpPr/>
            <p:nvPr/>
          </p:nvGrpSpPr>
          <p:grpSpPr>
            <a:xfrm>
              <a:off x="5291280" y="3137400"/>
              <a:ext cx="990360" cy="673200"/>
              <a:chOff x="5291280" y="3137400"/>
              <a:chExt cx="990360" cy="673200"/>
            </a:xfrm>
          </p:grpSpPr>
          <p:sp>
            <p:nvSpPr>
              <p:cNvPr id="369" name=""/>
              <p:cNvSpPr/>
              <p:nvPr/>
            </p:nvSpPr>
            <p:spPr>
              <a:xfrm>
                <a:off x="5291280" y="3137400"/>
                <a:ext cx="53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 u="sng">
                    <a:solidFill>
                      <a:srgbClr val="ff3300"/>
                    </a:solidFill>
                    <a:uFillTx/>
                    <a:latin typeface="Verdana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291280" y="3411720"/>
                <a:ext cx="99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00"/>
                    </a:solidFill>
                    <a:latin typeface="Verdana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1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372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3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Point-Slope For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1371600"/>
            <a:ext cx="8153280" cy="457200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rite the equation of the line that passes through each pair of points in slope-intercept fo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0, –3) and (2, –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5, –3) and (5,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–6, 0) and (0, –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4, 6) and (–2,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998600" y="3504600"/>
            <a:ext cx="11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 = –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985640" y="4037760"/>
            <a:ext cx="94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 =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Point-Slope For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5074920" y="5271480"/>
            <a:ext cx="149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 = </a:t>
            </a:r>
            <a:r>
              <a:rPr b="0" i="1" lang="en-US" sz="2800" spc="-1" strike="noStrike">
                <a:solidFill>
                  <a:srgbClr val="ff33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 +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24600" y="4494960"/>
            <a:ext cx="1931760" cy="915840"/>
            <a:chOff x="5124600" y="4494960"/>
            <a:chExt cx="1931760" cy="915840"/>
          </a:xfrm>
        </p:grpSpPr>
        <p:sp>
          <p:nvSpPr>
            <p:cNvPr id="60" name=""/>
            <p:cNvSpPr/>
            <p:nvPr/>
          </p:nvSpPr>
          <p:spPr>
            <a:xfrm>
              <a:off x="5124600" y="4647600"/>
              <a:ext cx="193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3300"/>
                  </a:solidFill>
                  <a:latin typeface="Verdana"/>
                </a:rPr>
                <a:t>y</a:t>
              </a:r>
              <a:r>
                <a:rPr b="0" lang="en-US" sz="2800" spc="-1" strike="noStrike">
                  <a:solidFill>
                    <a:srgbClr val="ff3300"/>
                  </a:solidFill>
                  <a:latin typeface="Verdana"/>
                </a:rPr>
                <a:t> = –   </a:t>
              </a:r>
              <a:r>
                <a:rPr b="0" i="1" lang="en-US" sz="2800" spc="-1" strike="noStrike">
                  <a:solidFill>
                    <a:srgbClr val="ff3300"/>
                  </a:solidFill>
                  <a:latin typeface="Verdana"/>
                </a:rPr>
                <a:t>x</a:t>
              </a:r>
              <a:r>
                <a:rPr b="0" lang="en-US" sz="2800" spc="-1" strike="noStrike">
                  <a:solidFill>
                    <a:srgbClr val="ff3300"/>
                  </a:solidFill>
                  <a:latin typeface="Verdana"/>
                </a:rPr>
                <a:t> – 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977080" y="4494960"/>
              <a:ext cx="391320" cy="915840"/>
              <a:chOff x="5977080" y="4494960"/>
              <a:chExt cx="391320" cy="915840"/>
            </a:xfrm>
          </p:grpSpPr>
          <p:sp>
            <p:nvSpPr>
              <p:cNvPr id="62" name=""/>
              <p:cNvSpPr/>
              <p:nvPr/>
            </p:nvSpPr>
            <p:spPr>
              <a:xfrm>
                <a:off x="5985000" y="449496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 u="sng">
                    <a:solidFill>
                      <a:srgbClr val="ff3300"/>
                    </a:solidFill>
                    <a:uFillTx/>
                    <a:latin typeface="Verdana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977080" y="489024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3300"/>
                    </a:solidFill>
                    <a:latin typeface="Verdana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1600200"/>
            <a:ext cx="7620120" cy="358128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Problem of the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thout using equations for horizontal or vertical lines, write the equations of four lines that form a squ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3809880"/>
            <a:ext cx="670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Possible answer: </a:t>
            </a:r>
            <a:r>
              <a:rPr b="1" i="1" lang="en-US" sz="2400" spc="-1" strike="noStrike">
                <a:solidFill>
                  <a:srgbClr val="ff3300"/>
                </a:solidFill>
                <a:latin typeface="Verdana"/>
              </a:rPr>
              <a:t>y 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= </a:t>
            </a:r>
            <a:r>
              <a:rPr b="1" i="1" lang="en-US" sz="2400" spc="-1" strike="noStrike">
                <a:solidFill>
                  <a:srgbClr val="ff3300"/>
                </a:solidFill>
                <a:latin typeface="Verdana"/>
              </a:rPr>
              <a:t>x 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+ 2, </a:t>
            </a:r>
            <a:r>
              <a:rPr b="1" i="1" lang="en-US" sz="2400" spc="-1" strike="noStrike">
                <a:solidFill>
                  <a:srgbClr val="ff33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 = </a:t>
            </a:r>
            <a:r>
              <a:rPr b="1" i="1" lang="en-US" sz="2400" spc="-1" strike="noStrike">
                <a:solidFill>
                  <a:srgbClr val="ff33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 – 2, </a:t>
            </a:r>
            <a:r>
              <a:rPr b="1" i="1" lang="en-US" sz="2400" spc="-1" strike="noStrike">
                <a:solidFill>
                  <a:srgbClr val="ff33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 = –</a:t>
            </a:r>
            <a:r>
              <a:rPr b="1" i="1" lang="en-US" sz="2400" spc="-1" strike="noStrike">
                <a:solidFill>
                  <a:srgbClr val="ff33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 + 2, </a:t>
            </a:r>
            <a:r>
              <a:rPr b="1" i="1" lang="en-US" sz="2400" spc="-1" strike="noStrike">
                <a:solidFill>
                  <a:srgbClr val="ff33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 = –</a:t>
            </a:r>
            <a:r>
              <a:rPr b="1" i="1" lang="en-US" sz="2400" spc="-1" strike="noStrike">
                <a:solidFill>
                  <a:srgbClr val="ff33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 –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6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Point-Slope For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80880" y="2438280"/>
            <a:ext cx="8305920" cy="106704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Verdana"/>
              </a:rPr>
              <a:t>Learn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to find the equation of a line given one point and the slop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7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Point-Slope For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1066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Arial Black"/>
              </a:rPr>
              <a:t>Vocabul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14400" y="1828800"/>
            <a:ext cx="7238880" cy="91440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int-slope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76080" y="91080"/>
            <a:ext cx="469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nsert Lesson Title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83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Point-Slope For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8600" y="327672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oint on the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3747960"/>
            <a:ext cx="1828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Verdan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i="1" lang="en-US" sz="2800" spc="-1" strike="noStrike">
                <a:solidFill>
                  <a:srgbClr val="006699"/>
                </a:solidFill>
                <a:latin typeface="Verdana"/>
              </a:rPr>
              <a:t>y</a:t>
            </a:r>
            <a:r>
              <a:rPr b="1" lang="en-US" sz="2800" spc="-1" strike="noStrike" baseline="-25000">
                <a:solidFill>
                  <a:srgbClr val="006699"/>
                </a:solidFill>
                <a:latin typeface="Verdan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419720" y="327672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oint-slope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267080" y="3672000"/>
            <a:ext cx="4114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1" i="1" lang="en-US" sz="2800" spc="-1" strike="noStrike">
                <a:solidFill>
                  <a:srgbClr val="006699"/>
                </a:solidFill>
                <a:latin typeface="Verdana"/>
              </a:rPr>
              <a:t>y</a:t>
            </a:r>
            <a:r>
              <a:rPr b="1" lang="en-US" sz="2800" spc="-1" strike="noStrike" baseline="-25000">
                <a:solidFill>
                  <a:srgbClr val="006699"/>
                </a:solidFill>
                <a:latin typeface="Verdan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1" i="1" lang="en-US" sz="2800" spc="-1" strike="noStrike">
                <a:solidFill>
                  <a:srgbClr val="008000"/>
                </a:solidFill>
                <a:latin typeface="Verdana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1" i="1" lang="en-US" sz="28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Verdan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172200" y="4114440"/>
            <a:ext cx="0" cy="609480"/>
          </a:xfrm>
          <a:prstGeom prst="line">
            <a:avLst/>
          </a:prstGeom>
          <a:ln w="25560">
            <a:solidFill>
              <a:srgbClr val="008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4724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sl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1523880"/>
            <a:ext cx="754380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point-slope for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an equation of a line with slop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assing through (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 is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Point-Slope For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57200" y="1614600"/>
            <a:ext cx="82375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the point-slope form of each equation to identify a point the line passes through and the slope of the 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– 7 = 3(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–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3360" y="928800"/>
            <a:ext cx="908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1A: Using Point-Slope Form to Identify Information About a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3352680"/>
            <a:ext cx="5181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y</a:t>
            </a:r>
            <a:r>
              <a:rPr b="0" lang="en-US" sz="2400" spc="-1" strike="noStrike" baseline="-25000">
                <a:solidFill>
                  <a:srgbClr val="006699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8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61920" y="3962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3880" y="45720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5181480"/>
            <a:ext cx="3124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= (4, 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563868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line defined by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7 = 3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4) has slope 3, and passes through the point (4, 7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33920" y="37339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The equation is in point-slope for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33920" y="441972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Read the value of m from the equ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51814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Read the point from the equ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Point-Slope For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57200" y="182880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– 1 =   (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360" y="928800"/>
            <a:ext cx="908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1B: Using Point-Slope Form to Identify Information About a Lin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2286000"/>
            <a:ext cx="5181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y</a:t>
            </a:r>
            <a:r>
              <a:rPr b="0" lang="en-US" sz="2400" spc="-1" strike="noStrike" baseline="-25000">
                <a:solidFill>
                  <a:srgbClr val="006699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8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4648320"/>
            <a:ext cx="312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= (–6,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419720" y="33526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Rewrite using subtraction instead of add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2195640" y="1676520"/>
            <a:ext cx="685800" cy="764280"/>
            <a:chOff x="2195640" y="1676520"/>
            <a:chExt cx="685800" cy="764280"/>
          </a:xfrm>
        </p:grpSpPr>
        <p:sp>
          <p:nvSpPr>
            <p:cNvPr id="123" name=""/>
            <p:cNvSpPr/>
            <p:nvPr/>
          </p:nvSpPr>
          <p:spPr>
            <a:xfrm>
              <a:off x="2195640" y="16765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19040" y="19810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283760" y="2743200"/>
            <a:ext cx="2134440" cy="764640"/>
            <a:chOff x="1283760" y="2743200"/>
            <a:chExt cx="2134440" cy="764640"/>
          </a:xfrm>
        </p:grpSpPr>
        <p:grpSp>
          <p:nvGrpSpPr>
            <p:cNvPr id="126" name=""/>
            <p:cNvGrpSpPr/>
            <p:nvPr/>
          </p:nvGrpSpPr>
          <p:grpSpPr>
            <a:xfrm>
              <a:off x="2209680" y="2743200"/>
              <a:ext cx="685800" cy="764640"/>
              <a:chOff x="2209680" y="2743200"/>
              <a:chExt cx="685800" cy="764640"/>
            </a:xfrm>
          </p:grpSpPr>
          <p:sp>
            <p:nvSpPr>
              <p:cNvPr id="127" name=""/>
              <p:cNvSpPr/>
              <p:nvPr/>
            </p:nvSpPr>
            <p:spPr>
              <a:xfrm>
                <a:off x="2209680" y="27432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8000"/>
                    </a:solidFill>
                    <a:uFillTx/>
                    <a:latin typeface="Verdan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221200" y="30481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8000"/>
                    </a:solidFill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1283760" y="2819520"/>
              <a:ext cx="213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– 1 =   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+ 6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1269720" y="3352680"/>
            <a:ext cx="2467080" cy="764640"/>
            <a:chOff x="1269720" y="3352680"/>
            <a:chExt cx="2467080" cy="764640"/>
          </a:xfrm>
        </p:grpSpPr>
        <p:sp>
          <p:nvSpPr>
            <p:cNvPr id="131" name=""/>
            <p:cNvSpPr/>
            <p:nvPr/>
          </p:nvSpPr>
          <p:spPr>
            <a:xfrm>
              <a:off x="1269720" y="3505320"/>
              <a:ext cx="246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– 1 =   [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– (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–6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)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2133720" y="3352680"/>
              <a:ext cx="685800" cy="764640"/>
              <a:chOff x="2133720" y="3352680"/>
              <a:chExt cx="685800" cy="764640"/>
            </a:xfrm>
          </p:grpSpPr>
          <p:sp>
            <p:nvSpPr>
              <p:cNvPr id="133" name=""/>
              <p:cNvSpPr/>
              <p:nvPr/>
            </p:nvSpPr>
            <p:spPr>
              <a:xfrm>
                <a:off x="2133720" y="335268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145240" y="36576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" name=""/>
          <p:cNvGrpSpPr/>
          <p:nvPr/>
        </p:nvGrpSpPr>
        <p:grpSpPr>
          <a:xfrm>
            <a:off x="1447920" y="3962520"/>
            <a:ext cx="1981080" cy="764280"/>
            <a:chOff x="1447920" y="3962520"/>
            <a:chExt cx="1981080" cy="764280"/>
          </a:xfrm>
        </p:grpSpPr>
        <p:sp>
          <p:nvSpPr>
            <p:cNvPr id="136" name=""/>
            <p:cNvSpPr/>
            <p:nvPr/>
          </p:nvSpPr>
          <p:spPr>
            <a:xfrm>
              <a:off x="1447920" y="411480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m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2133720" y="3962520"/>
              <a:ext cx="685800" cy="764280"/>
              <a:chOff x="2133720" y="3962520"/>
              <a:chExt cx="685800" cy="764280"/>
            </a:xfrm>
          </p:grpSpPr>
          <p:sp>
            <p:nvSpPr>
              <p:cNvPr id="138" name=""/>
              <p:cNvSpPr/>
              <p:nvPr/>
            </p:nvSpPr>
            <p:spPr>
              <a:xfrm>
                <a:off x="2133720" y="39625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145240" y="42670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0" name=""/>
          <p:cNvGrpSpPr/>
          <p:nvPr/>
        </p:nvGrpSpPr>
        <p:grpSpPr>
          <a:xfrm>
            <a:off x="152280" y="5257800"/>
            <a:ext cx="8839440" cy="1068840"/>
            <a:chOff x="152280" y="5257800"/>
            <a:chExt cx="8839440" cy="1068840"/>
          </a:xfrm>
        </p:grpSpPr>
        <p:sp>
          <p:nvSpPr>
            <p:cNvPr id="141" name=""/>
            <p:cNvSpPr/>
            <p:nvPr/>
          </p:nvSpPr>
          <p:spPr>
            <a:xfrm>
              <a:off x="152280" y="5318280"/>
              <a:ext cx="8839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he line defined by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– 1 =   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+ 6) has slope   , and passes through the point (–6, 1)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4419720" y="5257800"/>
              <a:ext cx="3657600" cy="764640"/>
              <a:chOff x="4419720" y="5257800"/>
              <a:chExt cx="3657600" cy="764640"/>
            </a:xfrm>
          </p:grpSpPr>
          <p:grpSp>
            <p:nvGrpSpPr>
              <p:cNvPr id="143" name=""/>
              <p:cNvGrpSpPr/>
              <p:nvPr/>
            </p:nvGrpSpPr>
            <p:grpSpPr>
              <a:xfrm>
                <a:off x="4419720" y="5257800"/>
                <a:ext cx="685800" cy="764640"/>
                <a:chOff x="4419720" y="5257800"/>
                <a:chExt cx="685800" cy="76464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4419720" y="5257800"/>
                  <a:ext cx="685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4431240" y="556272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7391520" y="5257800"/>
                <a:ext cx="685800" cy="764640"/>
                <a:chOff x="7391520" y="5257800"/>
                <a:chExt cx="685800" cy="76464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7391520" y="5257800"/>
                  <a:ext cx="685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403040" y="556272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9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150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Point-Slope For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57200" y="1432080"/>
            <a:ext cx="82375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the point-slope form of each equation to identify a point the line passes through and the slope of the 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– 5 = 2 (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–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1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71560" y="3138480"/>
            <a:ext cx="5181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y</a:t>
            </a:r>
            <a:r>
              <a:rPr b="0" lang="en-US" sz="2400" spc="-1" strike="noStrike" baseline="-25000">
                <a:solidFill>
                  <a:srgbClr val="006699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8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61920" y="37051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495440" y="44197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4967280"/>
            <a:ext cx="3124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= (2,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556272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line defined by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5 = 2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2) has slope 2, and passes through the point (2, 5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657600" y="35812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The equation is in point-slope for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657600" y="4267080"/>
            <a:ext cx="510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Read the value of m from the equ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57600" y="50292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Read the point from the equ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166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Point-Slope For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18:20:28Z</dcterms:created>
  <dc:creator>HRW</dc:creator>
  <dc:description/>
  <dc:language>en-US</dc:language>
  <cp:lastModifiedBy>stevenh</cp:lastModifiedBy>
  <dcterms:modified xsi:type="dcterms:W3CDTF">2006-04-27T16:25:17Z</dcterms:modified>
  <cp:revision>127</cp:revision>
  <dc:subject/>
  <dc:title>Slide 1</dc:title>
</cp:coreProperties>
</file>