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F23-FC25-4405-9913-A1167F1B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D83-74B1-4D78-B82C-1EDBBA4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ADE-DA59-4494-86A6-43669469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267-B304-43A0-BA9B-77CD40DE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4D-F063-4602-B203-B121CDDF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612-DFF9-4BAA-8E74-8DC0444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73F-0E4A-435C-9C35-9E576F3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9F8-FF04-45BC-97F6-678CCB0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291-C071-4606-A4EE-091AED6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6F4-B757-4EB4-B632-47B26405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7FB4-9F04-4766-8874-85D7017C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4E9-716E-4507-B889-F77986B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F535-DFF4-4DD7-815D-8CAB2279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685800" y="1905120"/>
            <a:ext cx="7854840" cy="2021760"/>
            <a:chOff x="685800" y="1905120"/>
            <a:chExt cx="7854840" cy="2021760"/>
          </a:xfrm>
        </p:grpSpPr>
        <p:sp>
          <p:nvSpPr>
            <p:cNvPr id="158" name=""/>
            <p:cNvSpPr/>
            <p:nvPr/>
          </p:nvSpPr>
          <p:spPr>
            <a:xfrm>
              <a:off x="691920" y="2362320"/>
              <a:ext cx="7848720" cy="15645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form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real numbers, is called the Standard Form of a Linear Equation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19051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4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73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8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0)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sp>
          <p:nvSpPr>
            <p:cNvPr id="195" name=""/>
            <p:cNvSpPr/>
            <p:nvPr/>
          </p:nvSpPr>
          <p:spPr>
            <a:xfrm>
              <a:off x="1752480" y="4343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–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286000" y="4343400"/>
              <a:ext cx="1981080" cy="764640"/>
              <a:chOff x="2286000" y="4343400"/>
              <a:chExt cx="1981080" cy="764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590560" y="4343400"/>
                <a:ext cx="1676520" cy="764640"/>
                <a:chOff x="2590560" y="4343400"/>
                <a:chExt cx="1676520" cy="764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90560" y="434340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66880" y="46483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286000" y="4495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6019560" y="3429000"/>
            <a:ext cx="2057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quation writte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lope-intercept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slop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3352680"/>
            <a:ext cx="4724280" cy="1831320"/>
            <a:chOff x="2590920" y="3352680"/>
            <a:chExt cx="4724280" cy="1831320"/>
          </a:xfrm>
        </p:grpSpPr>
        <p:sp>
          <p:nvSpPr>
            <p:cNvPr id="224" name=""/>
            <p:cNvSpPr/>
            <p:nvPr/>
          </p:nvSpPr>
          <p:spPr>
            <a:xfrm>
              <a:off x="2590920" y="33526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y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1" i="1" lang="en-US" sz="36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1" i="1" lang="en-US" sz="3600" spc="-1" strike="noStrike">
                  <a:solidFill>
                    <a:srgbClr val="cc00cc"/>
                  </a:solidFill>
                  <a:latin typeface="Verdana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86200" y="3962520"/>
              <a:ext cx="0" cy="7617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334120" y="3962520"/>
              <a:ext cx="0" cy="761760"/>
            </a:xfrm>
            <a:prstGeom prst="line">
              <a:avLst/>
            </a:prstGeom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Verdana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4724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cc"/>
                  </a:solidFill>
                  <a:latin typeface="Verdana"/>
                </a:rPr>
                <a:t>y</a:t>
              </a: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76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276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191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724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47920" y="5076360"/>
            <a:ext cx="380880" cy="5619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510552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is –2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2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492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971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5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581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648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4190760"/>
            <a:ext cx="304920" cy="6094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666880" y="4038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90720" y="2819520"/>
            <a:ext cx="2666520" cy="764280"/>
            <a:chOff x="990720" y="2819520"/>
            <a:chExt cx="2666520" cy="764280"/>
          </a:xfrm>
        </p:grpSpPr>
        <p:sp>
          <p:nvSpPr>
            <p:cNvPr id="265" name=""/>
            <p:cNvSpPr/>
            <p:nvPr/>
          </p:nvSpPr>
          <p:spPr>
            <a:xfrm>
              <a:off x="1371600" y="2971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990720" y="2819520"/>
              <a:ext cx="1980720" cy="764280"/>
              <a:chOff x="990720" y="2819520"/>
              <a:chExt cx="1980720" cy="764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676160" y="2819520"/>
                <a:ext cx="1295280" cy="764280"/>
                <a:chOff x="1676160" y="2819520"/>
                <a:chExt cx="1295280" cy="76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6160" y="2819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76160" y="312408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0720" y="2819520"/>
                <a:ext cx="1523880" cy="764280"/>
                <a:chOff x="990720" y="2819520"/>
                <a:chExt cx="1523880" cy="76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90720" y="28195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66680" y="312408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"/>
          <p:cNvGrpSpPr/>
          <p:nvPr/>
        </p:nvGrpSpPr>
        <p:grpSpPr>
          <a:xfrm>
            <a:off x="1066680" y="3505320"/>
            <a:ext cx="4952880" cy="764280"/>
            <a:chOff x="1066680" y="3505320"/>
            <a:chExt cx="4952880" cy="764280"/>
          </a:xfrm>
        </p:grpSpPr>
        <p:sp>
          <p:nvSpPr>
            <p:cNvPr id="274" name=""/>
            <p:cNvSpPr/>
            <p:nvPr/>
          </p:nvSpPr>
          <p:spPr>
            <a:xfrm>
              <a:off x="1066680" y="36576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600200" y="3505320"/>
              <a:ext cx="1295280" cy="764280"/>
              <a:chOff x="1600200" y="3505320"/>
              <a:chExt cx="1295280" cy="76428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053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3809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95280" y="4495680"/>
            <a:ext cx="2666880" cy="764280"/>
            <a:chOff x="1295280" y="4495680"/>
            <a:chExt cx="2666880" cy="764280"/>
          </a:xfrm>
        </p:grpSpPr>
        <p:sp>
          <p:nvSpPr>
            <p:cNvPr id="279" name=""/>
            <p:cNvSpPr/>
            <p:nvPr/>
          </p:nvSpPr>
          <p:spPr>
            <a:xfrm>
              <a:off x="1295280" y="46479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981080" y="4495680"/>
              <a:ext cx="1143000" cy="764280"/>
              <a:chOff x="1981080" y="4495680"/>
              <a:chExt cx="1143000" cy="76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1981080" y="4495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48002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38080" y="5334120"/>
            <a:ext cx="8991720" cy="977760"/>
            <a:chOff x="838080" y="5334120"/>
            <a:chExt cx="8991720" cy="977760"/>
          </a:xfrm>
        </p:grpSpPr>
        <p:sp>
          <p:nvSpPr>
            <p:cNvPr id="284" name=""/>
            <p:cNvSpPr/>
            <p:nvPr/>
          </p:nvSpPr>
          <p:spPr>
            <a:xfrm>
              <a:off x="838080" y="548640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715000" y="5334120"/>
              <a:ext cx="1066680" cy="764280"/>
              <a:chOff x="5715000" y="5334120"/>
              <a:chExt cx="1066680" cy="76428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5000" y="53341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15000" y="56386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Using Slope-Intercept Form to Find Slopes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55623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33720" y="54864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38080" y="4952880"/>
            <a:ext cx="4952880" cy="764280"/>
            <a:chOff x="838080" y="4952880"/>
            <a:chExt cx="4952880" cy="764280"/>
          </a:xfrm>
        </p:grpSpPr>
        <p:sp>
          <p:nvSpPr>
            <p:cNvPr id="303" name=""/>
            <p:cNvSpPr/>
            <p:nvPr/>
          </p:nvSpPr>
          <p:spPr>
            <a:xfrm>
              <a:off x="838080" y="51055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523880" y="4952880"/>
              <a:ext cx="1295280" cy="764280"/>
              <a:chOff x="1523880" y="4952880"/>
              <a:chExt cx="1295280" cy="76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3880" y="4952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23880" y="5257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85800" y="5791320"/>
            <a:ext cx="2666880" cy="764280"/>
            <a:chOff x="685800" y="5791320"/>
            <a:chExt cx="2666880" cy="764280"/>
          </a:xfrm>
        </p:grpSpPr>
        <p:sp>
          <p:nvSpPr>
            <p:cNvPr id="308" name=""/>
            <p:cNvSpPr/>
            <p:nvPr/>
          </p:nvSpPr>
          <p:spPr>
            <a:xfrm>
              <a:off x="685800" y="59436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523880" y="5791320"/>
              <a:ext cx="1143000" cy="764280"/>
              <a:chOff x="1523880" y="5791320"/>
              <a:chExt cx="114300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523880" y="5791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23880" y="60958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124080" y="5562720"/>
            <a:ext cx="5715000" cy="992880"/>
            <a:chOff x="3124080" y="5562720"/>
            <a:chExt cx="5715000" cy="992880"/>
          </a:xfrm>
        </p:grpSpPr>
        <p:sp>
          <p:nvSpPr>
            <p:cNvPr id="313" name=""/>
            <p:cNvSpPr/>
            <p:nvPr/>
          </p:nvSpPr>
          <p:spPr>
            <a:xfrm>
              <a:off x="3124080" y="55627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9 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733920" y="5791320"/>
              <a:ext cx="623880" cy="764280"/>
              <a:chOff x="3733920" y="5791320"/>
              <a:chExt cx="623880" cy="764280"/>
            </a:xfrm>
          </p:grpSpPr>
          <p:sp>
            <p:nvSpPr>
              <p:cNvPr id="315" name=""/>
              <p:cNvSpPr/>
              <p:nvPr/>
            </p:nvSpPr>
            <p:spPr>
              <a:xfrm>
                <a:off x="3733920" y="57913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33920" y="60958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83808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809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62120" y="4267080"/>
            <a:ext cx="3047400" cy="764280"/>
            <a:chOff x="762120" y="4267080"/>
            <a:chExt cx="3047400" cy="764280"/>
          </a:xfrm>
        </p:grpSpPr>
        <p:sp>
          <p:nvSpPr>
            <p:cNvPr id="321" name=""/>
            <p:cNvSpPr/>
            <p:nvPr/>
          </p:nvSpPr>
          <p:spPr>
            <a:xfrm>
              <a:off x="1142640" y="441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62120" y="4267080"/>
              <a:ext cx="3047400" cy="764280"/>
              <a:chOff x="762120" y="4267080"/>
              <a:chExt cx="3047400" cy="7642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447560" y="4267080"/>
                <a:ext cx="1294920" cy="764280"/>
                <a:chOff x="1447560" y="4267080"/>
                <a:chExt cx="1294920" cy="764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447560" y="42670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47560" y="45716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62120" y="4267080"/>
                <a:ext cx="1523520" cy="764280"/>
                <a:chOff x="762120" y="4267080"/>
                <a:chExt cx="1523520" cy="764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2120" y="42670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8080" y="45716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85640" y="4267080"/>
                <a:ext cx="1523880" cy="764280"/>
                <a:chOff x="2285640" y="4267080"/>
                <a:chExt cx="1523880" cy="764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285640" y="42670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85640" y="45716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29718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5105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4479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759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27590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8800" y="32925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36734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4206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4206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96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968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447920" y="4511520"/>
            <a:ext cx="304560" cy="5176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666880" y="458784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2736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is –4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7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00200" y="3809880"/>
            <a:ext cx="228600" cy="533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66880" y="3657240"/>
            <a:ext cx="0" cy="6094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90720" y="2438280"/>
            <a:ext cx="2666520" cy="764640"/>
            <a:chOff x="990720" y="2438280"/>
            <a:chExt cx="2666520" cy="764640"/>
          </a:xfrm>
        </p:grpSpPr>
        <p:sp>
          <p:nvSpPr>
            <p:cNvPr id="368" name=""/>
            <p:cNvSpPr/>
            <p:nvPr/>
          </p:nvSpPr>
          <p:spPr>
            <a:xfrm>
              <a:off x="1371600" y="259092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990720" y="2438280"/>
              <a:ext cx="1980720" cy="764640"/>
              <a:chOff x="990720" y="2438280"/>
              <a:chExt cx="1980720" cy="7646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676160" y="2438280"/>
                <a:ext cx="1295280" cy="764280"/>
                <a:chOff x="1676160" y="2438280"/>
                <a:chExt cx="1295280" cy="764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676160" y="24382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76160" y="274284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990720" y="2438280"/>
                <a:ext cx="1523880" cy="764640"/>
                <a:chOff x="990720" y="2438280"/>
                <a:chExt cx="1523880" cy="764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90720" y="24382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66680" y="274320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1066680" y="3124080"/>
            <a:ext cx="4952880" cy="764280"/>
            <a:chOff x="1066680" y="3124080"/>
            <a:chExt cx="4952880" cy="764280"/>
          </a:xfrm>
        </p:grpSpPr>
        <p:sp>
          <p:nvSpPr>
            <p:cNvPr id="377" name=""/>
            <p:cNvSpPr/>
            <p:nvPr/>
          </p:nvSpPr>
          <p:spPr>
            <a:xfrm>
              <a:off x="1066680" y="3276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0200" y="3124080"/>
              <a:ext cx="1295280" cy="764280"/>
              <a:chOff x="1600200" y="3124080"/>
              <a:chExt cx="1295280" cy="76428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020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0200" y="34286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295280" y="4114800"/>
            <a:ext cx="2666880" cy="764280"/>
            <a:chOff x="1295280" y="4114800"/>
            <a:chExt cx="2666880" cy="764280"/>
          </a:xfrm>
        </p:grpSpPr>
        <p:sp>
          <p:nvSpPr>
            <p:cNvPr id="382" name=""/>
            <p:cNvSpPr/>
            <p:nvPr/>
          </p:nvSpPr>
          <p:spPr>
            <a:xfrm>
              <a:off x="1295280" y="42670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81080" y="4114800"/>
              <a:ext cx="1143000" cy="764280"/>
              <a:chOff x="1981080" y="4114800"/>
              <a:chExt cx="1143000" cy="764280"/>
            </a:xfrm>
          </p:grpSpPr>
          <p:sp>
            <p:nvSpPr>
              <p:cNvPr id="384" name=""/>
              <p:cNvSpPr/>
              <p:nvPr/>
            </p:nvSpPr>
            <p:spPr>
              <a:xfrm>
                <a:off x="1981080" y="41148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81080" y="4419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838080" y="4952880"/>
            <a:ext cx="8991720" cy="977760"/>
            <a:chOff x="838080" y="4952880"/>
            <a:chExt cx="8991720" cy="977760"/>
          </a:xfrm>
        </p:grpSpPr>
        <p:sp>
          <p:nvSpPr>
            <p:cNvPr id="387" name=""/>
            <p:cNvSpPr/>
            <p:nvPr/>
          </p:nvSpPr>
          <p:spPr>
            <a:xfrm>
              <a:off x="838080" y="51051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715000" y="4952880"/>
              <a:ext cx="1066680" cy="764280"/>
              <a:chOff x="5715000" y="4952880"/>
              <a:chExt cx="1066680" cy="76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715000" y="49528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15000" y="52574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slope of the line that passes through each pair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3, 6) and (–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, 2) and (6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2, –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3, 0) and (–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83240" y="2742480"/>
            <a:ext cx="399240" cy="887400"/>
            <a:chOff x="4683240" y="2742480"/>
            <a:chExt cx="399240" cy="887400"/>
          </a:xfrm>
        </p:grpSpPr>
        <p:sp>
          <p:nvSpPr>
            <p:cNvPr id="57" name=""/>
            <p:cNvSpPr/>
            <p:nvPr/>
          </p:nvSpPr>
          <p:spPr>
            <a:xfrm>
              <a:off x="4683240" y="274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99080" y="310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79840" y="3671280"/>
            <a:ext cx="612360" cy="901440"/>
            <a:chOff x="4479840" y="3671280"/>
            <a:chExt cx="612360" cy="901440"/>
          </a:xfrm>
        </p:grpSpPr>
        <p:sp>
          <p:nvSpPr>
            <p:cNvPr id="60" name=""/>
            <p:cNvSpPr/>
            <p:nvPr/>
          </p:nvSpPr>
          <p:spPr>
            <a:xfrm>
              <a:off x="4479840" y="38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692960" y="3671280"/>
              <a:ext cx="399240" cy="901440"/>
              <a:chOff x="4692960" y="3671280"/>
              <a:chExt cx="399240" cy="901440"/>
            </a:xfrm>
          </p:grpSpPr>
          <p:sp>
            <p:nvSpPr>
              <p:cNvPr id="62" name=""/>
              <p:cNvSpPr/>
              <p:nvPr/>
            </p:nvSpPr>
            <p:spPr>
              <a:xfrm>
                <a:off x="4708800" y="3671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92960" y="405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4683240" y="4494960"/>
            <a:ext cx="399240" cy="915840"/>
            <a:chOff x="4683240" y="4494960"/>
            <a:chExt cx="399240" cy="915840"/>
          </a:xfrm>
        </p:grpSpPr>
        <p:sp>
          <p:nvSpPr>
            <p:cNvPr id="65" name=""/>
            <p:cNvSpPr/>
            <p:nvPr/>
          </p:nvSpPr>
          <p:spPr>
            <a:xfrm>
              <a:off x="4699080" y="449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3240" y="489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65960" y="5257080"/>
            <a:ext cx="415080" cy="901440"/>
            <a:chOff x="4665960" y="5257080"/>
            <a:chExt cx="415080" cy="901440"/>
          </a:xfrm>
        </p:grpSpPr>
        <p:sp>
          <p:nvSpPr>
            <p:cNvPr id="68" name=""/>
            <p:cNvSpPr/>
            <p:nvPr/>
          </p:nvSpPr>
          <p:spPr>
            <a:xfrm>
              <a:off x="4665960" y="525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97640" y="563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362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5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5800" y="53337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209680" y="5181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4724280"/>
            <a:ext cx="4952880" cy="764280"/>
            <a:chOff x="533520" y="4724280"/>
            <a:chExt cx="4952880" cy="764280"/>
          </a:xfrm>
        </p:grpSpPr>
        <p:sp>
          <p:nvSpPr>
            <p:cNvPr id="406" name=""/>
            <p:cNvSpPr/>
            <p:nvPr/>
          </p:nvSpPr>
          <p:spPr>
            <a:xfrm>
              <a:off x="533520" y="48769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219320" y="4724280"/>
              <a:ext cx="1295280" cy="764280"/>
              <a:chOff x="1219320" y="4724280"/>
              <a:chExt cx="1295280" cy="764280"/>
            </a:xfrm>
          </p:grpSpPr>
          <p:sp>
            <p:nvSpPr>
              <p:cNvPr id="408" name=""/>
              <p:cNvSpPr/>
              <p:nvPr/>
            </p:nvSpPr>
            <p:spPr>
              <a:xfrm>
                <a:off x="1219320" y="4724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19320" y="5028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124080" y="5334120"/>
            <a:ext cx="5715000" cy="992880"/>
            <a:chOff x="3124080" y="5334120"/>
            <a:chExt cx="5715000" cy="992880"/>
          </a:xfrm>
        </p:grpSpPr>
        <p:sp>
          <p:nvSpPr>
            <p:cNvPr id="411" name=""/>
            <p:cNvSpPr/>
            <p:nvPr/>
          </p:nvSpPr>
          <p:spPr>
            <a:xfrm>
              <a:off x="3124080" y="53341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8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733920" y="5562720"/>
              <a:ext cx="623880" cy="764280"/>
              <a:chOff x="3733920" y="5562720"/>
              <a:chExt cx="623880" cy="764280"/>
            </a:xfrm>
          </p:grpSpPr>
          <p:sp>
            <p:nvSpPr>
              <p:cNvPr id="413" name=""/>
              <p:cNvSpPr/>
              <p:nvPr/>
            </p:nvSpPr>
            <p:spPr>
              <a:xfrm>
                <a:off x="3733920" y="55627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33920" y="58672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236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2120" y="4038480"/>
            <a:ext cx="3047400" cy="764280"/>
            <a:chOff x="762120" y="4038480"/>
            <a:chExt cx="3047400" cy="764280"/>
          </a:xfrm>
        </p:grpSpPr>
        <p:sp>
          <p:nvSpPr>
            <p:cNvPr id="419" name=""/>
            <p:cNvSpPr/>
            <p:nvPr/>
          </p:nvSpPr>
          <p:spPr>
            <a:xfrm>
              <a:off x="1142640" y="41907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62120" y="4038480"/>
              <a:ext cx="3047400" cy="764280"/>
              <a:chOff x="762120" y="4038480"/>
              <a:chExt cx="3047400" cy="7642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1447560" y="4038480"/>
                <a:ext cx="1294920" cy="764280"/>
                <a:chOff x="1447560" y="4038480"/>
                <a:chExt cx="1294920" cy="764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447560" y="40384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447560" y="43430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62120" y="4038480"/>
                <a:ext cx="1523520" cy="764280"/>
                <a:chOff x="762120" y="4038480"/>
                <a:chExt cx="1523520" cy="764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62120" y="40384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8080" y="43430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285640" y="4038480"/>
                <a:ext cx="1523880" cy="764280"/>
                <a:chOff x="2285640" y="4038480"/>
                <a:chExt cx="1523880" cy="764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285640" y="40384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85640" y="43430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297180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4876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0880" y="5562720"/>
            <a:ext cx="2666880" cy="764280"/>
            <a:chOff x="380880" y="5562720"/>
            <a:chExt cx="2666880" cy="764280"/>
          </a:xfrm>
        </p:grpSpPr>
        <p:sp>
          <p:nvSpPr>
            <p:cNvPr id="433" name=""/>
            <p:cNvSpPr/>
            <p:nvPr/>
          </p:nvSpPr>
          <p:spPr>
            <a:xfrm>
              <a:off x="380880" y="5715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18960" y="5562720"/>
              <a:ext cx="1143000" cy="764280"/>
              <a:chOff x="1218960" y="5562720"/>
              <a:chExt cx="1143000" cy="764280"/>
            </a:xfrm>
          </p:grpSpPr>
          <p:sp>
            <p:nvSpPr>
              <p:cNvPr id="435" name=""/>
              <p:cNvSpPr/>
              <p:nvPr/>
            </p:nvSpPr>
            <p:spPr>
              <a:xfrm>
                <a:off x="1218960" y="5562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8960" y="58672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harges $8 to join, and $1.25 for each DVD that is rented. The linear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 represents the amount of money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pent after ren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VDs. Graph the equation by first identify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4191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4800600"/>
            <a:ext cx="38088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305080" cy="4057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85800" y="23623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1.2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8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8) and moves up 1.2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62720" y="5791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ber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3498480" y="2124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person receives a weekly salary of $500 plus a commission of 5% for each sale. Total weekly pay is given by the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0.0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00. Graph the equation us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.0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267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123720" y="4800600"/>
            <a:ext cx="22860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096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0.0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500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00) and moves up 0.0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24480" y="1828800"/>
            <a:ext cx="4379760" cy="3672720"/>
            <a:chOff x="4524480" y="1828800"/>
            <a:chExt cx="4379760" cy="3672720"/>
          </a:xfrm>
        </p:grpSpPr>
        <p:grpSp>
          <p:nvGrpSpPr>
            <p:cNvPr id="486" name=""/>
            <p:cNvGrpSpPr/>
            <p:nvPr/>
          </p:nvGrpSpPr>
          <p:grpSpPr>
            <a:xfrm>
              <a:off x="5207040" y="2273400"/>
              <a:ext cx="2879640" cy="2841480"/>
              <a:chOff x="5207040" y="2273400"/>
              <a:chExt cx="2879640" cy="2841480"/>
            </a:xfrm>
          </p:grpSpPr>
          <p:sp>
            <p:nvSpPr>
              <p:cNvPr id="487" name=""/>
              <p:cNvSpPr/>
              <p:nvPr/>
            </p:nvSpPr>
            <p:spPr>
              <a:xfrm>
                <a:off x="520704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95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8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1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58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46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10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98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704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95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8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71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58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6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34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2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510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98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0704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95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8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71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58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6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34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2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10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98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0704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95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8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71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8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6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34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2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10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98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0704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95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8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1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8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46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34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2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0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98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0704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5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71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58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46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4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10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98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0704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95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8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71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8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46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4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10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798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0704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5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78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71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8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46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34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2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10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98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0704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95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8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71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8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46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4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10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98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0704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95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8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71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8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46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10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98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210280" y="1916280"/>
              <a:ext cx="0" cy="34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4440" y="5119560"/>
              <a:ext cx="354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9600" y="4738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57800" y="1828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43592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38520" y="3809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24480" y="3244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2920" y="2666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53040" y="447660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86440" y="5149800"/>
              <a:ext cx="102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24480" y="5164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640" y="51354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769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29400" y="420516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5400" y="3929040"/>
              <a:ext cx="10980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72400" y="362916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940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343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952880" y="3276720"/>
              <a:ext cx="28195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61722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2659680" y="1971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ekly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Writing Slope-Intercep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3, –4) and (–1, 4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–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1 for x, 4 for y, and –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26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29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31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243240" y="3033720"/>
            <a:ext cx="2361960" cy="764640"/>
            <a:chOff x="3243240" y="3033720"/>
            <a:chExt cx="2361960" cy="764640"/>
          </a:xfrm>
        </p:grpSpPr>
        <p:grpSp>
          <p:nvGrpSpPr>
            <p:cNvPr id="635" name=""/>
            <p:cNvGrpSpPr/>
            <p:nvPr/>
          </p:nvGrpSpPr>
          <p:grpSpPr>
            <a:xfrm>
              <a:off x="3243240" y="3033720"/>
              <a:ext cx="2361960" cy="764640"/>
              <a:chOff x="3243240" y="3033720"/>
              <a:chExt cx="2361960" cy="7646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547800" y="3033720"/>
                <a:ext cx="2057400" cy="764640"/>
                <a:chOff x="3547800" y="3033720"/>
                <a:chExt cx="2057400" cy="764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54780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4780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243240" y="3033720"/>
                <a:ext cx="2057400" cy="762120"/>
                <a:chOff x="3243240" y="3033720"/>
                <a:chExt cx="2057400" cy="76212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081320" y="3033720"/>
                  <a:ext cx="761760" cy="762120"/>
                  <a:chOff x="4081320" y="3033720"/>
                  <a:chExt cx="761760" cy="7621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08132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8132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324324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365256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00536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1, 2) and (2, 6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1 for x, 2 for y,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77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80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2971800" y="3033720"/>
            <a:ext cx="2361960" cy="764640"/>
            <a:chOff x="2971800" y="3033720"/>
            <a:chExt cx="2361960" cy="764640"/>
          </a:xfrm>
        </p:grpSpPr>
        <p:grpSp>
          <p:nvGrpSpPr>
            <p:cNvPr id="686" name=""/>
            <p:cNvGrpSpPr/>
            <p:nvPr/>
          </p:nvGrpSpPr>
          <p:grpSpPr>
            <a:xfrm>
              <a:off x="2971800" y="3033720"/>
              <a:ext cx="2361960" cy="764640"/>
              <a:chOff x="2971800" y="3033720"/>
              <a:chExt cx="2361960" cy="76464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276360" y="3033720"/>
                <a:ext cx="2057400" cy="764640"/>
                <a:chOff x="3276360" y="3033720"/>
                <a:chExt cx="2057400" cy="7646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27636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27636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2971800" y="3033720"/>
                <a:ext cx="2057400" cy="762120"/>
                <a:chOff x="2971800" y="3033720"/>
                <a:chExt cx="2057400" cy="76212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809880" y="3033720"/>
                  <a:ext cx="761760" cy="762120"/>
                  <a:chOff x="3809880" y="3033720"/>
                  <a:chExt cx="761760" cy="762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380988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80988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>
                  <a:off x="297180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338112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80988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4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171468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, 2) and (4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2, 2) and (4, 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123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6;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2513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5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5790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86200" y="4937400"/>
            <a:ext cx="5724360" cy="764280"/>
            <a:chOff x="3886200" y="4937400"/>
            <a:chExt cx="5724360" cy="764280"/>
          </a:xfrm>
        </p:grpSpPr>
        <p:sp>
          <p:nvSpPr>
            <p:cNvPr id="724" name=""/>
            <p:cNvSpPr/>
            <p:nvPr/>
          </p:nvSpPr>
          <p:spPr>
            <a:xfrm>
              <a:off x="3886200" y="50734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= –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34000" y="4937400"/>
              <a:ext cx="4876560" cy="764280"/>
              <a:chOff x="4734000" y="4937400"/>
              <a:chExt cx="4876560" cy="764280"/>
            </a:xfrm>
          </p:grpSpPr>
          <p:sp>
            <p:nvSpPr>
              <p:cNvPr id="726" name=""/>
              <p:cNvSpPr/>
              <p:nvPr/>
            </p:nvSpPr>
            <p:spPr>
              <a:xfrm>
                <a:off x="4734000" y="493740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34000" y="524196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20120" cy="3276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the equation of a straight line that passes through fewer than two quadrant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 or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slopes and intercepts to graph linea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828800"/>
            <a:ext cx="716292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4479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graph a linear equation easily by finding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2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to Graph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grpSp>
          <p:nvGrpSpPr>
            <p:cNvPr id="130" name=""/>
            <p:cNvGrpSpPr/>
            <p:nvPr/>
          </p:nvGrpSpPr>
          <p:grpSpPr>
            <a:xfrm>
              <a:off x="1752480" y="4343400"/>
              <a:ext cx="3276720" cy="764640"/>
              <a:chOff x="1752480" y="4343400"/>
              <a:chExt cx="3276720" cy="764640"/>
            </a:xfrm>
          </p:grpSpPr>
          <p:sp>
            <p:nvSpPr>
              <p:cNvPr id="131" name=""/>
              <p:cNvSpPr/>
              <p:nvPr/>
            </p:nvSpPr>
            <p:spPr>
              <a:xfrm>
                <a:off x="1752480" y="434340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–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28800" y="4648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90920" y="4343400"/>
              <a:ext cx="1676160" cy="764640"/>
              <a:chOff x="2590920" y="4343400"/>
              <a:chExt cx="1676160" cy="7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90920" y="434340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66880" y="464832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6095520" y="3352680"/>
            <a:ext cx="2057400" cy="2667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1:50Z</dcterms:modified>
  <cp:revision>156</cp:revision>
  <dc:subject/>
  <dc:title>Slide 1</dc:title>
</cp:coreProperties>
</file>