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6DA7-E275-452C-A494-597A9ACC9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88CE-8EF3-4F27-94DA-804E8B39C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1AA9-18D6-489C-A468-748FE091E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CC34-69C2-4E98-AEEE-721A8532F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D2C2-EAE0-4FF5-B0F2-E04AD65FD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BF9D-39AE-4751-86AC-448AE000D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A3EB-D2DF-4B14-B787-24A704508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4A9A-668A-482E-AFC6-863FAE202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1EB1-82E1-4BB4-9A17-5CD908D26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F025-64D9-45DE-8842-D217A4FA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C779-0385-4BBC-8999-7BBDCF88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B9C2-2D1D-4CF0-A8E9-4D78DB03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50557-9FA2-45C7-9264-29925191C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6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342720" y="16740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371600" y="162720"/>
              <a:ext cx="777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52280" y="655308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29160" y="236160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2" action="ppaction://hlinksldjump"/>
          </p:cNvPr>
          <p:cNvSpPr/>
          <p:nvPr/>
        </p:nvSpPr>
        <p:spPr>
          <a:xfrm>
            <a:off x="3699360" y="3021840"/>
            <a:ext cx="34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3" action="ppaction://hlinksldjump"/>
          </p:cNvPr>
          <p:cNvSpPr/>
          <p:nvPr/>
        </p:nvSpPr>
        <p:spPr>
          <a:xfrm>
            <a:off x="3679920" y="363132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685800" y="1905120"/>
            <a:ext cx="7854840" cy="2021760"/>
            <a:chOff x="685800" y="1905120"/>
            <a:chExt cx="7854840" cy="2021760"/>
          </a:xfrm>
        </p:grpSpPr>
        <p:sp>
          <p:nvSpPr>
            <p:cNvPr id="158" name=""/>
            <p:cNvSpPr/>
            <p:nvPr/>
          </p:nvSpPr>
          <p:spPr>
            <a:xfrm>
              <a:off x="691920" y="2362320"/>
              <a:ext cx="7848720" cy="1564560"/>
            </a:xfrm>
            <a:prstGeom prst="rect">
              <a:avLst/>
            </a:pr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 form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A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B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, wher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are real numbers, is called the Standard Form of a Linear Equation.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85800" y="1905120"/>
              <a:ext cx="2743200" cy="4597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Helpful Hi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61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57200" y="182880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-intercept and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-intercept of the line 8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– 6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24. Use the intercepts to graph the equ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3124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d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intercept 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0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5812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40384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6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0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752480" y="44956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1828800" y="4876920"/>
            <a:ext cx="3276720" cy="764280"/>
            <a:chOff x="1828800" y="4876920"/>
            <a:chExt cx="3276720" cy="764280"/>
          </a:xfrm>
        </p:grpSpPr>
        <p:grpSp>
          <p:nvGrpSpPr>
            <p:cNvPr id="173" name=""/>
            <p:cNvGrpSpPr/>
            <p:nvPr/>
          </p:nvGrpSpPr>
          <p:grpSpPr>
            <a:xfrm>
              <a:off x="1828800" y="4876920"/>
              <a:ext cx="3276720" cy="764280"/>
              <a:chOff x="1828800" y="4876920"/>
              <a:chExt cx="3276720" cy="764280"/>
            </a:xfrm>
          </p:grpSpPr>
          <p:sp>
            <p:nvSpPr>
              <p:cNvPr id="174" name=""/>
              <p:cNvSpPr/>
              <p:nvPr/>
            </p:nvSpPr>
            <p:spPr>
              <a:xfrm>
                <a:off x="1828800" y="4876920"/>
                <a:ext cx="327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8</a:t>
                </a:r>
                <a:r>
                  <a:rPr b="0" i="1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905120" y="51814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2210040" y="4876920"/>
              <a:ext cx="1981080" cy="764280"/>
              <a:chOff x="2210040" y="4876920"/>
              <a:chExt cx="1981080" cy="764280"/>
            </a:xfrm>
          </p:grpSpPr>
          <p:grpSp>
            <p:nvGrpSpPr>
              <p:cNvPr id="177" name=""/>
              <p:cNvGrpSpPr/>
              <p:nvPr/>
            </p:nvGrpSpPr>
            <p:grpSpPr>
              <a:xfrm>
                <a:off x="2514600" y="4876920"/>
                <a:ext cx="1676520" cy="764280"/>
                <a:chOff x="2514600" y="4876920"/>
                <a:chExt cx="1676520" cy="76428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2514600" y="4876920"/>
                  <a:ext cx="1676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2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2590920" y="5181480"/>
                  <a:ext cx="609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8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0" name=""/>
              <p:cNvSpPr/>
              <p:nvPr/>
            </p:nvSpPr>
            <p:spPr>
              <a:xfrm>
                <a:off x="2210040" y="502884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1" name=""/>
          <p:cNvSpPr/>
          <p:nvPr/>
        </p:nvSpPr>
        <p:spPr>
          <a:xfrm>
            <a:off x="1905120" y="55627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594360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intercept is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8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1 Continu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38080" y="21337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d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intercept 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0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43000" y="27432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38080" y="327672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(0) – 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52480" y="38098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1752480" y="4343400"/>
            <a:ext cx="3276720" cy="764640"/>
            <a:chOff x="1752480" y="4343400"/>
            <a:chExt cx="3276720" cy="764640"/>
          </a:xfrm>
        </p:grpSpPr>
        <p:sp>
          <p:nvSpPr>
            <p:cNvPr id="195" name=""/>
            <p:cNvSpPr/>
            <p:nvPr/>
          </p:nvSpPr>
          <p:spPr>
            <a:xfrm>
              <a:off x="1752480" y="4343400"/>
              <a:ext cx="32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–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6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28800" y="46483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2286000" y="4343400"/>
              <a:ext cx="1981080" cy="764640"/>
              <a:chOff x="2286000" y="4343400"/>
              <a:chExt cx="1981080" cy="7646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2590560" y="4343400"/>
                <a:ext cx="1676520" cy="764640"/>
                <a:chOff x="2590560" y="4343400"/>
                <a:chExt cx="1676520" cy="7646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2590560" y="4343400"/>
                  <a:ext cx="1676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 </a:t>
                  </a:r>
                  <a:r>
                    <a:rPr b="0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2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666880" y="4648320"/>
                  <a:ext cx="609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–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6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1" name=""/>
              <p:cNvSpPr/>
              <p:nvPr/>
            </p:nvSpPr>
            <p:spPr>
              <a:xfrm>
                <a:off x="2286000" y="449568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2" name=""/>
          <p:cNvSpPr/>
          <p:nvPr/>
        </p:nvSpPr>
        <p:spPr>
          <a:xfrm>
            <a:off x="2133720" y="51055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–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38080" y="571500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intercept is –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0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1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2280" y="1981080"/>
            <a:ext cx="441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raph of 8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24 is the line that crosses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axis at the point (3, 0) and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axis at the point (0, –4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734000" y="1828800"/>
            <a:ext cx="3724200" cy="44578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 flipH="1">
            <a:off x="6019560" y="3429000"/>
            <a:ext cx="2057400" cy="274320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505560" y="5357880"/>
            <a:ext cx="128520" cy="128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477200" y="4062240"/>
            <a:ext cx="128520" cy="128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17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" descr=""/>
            <p:cNvPicPr/>
            <p:nvPr/>
          </p:nvPicPr>
          <p:blipFill>
            <a:blip r:embed="rId3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457200" y="144792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an equation written i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lope-intercept for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mx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the slope an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interce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590920" y="3352680"/>
            <a:ext cx="4724280" cy="1831320"/>
            <a:chOff x="2590920" y="3352680"/>
            <a:chExt cx="4724280" cy="1831320"/>
          </a:xfrm>
        </p:grpSpPr>
        <p:sp>
          <p:nvSpPr>
            <p:cNvPr id="224" name=""/>
            <p:cNvSpPr/>
            <p:nvPr/>
          </p:nvSpPr>
          <p:spPr>
            <a:xfrm>
              <a:off x="2590920" y="3352680"/>
              <a:ext cx="358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3365ff"/>
                  </a:solidFill>
                  <a:latin typeface="Verdana"/>
                </a:rPr>
                <a:t>y</a:t>
              </a:r>
              <a:r>
                <a:rPr b="1" lang="en-US" sz="3600" spc="-1" strike="noStrike">
                  <a:solidFill>
                    <a:srgbClr val="000000"/>
                  </a:solidFill>
                  <a:latin typeface="Verdana"/>
                </a:rPr>
                <a:t> = </a:t>
              </a:r>
              <a:r>
                <a:rPr b="1" i="1" lang="en-US" sz="3600" spc="-1" strike="noStrike">
                  <a:solidFill>
                    <a:srgbClr val="009900"/>
                  </a:solidFill>
                  <a:latin typeface="Verdana"/>
                </a:rPr>
                <a:t>m</a:t>
              </a:r>
              <a:r>
                <a:rPr b="1" i="1" lang="en-US" sz="3600" spc="-1" strike="noStrike">
                  <a:solidFill>
                    <a:srgbClr val="3365ff"/>
                  </a:solidFill>
                  <a:latin typeface="Verdana"/>
                </a:rPr>
                <a:t>x</a:t>
              </a:r>
              <a:r>
                <a:rPr b="1" lang="en-US" sz="3600" spc="-1" strike="noStrike">
                  <a:solidFill>
                    <a:srgbClr val="000000"/>
                  </a:solidFill>
                  <a:latin typeface="Verdana"/>
                </a:rPr>
                <a:t> + </a:t>
              </a:r>
              <a:r>
                <a:rPr b="1" i="1" lang="en-US" sz="3600" spc="-1" strike="noStrike">
                  <a:solidFill>
                    <a:srgbClr val="cc00cc"/>
                  </a:solidFill>
                  <a:latin typeface="Verdana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3886200" y="3962520"/>
              <a:ext cx="0" cy="76176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5334120" y="3962520"/>
              <a:ext cx="0" cy="761760"/>
            </a:xfrm>
            <a:prstGeom prst="line">
              <a:avLst/>
            </a:prstGeom>
            <a:ln w="936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352680" y="472428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00"/>
                  </a:solidFill>
                  <a:latin typeface="Verdana"/>
                </a:rPr>
                <a:t>Slop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876920" y="472428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00cc"/>
                  </a:solidFill>
                  <a:latin typeface="Verdana"/>
                </a:rPr>
                <a:t>y</a:t>
              </a:r>
              <a:r>
                <a:rPr b="1" lang="en-US" sz="2400" spc="-1" strike="noStrike">
                  <a:solidFill>
                    <a:srgbClr val="cc00cc"/>
                  </a:solidFill>
                  <a:latin typeface="Verdana"/>
                </a:rPr>
                <a:t>-inter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3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3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63360" y="912960"/>
            <a:ext cx="908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A: Using Slope-Intercept Form to Find Slopes and </a:t>
            </a:r>
            <a:r>
              <a:rPr b="0" i="1" lang="en-US" sz="2400" spc="-1" strike="noStrike">
                <a:solidFill>
                  <a:srgbClr val="006699"/>
                </a:solidFill>
                <a:latin typeface="Arial Black"/>
              </a:rPr>
              <a:t>y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-inter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" y="160020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each equation in slope-intercept form, and then find the slope and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-intercept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90720" y="28954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38080" y="32767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–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2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      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–2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962520" y="327672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Subtract 2x from both s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38098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3 –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38080" y="419112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write to match slope-intercept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38080" y="47242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–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895480" y="47242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The equation is in slope-intercept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143000" y="5486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–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514600" y="54864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cc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cc00cc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447920" y="5076360"/>
            <a:ext cx="380880" cy="561960"/>
          </a:xfrm>
          <a:prstGeom prst="line">
            <a:avLst/>
          </a:prstGeom>
          <a:ln w="25560">
            <a:solidFill>
              <a:srgbClr val="0099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2666880" y="5105520"/>
            <a:ext cx="0" cy="380880"/>
          </a:xfrm>
          <a:prstGeom prst="line">
            <a:avLst/>
          </a:prstGeom>
          <a:ln w="25560">
            <a:solidFill>
              <a:srgbClr val="cc00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38080" y="57913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lope of the line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3 is –2, and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intercept is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5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457200" y="25146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63360" y="912960"/>
            <a:ext cx="908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B: Using Slope-Intercept Form to Find Slopes and </a:t>
            </a:r>
            <a:r>
              <a:rPr b="0" i="1" lang="en-US" sz="2400" spc="-1" strike="noStrike">
                <a:solidFill>
                  <a:srgbClr val="006699"/>
                </a:solidFill>
                <a:latin typeface="Arial Black"/>
              </a:rPr>
              <a:t>y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-inter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34920" y="1905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990720" y="2438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124080" y="297180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Divide both sides by 5 to solve for 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48120" y="35812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The equation is in slope-intercept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514600" y="46483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cc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1523880" y="4190760"/>
            <a:ext cx="304920" cy="609480"/>
          </a:xfrm>
          <a:prstGeom prst="line">
            <a:avLst/>
          </a:prstGeom>
          <a:ln w="25560">
            <a:solidFill>
              <a:srgbClr val="0099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2666880" y="4038480"/>
            <a:ext cx="0" cy="609840"/>
          </a:xfrm>
          <a:prstGeom prst="line">
            <a:avLst/>
          </a:prstGeom>
          <a:ln w="25560">
            <a:solidFill>
              <a:srgbClr val="cc00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990720" y="2819520"/>
            <a:ext cx="2666520" cy="764280"/>
            <a:chOff x="990720" y="2819520"/>
            <a:chExt cx="2666520" cy="764280"/>
          </a:xfrm>
        </p:grpSpPr>
        <p:sp>
          <p:nvSpPr>
            <p:cNvPr id="265" name=""/>
            <p:cNvSpPr/>
            <p:nvPr/>
          </p:nvSpPr>
          <p:spPr>
            <a:xfrm>
              <a:off x="1371600" y="2971800"/>
              <a:ext cx="22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990720" y="2819520"/>
              <a:ext cx="1980720" cy="764280"/>
              <a:chOff x="990720" y="2819520"/>
              <a:chExt cx="1980720" cy="76428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1676160" y="2819520"/>
                <a:ext cx="1295280" cy="764280"/>
                <a:chOff x="1676160" y="2819520"/>
                <a:chExt cx="1295280" cy="76428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1676160" y="2819520"/>
                  <a:ext cx="1295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1676160" y="3124080"/>
                  <a:ext cx="761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00"/>
                      </a:solidFill>
                      <a:latin typeface="Verdana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990720" y="2819520"/>
                <a:ext cx="1523880" cy="764280"/>
                <a:chOff x="990720" y="2819520"/>
                <a:chExt cx="1523880" cy="76428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990720" y="2819520"/>
                  <a:ext cx="1523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5</a:t>
                  </a:r>
                  <a:r>
                    <a:rPr b="0" i="1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y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1066680" y="3124080"/>
                  <a:ext cx="9140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00"/>
                      </a:solidFill>
                      <a:latin typeface="Verdana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3" name=""/>
          <p:cNvGrpSpPr/>
          <p:nvPr/>
        </p:nvGrpSpPr>
        <p:grpSpPr>
          <a:xfrm>
            <a:off x="1066680" y="3505320"/>
            <a:ext cx="4952880" cy="764280"/>
            <a:chOff x="1066680" y="3505320"/>
            <a:chExt cx="4952880" cy="764280"/>
          </a:xfrm>
        </p:grpSpPr>
        <p:sp>
          <p:nvSpPr>
            <p:cNvPr id="274" name=""/>
            <p:cNvSpPr/>
            <p:nvPr/>
          </p:nvSpPr>
          <p:spPr>
            <a:xfrm>
              <a:off x="1066680" y="3657600"/>
              <a:ext cx="495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1600200" y="3505320"/>
              <a:ext cx="1295280" cy="764280"/>
              <a:chOff x="1600200" y="3505320"/>
              <a:chExt cx="1295280" cy="764280"/>
            </a:xfrm>
          </p:grpSpPr>
          <p:sp>
            <p:nvSpPr>
              <p:cNvPr id="276" name=""/>
              <p:cNvSpPr/>
              <p:nvPr/>
            </p:nvSpPr>
            <p:spPr>
              <a:xfrm>
                <a:off x="1600200" y="350532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600200" y="380988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8" name=""/>
          <p:cNvGrpSpPr/>
          <p:nvPr/>
        </p:nvGrpSpPr>
        <p:grpSpPr>
          <a:xfrm>
            <a:off x="1295280" y="4495680"/>
            <a:ext cx="2666880" cy="764280"/>
            <a:chOff x="1295280" y="4495680"/>
            <a:chExt cx="2666880" cy="764280"/>
          </a:xfrm>
        </p:grpSpPr>
        <p:sp>
          <p:nvSpPr>
            <p:cNvPr id="279" name=""/>
            <p:cNvSpPr/>
            <p:nvPr/>
          </p:nvSpPr>
          <p:spPr>
            <a:xfrm>
              <a:off x="1295280" y="464796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9900"/>
                  </a:solidFill>
                  <a:latin typeface="Verdana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1981080" y="4495680"/>
              <a:ext cx="1143000" cy="764280"/>
              <a:chOff x="1981080" y="4495680"/>
              <a:chExt cx="1143000" cy="764280"/>
            </a:xfrm>
          </p:grpSpPr>
          <p:sp>
            <p:nvSpPr>
              <p:cNvPr id="281" name=""/>
              <p:cNvSpPr/>
              <p:nvPr/>
            </p:nvSpPr>
            <p:spPr>
              <a:xfrm>
                <a:off x="1981080" y="4495680"/>
                <a:ext cx="114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81080" y="4800240"/>
                <a:ext cx="114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3" name=""/>
          <p:cNvGrpSpPr/>
          <p:nvPr/>
        </p:nvGrpSpPr>
        <p:grpSpPr>
          <a:xfrm>
            <a:off x="838080" y="5334120"/>
            <a:ext cx="8991720" cy="977760"/>
            <a:chOff x="838080" y="5334120"/>
            <a:chExt cx="8991720" cy="977760"/>
          </a:xfrm>
        </p:grpSpPr>
        <p:sp>
          <p:nvSpPr>
            <p:cNvPr id="284" name=""/>
            <p:cNvSpPr/>
            <p:nvPr/>
          </p:nvSpPr>
          <p:spPr>
            <a:xfrm>
              <a:off x="838080" y="5486400"/>
              <a:ext cx="8991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 slope of the line 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is   , and th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-intercept is 0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5715000" y="5334120"/>
              <a:ext cx="1066680" cy="764280"/>
              <a:chOff x="5715000" y="5334120"/>
              <a:chExt cx="1066680" cy="764280"/>
            </a:xfrm>
          </p:grpSpPr>
          <p:sp>
            <p:nvSpPr>
              <p:cNvPr id="286" name=""/>
              <p:cNvSpPr/>
              <p:nvPr/>
            </p:nvSpPr>
            <p:spPr>
              <a:xfrm>
                <a:off x="5715000" y="533412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715000" y="5638680"/>
                <a:ext cx="91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8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8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500"/>
                            </p:stCondLst>
                            <p:childTnLst>
                              <p:par>
                                <p:cTn id="3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500"/>
                            </p:stCondLst>
                            <p:childTnLst>
                              <p:par>
                                <p:cTn id="3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63360" y="912960"/>
            <a:ext cx="908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C: Using Slope-Intercept Form to Find Slopes and y-inter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914400" y="17524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90720" y="22096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809880" y="25909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Subtract 4x from both s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38080" y="34290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write to match slope-intercept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905120" y="5943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cc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cc00cc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990720" y="5562360"/>
            <a:ext cx="609480" cy="533160"/>
          </a:xfrm>
          <a:prstGeom prst="line">
            <a:avLst/>
          </a:prstGeom>
          <a:ln w="25560">
            <a:solidFill>
              <a:srgbClr val="0099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2133720" y="5486400"/>
            <a:ext cx="457200" cy="533520"/>
          </a:xfrm>
          <a:prstGeom prst="line">
            <a:avLst/>
          </a:prstGeom>
          <a:ln w="25560">
            <a:solidFill>
              <a:srgbClr val="cc00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838080" y="4952880"/>
            <a:ext cx="4952880" cy="764280"/>
            <a:chOff x="838080" y="4952880"/>
            <a:chExt cx="4952880" cy="764280"/>
          </a:xfrm>
        </p:grpSpPr>
        <p:sp>
          <p:nvSpPr>
            <p:cNvPr id="303" name=""/>
            <p:cNvSpPr/>
            <p:nvPr/>
          </p:nvSpPr>
          <p:spPr>
            <a:xfrm>
              <a:off x="838080" y="5105520"/>
              <a:ext cx="495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-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1523880" y="4952880"/>
              <a:ext cx="1295280" cy="764280"/>
              <a:chOff x="1523880" y="4952880"/>
              <a:chExt cx="1295280" cy="76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1523880" y="495288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523880" y="525744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685800" y="5791320"/>
            <a:ext cx="2666880" cy="764280"/>
            <a:chOff x="685800" y="5791320"/>
            <a:chExt cx="2666880" cy="764280"/>
          </a:xfrm>
        </p:grpSpPr>
        <p:sp>
          <p:nvSpPr>
            <p:cNvPr id="308" name=""/>
            <p:cNvSpPr/>
            <p:nvPr/>
          </p:nvSpPr>
          <p:spPr>
            <a:xfrm>
              <a:off x="685800" y="594360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9900"/>
                  </a:solidFill>
                  <a:latin typeface="Verdana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1523880" y="5791320"/>
              <a:ext cx="1143000" cy="764280"/>
              <a:chOff x="1523880" y="5791320"/>
              <a:chExt cx="1143000" cy="764280"/>
            </a:xfrm>
          </p:grpSpPr>
          <p:sp>
            <p:nvSpPr>
              <p:cNvPr id="310" name=""/>
              <p:cNvSpPr/>
              <p:nvPr/>
            </p:nvSpPr>
            <p:spPr>
              <a:xfrm>
                <a:off x="1523880" y="5791320"/>
                <a:ext cx="114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523880" y="6095880"/>
                <a:ext cx="114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2" name=""/>
          <p:cNvGrpSpPr/>
          <p:nvPr/>
        </p:nvGrpSpPr>
        <p:grpSpPr>
          <a:xfrm>
            <a:off x="3124080" y="5562720"/>
            <a:ext cx="5715000" cy="992880"/>
            <a:chOff x="3124080" y="5562720"/>
            <a:chExt cx="5715000" cy="992880"/>
          </a:xfrm>
        </p:grpSpPr>
        <p:sp>
          <p:nvSpPr>
            <p:cNvPr id="313" name=""/>
            <p:cNvSpPr/>
            <p:nvPr/>
          </p:nvSpPr>
          <p:spPr>
            <a:xfrm>
              <a:off x="3124080" y="5562720"/>
              <a:ext cx="5715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 slope of the line 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+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9   is –   , and th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-intercept is 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4" name=""/>
            <p:cNvGrpSpPr/>
            <p:nvPr/>
          </p:nvGrpSpPr>
          <p:grpSpPr>
            <a:xfrm>
              <a:off x="3733920" y="5791320"/>
              <a:ext cx="623880" cy="764280"/>
              <a:chOff x="3733920" y="5791320"/>
              <a:chExt cx="623880" cy="764280"/>
            </a:xfrm>
          </p:grpSpPr>
          <p:sp>
            <p:nvSpPr>
              <p:cNvPr id="315" name=""/>
              <p:cNvSpPr/>
              <p:nvPr/>
            </p:nvSpPr>
            <p:spPr>
              <a:xfrm>
                <a:off x="3733920" y="5791320"/>
                <a:ext cx="623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733920" y="6095880"/>
                <a:ext cx="53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7" name=""/>
          <p:cNvSpPr/>
          <p:nvPr/>
        </p:nvSpPr>
        <p:spPr>
          <a:xfrm>
            <a:off x="838080" y="25909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–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4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–4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828800" y="30481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9 –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85800" y="38098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–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762120" y="4267080"/>
            <a:ext cx="3047400" cy="764280"/>
            <a:chOff x="762120" y="4267080"/>
            <a:chExt cx="3047400" cy="764280"/>
          </a:xfrm>
        </p:grpSpPr>
        <p:sp>
          <p:nvSpPr>
            <p:cNvPr id="321" name=""/>
            <p:cNvSpPr/>
            <p:nvPr/>
          </p:nvSpPr>
          <p:spPr>
            <a:xfrm>
              <a:off x="1142640" y="4419360"/>
              <a:ext cx="22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      +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762120" y="4267080"/>
              <a:ext cx="3047400" cy="764280"/>
              <a:chOff x="762120" y="4267080"/>
              <a:chExt cx="3047400" cy="764280"/>
            </a:xfrm>
          </p:grpSpPr>
          <p:grpSp>
            <p:nvGrpSpPr>
              <p:cNvPr id="323" name=""/>
              <p:cNvGrpSpPr/>
              <p:nvPr/>
            </p:nvGrpSpPr>
            <p:grpSpPr>
              <a:xfrm>
                <a:off x="1447560" y="4267080"/>
                <a:ext cx="1294920" cy="764280"/>
                <a:chOff x="1447560" y="4267080"/>
                <a:chExt cx="1294920" cy="76428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1447560" y="4267080"/>
                  <a:ext cx="1294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–</a:t>
                  </a:r>
                  <a:r>
                    <a:rPr b="0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4</a:t>
                  </a:r>
                  <a:r>
                    <a:rPr b="0" i="1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x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1447560" y="4571640"/>
                  <a:ext cx="761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  </a:t>
                  </a:r>
                  <a:r>
                    <a:rPr b="0" lang="en-US" sz="2400" spc="-1" strike="noStrike">
                      <a:solidFill>
                        <a:srgbClr val="ff0000"/>
                      </a:solidFill>
                      <a:latin typeface="Verdana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762120" y="4267080"/>
                <a:ext cx="1523520" cy="764280"/>
                <a:chOff x="762120" y="4267080"/>
                <a:chExt cx="1523520" cy="76428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762120" y="4267080"/>
                  <a:ext cx="1523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3</a:t>
                  </a:r>
                  <a:r>
                    <a:rPr b="0" i="1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y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838080" y="4571640"/>
                  <a:ext cx="913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00"/>
                      </a:solidFill>
                      <a:latin typeface="Verdana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2285640" y="4267080"/>
                <a:ext cx="1523880" cy="764280"/>
                <a:chOff x="2285640" y="4267080"/>
                <a:chExt cx="1523880" cy="76428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2285640" y="4267080"/>
                  <a:ext cx="1523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9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2285640" y="4571640"/>
                  <a:ext cx="9140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00"/>
                      </a:solidFill>
                      <a:latin typeface="Verdana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32" name=""/>
          <p:cNvSpPr/>
          <p:nvPr/>
        </p:nvSpPr>
        <p:spPr>
          <a:xfrm>
            <a:off x="2971800" y="44197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Divide both sides by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895480" y="510552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The equation is in slope-intercept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33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57200" y="1447920"/>
            <a:ext cx="8381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each equation in slope-intercept form, and then find the slope and y-intercept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38080" y="275904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–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4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      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–4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962520" y="275904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Subtract 4x from both s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828800" y="329256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4 –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367344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write to match slope-intercept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838080" y="420696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–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895480" y="420696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The equation is in slope-intercept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143000" y="49687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–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514600" y="49687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cc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cc00cc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1447920" y="4511520"/>
            <a:ext cx="304560" cy="517680"/>
          </a:xfrm>
          <a:prstGeom prst="line">
            <a:avLst/>
          </a:prstGeom>
          <a:ln w="25560">
            <a:solidFill>
              <a:srgbClr val="0099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2666880" y="4587840"/>
            <a:ext cx="0" cy="380880"/>
          </a:xfrm>
          <a:prstGeom prst="line">
            <a:avLst/>
          </a:prstGeom>
          <a:ln w="25560">
            <a:solidFill>
              <a:srgbClr val="cc00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38080" y="527364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lope of the line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4 is –4, and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intercept is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35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914400" y="15238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y = 2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990720" y="20574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971800" y="25909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Divide both sides by 7 to solve for 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895480" y="32767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The equation is in slope-intercept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514600" y="42670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cc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1600200" y="3809880"/>
            <a:ext cx="228600" cy="533520"/>
          </a:xfrm>
          <a:prstGeom prst="line">
            <a:avLst/>
          </a:prstGeom>
          <a:ln w="25560">
            <a:solidFill>
              <a:srgbClr val="0099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2666880" y="3657240"/>
            <a:ext cx="0" cy="609480"/>
          </a:xfrm>
          <a:prstGeom prst="line">
            <a:avLst/>
          </a:prstGeom>
          <a:ln w="25560">
            <a:solidFill>
              <a:srgbClr val="cc00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990720" y="2438280"/>
            <a:ext cx="2666520" cy="764640"/>
            <a:chOff x="990720" y="2438280"/>
            <a:chExt cx="2666520" cy="764640"/>
          </a:xfrm>
        </p:grpSpPr>
        <p:sp>
          <p:nvSpPr>
            <p:cNvPr id="368" name=""/>
            <p:cNvSpPr/>
            <p:nvPr/>
          </p:nvSpPr>
          <p:spPr>
            <a:xfrm>
              <a:off x="1371600" y="2590920"/>
              <a:ext cx="22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9" name=""/>
            <p:cNvGrpSpPr/>
            <p:nvPr/>
          </p:nvGrpSpPr>
          <p:grpSpPr>
            <a:xfrm>
              <a:off x="990720" y="2438280"/>
              <a:ext cx="1980720" cy="764640"/>
              <a:chOff x="990720" y="2438280"/>
              <a:chExt cx="1980720" cy="764640"/>
            </a:xfrm>
          </p:grpSpPr>
          <p:grpSp>
            <p:nvGrpSpPr>
              <p:cNvPr id="370" name=""/>
              <p:cNvGrpSpPr/>
              <p:nvPr/>
            </p:nvGrpSpPr>
            <p:grpSpPr>
              <a:xfrm>
                <a:off x="1676160" y="2438280"/>
                <a:ext cx="1295280" cy="764280"/>
                <a:chOff x="1676160" y="2438280"/>
                <a:chExt cx="1295280" cy="76428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1676160" y="2438280"/>
                  <a:ext cx="1295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1676160" y="2742840"/>
                  <a:ext cx="761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00"/>
                      </a:solidFill>
                      <a:latin typeface="Verdana"/>
                    </a:rPr>
                    <a:t>7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990720" y="2438280"/>
                <a:ext cx="1523880" cy="764640"/>
                <a:chOff x="990720" y="2438280"/>
                <a:chExt cx="1523880" cy="76464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990720" y="2438280"/>
                  <a:ext cx="1523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7</a:t>
                  </a:r>
                  <a:r>
                    <a:rPr b="0" i="1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y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1066680" y="2743200"/>
                  <a:ext cx="9140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00"/>
                      </a:solidFill>
                      <a:latin typeface="Verdana"/>
                    </a:rPr>
                    <a:t>7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76" name=""/>
          <p:cNvGrpSpPr/>
          <p:nvPr/>
        </p:nvGrpSpPr>
        <p:grpSpPr>
          <a:xfrm>
            <a:off x="1066680" y="3124080"/>
            <a:ext cx="4952880" cy="764280"/>
            <a:chOff x="1066680" y="3124080"/>
            <a:chExt cx="4952880" cy="764280"/>
          </a:xfrm>
        </p:grpSpPr>
        <p:sp>
          <p:nvSpPr>
            <p:cNvPr id="377" name=""/>
            <p:cNvSpPr/>
            <p:nvPr/>
          </p:nvSpPr>
          <p:spPr>
            <a:xfrm>
              <a:off x="1066680" y="3276360"/>
              <a:ext cx="495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8" name=""/>
            <p:cNvGrpSpPr/>
            <p:nvPr/>
          </p:nvGrpSpPr>
          <p:grpSpPr>
            <a:xfrm>
              <a:off x="1600200" y="3124080"/>
              <a:ext cx="1295280" cy="764280"/>
              <a:chOff x="1600200" y="3124080"/>
              <a:chExt cx="1295280" cy="764280"/>
            </a:xfrm>
          </p:grpSpPr>
          <p:sp>
            <p:nvSpPr>
              <p:cNvPr id="379" name=""/>
              <p:cNvSpPr/>
              <p:nvPr/>
            </p:nvSpPr>
            <p:spPr>
              <a:xfrm>
                <a:off x="1600200" y="312408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600200" y="342864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1" name=""/>
          <p:cNvGrpSpPr/>
          <p:nvPr/>
        </p:nvGrpSpPr>
        <p:grpSpPr>
          <a:xfrm>
            <a:off x="1295280" y="4114800"/>
            <a:ext cx="2666880" cy="764280"/>
            <a:chOff x="1295280" y="4114800"/>
            <a:chExt cx="2666880" cy="764280"/>
          </a:xfrm>
        </p:grpSpPr>
        <p:sp>
          <p:nvSpPr>
            <p:cNvPr id="382" name=""/>
            <p:cNvSpPr/>
            <p:nvPr/>
          </p:nvSpPr>
          <p:spPr>
            <a:xfrm>
              <a:off x="1295280" y="426708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9900"/>
                  </a:solidFill>
                  <a:latin typeface="Verdana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1981080" y="4114800"/>
              <a:ext cx="1143000" cy="764280"/>
              <a:chOff x="1981080" y="4114800"/>
              <a:chExt cx="1143000" cy="764280"/>
            </a:xfrm>
          </p:grpSpPr>
          <p:sp>
            <p:nvSpPr>
              <p:cNvPr id="384" name=""/>
              <p:cNvSpPr/>
              <p:nvPr/>
            </p:nvSpPr>
            <p:spPr>
              <a:xfrm>
                <a:off x="1981080" y="4114800"/>
                <a:ext cx="114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981080" y="4419360"/>
                <a:ext cx="114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6" name=""/>
          <p:cNvGrpSpPr/>
          <p:nvPr/>
        </p:nvGrpSpPr>
        <p:grpSpPr>
          <a:xfrm>
            <a:off x="838080" y="4952880"/>
            <a:ext cx="8991720" cy="977760"/>
            <a:chOff x="838080" y="4952880"/>
            <a:chExt cx="8991720" cy="977760"/>
          </a:xfrm>
        </p:grpSpPr>
        <p:sp>
          <p:nvSpPr>
            <p:cNvPr id="387" name=""/>
            <p:cNvSpPr/>
            <p:nvPr/>
          </p:nvSpPr>
          <p:spPr>
            <a:xfrm>
              <a:off x="838080" y="5105160"/>
              <a:ext cx="8991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 slope of the line 7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is   , and th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-intercept is 0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5715000" y="4952880"/>
              <a:ext cx="1066680" cy="764280"/>
              <a:chOff x="5715000" y="4952880"/>
              <a:chExt cx="1066680" cy="764280"/>
            </a:xfrm>
          </p:grpSpPr>
          <p:sp>
            <p:nvSpPr>
              <p:cNvPr id="389" name=""/>
              <p:cNvSpPr/>
              <p:nvPr/>
            </p:nvSpPr>
            <p:spPr>
              <a:xfrm>
                <a:off x="5715000" y="495288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715000" y="5257440"/>
                <a:ext cx="91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1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39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500"/>
                            </p:stCondLst>
                            <p:childTnLst>
                              <p:par>
                                <p:cTn id="5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500"/>
                            </p:stCondLst>
                            <p:childTnLst>
                              <p:par>
                                <p:cTn id="5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500"/>
                            </p:stCondLst>
                            <p:childTnLst>
                              <p:par>
                                <p:cTn id="5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990720"/>
            <a:ext cx="8229600" cy="52578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nd the slope of the line that passes through each pair of poi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3, 6) and (–1,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1, 2) and (6,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4, 6) and (2, –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–3, 0) and (–1,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4683240" y="2742480"/>
            <a:ext cx="399240" cy="887400"/>
            <a:chOff x="4683240" y="2742480"/>
            <a:chExt cx="399240" cy="887400"/>
          </a:xfrm>
        </p:grpSpPr>
        <p:sp>
          <p:nvSpPr>
            <p:cNvPr id="57" name=""/>
            <p:cNvSpPr/>
            <p:nvPr/>
          </p:nvSpPr>
          <p:spPr>
            <a:xfrm>
              <a:off x="4683240" y="27424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u="sng">
                  <a:solidFill>
                    <a:srgbClr val="ff3300"/>
                  </a:solidFill>
                  <a:uFillTx/>
                  <a:latin typeface="Verdana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699080" y="31093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Verdana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4479840" y="3671280"/>
            <a:ext cx="612360" cy="901440"/>
            <a:chOff x="4479840" y="3671280"/>
            <a:chExt cx="612360" cy="901440"/>
          </a:xfrm>
        </p:grpSpPr>
        <p:sp>
          <p:nvSpPr>
            <p:cNvPr id="60" name=""/>
            <p:cNvSpPr/>
            <p:nvPr/>
          </p:nvSpPr>
          <p:spPr>
            <a:xfrm>
              <a:off x="4479840" y="38379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Verdana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4692960" y="3671280"/>
              <a:ext cx="399240" cy="901440"/>
              <a:chOff x="4692960" y="3671280"/>
              <a:chExt cx="399240" cy="901440"/>
            </a:xfrm>
          </p:grpSpPr>
          <p:sp>
            <p:nvSpPr>
              <p:cNvPr id="62" name=""/>
              <p:cNvSpPr/>
              <p:nvPr/>
            </p:nvSpPr>
            <p:spPr>
              <a:xfrm>
                <a:off x="4708800" y="367128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u="sng">
                    <a:solidFill>
                      <a:srgbClr val="ff3300"/>
                    </a:solidFill>
                    <a:uFillTx/>
                    <a:latin typeface="Verdana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692960" y="40521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Verdana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" name=""/>
          <p:cNvGrpSpPr/>
          <p:nvPr/>
        </p:nvGrpSpPr>
        <p:grpSpPr>
          <a:xfrm>
            <a:off x="4683240" y="4494960"/>
            <a:ext cx="399240" cy="915840"/>
            <a:chOff x="4683240" y="4494960"/>
            <a:chExt cx="399240" cy="915840"/>
          </a:xfrm>
        </p:grpSpPr>
        <p:sp>
          <p:nvSpPr>
            <p:cNvPr id="65" name=""/>
            <p:cNvSpPr/>
            <p:nvPr/>
          </p:nvSpPr>
          <p:spPr>
            <a:xfrm>
              <a:off x="4699080" y="44949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u="sng">
                  <a:solidFill>
                    <a:srgbClr val="ff3300"/>
                  </a:solidFill>
                  <a:uFillTx/>
                  <a:latin typeface="Verdana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683240" y="48902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Verdana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4665960" y="5257080"/>
            <a:ext cx="415080" cy="901440"/>
            <a:chOff x="4665960" y="5257080"/>
            <a:chExt cx="415080" cy="901440"/>
          </a:xfrm>
        </p:grpSpPr>
        <p:sp>
          <p:nvSpPr>
            <p:cNvPr id="68" name=""/>
            <p:cNvSpPr/>
            <p:nvPr/>
          </p:nvSpPr>
          <p:spPr>
            <a:xfrm>
              <a:off x="4665960" y="52570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u="sng">
                  <a:solidFill>
                    <a:srgbClr val="ff3300"/>
                  </a:solidFill>
                  <a:uFillTx/>
                  <a:latin typeface="Verdana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697640" y="56379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Verdana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57200" y="15238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990720" y="19810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809880" y="2362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Subtract 5x from both s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38080" y="32004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write to match slope-intercept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905120" y="5715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cc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cc00cc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685800" y="5333760"/>
            <a:ext cx="609480" cy="533160"/>
          </a:xfrm>
          <a:prstGeom prst="line">
            <a:avLst/>
          </a:prstGeom>
          <a:ln w="25560">
            <a:solidFill>
              <a:srgbClr val="0099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2209680" y="5181480"/>
            <a:ext cx="0" cy="609840"/>
          </a:xfrm>
          <a:prstGeom prst="line">
            <a:avLst/>
          </a:prstGeom>
          <a:ln w="25560">
            <a:solidFill>
              <a:srgbClr val="cc00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533520" y="4724280"/>
            <a:ext cx="4952880" cy="764280"/>
            <a:chOff x="533520" y="4724280"/>
            <a:chExt cx="4952880" cy="764280"/>
          </a:xfrm>
        </p:grpSpPr>
        <p:sp>
          <p:nvSpPr>
            <p:cNvPr id="406" name=""/>
            <p:cNvSpPr/>
            <p:nvPr/>
          </p:nvSpPr>
          <p:spPr>
            <a:xfrm>
              <a:off x="533520" y="4876920"/>
              <a:ext cx="495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-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7" name=""/>
            <p:cNvGrpSpPr/>
            <p:nvPr/>
          </p:nvGrpSpPr>
          <p:grpSpPr>
            <a:xfrm>
              <a:off x="1219320" y="4724280"/>
              <a:ext cx="1295280" cy="764280"/>
              <a:chOff x="1219320" y="4724280"/>
              <a:chExt cx="1295280" cy="764280"/>
            </a:xfrm>
          </p:grpSpPr>
          <p:sp>
            <p:nvSpPr>
              <p:cNvPr id="408" name=""/>
              <p:cNvSpPr/>
              <p:nvPr/>
            </p:nvSpPr>
            <p:spPr>
              <a:xfrm>
                <a:off x="1219320" y="472428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219320" y="502884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0" name=""/>
          <p:cNvGrpSpPr/>
          <p:nvPr/>
        </p:nvGrpSpPr>
        <p:grpSpPr>
          <a:xfrm>
            <a:off x="3124080" y="5334120"/>
            <a:ext cx="5715000" cy="992880"/>
            <a:chOff x="3124080" y="5334120"/>
            <a:chExt cx="5715000" cy="992880"/>
          </a:xfrm>
        </p:grpSpPr>
        <p:sp>
          <p:nvSpPr>
            <p:cNvPr id="411" name=""/>
            <p:cNvSpPr/>
            <p:nvPr/>
          </p:nvSpPr>
          <p:spPr>
            <a:xfrm>
              <a:off x="3124080" y="5334120"/>
              <a:ext cx="5715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 slope of the line 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8  is –   , and th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-intercept is 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3733920" y="5562720"/>
              <a:ext cx="623880" cy="764280"/>
              <a:chOff x="3733920" y="5562720"/>
              <a:chExt cx="623880" cy="764280"/>
            </a:xfrm>
          </p:grpSpPr>
          <p:sp>
            <p:nvSpPr>
              <p:cNvPr id="413" name=""/>
              <p:cNvSpPr/>
              <p:nvPr/>
            </p:nvSpPr>
            <p:spPr>
              <a:xfrm>
                <a:off x="3733920" y="5562720"/>
                <a:ext cx="623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733920" y="5867280"/>
                <a:ext cx="53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5" name=""/>
          <p:cNvSpPr/>
          <p:nvPr/>
        </p:nvSpPr>
        <p:spPr>
          <a:xfrm>
            <a:off x="838080" y="2362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–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5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–5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828800" y="2819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8 – 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" y="35812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8 – 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762120" y="4038480"/>
            <a:ext cx="3047400" cy="764280"/>
            <a:chOff x="762120" y="4038480"/>
            <a:chExt cx="3047400" cy="764280"/>
          </a:xfrm>
        </p:grpSpPr>
        <p:sp>
          <p:nvSpPr>
            <p:cNvPr id="419" name=""/>
            <p:cNvSpPr/>
            <p:nvPr/>
          </p:nvSpPr>
          <p:spPr>
            <a:xfrm>
              <a:off x="1142640" y="4190760"/>
              <a:ext cx="22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      +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0" name=""/>
            <p:cNvGrpSpPr/>
            <p:nvPr/>
          </p:nvGrpSpPr>
          <p:grpSpPr>
            <a:xfrm>
              <a:off x="762120" y="4038480"/>
              <a:ext cx="3047400" cy="764280"/>
              <a:chOff x="762120" y="4038480"/>
              <a:chExt cx="3047400" cy="764280"/>
            </a:xfrm>
          </p:grpSpPr>
          <p:grpSp>
            <p:nvGrpSpPr>
              <p:cNvPr id="421" name=""/>
              <p:cNvGrpSpPr/>
              <p:nvPr/>
            </p:nvGrpSpPr>
            <p:grpSpPr>
              <a:xfrm>
                <a:off x="1447560" y="4038480"/>
                <a:ext cx="1294920" cy="764280"/>
                <a:chOff x="1447560" y="4038480"/>
                <a:chExt cx="1294920" cy="76428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1447560" y="4038480"/>
                  <a:ext cx="1294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–</a:t>
                  </a:r>
                  <a:r>
                    <a:rPr b="0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5</a:t>
                  </a:r>
                  <a:r>
                    <a:rPr b="0" i="1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x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1447560" y="4343040"/>
                  <a:ext cx="761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  </a:t>
                  </a:r>
                  <a:r>
                    <a:rPr b="0" lang="en-US" sz="2400" spc="-1" strike="noStrike">
                      <a:solidFill>
                        <a:srgbClr val="ff0000"/>
                      </a:solidFill>
                      <a:latin typeface="Verdana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762120" y="4038480"/>
                <a:ext cx="1523520" cy="764280"/>
                <a:chOff x="762120" y="4038480"/>
                <a:chExt cx="1523520" cy="76428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762120" y="4038480"/>
                  <a:ext cx="1523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4</a:t>
                  </a:r>
                  <a:r>
                    <a:rPr b="0" i="1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y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838080" y="4343040"/>
                  <a:ext cx="913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00"/>
                      </a:solidFill>
                      <a:latin typeface="Verdana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7" name=""/>
              <p:cNvGrpSpPr/>
              <p:nvPr/>
            </p:nvGrpSpPr>
            <p:grpSpPr>
              <a:xfrm>
                <a:off x="2285640" y="4038480"/>
                <a:ext cx="1523880" cy="764280"/>
                <a:chOff x="2285640" y="4038480"/>
                <a:chExt cx="1523880" cy="76428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2285640" y="4038480"/>
                  <a:ext cx="1523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8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2285640" y="4343040"/>
                  <a:ext cx="9140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00"/>
                      </a:solidFill>
                      <a:latin typeface="Verdana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30" name=""/>
          <p:cNvSpPr/>
          <p:nvPr/>
        </p:nvSpPr>
        <p:spPr>
          <a:xfrm>
            <a:off x="2971800" y="41911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Divide both sides by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895480" y="487692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The equation is in slope-intercept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380880" y="5562720"/>
            <a:ext cx="2666880" cy="764280"/>
            <a:chOff x="380880" y="5562720"/>
            <a:chExt cx="2666880" cy="764280"/>
          </a:xfrm>
        </p:grpSpPr>
        <p:sp>
          <p:nvSpPr>
            <p:cNvPr id="433" name=""/>
            <p:cNvSpPr/>
            <p:nvPr/>
          </p:nvSpPr>
          <p:spPr>
            <a:xfrm>
              <a:off x="380880" y="571500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9900"/>
                  </a:solidFill>
                  <a:latin typeface="Verdana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4" name=""/>
            <p:cNvGrpSpPr/>
            <p:nvPr/>
          </p:nvGrpSpPr>
          <p:grpSpPr>
            <a:xfrm>
              <a:off x="1218960" y="5562720"/>
              <a:ext cx="1143000" cy="764280"/>
              <a:chOff x="1218960" y="5562720"/>
              <a:chExt cx="1143000" cy="764280"/>
            </a:xfrm>
          </p:grpSpPr>
          <p:sp>
            <p:nvSpPr>
              <p:cNvPr id="435" name=""/>
              <p:cNvSpPr/>
              <p:nvPr/>
            </p:nvSpPr>
            <p:spPr>
              <a:xfrm>
                <a:off x="1218960" y="5562720"/>
                <a:ext cx="114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218960" y="5867280"/>
                <a:ext cx="114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7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43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9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00"/>
                            </p:stCondLst>
                            <p:childTnLst>
                              <p:par>
                                <p:cTn id="6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1000"/>
                            </p:stCondLst>
                            <p:childTnLst>
                              <p:par>
                                <p:cTn id="6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2000"/>
                            </p:stCondLst>
                            <p:childTnLst>
                              <p:par>
                                <p:cTn id="6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3: </a:t>
            </a:r>
            <a:r>
              <a:rPr b="0" i="1" lang="en-US" sz="2400" spc="-1" strike="noStrike">
                <a:solidFill>
                  <a:srgbClr val="ff0000"/>
                </a:solidFill>
                <a:latin typeface="Arial Black"/>
              </a:rPr>
              <a:t>Entertainment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62120" y="1752480"/>
            <a:ext cx="784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video club charges $8 to join, and $1.25 for each DVD that is rented. The linear equation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1.25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8 represents the amount of money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spent after renting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DVDs. Graph the equation by first identifying the slope and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-interce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838080" y="44197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.2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352680" y="41911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The equation is in slope-intercept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276720" y="51055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cc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066680" y="4876920"/>
            <a:ext cx="914400" cy="304560"/>
          </a:xfrm>
          <a:prstGeom prst="line">
            <a:avLst/>
          </a:prstGeom>
          <a:ln w="25560">
            <a:solidFill>
              <a:srgbClr val="0099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H="1" flipV="1">
            <a:off x="2971800" y="4800600"/>
            <a:ext cx="380880" cy="457200"/>
          </a:xfrm>
          <a:prstGeom prst="line">
            <a:avLst/>
          </a:prstGeom>
          <a:ln w="25560">
            <a:solidFill>
              <a:srgbClr val="cc00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85800" y="51055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1.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45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3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3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5486400" y="1828800"/>
            <a:ext cx="2305080" cy="405756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685800" y="2362320"/>
            <a:ext cx="426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lope of the line is 1.25, and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intercept is 8. The line crosses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axis at the point (0, 8) and moves up 1.25 units for every 1 unit it moves to the r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46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2" name="" descr=""/>
            <p:cNvPicPr/>
            <p:nvPr/>
          </p:nvPicPr>
          <p:blipFill>
            <a:blip r:embed="rId3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5562720" y="579132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umber of DV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rot="16200000">
            <a:off x="3498480" y="212472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562720" y="160020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st of DV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1752480"/>
            <a:ext cx="784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salesperson receives a weekly salary of $500 plus a commission of 5% for each sale. Total weekly pay is given by the equation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= 0.05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+ 500. Graph the equation using the slope and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-interce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838080" y="44197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0.0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809880" y="426708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The equation is in slope-intercept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6720" y="51055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cc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1066680" y="4876920"/>
            <a:ext cx="914400" cy="304560"/>
          </a:xfrm>
          <a:prstGeom prst="line">
            <a:avLst/>
          </a:prstGeom>
          <a:ln w="25560">
            <a:solidFill>
              <a:srgbClr val="0099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H="1" flipV="1">
            <a:off x="3123720" y="4800600"/>
            <a:ext cx="228600" cy="457200"/>
          </a:xfrm>
          <a:prstGeom prst="line">
            <a:avLst/>
          </a:prstGeom>
          <a:ln w="25560">
            <a:solidFill>
              <a:srgbClr val="cc00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85800" y="51055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0.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47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3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04920" y="2209680"/>
            <a:ext cx="4267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lope of the line is 0.05, and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intercept is 500. The line crosses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axis at the poi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0, 500) and moves up 0.05 units for every 1 unit it moves to the r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4524480" y="1828800"/>
            <a:ext cx="4379760" cy="3672720"/>
            <a:chOff x="4524480" y="1828800"/>
            <a:chExt cx="4379760" cy="3672720"/>
          </a:xfrm>
        </p:grpSpPr>
        <p:grpSp>
          <p:nvGrpSpPr>
            <p:cNvPr id="486" name=""/>
            <p:cNvGrpSpPr/>
            <p:nvPr/>
          </p:nvGrpSpPr>
          <p:grpSpPr>
            <a:xfrm>
              <a:off x="5207040" y="2273400"/>
              <a:ext cx="2879640" cy="2841480"/>
              <a:chOff x="5207040" y="2273400"/>
              <a:chExt cx="2879640" cy="2841480"/>
            </a:xfrm>
          </p:grpSpPr>
          <p:sp>
            <p:nvSpPr>
              <p:cNvPr id="487" name=""/>
              <p:cNvSpPr/>
              <p:nvPr/>
            </p:nvSpPr>
            <p:spPr>
              <a:xfrm>
                <a:off x="5207040" y="227340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495040" y="227340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782680" y="227340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071040" y="227340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358680" y="227340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646680" y="227340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934680" y="227340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222680" y="227340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510680" y="227340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7798680" y="227340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207040" y="255744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495040" y="255744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782680" y="255744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071040" y="255744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358680" y="255744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646680" y="255744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934680" y="255744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222680" y="255744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7510680" y="255744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7798680" y="255744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207040" y="284148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495040" y="284148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782680" y="284148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071040" y="284148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358680" y="284148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646680" y="284148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934680" y="284148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222680" y="284148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510680" y="284148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798680" y="284148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207040" y="312552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495040" y="312552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782680" y="312552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071040" y="312552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358680" y="312552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646680" y="312552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934680" y="312552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7222680" y="312552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510680" y="312552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798680" y="312552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207040" y="340956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495040" y="340956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782680" y="340956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071040" y="340956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6358680" y="340956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646680" y="340956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934680" y="340956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222680" y="340956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7510680" y="340956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798680" y="340956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207040" y="369396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495040" y="369396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782680" y="369396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071040" y="369396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358680" y="369396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646680" y="369396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934680" y="369396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222680" y="369396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510680" y="369396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798680" y="369396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207040" y="397800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495040" y="397800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782680" y="397800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071040" y="397800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358680" y="397800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6646680" y="397800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934680" y="397800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7222680" y="397800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7510680" y="397800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798680" y="397800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207040" y="426240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495040" y="426240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782680" y="426240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071040" y="426240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358680" y="426240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646680" y="426240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934680" y="426240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7222680" y="426240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510680" y="426240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798680" y="426240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207040" y="454644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495040" y="454644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782680" y="454644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071040" y="454644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358680" y="454644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646680" y="454644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934680" y="454644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222680" y="454644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7510680" y="454644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798680" y="454644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5207040" y="483084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495040" y="483084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782680" y="483084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6071040" y="483084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358680" y="483084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646680" y="483084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934680" y="483084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7222680" y="483084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510680" y="483084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798680" y="483084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7" name=""/>
            <p:cNvSpPr/>
            <p:nvPr/>
          </p:nvSpPr>
          <p:spPr>
            <a:xfrm>
              <a:off x="5210280" y="1916280"/>
              <a:ext cx="0" cy="3493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924440" y="5119560"/>
              <a:ext cx="3540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229600" y="47386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257800" y="182880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648320" y="4359240"/>
              <a:ext cx="76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5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538520" y="3809880"/>
              <a:ext cx="76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1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524480" y="3244680"/>
              <a:ext cx="76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15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552920" y="2666880"/>
              <a:ext cx="76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2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153040" y="4476600"/>
              <a:ext cx="109440" cy="109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986440" y="5149800"/>
              <a:ext cx="102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10,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424480" y="5164200"/>
              <a:ext cx="76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5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767640" y="513540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15,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776920" y="5029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729400" y="4205160"/>
              <a:ext cx="109440" cy="109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305400" y="3929040"/>
              <a:ext cx="109800" cy="109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872400" y="3629160"/>
              <a:ext cx="109440" cy="109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359400" y="5029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934320" y="5029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4952880" y="3276720"/>
              <a:ext cx="2819520" cy="1371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60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6172200" y="54864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rot="16200000">
            <a:off x="2659680" y="197172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a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562720" y="160020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eekly Sa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4: Writing Slope-Intercept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28600" y="175248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the equation of the line that passes through (3, –4) and (–1, 4) in slope-intercept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04920" y="25909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d the slo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562720" y="32004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The slope is –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304920" y="380988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bstitute either point and the slope into the slope-intercept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57200" y="46483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57200" y="51814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009900"/>
                </a:solidFill>
                <a:latin typeface="Verdana"/>
              </a:rPr>
              <a:t>–2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–1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57200" y="58672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 = 2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895480" y="5029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Substitute –1 for x, 4 for y, and –2 for 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895480" y="58672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1905120" y="3048120"/>
            <a:ext cx="2895480" cy="764280"/>
            <a:chOff x="1905120" y="3048120"/>
            <a:chExt cx="2895480" cy="764280"/>
          </a:xfrm>
        </p:grpSpPr>
        <p:sp>
          <p:nvSpPr>
            <p:cNvPr id="626" name=""/>
            <p:cNvSpPr/>
            <p:nvPr/>
          </p:nvSpPr>
          <p:spPr>
            <a:xfrm>
              <a:off x="1905120" y="304812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4 – (–4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905120" y="3352680"/>
              <a:ext cx="289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 –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304920" y="2971800"/>
            <a:ext cx="2057400" cy="848160"/>
            <a:chOff x="304920" y="2971800"/>
            <a:chExt cx="2057400" cy="848160"/>
          </a:xfrm>
        </p:grpSpPr>
        <p:sp>
          <p:nvSpPr>
            <p:cNvPr id="629" name=""/>
            <p:cNvSpPr/>
            <p:nvPr/>
          </p:nvSpPr>
          <p:spPr>
            <a:xfrm>
              <a:off x="1490760" y="31716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0" name=""/>
            <p:cNvGrpSpPr/>
            <p:nvPr/>
          </p:nvGrpSpPr>
          <p:grpSpPr>
            <a:xfrm>
              <a:off x="304920" y="2971800"/>
              <a:ext cx="2057400" cy="848160"/>
              <a:chOff x="304920" y="2971800"/>
              <a:chExt cx="2057400" cy="848160"/>
            </a:xfrm>
          </p:grpSpPr>
          <p:sp>
            <p:nvSpPr>
              <p:cNvPr id="631" name=""/>
              <p:cNvSpPr/>
              <p:nvPr/>
            </p:nvSpPr>
            <p:spPr>
              <a:xfrm>
                <a:off x="381240" y="2971800"/>
                <a:ext cx="1523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y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Verdana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–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y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381240" y="3309840"/>
                <a:ext cx="1981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Verdana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–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304920" y="3429000"/>
                <a:ext cx="121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4" name=""/>
          <p:cNvGrpSpPr/>
          <p:nvPr/>
        </p:nvGrpSpPr>
        <p:grpSpPr>
          <a:xfrm>
            <a:off x="3243240" y="3033720"/>
            <a:ext cx="2361960" cy="764640"/>
            <a:chOff x="3243240" y="3033720"/>
            <a:chExt cx="2361960" cy="764640"/>
          </a:xfrm>
        </p:grpSpPr>
        <p:grpSp>
          <p:nvGrpSpPr>
            <p:cNvPr id="635" name=""/>
            <p:cNvGrpSpPr/>
            <p:nvPr/>
          </p:nvGrpSpPr>
          <p:grpSpPr>
            <a:xfrm>
              <a:off x="3243240" y="3033720"/>
              <a:ext cx="2361960" cy="764640"/>
              <a:chOff x="3243240" y="3033720"/>
              <a:chExt cx="2361960" cy="764640"/>
            </a:xfrm>
          </p:grpSpPr>
          <p:grpSp>
            <p:nvGrpSpPr>
              <p:cNvPr id="636" name=""/>
              <p:cNvGrpSpPr/>
              <p:nvPr/>
            </p:nvGrpSpPr>
            <p:grpSpPr>
              <a:xfrm>
                <a:off x="3547800" y="3033720"/>
                <a:ext cx="2057400" cy="764640"/>
                <a:chOff x="3547800" y="3033720"/>
                <a:chExt cx="2057400" cy="764640"/>
              </a:xfrm>
            </p:grpSpPr>
            <p:sp>
              <p:nvSpPr>
                <p:cNvPr id="637" name=""/>
                <p:cNvSpPr/>
                <p:nvPr/>
              </p:nvSpPr>
              <p:spPr>
                <a:xfrm>
                  <a:off x="3547800" y="3033720"/>
                  <a:ext cx="2057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8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3547800" y="3338640"/>
                  <a:ext cx="914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–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9" name=""/>
              <p:cNvGrpSpPr/>
              <p:nvPr/>
            </p:nvGrpSpPr>
            <p:grpSpPr>
              <a:xfrm>
                <a:off x="3243240" y="3033720"/>
                <a:ext cx="2057400" cy="762120"/>
                <a:chOff x="3243240" y="3033720"/>
                <a:chExt cx="2057400" cy="762120"/>
              </a:xfrm>
            </p:grpSpPr>
            <p:grpSp>
              <p:nvGrpSpPr>
                <p:cNvPr id="640" name=""/>
                <p:cNvGrpSpPr/>
                <p:nvPr/>
              </p:nvGrpSpPr>
              <p:grpSpPr>
                <a:xfrm>
                  <a:off x="4081320" y="3033720"/>
                  <a:ext cx="761760" cy="762120"/>
                  <a:chOff x="4081320" y="3033720"/>
                  <a:chExt cx="761760" cy="762120"/>
                </a:xfrm>
              </p:grpSpPr>
              <p:sp>
                <p:nvSpPr>
                  <p:cNvPr id="641" name=""/>
                  <p:cNvSpPr/>
                  <p:nvPr/>
                </p:nvSpPr>
                <p:spPr>
                  <a:xfrm>
                    <a:off x="4081320" y="3033720"/>
                    <a:ext cx="76176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>
                    <a:off x="4081320" y="3338640"/>
                    <a:ext cx="68580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43" name=""/>
                <p:cNvSpPr/>
                <p:nvPr/>
              </p:nvSpPr>
              <p:spPr>
                <a:xfrm>
                  <a:off x="3243240" y="3186000"/>
                  <a:ext cx="2057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= 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4" name=""/>
            <p:cNvSpPr/>
            <p:nvPr/>
          </p:nvSpPr>
          <p:spPr>
            <a:xfrm>
              <a:off x="3652560" y="34146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4005360" y="3166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–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64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8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9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5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5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8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6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4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85800" y="18288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lve for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200400" y="26668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Subtract 2 from both s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85800" y="3581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e the equation of the line, using –2 for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2 for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685800" y="22860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 = 2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09480" y="266688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–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–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85800" y="31240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85800" y="4419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–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661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3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0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3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8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3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8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3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8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228600" y="175248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the equation of the line that passes through (1, 2) and (2, 6) in slope-intercept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04920" y="25909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d the slo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562720" y="32004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The slope is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304920" y="380988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bstitute either point and the slope into the slope-intercept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57200" y="46483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57200" y="51814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0099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1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57200" y="58672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= 4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895480" y="502920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Substitute 1 for x, 2 for y, and 4 for 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2895480" y="58672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1905120" y="3048120"/>
            <a:ext cx="2895480" cy="764280"/>
            <a:chOff x="1905120" y="3048120"/>
            <a:chExt cx="2895480" cy="764280"/>
          </a:xfrm>
        </p:grpSpPr>
        <p:sp>
          <p:nvSpPr>
            <p:cNvPr id="677" name=""/>
            <p:cNvSpPr/>
            <p:nvPr/>
          </p:nvSpPr>
          <p:spPr>
            <a:xfrm>
              <a:off x="1905120" y="304812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6 –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905120" y="3352680"/>
              <a:ext cx="289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 –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304920" y="2971800"/>
            <a:ext cx="2057400" cy="848160"/>
            <a:chOff x="304920" y="2971800"/>
            <a:chExt cx="2057400" cy="848160"/>
          </a:xfrm>
        </p:grpSpPr>
        <p:sp>
          <p:nvSpPr>
            <p:cNvPr id="680" name=""/>
            <p:cNvSpPr/>
            <p:nvPr/>
          </p:nvSpPr>
          <p:spPr>
            <a:xfrm>
              <a:off x="1490760" y="31716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1" name=""/>
            <p:cNvGrpSpPr/>
            <p:nvPr/>
          </p:nvGrpSpPr>
          <p:grpSpPr>
            <a:xfrm>
              <a:off x="304920" y="2971800"/>
              <a:ext cx="2057400" cy="848160"/>
              <a:chOff x="304920" y="2971800"/>
              <a:chExt cx="2057400" cy="848160"/>
            </a:xfrm>
          </p:grpSpPr>
          <p:sp>
            <p:nvSpPr>
              <p:cNvPr id="682" name=""/>
              <p:cNvSpPr/>
              <p:nvPr/>
            </p:nvSpPr>
            <p:spPr>
              <a:xfrm>
                <a:off x="381240" y="2971800"/>
                <a:ext cx="1523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y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Verdana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–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y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381240" y="3309840"/>
                <a:ext cx="1981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Verdana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–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304920" y="3429000"/>
                <a:ext cx="121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5" name=""/>
          <p:cNvGrpSpPr/>
          <p:nvPr/>
        </p:nvGrpSpPr>
        <p:grpSpPr>
          <a:xfrm>
            <a:off x="2971800" y="3033720"/>
            <a:ext cx="2361960" cy="764640"/>
            <a:chOff x="2971800" y="3033720"/>
            <a:chExt cx="2361960" cy="764640"/>
          </a:xfrm>
        </p:grpSpPr>
        <p:grpSp>
          <p:nvGrpSpPr>
            <p:cNvPr id="686" name=""/>
            <p:cNvGrpSpPr/>
            <p:nvPr/>
          </p:nvGrpSpPr>
          <p:grpSpPr>
            <a:xfrm>
              <a:off x="2971800" y="3033720"/>
              <a:ext cx="2361960" cy="764640"/>
              <a:chOff x="2971800" y="3033720"/>
              <a:chExt cx="2361960" cy="764640"/>
            </a:xfrm>
          </p:grpSpPr>
          <p:grpSp>
            <p:nvGrpSpPr>
              <p:cNvPr id="687" name=""/>
              <p:cNvGrpSpPr/>
              <p:nvPr/>
            </p:nvGrpSpPr>
            <p:grpSpPr>
              <a:xfrm>
                <a:off x="3276360" y="3033720"/>
                <a:ext cx="2057400" cy="764640"/>
                <a:chOff x="3276360" y="3033720"/>
                <a:chExt cx="2057400" cy="76464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3276360" y="3033720"/>
                  <a:ext cx="2057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3276360" y="3338640"/>
                  <a:ext cx="914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0" name=""/>
              <p:cNvGrpSpPr/>
              <p:nvPr/>
            </p:nvGrpSpPr>
            <p:grpSpPr>
              <a:xfrm>
                <a:off x="2971800" y="3033720"/>
                <a:ext cx="2057400" cy="762120"/>
                <a:chOff x="2971800" y="3033720"/>
                <a:chExt cx="2057400" cy="762120"/>
              </a:xfrm>
            </p:grpSpPr>
            <p:grpSp>
              <p:nvGrpSpPr>
                <p:cNvPr id="691" name=""/>
                <p:cNvGrpSpPr/>
                <p:nvPr/>
              </p:nvGrpSpPr>
              <p:grpSpPr>
                <a:xfrm>
                  <a:off x="3809880" y="3033720"/>
                  <a:ext cx="761760" cy="762120"/>
                  <a:chOff x="3809880" y="3033720"/>
                  <a:chExt cx="761760" cy="762120"/>
                </a:xfrm>
              </p:grpSpPr>
              <p:sp>
                <p:nvSpPr>
                  <p:cNvPr id="692" name=""/>
                  <p:cNvSpPr/>
                  <p:nvPr/>
                </p:nvSpPr>
                <p:spPr>
                  <a:xfrm>
                    <a:off x="3809880" y="3033720"/>
                    <a:ext cx="76176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>
                    <a:off x="3809880" y="3338640"/>
                    <a:ext cx="68580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4" name=""/>
                <p:cNvSpPr/>
                <p:nvPr/>
              </p:nvSpPr>
              <p:spPr>
                <a:xfrm>
                  <a:off x="2971800" y="3186000"/>
                  <a:ext cx="2057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= 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5" name=""/>
            <p:cNvSpPr/>
            <p:nvPr/>
          </p:nvSpPr>
          <p:spPr>
            <a:xfrm>
              <a:off x="3381120" y="34146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6" name=""/>
          <p:cNvSpPr/>
          <p:nvPr/>
        </p:nvSpPr>
        <p:spPr>
          <a:xfrm>
            <a:off x="3809880" y="3166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69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9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0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500"/>
                            </p:stCondLst>
                            <p:childTnLst>
                              <p:par>
                                <p:cTn id="7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8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3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8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1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6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4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85800" y="18288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lve for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200400" y="26668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Subtract 4 from both s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609480" y="3581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e the equation of the line, using 4 for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–2 for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685800" y="22860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= 4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609480" y="266688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–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4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–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33520" y="31240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685800" y="4419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71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3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0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6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1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6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1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1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533520" y="1714680"/>
            <a:ext cx="79246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each equation in slope-intercept form, and then find the slope and y-interce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–10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1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the equation of the line that passes through each pair of points in slope-intercept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0, 2) and (4, –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–2, 2) and (4, –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505320" y="312300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= –3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– 6;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 m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= –3; 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= –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352680" y="25135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= 3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– 5; 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= 3; 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= –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1143000" y="9756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nsert Lesson Titl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4038480" y="579024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= –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3" name=""/>
          <p:cNvGrpSpPr/>
          <p:nvPr/>
        </p:nvGrpSpPr>
        <p:grpSpPr>
          <a:xfrm>
            <a:off x="3886200" y="4937400"/>
            <a:ext cx="5724360" cy="764280"/>
            <a:chOff x="3886200" y="4937400"/>
            <a:chExt cx="5724360" cy="764280"/>
          </a:xfrm>
        </p:grpSpPr>
        <p:sp>
          <p:nvSpPr>
            <p:cNvPr id="724" name=""/>
            <p:cNvSpPr/>
            <p:nvPr/>
          </p:nvSpPr>
          <p:spPr>
            <a:xfrm>
              <a:off x="3886200" y="5073480"/>
              <a:ext cx="487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33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 = –  </a:t>
              </a:r>
              <a:r>
                <a:rPr b="0" i="1" lang="en-US" sz="2400" spc="-1" strike="noStrike">
                  <a:solidFill>
                    <a:srgbClr val="ff33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 +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5" name=""/>
            <p:cNvGrpSpPr/>
            <p:nvPr/>
          </p:nvGrpSpPr>
          <p:grpSpPr>
            <a:xfrm>
              <a:off x="4734000" y="4937400"/>
              <a:ext cx="4876560" cy="764280"/>
              <a:chOff x="4734000" y="4937400"/>
              <a:chExt cx="4876560" cy="764280"/>
            </a:xfrm>
          </p:grpSpPr>
          <p:sp>
            <p:nvSpPr>
              <p:cNvPr id="726" name=""/>
              <p:cNvSpPr/>
              <p:nvPr/>
            </p:nvSpPr>
            <p:spPr>
              <a:xfrm>
                <a:off x="4734000" y="4937400"/>
                <a:ext cx="4876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ff3300"/>
                    </a:solidFill>
                    <a:uFillTx/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4734000" y="5241960"/>
                <a:ext cx="4876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8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72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0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1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1600200"/>
            <a:ext cx="7620120" cy="327672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rite the equation of a straight line that passes through fewer than two quadrants on a coordinate pl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35812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 = 0 or </a:t>
            </a:r>
            <a:r>
              <a:rPr b="1" i="1" lang="en-US" sz="2400" spc="-1" strike="noStrike">
                <a:solidFill>
                  <a:srgbClr val="ff33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7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2438280"/>
            <a:ext cx="8305920" cy="106704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Verdana"/>
              </a:rPr>
              <a:t>Lear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to use slopes and intercepts to graph linear equation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8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Arial Black"/>
              </a:rPr>
              <a:t>Vocabul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1828800"/>
            <a:ext cx="7162920" cy="190512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intercep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inter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lope-intercept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76080" y="91080"/>
            <a:ext cx="469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nsert Lesson Titl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1447920"/>
            <a:ext cx="7772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can graph a linear equation easily by finding the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x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-intercep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nd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y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-intercep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 The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x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-intercep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a line is the value of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where the line crosses 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xis (wher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0). The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y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-intercep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a line is the value of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where the line crosses 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xis (wher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182880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-intercept and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-intercept of the line 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– 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= 12. Use the intercepts to graph the equ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3360" y="912960"/>
            <a:ext cx="908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1: Finding </a:t>
            </a:r>
            <a:r>
              <a:rPr b="0" i="1" lang="en-US" sz="2400" spc="-1" strike="noStrike">
                <a:solidFill>
                  <a:srgbClr val="006699"/>
                </a:solidFill>
                <a:latin typeface="Arial Black"/>
              </a:rPr>
              <a:t>x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-intercept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99"/>
                </a:solidFill>
                <a:latin typeface="Arial Black"/>
              </a:rPr>
              <a:t>y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-intercepts to Graph Linear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3124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d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intercept 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0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90720" y="35812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40384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3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0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52480" y="44956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828800" y="4876920"/>
            <a:ext cx="3276720" cy="764280"/>
            <a:chOff x="1828800" y="4876920"/>
            <a:chExt cx="3276720" cy="764280"/>
          </a:xfrm>
        </p:grpSpPr>
        <p:grpSp>
          <p:nvGrpSpPr>
            <p:cNvPr id="108" name=""/>
            <p:cNvGrpSpPr/>
            <p:nvPr/>
          </p:nvGrpSpPr>
          <p:grpSpPr>
            <a:xfrm>
              <a:off x="1828800" y="4876920"/>
              <a:ext cx="3276720" cy="764280"/>
              <a:chOff x="1828800" y="4876920"/>
              <a:chExt cx="3276720" cy="764280"/>
            </a:xfrm>
          </p:grpSpPr>
          <p:sp>
            <p:nvSpPr>
              <p:cNvPr id="109" name=""/>
              <p:cNvSpPr/>
              <p:nvPr/>
            </p:nvSpPr>
            <p:spPr>
              <a:xfrm>
                <a:off x="1828800" y="4876920"/>
                <a:ext cx="327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4</a:t>
                </a:r>
                <a:r>
                  <a:rPr b="0" i="1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905120" y="51814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2210040" y="4876920"/>
              <a:ext cx="1981080" cy="764280"/>
              <a:chOff x="2210040" y="4876920"/>
              <a:chExt cx="1981080" cy="764280"/>
            </a:xfrm>
          </p:grpSpPr>
          <p:grpSp>
            <p:nvGrpSpPr>
              <p:cNvPr id="112" name=""/>
              <p:cNvGrpSpPr/>
              <p:nvPr/>
            </p:nvGrpSpPr>
            <p:grpSpPr>
              <a:xfrm>
                <a:off x="2514600" y="4876920"/>
                <a:ext cx="1676520" cy="764280"/>
                <a:chOff x="2514600" y="4876920"/>
                <a:chExt cx="1676520" cy="76428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2514600" y="4876920"/>
                  <a:ext cx="1676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1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590920" y="5181480"/>
                  <a:ext cx="609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"/>
              <p:cNvSpPr/>
              <p:nvPr/>
            </p:nvSpPr>
            <p:spPr>
              <a:xfrm>
                <a:off x="2210040" y="502884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6" name=""/>
          <p:cNvSpPr/>
          <p:nvPr/>
        </p:nvSpPr>
        <p:spPr>
          <a:xfrm>
            <a:off x="1905120" y="55627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59436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intercept is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1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1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21337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d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intercept 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0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27432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38080" y="327672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0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76520" y="38098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752480" y="4343400"/>
            <a:ext cx="3276720" cy="764640"/>
            <a:chOff x="1752480" y="4343400"/>
            <a:chExt cx="3276720" cy="764640"/>
          </a:xfrm>
        </p:grpSpPr>
        <p:grpSp>
          <p:nvGrpSpPr>
            <p:cNvPr id="130" name=""/>
            <p:cNvGrpSpPr/>
            <p:nvPr/>
          </p:nvGrpSpPr>
          <p:grpSpPr>
            <a:xfrm>
              <a:off x="1752480" y="4343400"/>
              <a:ext cx="3276720" cy="764640"/>
              <a:chOff x="1752480" y="4343400"/>
              <a:chExt cx="3276720" cy="764640"/>
            </a:xfrm>
          </p:grpSpPr>
          <p:sp>
            <p:nvSpPr>
              <p:cNvPr id="131" name=""/>
              <p:cNvSpPr/>
              <p:nvPr/>
            </p:nvSpPr>
            <p:spPr>
              <a:xfrm>
                <a:off x="1752480" y="4343400"/>
                <a:ext cx="327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–</a:t>
                </a: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3</a:t>
                </a:r>
                <a:r>
                  <a:rPr b="0" i="1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828800" y="46483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–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2590920" y="4343400"/>
              <a:ext cx="1676160" cy="764640"/>
              <a:chOff x="2590920" y="4343400"/>
              <a:chExt cx="1676160" cy="764640"/>
            </a:xfrm>
          </p:grpSpPr>
          <p:sp>
            <p:nvSpPr>
              <p:cNvPr id="134" name=""/>
              <p:cNvSpPr/>
              <p:nvPr/>
            </p:nvSpPr>
            <p:spPr>
              <a:xfrm>
                <a:off x="2590920" y="4343400"/>
                <a:ext cx="1676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666880" y="4648320"/>
                <a:ext cx="60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–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2286000" y="44956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133720" y="51055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–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57913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intercept is –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4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1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2209680"/>
            <a:ext cx="4343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raph of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2 is the line that crosses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axis at the point (3, 0) and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axis at the point (0, –4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734000" y="1828800"/>
            <a:ext cx="3724200" cy="44578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 flipH="1">
            <a:off x="6095520" y="3352680"/>
            <a:ext cx="2057400" cy="266724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505560" y="5357880"/>
            <a:ext cx="128520" cy="128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477200" y="4062240"/>
            <a:ext cx="128520" cy="128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5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3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8:20:28Z</dcterms:created>
  <dc:creator>HRW</dc:creator>
  <dc:description/>
  <dc:language>en-US</dc:language>
  <cp:lastModifiedBy>stevenh</cp:lastModifiedBy>
  <dcterms:modified xsi:type="dcterms:W3CDTF">2006-04-27T16:31:50Z</dcterms:modified>
  <cp:revision>156</cp:revision>
  <dc:subject/>
  <dc:title>Slide 1</dc:title>
</cp:coreProperties>
</file>