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1B2-9A14-407D-881D-89AB7322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3C3-FD2E-40A4-941E-FB8FED62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2DE-ECBC-471A-8EAA-51480819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599-94A7-4027-8F84-B35E325B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BE4-CA5C-4649-A649-6A0C7B0E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A16-6664-49B1-8C0B-04EA64EB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1F7-3027-4D90-AAF7-8FC3BC2C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E1F-F575-48B8-B3D9-CA4D6BF7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949-727C-4988-BC4C-56F6BA70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116-E22B-499F-A906-06FC8983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BFF-B5DB-40EC-88F1-B35D8DF1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163-DD06-4967-A0B6-98A1FBA7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D7C2-9FE8-423B-BDF1-ED5465432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27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685800" y="1905120"/>
            <a:ext cx="7854840" cy="2021760"/>
            <a:chOff x="685800" y="1905120"/>
            <a:chExt cx="7854840" cy="2021760"/>
          </a:xfrm>
        </p:grpSpPr>
        <p:sp>
          <p:nvSpPr>
            <p:cNvPr id="158" name=""/>
            <p:cNvSpPr/>
            <p:nvPr/>
          </p:nvSpPr>
          <p:spPr>
            <a:xfrm>
              <a:off x="691920" y="2362320"/>
              <a:ext cx="7848720" cy="15645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form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wher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re real numbers, is called the Standard Form of a Linear Equation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19051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of the line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4. Use the intercepts to graph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124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8800" y="4876920"/>
            <a:ext cx="3276720" cy="764280"/>
            <a:chOff x="1828800" y="4876920"/>
            <a:chExt cx="3276720" cy="764280"/>
          </a:xfrm>
        </p:grpSpPr>
        <p:grpSp>
          <p:nvGrpSpPr>
            <p:cNvPr id="173" name=""/>
            <p:cNvGrpSpPr/>
            <p:nvPr/>
          </p:nvGrpSpPr>
          <p:grpSpPr>
            <a:xfrm>
              <a:off x="1828800" y="4876920"/>
              <a:ext cx="3276720" cy="764280"/>
              <a:chOff x="1828800" y="4876920"/>
              <a:chExt cx="3276720" cy="764280"/>
            </a:xfrm>
          </p:grpSpPr>
          <p:sp>
            <p:nvSpPr>
              <p:cNvPr id="174" name=""/>
              <p:cNvSpPr/>
              <p:nvPr/>
            </p:nvSpPr>
            <p:spPr>
              <a:xfrm>
                <a:off x="1828800" y="487692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8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0512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10040" y="4876920"/>
              <a:ext cx="1981080" cy="764280"/>
              <a:chOff x="2210040" y="4876920"/>
              <a:chExt cx="1981080" cy="764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514600" y="4876920"/>
                <a:ext cx="1676520" cy="764280"/>
                <a:chOff x="2514600" y="4876920"/>
                <a:chExt cx="1676520" cy="764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514600" y="487692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590920" y="51814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>
                <a:off x="2210040" y="50288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19051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943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133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276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0)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52480" y="4343400"/>
            <a:ext cx="3276720" cy="764640"/>
            <a:chOff x="1752480" y="4343400"/>
            <a:chExt cx="3276720" cy="764640"/>
          </a:xfrm>
        </p:grpSpPr>
        <p:sp>
          <p:nvSpPr>
            <p:cNvPr id="195" name=""/>
            <p:cNvSpPr/>
            <p:nvPr/>
          </p:nvSpPr>
          <p:spPr>
            <a:xfrm>
              <a:off x="1752480" y="43434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–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8800" y="4648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286000" y="4343400"/>
              <a:ext cx="1981080" cy="764640"/>
              <a:chOff x="2286000" y="4343400"/>
              <a:chExt cx="1981080" cy="7646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590560" y="4343400"/>
                <a:ext cx="1676520" cy="764640"/>
                <a:chOff x="2590560" y="4343400"/>
                <a:chExt cx="1676520" cy="764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590560" y="434340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666880" y="46483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–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2286000" y="4495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2133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57150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–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981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4 is the line that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3, 0)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–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34000" y="1828800"/>
            <a:ext cx="3724200" cy="4457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H="1">
            <a:off x="6019560" y="3429000"/>
            <a:ext cx="2057400" cy="27432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05560" y="53578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77200" y="406224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447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n equation written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lope-intercept for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slope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590920" y="3352680"/>
            <a:ext cx="4724280" cy="1831320"/>
            <a:chOff x="2590920" y="3352680"/>
            <a:chExt cx="4724280" cy="1831320"/>
          </a:xfrm>
        </p:grpSpPr>
        <p:sp>
          <p:nvSpPr>
            <p:cNvPr id="224" name=""/>
            <p:cNvSpPr/>
            <p:nvPr/>
          </p:nvSpPr>
          <p:spPr>
            <a:xfrm>
              <a:off x="2590920" y="335268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65ff"/>
                  </a:solidFill>
                  <a:latin typeface="Verdana"/>
                </a:rPr>
                <a:t>y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 = </a:t>
              </a:r>
              <a:r>
                <a:rPr b="1" i="1" lang="en-US" sz="36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1" i="1" lang="en-US" sz="3600" spc="-1" strike="noStrike">
                  <a:solidFill>
                    <a:srgbClr val="3365ff"/>
                  </a:solidFill>
                  <a:latin typeface="Verdana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1" i="1" lang="en-US" sz="3600" spc="-1" strike="noStrike">
                  <a:solidFill>
                    <a:srgbClr val="cc00cc"/>
                  </a:solidFill>
                  <a:latin typeface="Verdana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86200" y="3962520"/>
              <a:ext cx="0" cy="7617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334120" y="3962520"/>
              <a:ext cx="0" cy="761760"/>
            </a:xfrm>
            <a:prstGeom prst="line">
              <a:avLst/>
            </a:prstGeom>
            <a:ln w="93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4724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Verdana"/>
                </a:rPr>
                <a:t>Sl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6920" y="4724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cc"/>
                  </a:solidFill>
                  <a:latin typeface="Verdana"/>
                </a:rPr>
                <a:t>y</a:t>
              </a:r>
              <a:r>
                <a:rPr b="1" lang="en-US" sz="2400" spc="-1" strike="noStrike">
                  <a:solidFill>
                    <a:srgbClr val="cc00cc"/>
                  </a:solidFill>
                  <a:latin typeface="Verdana"/>
                </a:rPr>
                <a:t>-inter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Using Slope-Intercept Form to Find Slopes and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600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895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3276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2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2767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2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 –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1911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4724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5486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5486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447920" y="5076360"/>
            <a:ext cx="380880" cy="5619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666880" y="5105520"/>
            <a:ext cx="0" cy="3808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791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 is –2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57200" y="2514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Using Slope-Intercept Form to Find Slopes and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492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2971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5 to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581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4648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523880" y="4190760"/>
            <a:ext cx="304920" cy="60948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666880" y="4038480"/>
            <a:ext cx="0" cy="60984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90720" y="2819520"/>
            <a:ext cx="2666520" cy="764280"/>
            <a:chOff x="990720" y="2819520"/>
            <a:chExt cx="2666520" cy="764280"/>
          </a:xfrm>
        </p:grpSpPr>
        <p:sp>
          <p:nvSpPr>
            <p:cNvPr id="265" name=""/>
            <p:cNvSpPr/>
            <p:nvPr/>
          </p:nvSpPr>
          <p:spPr>
            <a:xfrm>
              <a:off x="1371600" y="297180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990720" y="2819520"/>
              <a:ext cx="1980720" cy="764280"/>
              <a:chOff x="990720" y="2819520"/>
              <a:chExt cx="1980720" cy="7642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1676160" y="2819520"/>
                <a:ext cx="1295280" cy="764280"/>
                <a:chOff x="1676160" y="2819520"/>
                <a:chExt cx="1295280" cy="764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76160" y="281952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676160" y="312408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90720" y="2819520"/>
                <a:ext cx="1523880" cy="764280"/>
                <a:chOff x="990720" y="2819520"/>
                <a:chExt cx="1523880" cy="764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990720" y="281952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66680" y="312408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" name=""/>
          <p:cNvGrpSpPr/>
          <p:nvPr/>
        </p:nvGrpSpPr>
        <p:grpSpPr>
          <a:xfrm>
            <a:off x="1066680" y="3505320"/>
            <a:ext cx="4952880" cy="764280"/>
            <a:chOff x="1066680" y="3505320"/>
            <a:chExt cx="4952880" cy="764280"/>
          </a:xfrm>
        </p:grpSpPr>
        <p:sp>
          <p:nvSpPr>
            <p:cNvPr id="274" name=""/>
            <p:cNvSpPr/>
            <p:nvPr/>
          </p:nvSpPr>
          <p:spPr>
            <a:xfrm>
              <a:off x="1066680" y="36576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600200" y="3505320"/>
              <a:ext cx="1295280" cy="764280"/>
              <a:chOff x="1600200" y="3505320"/>
              <a:chExt cx="1295280" cy="764280"/>
            </a:xfrm>
          </p:grpSpPr>
          <p:sp>
            <p:nvSpPr>
              <p:cNvPr id="276" name=""/>
              <p:cNvSpPr/>
              <p:nvPr/>
            </p:nvSpPr>
            <p:spPr>
              <a:xfrm>
                <a:off x="1600200" y="350532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00200" y="3809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1295280" y="4495680"/>
            <a:ext cx="2666880" cy="764280"/>
            <a:chOff x="1295280" y="4495680"/>
            <a:chExt cx="2666880" cy="764280"/>
          </a:xfrm>
        </p:grpSpPr>
        <p:sp>
          <p:nvSpPr>
            <p:cNvPr id="279" name=""/>
            <p:cNvSpPr/>
            <p:nvPr/>
          </p:nvSpPr>
          <p:spPr>
            <a:xfrm>
              <a:off x="1295280" y="464796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981080" y="4495680"/>
              <a:ext cx="1143000" cy="764280"/>
              <a:chOff x="1981080" y="4495680"/>
              <a:chExt cx="1143000" cy="764280"/>
            </a:xfrm>
          </p:grpSpPr>
          <p:sp>
            <p:nvSpPr>
              <p:cNvPr id="281" name=""/>
              <p:cNvSpPr/>
              <p:nvPr/>
            </p:nvSpPr>
            <p:spPr>
              <a:xfrm>
                <a:off x="1981080" y="44956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81080" y="480024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838080" y="5334120"/>
            <a:ext cx="8991720" cy="977760"/>
            <a:chOff x="838080" y="5334120"/>
            <a:chExt cx="8991720" cy="977760"/>
          </a:xfrm>
        </p:grpSpPr>
        <p:sp>
          <p:nvSpPr>
            <p:cNvPr id="284" name=""/>
            <p:cNvSpPr/>
            <p:nvPr/>
          </p:nvSpPr>
          <p:spPr>
            <a:xfrm>
              <a:off x="838080" y="548640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  , and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715000" y="5334120"/>
              <a:ext cx="1066680" cy="764280"/>
              <a:chOff x="5715000" y="5334120"/>
              <a:chExt cx="1066680" cy="764280"/>
            </a:xfrm>
          </p:grpSpPr>
          <p:sp>
            <p:nvSpPr>
              <p:cNvPr id="286" name=""/>
              <p:cNvSpPr/>
              <p:nvPr/>
            </p:nvSpPr>
            <p:spPr>
              <a:xfrm>
                <a:off x="5715000" y="53341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15000" y="563868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C: Using Slope-Intercept Form to Find Slopes and y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2209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2590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429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990720" y="5562360"/>
            <a:ext cx="609480" cy="5331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133720" y="5486400"/>
            <a:ext cx="457200" cy="53352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38080" y="4952880"/>
            <a:ext cx="4952880" cy="764280"/>
            <a:chOff x="838080" y="4952880"/>
            <a:chExt cx="4952880" cy="764280"/>
          </a:xfrm>
        </p:grpSpPr>
        <p:sp>
          <p:nvSpPr>
            <p:cNvPr id="303" name=""/>
            <p:cNvSpPr/>
            <p:nvPr/>
          </p:nvSpPr>
          <p:spPr>
            <a:xfrm>
              <a:off x="838080" y="51055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523880" y="4952880"/>
              <a:ext cx="1295280" cy="764280"/>
              <a:chOff x="1523880" y="4952880"/>
              <a:chExt cx="1295280" cy="76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1523880" y="4952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23880" y="52574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685800" y="5791320"/>
            <a:ext cx="2666880" cy="764280"/>
            <a:chOff x="685800" y="5791320"/>
            <a:chExt cx="2666880" cy="764280"/>
          </a:xfrm>
        </p:grpSpPr>
        <p:sp>
          <p:nvSpPr>
            <p:cNvPr id="308" name=""/>
            <p:cNvSpPr/>
            <p:nvPr/>
          </p:nvSpPr>
          <p:spPr>
            <a:xfrm>
              <a:off x="685800" y="59436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523880" y="5791320"/>
              <a:ext cx="1143000" cy="764280"/>
              <a:chOff x="1523880" y="5791320"/>
              <a:chExt cx="1143000" cy="764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523880" y="57913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23880" y="60958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124080" y="5562720"/>
            <a:ext cx="5715000" cy="992880"/>
            <a:chOff x="3124080" y="5562720"/>
            <a:chExt cx="5715000" cy="992880"/>
          </a:xfrm>
        </p:grpSpPr>
        <p:sp>
          <p:nvSpPr>
            <p:cNvPr id="313" name=""/>
            <p:cNvSpPr/>
            <p:nvPr/>
          </p:nvSpPr>
          <p:spPr>
            <a:xfrm>
              <a:off x="3124080" y="5562720"/>
              <a:ext cx="571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+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9   is –   , and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733920" y="5791320"/>
              <a:ext cx="623880" cy="764280"/>
              <a:chOff x="3733920" y="5791320"/>
              <a:chExt cx="623880" cy="764280"/>
            </a:xfrm>
          </p:grpSpPr>
          <p:sp>
            <p:nvSpPr>
              <p:cNvPr id="315" name=""/>
              <p:cNvSpPr/>
              <p:nvPr/>
            </p:nvSpPr>
            <p:spPr>
              <a:xfrm>
                <a:off x="3733920" y="5791320"/>
                <a:ext cx="6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733920" y="6095880"/>
                <a:ext cx="53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838080" y="2590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809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62120" y="4267080"/>
            <a:ext cx="3047400" cy="764280"/>
            <a:chOff x="762120" y="4267080"/>
            <a:chExt cx="3047400" cy="764280"/>
          </a:xfrm>
        </p:grpSpPr>
        <p:sp>
          <p:nvSpPr>
            <p:cNvPr id="321" name=""/>
            <p:cNvSpPr/>
            <p:nvPr/>
          </p:nvSpPr>
          <p:spPr>
            <a:xfrm>
              <a:off x="1142640" y="44193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   +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62120" y="4267080"/>
              <a:ext cx="3047400" cy="764280"/>
              <a:chOff x="762120" y="4267080"/>
              <a:chExt cx="3047400" cy="7642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1447560" y="4267080"/>
                <a:ext cx="1294920" cy="764280"/>
                <a:chOff x="1447560" y="4267080"/>
                <a:chExt cx="1294920" cy="7642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447560" y="4267080"/>
                  <a:ext cx="129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–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447560" y="457164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762120" y="4267080"/>
                <a:ext cx="1523520" cy="764280"/>
                <a:chOff x="762120" y="4267080"/>
                <a:chExt cx="1523520" cy="7642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62120" y="4267080"/>
                  <a:ext cx="152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38080" y="4571640"/>
                  <a:ext cx="913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2285640" y="4267080"/>
                <a:ext cx="1523880" cy="764280"/>
                <a:chOff x="2285640" y="4267080"/>
                <a:chExt cx="1523880" cy="7642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285640" y="42670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85640" y="457164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2" name=""/>
          <p:cNvSpPr/>
          <p:nvPr/>
        </p:nvSpPr>
        <p:spPr>
          <a:xfrm>
            <a:off x="2971800" y="4419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5105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144792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y-intercep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2759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62520" y="27590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8800" y="32925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 –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367344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42069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42069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496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14600" y="4968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447920" y="4511520"/>
            <a:ext cx="304560" cy="51768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666880" y="4587840"/>
            <a:ext cx="0" cy="3808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52736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 is –4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y =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057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2590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7 to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9548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14600" y="4267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600200" y="3809880"/>
            <a:ext cx="228600" cy="53352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666880" y="3657240"/>
            <a:ext cx="0" cy="60948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990720" y="2438280"/>
            <a:ext cx="2666520" cy="764640"/>
            <a:chOff x="990720" y="2438280"/>
            <a:chExt cx="2666520" cy="764640"/>
          </a:xfrm>
        </p:grpSpPr>
        <p:sp>
          <p:nvSpPr>
            <p:cNvPr id="368" name=""/>
            <p:cNvSpPr/>
            <p:nvPr/>
          </p:nvSpPr>
          <p:spPr>
            <a:xfrm>
              <a:off x="1371600" y="259092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990720" y="2438280"/>
              <a:ext cx="1980720" cy="764640"/>
              <a:chOff x="990720" y="2438280"/>
              <a:chExt cx="1980720" cy="7646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1676160" y="2438280"/>
                <a:ext cx="1295280" cy="764280"/>
                <a:chOff x="1676160" y="2438280"/>
                <a:chExt cx="1295280" cy="7642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676160" y="2438280"/>
                  <a:ext cx="129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676160" y="274284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990720" y="2438280"/>
                <a:ext cx="1523880" cy="764640"/>
                <a:chOff x="990720" y="2438280"/>
                <a:chExt cx="1523880" cy="7646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990720" y="24382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7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66680" y="274320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6" name=""/>
          <p:cNvGrpSpPr/>
          <p:nvPr/>
        </p:nvGrpSpPr>
        <p:grpSpPr>
          <a:xfrm>
            <a:off x="1066680" y="3124080"/>
            <a:ext cx="4952880" cy="764280"/>
            <a:chOff x="1066680" y="3124080"/>
            <a:chExt cx="4952880" cy="764280"/>
          </a:xfrm>
        </p:grpSpPr>
        <p:sp>
          <p:nvSpPr>
            <p:cNvPr id="377" name=""/>
            <p:cNvSpPr/>
            <p:nvPr/>
          </p:nvSpPr>
          <p:spPr>
            <a:xfrm>
              <a:off x="1066680" y="327636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600200" y="3124080"/>
              <a:ext cx="1295280" cy="764280"/>
              <a:chOff x="1600200" y="3124080"/>
              <a:chExt cx="1295280" cy="764280"/>
            </a:xfrm>
          </p:grpSpPr>
          <p:sp>
            <p:nvSpPr>
              <p:cNvPr id="379" name=""/>
              <p:cNvSpPr/>
              <p:nvPr/>
            </p:nvSpPr>
            <p:spPr>
              <a:xfrm>
                <a:off x="1600200" y="31240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0200" y="34286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1295280" y="4114800"/>
            <a:ext cx="2666880" cy="764280"/>
            <a:chOff x="1295280" y="4114800"/>
            <a:chExt cx="2666880" cy="764280"/>
          </a:xfrm>
        </p:grpSpPr>
        <p:sp>
          <p:nvSpPr>
            <p:cNvPr id="382" name=""/>
            <p:cNvSpPr/>
            <p:nvPr/>
          </p:nvSpPr>
          <p:spPr>
            <a:xfrm>
              <a:off x="1295280" y="42670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981080" y="4114800"/>
              <a:ext cx="1143000" cy="764280"/>
              <a:chOff x="1981080" y="4114800"/>
              <a:chExt cx="1143000" cy="764280"/>
            </a:xfrm>
          </p:grpSpPr>
          <p:sp>
            <p:nvSpPr>
              <p:cNvPr id="384" name=""/>
              <p:cNvSpPr/>
              <p:nvPr/>
            </p:nvSpPr>
            <p:spPr>
              <a:xfrm>
                <a:off x="1981080" y="41148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81080" y="44193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838080" y="4952880"/>
            <a:ext cx="8991720" cy="977760"/>
            <a:chOff x="838080" y="4952880"/>
            <a:chExt cx="8991720" cy="977760"/>
          </a:xfrm>
        </p:grpSpPr>
        <p:sp>
          <p:nvSpPr>
            <p:cNvPr id="387" name=""/>
            <p:cNvSpPr/>
            <p:nvPr/>
          </p:nvSpPr>
          <p:spPr>
            <a:xfrm>
              <a:off x="838080" y="5105160"/>
              <a:ext cx="899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7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  , and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715000" y="4952880"/>
              <a:ext cx="1066680" cy="764280"/>
              <a:chOff x="5715000" y="4952880"/>
              <a:chExt cx="1066680" cy="764280"/>
            </a:xfrm>
          </p:grpSpPr>
          <p:sp>
            <p:nvSpPr>
              <p:cNvPr id="389" name=""/>
              <p:cNvSpPr/>
              <p:nvPr/>
            </p:nvSpPr>
            <p:spPr>
              <a:xfrm>
                <a:off x="5715000" y="495288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15000" y="525744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90720"/>
            <a:ext cx="822960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the slope of the line that passes through each pair of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3, 6) and (–1,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1, 2) and (6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4, 6) and (2, –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–3, 0) and (–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683240" y="2742480"/>
            <a:ext cx="399240" cy="887400"/>
            <a:chOff x="4683240" y="2742480"/>
            <a:chExt cx="399240" cy="887400"/>
          </a:xfrm>
        </p:grpSpPr>
        <p:sp>
          <p:nvSpPr>
            <p:cNvPr id="57" name=""/>
            <p:cNvSpPr/>
            <p:nvPr/>
          </p:nvSpPr>
          <p:spPr>
            <a:xfrm>
              <a:off x="4683240" y="274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99080" y="3109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479840" y="3671280"/>
            <a:ext cx="612360" cy="901440"/>
            <a:chOff x="4479840" y="3671280"/>
            <a:chExt cx="612360" cy="901440"/>
          </a:xfrm>
        </p:grpSpPr>
        <p:sp>
          <p:nvSpPr>
            <p:cNvPr id="60" name=""/>
            <p:cNvSpPr/>
            <p:nvPr/>
          </p:nvSpPr>
          <p:spPr>
            <a:xfrm>
              <a:off x="4479840" y="3837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4692960" y="3671280"/>
              <a:ext cx="399240" cy="901440"/>
              <a:chOff x="4692960" y="3671280"/>
              <a:chExt cx="399240" cy="901440"/>
            </a:xfrm>
          </p:grpSpPr>
          <p:sp>
            <p:nvSpPr>
              <p:cNvPr id="62" name=""/>
              <p:cNvSpPr/>
              <p:nvPr/>
            </p:nvSpPr>
            <p:spPr>
              <a:xfrm>
                <a:off x="4708800" y="36712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92960" y="405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Verdana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4683240" y="4494960"/>
            <a:ext cx="399240" cy="915840"/>
            <a:chOff x="4683240" y="4494960"/>
            <a:chExt cx="399240" cy="915840"/>
          </a:xfrm>
        </p:grpSpPr>
        <p:sp>
          <p:nvSpPr>
            <p:cNvPr id="65" name=""/>
            <p:cNvSpPr/>
            <p:nvPr/>
          </p:nvSpPr>
          <p:spPr>
            <a:xfrm>
              <a:off x="4699080" y="4494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83240" y="4890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665960" y="5257080"/>
            <a:ext cx="415080" cy="901440"/>
            <a:chOff x="4665960" y="5257080"/>
            <a:chExt cx="415080" cy="901440"/>
          </a:xfrm>
        </p:grpSpPr>
        <p:sp>
          <p:nvSpPr>
            <p:cNvPr id="68" name=""/>
            <p:cNvSpPr/>
            <p:nvPr/>
          </p:nvSpPr>
          <p:spPr>
            <a:xfrm>
              <a:off x="4665960" y="5257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3300"/>
                  </a:solidFill>
                  <a:uFillTx/>
                  <a:latin typeface="Verdana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97640" y="5637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9880" y="2362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5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00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write to match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051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cc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85800" y="5333760"/>
            <a:ext cx="609480" cy="5331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209680" y="5181480"/>
            <a:ext cx="0" cy="60984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520" y="4724280"/>
            <a:ext cx="4952880" cy="764280"/>
            <a:chOff x="533520" y="4724280"/>
            <a:chExt cx="4952880" cy="764280"/>
          </a:xfrm>
        </p:grpSpPr>
        <p:sp>
          <p:nvSpPr>
            <p:cNvPr id="406" name=""/>
            <p:cNvSpPr/>
            <p:nvPr/>
          </p:nvSpPr>
          <p:spPr>
            <a:xfrm>
              <a:off x="533520" y="487692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219320" y="4724280"/>
              <a:ext cx="1295280" cy="764280"/>
              <a:chOff x="1219320" y="4724280"/>
              <a:chExt cx="1295280" cy="764280"/>
            </a:xfrm>
          </p:grpSpPr>
          <p:sp>
            <p:nvSpPr>
              <p:cNvPr id="408" name=""/>
              <p:cNvSpPr/>
              <p:nvPr/>
            </p:nvSpPr>
            <p:spPr>
              <a:xfrm>
                <a:off x="1219320" y="47242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19320" y="502884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3124080" y="5334120"/>
            <a:ext cx="5715000" cy="992880"/>
            <a:chOff x="3124080" y="5334120"/>
            <a:chExt cx="5715000" cy="992880"/>
          </a:xfrm>
        </p:grpSpPr>
        <p:sp>
          <p:nvSpPr>
            <p:cNvPr id="411" name=""/>
            <p:cNvSpPr/>
            <p:nvPr/>
          </p:nvSpPr>
          <p:spPr>
            <a:xfrm>
              <a:off x="3124080" y="5334120"/>
              <a:ext cx="571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slope of the line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8  is –   , and th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-intercept is 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3733920" y="5562720"/>
              <a:ext cx="623880" cy="764280"/>
              <a:chOff x="3733920" y="5562720"/>
              <a:chExt cx="623880" cy="764280"/>
            </a:xfrm>
          </p:grpSpPr>
          <p:sp>
            <p:nvSpPr>
              <p:cNvPr id="413" name=""/>
              <p:cNvSpPr/>
              <p:nvPr/>
            </p:nvSpPr>
            <p:spPr>
              <a:xfrm>
                <a:off x="3733920" y="5562720"/>
                <a:ext cx="6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33920" y="5867280"/>
                <a:ext cx="53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838080" y="236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5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581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62120" y="4038480"/>
            <a:ext cx="3047400" cy="764280"/>
            <a:chOff x="762120" y="4038480"/>
            <a:chExt cx="3047400" cy="764280"/>
          </a:xfrm>
        </p:grpSpPr>
        <p:sp>
          <p:nvSpPr>
            <p:cNvPr id="419" name=""/>
            <p:cNvSpPr/>
            <p:nvPr/>
          </p:nvSpPr>
          <p:spPr>
            <a:xfrm>
              <a:off x="1142640" y="41907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     +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762120" y="4038480"/>
              <a:ext cx="3047400" cy="764280"/>
              <a:chOff x="762120" y="4038480"/>
              <a:chExt cx="3047400" cy="76428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1447560" y="4038480"/>
                <a:ext cx="1294920" cy="764280"/>
                <a:chOff x="1447560" y="4038480"/>
                <a:chExt cx="1294920" cy="7642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447560" y="4038480"/>
                  <a:ext cx="129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–</a:t>
                  </a: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447560" y="4343040"/>
                  <a:ext cx="76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762120" y="4038480"/>
                <a:ext cx="1523520" cy="764280"/>
                <a:chOff x="762120" y="4038480"/>
                <a:chExt cx="1523520" cy="764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762120" y="4038480"/>
                  <a:ext cx="152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</a:t>
                  </a:r>
                  <a:r>
                    <a:rPr b="0" i="1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38080" y="4343040"/>
                  <a:ext cx="913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285640" y="4038480"/>
                <a:ext cx="1523880" cy="764280"/>
                <a:chOff x="2285640" y="4038480"/>
                <a:chExt cx="1523880" cy="7642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285640" y="4038480"/>
                  <a:ext cx="152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85640" y="4343040"/>
                  <a:ext cx="91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0" name=""/>
          <p:cNvSpPr/>
          <p:nvPr/>
        </p:nvSpPr>
        <p:spPr>
          <a:xfrm>
            <a:off x="2971800" y="4191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both sides by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4876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0880" y="5562720"/>
            <a:ext cx="2666880" cy="764280"/>
            <a:chOff x="380880" y="5562720"/>
            <a:chExt cx="2666880" cy="764280"/>
          </a:xfrm>
        </p:grpSpPr>
        <p:sp>
          <p:nvSpPr>
            <p:cNvPr id="433" name=""/>
            <p:cNvSpPr/>
            <p:nvPr/>
          </p:nvSpPr>
          <p:spPr>
            <a:xfrm>
              <a:off x="380880" y="5715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218960" y="5562720"/>
              <a:ext cx="1143000" cy="764280"/>
              <a:chOff x="1218960" y="5562720"/>
              <a:chExt cx="1143000" cy="764280"/>
            </a:xfrm>
          </p:grpSpPr>
          <p:sp>
            <p:nvSpPr>
              <p:cNvPr id="435" name=""/>
              <p:cNvSpPr/>
              <p:nvPr/>
            </p:nvSpPr>
            <p:spPr>
              <a:xfrm>
                <a:off x="1218960" y="55627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18960" y="586728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3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Entertainm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7524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video club charges $8 to join, and $1.25 for each DVD that is rented. The linear equa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 represents the amount of money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pent after renting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VDs. Graph the equation by first identifying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4191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5105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066680" y="4876920"/>
            <a:ext cx="914400" cy="3045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971800" y="4800600"/>
            <a:ext cx="380880" cy="4572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2305080" cy="40575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685800" y="236232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is 1.25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8. The line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8) and moves up 1.25 units for every 1 unit it moves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6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562720" y="5791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umber of DV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3498480" y="21247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1600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 of DV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17524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person receives a weekly salary of $500 plus a commission of 5% for each sale. Total weekly pay is given by the equa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0.0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500. Graph the equation using the slope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4419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0.0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42670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5105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066680" y="4876920"/>
            <a:ext cx="914400" cy="30456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3123720" y="4800600"/>
            <a:ext cx="228600" cy="4572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0968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of the line is 0.05,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500. The line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0, 500) and moves up 0.05 units for every 1 unit it moves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24480" y="1828800"/>
            <a:ext cx="4379760" cy="3672720"/>
            <a:chOff x="4524480" y="1828800"/>
            <a:chExt cx="4379760" cy="3672720"/>
          </a:xfrm>
        </p:grpSpPr>
        <p:grpSp>
          <p:nvGrpSpPr>
            <p:cNvPr id="486" name=""/>
            <p:cNvGrpSpPr/>
            <p:nvPr/>
          </p:nvGrpSpPr>
          <p:grpSpPr>
            <a:xfrm>
              <a:off x="5207040" y="2273400"/>
              <a:ext cx="2879640" cy="2841480"/>
              <a:chOff x="5207040" y="2273400"/>
              <a:chExt cx="2879640" cy="2841480"/>
            </a:xfrm>
          </p:grpSpPr>
          <p:sp>
            <p:nvSpPr>
              <p:cNvPr id="487" name=""/>
              <p:cNvSpPr/>
              <p:nvPr/>
            </p:nvSpPr>
            <p:spPr>
              <a:xfrm>
                <a:off x="520704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9504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782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7104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358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46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34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22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510680" y="2273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798680" y="2273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704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49504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82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7104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358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46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34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22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510680" y="2557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98680" y="2557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0704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9504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782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7104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358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46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34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222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510680" y="284148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798680" y="284148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20704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9504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82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7104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358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46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934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222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10680" y="312552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98680" y="312552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0704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9504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82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7104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58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46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34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22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510680" y="34095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798680" y="34095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20704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9504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82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7104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358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646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34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22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510680" y="369396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798680" y="369396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20704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9504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82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7104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358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46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34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22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10680" y="39780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798680" y="39780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0704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504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782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7104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58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646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934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222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10680" y="426240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98680" y="426240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0704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9504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782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7104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8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646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34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22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510680" y="45464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98680" y="45464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20704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9504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82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7104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58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646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934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22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510680" y="4830840"/>
                <a:ext cx="28764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798680" y="4830840"/>
                <a:ext cx="288000" cy="28404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5210280" y="1916280"/>
              <a:ext cx="0" cy="349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24440" y="5119560"/>
              <a:ext cx="354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29600" y="47386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57800" y="182880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48320" y="435924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38520" y="38098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24480" y="32446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52920" y="266688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53040" y="4476600"/>
              <a:ext cx="109440" cy="1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986440" y="5149800"/>
              <a:ext cx="102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24480" y="51642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640" y="51354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5,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77692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729400" y="4205160"/>
              <a:ext cx="109440" cy="109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05400" y="3929040"/>
              <a:ext cx="10980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72400" y="3629160"/>
              <a:ext cx="109440" cy="109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5940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34320" y="5029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4952880" y="3276720"/>
              <a:ext cx="28195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6172200" y="5486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2659680" y="19717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562720" y="1600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eekly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Writing Slope-Intercep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(3, –4) and (–1, 4)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2590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62720" y="3200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slope is –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either point and the slope into the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" y="4648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–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" y="5867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1 for x, 4 for y, and –2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9548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905120" y="3048120"/>
            <a:ext cx="2895480" cy="764280"/>
            <a:chOff x="1905120" y="3048120"/>
            <a:chExt cx="2895480" cy="764280"/>
          </a:xfrm>
        </p:grpSpPr>
        <p:sp>
          <p:nvSpPr>
            <p:cNvPr id="626" name=""/>
            <p:cNvSpPr/>
            <p:nvPr/>
          </p:nvSpPr>
          <p:spPr>
            <a:xfrm>
              <a:off x="190512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 – (–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05120" y="3352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04920" y="2971800"/>
            <a:ext cx="2057400" cy="848160"/>
            <a:chOff x="304920" y="2971800"/>
            <a:chExt cx="2057400" cy="848160"/>
          </a:xfrm>
        </p:grpSpPr>
        <p:sp>
          <p:nvSpPr>
            <p:cNvPr id="629" name=""/>
            <p:cNvSpPr/>
            <p:nvPr/>
          </p:nvSpPr>
          <p:spPr>
            <a:xfrm>
              <a:off x="1490760" y="31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304920" y="2971800"/>
              <a:ext cx="2057400" cy="848160"/>
              <a:chOff x="304920" y="2971800"/>
              <a:chExt cx="2057400" cy="848160"/>
            </a:xfrm>
          </p:grpSpPr>
          <p:sp>
            <p:nvSpPr>
              <p:cNvPr id="631" name=""/>
              <p:cNvSpPr/>
              <p:nvPr/>
            </p:nvSpPr>
            <p:spPr>
              <a:xfrm>
                <a:off x="381240" y="297180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81240" y="330984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04920" y="34290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3243240" y="3033720"/>
            <a:ext cx="2361960" cy="764640"/>
            <a:chOff x="3243240" y="3033720"/>
            <a:chExt cx="2361960" cy="764640"/>
          </a:xfrm>
        </p:grpSpPr>
        <p:grpSp>
          <p:nvGrpSpPr>
            <p:cNvPr id="635" name=""/>
            <p:cNvGrpSpPr/>
            <p:nvPr/>
          </p:nvGrpSpPr>
          <p:grpSpPr>
            <a:xfrm>
              <a:off x="3243240" y="3033720"/>
              <a:ext cx="2361960" cy="764640"/>
              <a:chOff x="3243240" y="3033720"/>
              <a:chExt cx="2361960" cy="76464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3547800" y="3033720"/>
                <a:ext cx="2057400" cy="764640"/>
                <a:chOff x="3547800" y="3033720"/>
                <a:chExt cx="2057400" cy="7646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3547800" y="30337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547800" y="333864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–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3243240" y="3033720"/>
                <a:ext cx="2057400" cy="762120"/>
                <a:chOff x="3243240" y="3033720"/>
                <a:chExt cx="2057400" cy="76212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081320" y="3033720"/>
                  <a:ext cx="761760" cy="762120"/>
                  <a:chOff x="4081320" y="3033720"/>
                  <a:chExt cx="761760" cy="76212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081320" y="3033720"/>
                    <a:ext cx="7617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081320" y="3338640"/>
                    <a:ext cx="685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3243240" y="318600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4" name=""/>
            <p:cNvSpPr/>
            <p:nvPr/>
          </p:nvSpPr>
          <p:spPr>
            <a:xfrm>
              <a:off x="3652560" y="34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005360" y="31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182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004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2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equation of the line, using –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94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124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17524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(1, 2) and (2, 6)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4920" y="2590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562720" y="3200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slope is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itute either point and the slope into the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" y="4648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99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5867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4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95480" y="5029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1 for x, 2 for y, and 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5867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905120" y="3048120"/>
            <a:ext cx="2895480" cy="764280"/>
            <a:chOff x="1905120" y="3048120"/>
            <a:chExt cx="2895480" cy="764280"/>
          </a:xfrm>
        </p:grpSpPr>
        <p:sp>
          <p:nvSpPr>
            <p:cNvPr id="677" name=""/>
            <p:cNvSpPr/>
            <p:nvPr/>
          </p:nvSpPr>
          <p:spPr>
            <a:xfrm>
              <a:off x="190512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 –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05120" y="33526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304920" y="2971800"/>
            <a:ext cx="2057400" cy="848160"/>
            <a:chOff x="304920" y="2971800"/>
            <a:chExt cx="2057400" cy="848160"/>
          </a:xfrm>
        </p:grpSpPr>
        <p:sp>
          <p:nvSpPr>
            <p:cNvPr id="680" name=""/>
            <p:cNvSpPr/>
            <p:nvPr/>
          </p:nvSpPr>
          <p:spPr>
            <a:xfrm>
              <a:off x="1490760" y="31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304920" y="2971800"/>
              <a:ext cx="2057400" cy="848160"/>
              <a:chOff x="304920" y="2971800"/>
              <a:chExt cx="2057400" cy="848160"/>
            </a:xfrm>
          </p:grpSpPr>
          <p:sp>
            <p:nvSpPr>
              <p:cNvPr id="682" name=""/>
              <p:cNvSpPr/>
              <p:nvPr/>
            </p:nvSpPr>
            <p:spPr>
              <a:xfrm>
                <a:off x="381240" y="297180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1240" y="3309840"/>
                <a:ext cx="1981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04920" y="342900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5" name=""/>
          <p:cNvGrpSpPr/>
          <p:nvPr/>
        </p:nvGrpSpPr>
        <p:grpSpPr>
          <a:xfrm>
            <a:off x="2971800" y="3033720"/>
            <a:ext cx="2361960" cy="764640"/>
            <a:chOff x="2971800" y="3033720"/>
            <a:chExt cx="2361960" cy="764640"/>
          </a:xfrm>
        </p:grpSpPr>
        <p:grpSp>
          <p:nvGrpSpPr>
            <p:cNvPr id="686" name=""/>
            <p:cNvGrpSpPr/>
            <p:nvPr/>
          </p:nvGrpSpPr>
          <p:grpSpPr>
            <a:xfrm>
              <a:off x="2971800" y="3033720"/>
              <a:ext cx="2361960" cy="764640"/>
              <a:chOff x="2971800" y="3033720"/>
              <a:chExt cx="2361960" cy="76464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3276360" y="3033720"/>
                <a:ext cx="2057400" cy="764640"/>
                <a:chOff x="3276360" y="3033720"/>
                <a:chExt cx="2057400" cy="7646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3276360" y="303372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276360" y="333864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2971800" y="3033720"/>
                <a:ext cx="2057400" cy="762120"/>
                <a:chOff x="2971800" y="3033720"/>
                <a:chExt cx="2057400" cy="76212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3809880" y="3033720"/>
                  <a:ext cx="761760" cy="762120"/>
                  <a:chOff x="3809880" y="3033720"/>
                  <a:chExt cx="761760" cy="76212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3809880" y="3033720"/>
                    <a:ext cx="7617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809880" y="3338640"/>
                    <a:ext cx="685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" name=""/>
                <p:cNvSpPr/>
                <p:nvPr/>
              </p:nvSpPr>
              <p:spPr>
                <a:xfrm>
                  <a:off x="2971800" y="318600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"/>
            <p:cNvSpPr/>
            <p:nvPr/>
          </p:nvSpPr>
          <p:spPr>
            <a:xfrm>
              <a:off x="3381120" y="3414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3809880" y="316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9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182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2666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tract 4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equation of the line, using 4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–2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286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4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094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3124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33520" y="1714680"/>
            <a:ext cx="7924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equation in slope-intercept form, and then find the slope and y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equation of the line that passes through each pair of points in slope-intercep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, 2) and (4, –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–2, 2) and (4, –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505320" y="31230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6;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3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352680" y="25135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5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3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038480" y="57902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886200" y="4937400"/>
            <a:ext cx="5724360" cy="764280"/>
            <a:chOff x="3886200" y="4937400"/>
            <a:chExt cx="5724360" cy="764280"/>
          </a:xfrm>
        </p:grpSpPr>
        <p:sp>
          <p:nvSpPr>
            <p:cNvPr id="724" name=""/>
            <p:cNvSpPr/>
            <p:nvPr/>
          </p:nvSpPr>
          <p:spPr>
            <a:xfrm>
              <a:off x="3886200" y="507348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= –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4734000" y="4937400"/>
              <a:ext cx="4876560" cy="764280"/>
              <a:chOff x="4734000" y="4937400"/>
              <a:chExt cx="4876560" cy="764280"/>
            </a:xfrm>
          </p:grpSpPr>
          <p:sp>
            <p:nvSpPr>
              <p:cNvPr id="726" name=""/>
              <p:cNvSpPr/>
              <p:nvPr/>
            </p:nvSpPr>
            <p:spPr>
              <a:xfrm>
                <a:off x="4734000" y="4937400"/>
                <a:ext cx="48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734000" y="5241960"/>
                <a:ext cx="48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600200"/>
            <a:ext cx="7620120" cy="3276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the equation of a straight line that passes through fewer than two quadrants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3581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0 or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use slopes and intercepts to graph linear equ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828800"/>
            <a:ext cx="7162920" cy="1905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intercep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ope-intercep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144792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can graph a linear equation easily by finding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line is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ere the line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 (whe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0).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-interce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line is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here the line cross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 (wher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intercept of the line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12. Use the intercepts to graph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</a:t>
            </a: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x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 Black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-intercepts to Graph Linear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124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828800" y="4876920"/>
            <a:ext cx="3276720" cy="764280"/>
            <a:chOff x="1828800" y="4876920"/>
            <a:chExt cx="3276720" cy="764280"/>
          </a:xfrm>
        </p:grpSpPr>
        <p:grpSp>
          <p:nvGrpSpPr>
            <p:cNvPr id="108" name=""/>
            <p:cNvGrpSpPr/>
            <p:nvPr/>
          </p:nvGrpSpPr>
          <p:grpSpPr>
            <a:xfrm>
              <a:off x="1828800" y="4876920"/>
              <a:ext cx="3276720" cy="764280"/>
              <a:chOff x="1828800" y="4876920"/>
              <a:chExt cx="3276720" cy="764280"/>
            </a:xfrm>
          </p:grpSpPr>
          <p:sp>
            <p:nvSpPr>
              <p:cNvPr id="109" name=""/>
              <p:cNvSpPr/>
              <p:nvPr/>
            </p:nvSpPr>
            <p:spPr>
              <a:xfrm>
                <a:off x="1828800" y="487692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0512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10040" y="4876920"/>
              <a:ext cx="1981080" cy="764280"/>
              <a:chOff x="2210040" y="4876920"/>
              <a:chExt cx="1981080" cy="76428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2514600" y="4876920"/>
                <a:ext cx="1676520" cy="764280"/>
                <a:chOff x="2514600" y="4876920"/>
                <a:chExt cx="1676520" cy="764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514600" y="4876920"/>
                  <a:ext cx="167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590920" y="51814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2210040" y="50288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19051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943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133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2743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2767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809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52480" y="4343400"/>
            <a:ext cx="3276720" cy="764640"/>
            <a:chOff x="1752480" y="4343400"/>
            <a:chExt cx="3276720" cy="764640"/>
          </a:xfrm>
        </p:grpSpPr>
        <p:grpSp>
          <p:nvGrpSpPr>
            <p:cNvPr id="130" name=""/>
            <p:cNvGrpSpPr/>
            <p:nvPr/>
          </p:nvGrpSpPr>
          <p:grpSpPr>
            <a:xfrm>
              <a:off x="1752480" y="4343400"/>
              <a:ext cx="3276720" cy="764640"/>
              <a:chOff x="1752480" y="4343400"/>
              <a:chExt cx="3276720" cy="764640"/>
            </a:xfrm>
          </p:grpSpPr>
          <p:sp>
            <p:nvSpPr>
              <p:cNvPr id="131" name=""/>
              <p:cNvSpPr/>
              <p:nvPr/>
            </p:nvSpPr>
            <p:spPr>
              <a:xfrm>
                <a:off x="1752480" y="4343400"/>
                <a:ext cx="32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–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</a:t>
                </a:r>
                <a:r>
                  <a:rPr b="0" i="1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28800" y="46483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590920" y="4343400"/>
              <a:ext cx="1676160" cy="764640"/>
              <a:chOff x="2590920" y="4343400"/>
              <a:chExt cx="1676160" cy="7646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90920" y="4343400"/>
                <a:ext cx="167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66880" y="464832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286000" y="4495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1337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791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 is –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096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 is the line that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3, 0)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t the point (0, –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34000" y="1828800"/>
            <a:ext cx="3724200" cy="4457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6095520" y="3352680"/>
            <a:ext cx="2057400" cy="26672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05560" y="5357880"/>
            <a:ext cx="128520" cy="128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77200" y="4062240"/>
            <a:ext cx="128520" cy="128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Using Slopes and Intercep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31:50Z</dcterms:modified>
  <cp:revision>156</cp:revision>
  <dc:subject/>
  <dc:title>Slide 1</dc:title>
</cp:coreProperties>
</file>