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C440-48C7-45F6-BF24-769A94A30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4DCD-84FD-428F-B991-D0371443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72DB-768B-4403-B921-8E034AC96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5FD6-D618-4769-8503-7F2DC74E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6BB7-2792-4E1F-B500-BF127E65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1267-4675-4082-9263-D5E925CC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9D83-6564-4525-819D-7DBC31D3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789F-601D-4EFA-9ABA-377A8CD8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D20F-E1A8-40A2-97D7-9FA3B48E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9B4D-D043-401F-92EC-08DFA9B5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38BC-792D-406F-8A72-E012BF8E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F7A5-8079-4622-BCF5-9E7D4294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6CFC-A322-4023-878D-6E7921557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344520" y="16740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71600" y="162720"/>
              <a:ext cx="77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2280" y="65530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29160" y="236160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3699360" y="3021840"/>
            <a:ext cx="34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3679920" y="363132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lope of the line that passes through (–2, –3) and (4, 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360" y="109548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: Finding Slope, Given Two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666880"/>
            <a:ext cx="746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be (–2, –3) and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be (4, 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905120" y="3352680"/>
            <a:ext cx="2895480" cy="764280"/>
            <a:chOff x="1905120" y="3352680"/>
            <a:chExt cx="2895480" cy="764280"/>
          </a:xfrm>
        </p:grpSpPr>
        <p:sp>
          <p:nvSpPr>
            <p:cNvPr id="133" name=""/>
            <p:cNvSpPr/>
            <p:nvPr/>
          </p:nvSpPr>
          <p:spPr>
            <a:xfrm>
              <a:off x="1905120" y="33526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6 – (–3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05120" y="365724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 – (–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81280" y="3352680"/>
            <a:ext cx="5562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stitute 6 for y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–3 for y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4 for x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and –2 for x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633680" y="4038480"/>
            <a:ext cx="2361960" cy="764640"/>
            <a:chOff x="1633680" y="4038480"/>
            <a:chExt cx="2361960" cy="764640"/>
          </a:xfrm>
        </p:grpSpPr>
        <p:grpSp>
          <p:nvGrpSpPr>
            <p:cNvPr id="137" name=""/>
            <p:cNvGrpSpPr/>
            <p:nvPr/>
          </p:nvGrpSpPr>
          <p:grpSpPr>
            <a:xfrm>
              <a:off x="1938240" y="4038480"/>
              <a:ext cx="2057400" cy="764640"/>
              <a:chOff x="1938240" y="4038480"/>
              <a:chExt cx="2057400" cy="764640"/>
            </a:xfrm>
          </p:grpSpPr>
          <p:sp>
            <p:nvSpPr>
              <p:cNvPr id="138" name=""/>
              <p:cNvSpPr/>
              <p:nvPr/>
            </p:nvSpPr>
            <p:spPr>
              <a:xfrm>
                <a:off x="1938240" y="4038480"/>
                <a:ext cx="205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38240" y="43434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1633680" y="4038480"/>
              <a:ext cx="2057400" cy="762120"/>
              <a:chOff x="1633680" y="4038480"/>
              <a:chExt cx="2057400" cy="76212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2471760" y="4038480"/>
                <a:ext cx="761760" cy="762120"/>
                <a:chOff x="2471760" y="4038480"/>
                <a:chExt cx="761760" cy="7621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2471760" y="4038480"/>
                  <a:ext cx="761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471760" y="4343400"/>
                  <a:ext cx="6858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1633680" y="4190760"/>
                <a:ext cx="205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457200" y="4848120"/>
            <a:ext cx="6858000" cy="1174320"/>
            <a:chOff x="457200" y="4848120"/>
            <a:chExt cx="6858000" cy="1174320"/>
          </a:xfrm>
        </p:grpSpPr>
        <p:sp>
          <p:nvSpPr>
            <p:cNvPr id="146" name=""/>
            <p:cNvSpPr/>
            <p:nvPr/>
          </p:nvSpPr>
          <p:spPr>
            <a:xfrm>
              <a:off x="457200" y="4848120"/>
              <a:ext cx="6858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slope of the line that passes through (–2, –3) and (4, 6) is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3886200" y="5257800"/>
              <a:ext cx="1218960" cy="764640"/>
              <a:chOff x="3886200" y="5257800"/>
              <a:chExt cx="1218960" cy="764640"/>
            </a:xfrm>
          </p:grpSpPr>
          <p:sp>
            <p:nvSpPr>
              <p:cNvPr id="148" name=""/>
              <p:cNvSpPr/>
              <p:nvPr/>
            </p:nvSpPr>
            <p:spPr>
              <a:xfrm>
                <a:off x="3886200" y="5257800"/>
                <a:ext cx="114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886200" y="5562720"/>
                <a:ext cx="12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0" name=""/>
          <p:cNvGrpSpPr/>
          <p:nvPr/>
        </p:nvGrpSpPr>
        <p:grpSpPr>
          <a:xfrm>
            <a:off x="414360" y="3305160"/>
            <a:ext cx="2057400" cy="848160"/>
            <a:chOff x="414360" y="3305160"/>
            <a:chExt cx="2057400" cy="848160"/>
          </a:xfrm>
        </p:grpSpPr>
        <p:sp>
          <p:nvSpPr>
            <p:cNvPr id="151" name=""/>
            <p:cNvSpPr/>
            <p:nvPr/>
          </p:nvSpPr>
          <p:spPr>
            <a:xfrm>
              <a:off x="1600200" y="3504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414360" y="3305160"/>
              <a:ext cx="2057400" cy="848160"/>
              <a:chOff x="414360" y="3305160"/>
              <a:chExt cx="2057400" cy="848160"/>
            </a:xfrm>
          </p:grpSpPr>
          <p:sp>
            <p:nvSpPr>
              <p:cNvPr id="153" name=""/>
              <p:cNvSpPr/>
              <p:nvPr/>
            </p:nvSpPr>
            <p:spPr>
              <a:xfrm>
                <a:off x="490680" y="3305160"/>
                <a:ext cx="1523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0680" y="3643200"/>
                <a:ext cx="1981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4360" y="376236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"/>
          <p:cNvGrpSpPr/>
          <p:nvPr/>
        </p:nvGrpSpPr>
        <p:grpSpPr>
          <a:xfrm>
            <a:off x="2286000" y="4038480"/>
            <a:ext cx="2361960" cy="764640"/>
            <a:chOff x="2286000" y="4038480"/>
            <a:chExt cx="2361960" cy="764640"/>
          </a:xfrm>
        </p:grpSpPr>
        <p:grpSp>
          <p:nvGrpSpPr>
            <p:cNvPr id="157" name=""/>
            <p:cNvGrpSpPr/>
            <p:nvPr/>
          </p:nvGrpSpPr>
          <p:grpSpPr>
            <a:xfrm>
              <a:off x="2590560" y="4038480"/>
              <a:ext cx="2057400" cy="764640"/>
              <a:chOff x="2590560" y="4038480"/>
              <a:chExt cx="2057400" cy="764640"/>
            </a:xfrm>
          </p:grpSpPr>
          <p:sp>
            <p:nvSpPr>
              <p:cNvPr id="158" name=""/>
              <p:cNvSpPr/>
              <p:nvPr/>
            </p:nvSpPr>
            <p:spPr>
              <a:xfrm>
                <a:off x="2590560" y="4038480"/>
                <a:ext cx="205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590560" y="43434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2286000" y="4038480"/>
              <a:ext cx="2057400" cy="762120"/>
              <a:chOff x="2286000" y="4038480"/>
              <a:chExt cx="2057400" cy="76212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3124080" y="4038480"/>
                <a:ext cx="761760" cy="762120"/>
                <a:chOff x="3124080" y="4038480"/>
                <a:chExt cx="761760" cy="76212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3124080" y="4038480"/>
                  <a:ext cx="761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124080" y="4343400"/>
                  <a:ext cx="6858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2286000" y="4190760"/>
                <a:ext cx="205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lope of the line that passes through (–4, –6) and (2, 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2666880"/>
            <a:ext cx="746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be (–4, –6) and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be (2, 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905120" y="3352680"/>
            <a:ext cx="2895480" cy="764280"/>
            <a:chOff x="1905120" y="3352680"/>
            <a:chExt cx="2895480" cy="764280"/>
          </a:xfrm>
        </p:grpSpPr>
        <p:sp>
          <p:nvSpPr>
            <p:cNvPr id="175" name=""/>
            <p:cNvSpPr/>
            <p:nvPr/>
          </p:nvSpPr>
          <p:spPr>
            <a:xfrm>
              <a:off x="1905120" y="33526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 – (–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05120" y="365724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 – (–4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581280" y="3352680"/>
            <a:ext cx="5562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stitute 3 for y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–6 for y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2 for x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and –4 for x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633680" y="4038480"/>
            <a:ext cx="2361960" cy="764640"/>
            <a:chOff x="1633680" y="4038480"/>
            <a:chExt cx="2361960" cy="764640"/>
          </a:xfrm>
        </p:grpSpPr>
        <p:grpSp>
          <p:nvGrpSpPr>
            <p:cNvPr id="179" name=""/>
            <p:cNvGrpSpPr/>
            <p:nvPr/>
          </p:nvGrpSpPr>
          <p:grpSpPr>
            <a:xfrm>
              <a:off x="1938240" y="4038480"/>
              <a:ext cx="2057400" cy="764640"/>
              <a:chOff x="1938240" y="4038480"/>
              <a:chExt cx="2057400" cy="764640"/>
            </a:xfrm>
          </p:grpSpPr>
          <p:sp>
            <p:nvSpPr>
              <p:cNvPr id="180" name=""/>
              <p:cNvSpPr/>
              <p:nvPr/>
            </p:nvSpPr>
            <p:spPr>
              <a:xfrm>
                <a:off x="1938240" y="4038480"/>
                <a:ext cx="205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938240" y="43434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1633680" y="4038480"/>
              <a:ext cx="2057400" cy="762120"/>
              <a:chOff x="1633680" y="4038480"/>
              <a:chExt cx="2057400" cy="7621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2471760" y="4038480"/>
                <a:ext cx="761760" cy="762120"/>
                <a:chOff x="2471760" y="4038480"/>
                <a:chExt cx="761760" cy="762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2471760" y="4038480"/>
                  <a:ext cx="761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471760" y="4343400"/>
                  <a:ext cx="6858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1633680" y="4190760"/>
                <a:ext cx="205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7" name=""/>
          <p:cNvGrpSpPr/>
          <p:nvPr/>
        </p:nvGrpSpPr>
        <p:grpSpPr>
          <a:xfrm>
            <a:off x="457200" y="4848120"/>
            <a:ext cx="6858000" cy="1174320"/>
            <a:chOff x="457200" y="4848120"/>
            <a:chExt cx="6858000" cy="1174320"/>
          </a:xfrm>
        </p:grpSpPr>
        <p:sp>
          <p:nvSpPr>
            <p:cNvPr id="188" name=""/>
            <p:cNvSpPr/>
            <p:nvPr/>
          </p:nvSpPr>
          <p:spPr>
            <a:xfrm>
              <a:off x="457200" y="4848120"/>
              <a:ext cx="6858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slope of the line that passes through (–4, –6) and (2, 3) is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3886200" y="5257800"/>
              <a:ext cx="1218960" cy="764640"/>
              <a:chOff x="3886200" y="5257800"/>
              <a:chExt cx="1218960" cy="764640"/>
            </a:xfrm>
          </p:grpSpPr>
          <p:sp>
            <p:nvSpPr>
              <p:cNvPr id="190" name=""/>
              <p:cNvSpPr/>
              <p:nvPr/>
            </p:nvSpPr>
            <p:spPr>
              <a:xfrm>
                <a:off x="3886200" y="5257800"/>
                <a:ext cx="114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886200" y="5562720"/>
                <a:ext cx="12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2" name=""/>
          <p:cNvGrpSpPr/>
          <p:nvPr/>
        </p:nvGrpSpPr>
        <p:grpSpPr>
          <a:xfrm>
            <a:off x="414360" y="3305160"/>
            <a:ext cx="2057400" cy="848160"/>
            <a:chOff x="414360" y="3305160"/>
            <a:chExt cx="2057400" cy="848160"/>
          </a:xfrm>
        </p:grpSpPr>
        <p:sp>
          <p:nvSpPr>
            <p:cNvPr id="193" name=""/>
            <p:cNvSpPr/>
            <p:nvPr/>
          </p:nvSpPr>
          <p:spPr>
            <a:xfrm>
              <a:off x="1600200" y="3504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414360" y="3305160"/>
              <a:ext cx="2057400" cy="848160"/>
              <a:chOff x="414360" y="3305160"/>
              <a:chExt cx="2057400" cy="848160"/>
            </a:xfrm>
          </p:grpSpPr>
          <p:sp>
            <p:nvSpPr>
              <p:cNvPr id="195" name=""/>
              <p:cNvSpPr/>
              <p:nvPr/>
            </p:nvSpPr>
            <p:spPr>
              <a:xfrm>
                <a:off x="490680" y="3305160"/>
                <a:ext cx="1523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90680" y="3643200"/>
                <a:ext cx="1981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14360" y="376236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8" name=""/>
          <p:cNvGrpSpPr/>
          <p:nvPr/>
        </p:nvGrpSpPr>
        <p:grpSpPr>
          <a:xfrm>
            <a:off x="2286000" y="4038480"/>
            <a:ext cx="2361960" cy="764640"/>
            <a:chOff x="2286000" y="4038480"/>
            <a:chExt cx="2361960" cy="764640"/>
          </a:xfrm>
        </p:grpSpPr>
        <p:grpSp>
          <p:nvGrpSpPr>
            <p:cNvPr id="199" name=""/>
            <p:cNvGrpSpPr/>
            <p:nvPr/>
          </p:nvGrpSpPr>
          <p:grpSpPr>
            <a:xfrm>
              <a:off x="2590560" y="4038480"/>
              <a:ext cx="2057400" cy="764640"/>
              <a:chOff x="2590560" y="4038480"/>
              <a:chExt cx="2057400" cy="764640"/>
            </a:xfrm>
          </p:grpSpPr>
          <p:sp>
            <p:nvSpPr>
              <p:cNvPr id="200" name=""/>
              <p:cNvSpPr/>
              <p:nvPr/>
            </p:nvSpPr>
            <p:spPr>
              <a:xfrm>
                <a:off x="2590560" y="4038480"/>
                <a:ext cx="205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590560" y="43434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2286000" y="4038480"/>
              <a:ext cx="2057400" cy="762120"/>
              <a:chOff x="2286000" y="4038480"/>
              <a:chExt cx="2057400" cy="76212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3124080" y="4038480"/>
                <a:ext cx="761760" cy="762120"/>
                <a:chOff x="3124080" y="4038480"/>
                <a:chExt cx="761760" cy="76212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3124080" y="4038480"/>
                  <a:ext cx="761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24080" y="4343400"/>
                  <a:ext cx="6858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" name=""/>
              <p:cNvSpPr/>
              <p:nvPr/>
            </p:nvSpPr>
            <p:spPr>
              <a:xfrm>
                <a:off x="2286000" y="4190760"/>
                <a:ext cx="205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7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066680" y="1828800"/>
            <a:ext cx="723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nlinear equations have variable rates of change. This means that the rate of change is different between values. This is shown in a graph by a curved li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1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57200" y="1752480"/>
            <a:ext cx="8237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graph shows a constant or variable rate of change. Explain your reas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360" y="9129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A: Identifying Constant and Variable Rates of Change in 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2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1066680" y="2933640"/>
            <a:ext cx="4038840" cy="35434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029200" y="3581280"/>
            <a:ext cx="3352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aph shows a constant rate of change. The slope between any two points is alway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57200" y="175248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graph shows a constant or variable rate of change. Explain your reas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3360" y="9129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B: Identifying Constant and Variable Rates of Change in 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3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4648320" y="358128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aph shows a variable rate of change. The slope between any two sets of points in Quadrant 1 is diffe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990720" y="2935440"/>
            <a:ext cx="3411360" cy="354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57200" y="175248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graph shows a constant or variable rate of change. Explain your reas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952880" y="3581280"/>
            <a:ext cx="335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aph shows a constant rate of change. The slope between any two points is alway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923760" y="2895480"/>
            <a:ext cx="3724560" cy="34671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 flipH="1">
            <a:off x="1828800" y="3200400"/>
            <a:ext cx="1905120" cy="297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175248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graph shows a constant or variable rate of change. Explain your reas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4648320" y="358128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aph shows a variable rate of change. The slope is steeper at the ends than in the midd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990720" y="2971800"/>
            <a:ext cx="3504960" cy="339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: </a:t>
            </a:r>
            <a:r>
              <a:rPr b="0" i="1" lang="en-US" sz="2400" spc="-1" strike="noStrike">
                <a:solidFill>
                  <a:srgbClr val="ff0000"/>
                </a:solidFill>
                <a:latin typeface="Arial Black"/>
              </a:rPr>
              <a:t>Money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152388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table shows the total cost of fruit per pound purchased at the grocery store. Use the data to make a graph. Find the slope of the line and explain what it sh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533520" y="3429000"/>
            <a:ext cx="2895480" cy="25002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685800" y="29718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ph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572000" y="2666880"/>
            <a:ext cx="3581280" cy="3888720"/>
            <a:chOff x="4572000" y="2666880"/>
            <a:chExt cx="3581280" cy="3888720"/>
          </a:xfrm>
        </p:grpSpPr>
        <p:pic>
          <p:nvPicPr>
            <p:cNvPr id="272" name="" descr=""/>
            <p:cNvPicPr/>
            <p:nvPr/>
          </p:nvPicPr>
          <p:blipFill>
            <a:blip r:embed="rId4"/>
            <a:stretch/>
          </p:blipFill>
          <p:spPr>
            <a:xfrm>
              <a:off x="4648320" y="2895480"/>
              <a:ext cx="3504960" cy="336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5562720" y="609588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u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6200000">
              <a:off x="4154040" y="422748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34120" y="266688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 of Fru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914400" y="3124080"/>
            <a:ext cx="7238880" cy="947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can use any two points to find the slope of the li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914400" y="2585880"/>
            <a:ext cx="2438280" cy="520560"/>
          </a:xfrm>
          <a:prstGeom prst="rect">
            <a:avLst/>
          </a:prstGeom>
          <a:solidFill>
            <a:srgbClr val="800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lpful Hi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1828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slope of the l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380880" y="4724280"/>
            <a:ext cx="8686800" cy="978120"/>
            <a:chOff x="380880" y="4724280"/>
            <a:chExt cx="8686800" cy="978120"/>
          </a:xfrm>
        </p:grpSpPr>
        <p:sp>
          <p:nvSpPr>
            <p:cNvPr id="287" name=""/>
            <p:cNvSpPr/>
            <p:nvPr/>
          </p:nvSpPr>
          <p:spPr>
            <a:xfrm>
              <a:off x="380880" y="4876920"/>
              <a:ext cx="868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slope of the line is 3. This means that for every pound of fruit, you will pay another $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5638680" y="4724280"/>
              <a:ext cx="609480" cy="761760"/>
              <a:chOff x="5638680" y="4724280"/>
              <a:chExt cx="609480" cy="761760"/>
            </a:xfrm>
          </p:grpSpPr>
          <p:sp>
            <p:nvSpPr>
              <p:cNvPr id="289" name=""/>
              <p:cNvSpPr/>
              <p:nvPr/>
            </p:nvSpPr>
            <p:spPr>
              <a:xfrm>
                <a:off x="5638680" y="4724280"/>
                <a:ext cx="380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638680" y="5028840"/>
                <a:ext cx="6094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1" name=""/>
          <p:cNvGrpSpPr/>
          <p:nvPr/>
        </p:nvGrpSpPr>
        <p:grpSpPr>
          <a:xfrm>
            <a:off x="905040" y="2571840"/>
            <a:ext cx="2057400" cy="865800"/>
            <a:chOff x="905040" y="2571840"/>
            <a:chExt cx="2057400" cy="865800"/>
          </a:xfrm>
        </p:grpSpPr>
        <p:sp>
          <p:nvSpPr>
            <p:cNvPr id="292" name=""/>
            <p:cNvSpPr/>
            <p:nvPr/>
          </p:nvSpPr>
          <p:spPr>
            <a:xfrm>
              <a:off x="2090880" y="2782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905040" y="2571840"/>
              <a:ext cx="2057400" cy="865800"/>
              <a:chOff x="905040" y="2571840"/>
              <a:chExt cx="2057400" cy="865800"/>
            </a:xfrm>
          </p:grpSpPr>
          <p:sp>
            <p:nvSpPr>
              <p:cNvPr id="294" name=""/>
              <p:cNvSpPr/>
              <p:nvPr/>
            </p:nvSpPr>
            <p:spPr>
              <a:xfrm>
                <a:off x="981360" y="2571840"/>
                <a:ext cx="1523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981360" y="2927520"/>
                <a:ext cx="1981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905040" y="305316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7" name=""/>
          <p:cNvGrpSpPr/>
          <p:nvPr/>
        </p:nvGrpSpPr>
        <p:grpSpPr>
          <a:xfrm>
            <a:off x="2238480" y="3505320"/>
            <a:ext cx="2361960" cy="764280"/>
            <a:chOff x="2238480" y="3505320"/>
            <a:chExt cx="2361960" cy="764280"/>
          </a:xfrm>
        </p:grpSpPr>
        <p:grpSp>
          <p:nvGrpSpPr>
            <p:cNvPr id="298" name=""/>
            <p:cNvGrpSpPr/>
            <p:nvPr/>
          </p:nvGrpSpPr>
          <p:grpSpPr>
            <a:xfrm>
              <a:off x="2238480" y="3505320"/>
              <a:ext cx="2361960" cy="764280"/>
              <a:chOff x="2238480" y="3505320"/>
              <a:chExt cx="2361960" cy="764280"/>
            </a:xfrm>
          </p:grpSpPr>
          <p:grpSp>
            <p:nvGrpSpPr>
              <p:cNvPr id="299" name=""/>
              <p:cNvGrpSpPr/>
              <p:nvPr/>
            </p:nvGrpSpPr>
            <p:grpSpPr>
              <a:xfrm>
                <a:off x="2543040" y="3505320"/>
                <a:ext cx="2057400" cy="764280"/>
                <a:chOff x="2543040" y="3505320"/>
                <a:chExt cx="2057400" cy="76428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2543040" y="350532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15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	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	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543040" y="3809880"/>
                  <a:ext cx="91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2238480" y="3505320"/>
                <a:ext cx="2057400" cy="761400"/>
                <a:chOff x="2238480" y="3505320"/>
                <a:chExt cx="2057400" cy="761400"/>
              </a:xfrm>
            </p:grpSpPr>
            <p:grpSp>
              <p:nvGrpSpPr>
                <p:cNvPr id="303" name=""/>
                <p:cNvGrpSpPr/>
                <p:nvPr/>
              </p:nvGrpSpPr>
              <p:grpSpPr>
                <a:xfrm>
                  <a:off x="3076560" y="3505320"/>
                  <a:ext cx="761760" cy="761400"/>
                  <a:chOff x="3076560" y="3505320"/>
                  <a:chExt cx="761760" cy="76140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>
                    <a:off x="3076560" y="3505320"/>
                    <a:ext cx="761760" cy="45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3076560" y="3809880"/>
                    <a:ext cx="685800" cy="45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"/>
                <p:cNvSpPr/>
                <p:nvPr/>
              </p:nvSpPr>
              <p:spPr>
                <a:xfrm>
                  <a:off x="2238480" y="36572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=  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	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7" name=""/>
            <p:cNvSpPr/>
            <p:nvPr/>
          </p:nvSpPr>
          <p:spPr>
            <a:xfrm>
              <a:off x="2647800" y="38858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2362320" y="2676600"/>
            <a:ext cx="3351960" cy="764280"/>
            <a:chOff x="2362320" y="2676600"/>
            <a:chExt cx="3351960" cy="764280"/>
          </a:xfrm>
        </p:grpSpPr>
        <p:grpSp>
          <p:nvGrpSpPr>
            <p:cNvPr id="309" name=""/>
            <p:cNvGrpSpPr/>
            <p:nvPr/>
          </p:nvGrpSpPr>
          <p:grpSpPr>
            <a:xfrm>
              <a:off x="2362320" y="2676600"/>
              <a:ext cx="3351960" cy="764280"/>
              <a:chOff x="2362320" y="2676600"/>
              <a:chExt cx="3351960" cy="764280"/>
            </a:xfrm>
          </p:grpSpPr>
          <p:sp>
            <p:nvSpPr>
              <p:cNvPr id="310" name=""/>
              <p:cNvSpPr/>
              <p:nvPr/>
            </p:nvSpPr>
            <p:spPr>
              <a:xfrm>
                <a:off x="2362320" y="2676600"/>
                <a:ext cx="176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0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362320" y="2981160"/>
                <a:ext cx="335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0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2621520" y="3052800"/>
              <a:ext cx="158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3200400" y="3505320"/>
            <a:ext cx="2666520" cy="761400"/>
            <a:chOff x="3200400" y="3505320"/>
            <a:chExt cx="2666520" cy="761400"/>
          </a:xfrm>
        </p:grpSpPr>
        <p:grpSp>
          <p:nvGrpSpPr>
            <p:cNvPr id="314" name=""/>
            <p:cNvGrpSpPr/>
            <p:nvPr/>
          </p:nvGrpSpPr>
          <p:grpSpPr>
            <a:xfrm>
              <a:off x="3809880" y="3505320"/>
              <a:ext cx="2057040" cy="761400"/>
              <a:chOff x="3809880" y="3505320"/>
              <a:chExt cx="2057040" cy="761400"/>
            </a:xfrm>
          </p:grpSpPr>
          <p:sp>
            <p:nvSpPr>
              <p:cNvPr id="315" name=""/>
              <p:cNvSpPr/>
              <p:nvPr/>
            </p:nvSpPr>
            <p:spPr>
              <a:xfrm>
                <a:off x="3809880" y="3505320"/>
                <a:ext cx="20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Verdana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809880" y="3809880"/>
                <a:ext cx="91404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3200400" y="3643200"/>
              <a:ext cx="20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919320" y="3895560"/>
              <a:ext cx="3805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2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371600"/>
            <a:ext cx="8381880" cy="42670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valuate each equation for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= –1, 0, and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3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6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13400" y="3123360"/>
            <a:ext cx="134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3, 0,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67040" y="3718800"/>
            <a:ext cx="169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8, –7, –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86760" y="4328280"/>
            <a:ext cx="116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3, 5,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3730680" y="4861800"/>
            <a:ext cx="15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8, –2,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04920" y="134136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table shows the total cost of gas per gallon. Use the data to make a graph. Find the slope of the line and explain what it sh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0" y="-4680"/>
            <a:ext cx="9144000" cy="6864120"/>
            <a:chOff x="0" y="-4680"/>
            <a:chExt cx="9144000" cy="6864120"/>
          </a:xfrm>
        </p:grpSpPr>
        <p:pic>
          <p:nvPicPr>
            <p:cNvPr id="328" name="" descr=""/>
            <p:cNvPicPr/>
            <p:nvPr/>
          </p:nvPicPr>
          <p:blipFill>
            <a:blip r:embed="rId1"/>
            <a:stretch/>
          </p:blipFill>
          <p:spPr>
            <a:xfrm>
              <a:off x="0" y="-468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2"/>
            <a:stretch/>
          </p:blipFill>
          <p:spPr>
            <a:xfrm>
              <a:off x="0" y="655020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59400" y="655236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33920" y="10908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066680" y="9288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1143000" y="2895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ph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143000" y="3452760"/>
          <a:ext cx="2819520" cy="2278080"/>
        </p:xfrm>
        <a:graphic>
          <a:graphicData uri="http://schemas.openxmlformats.org/drawingml/2006/table">
            <a:tbl>
              <a:tblPr/>
              <a:tblGrid>
                <a:gridCol w="1592280"/>
                <a:gridCol w="122724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 of G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ll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35" name=""/>
          <p:cNvGrpSpPr/>
          <p:nvPr/>
        </p:nvGrpSpPr>
        <p:grpSpPr>
          <a:xfrm>
            <a:off x="4267080" y="2590920"/>
            <a:ext cx="4266720" cy="4041000"/>
            <a:chOff x="4267080" y="2590920"/>
            <a:chExt cx="4266720" cy="4041000"/>
          </a:xfrm>
        </p:grpSpPr>
        <p:grpSp>
          <p:nvGrpSpPr>
            <p:cNvPr id="336" name=""/>
            <p:cNvGrpSpPr/>
            <p:nvPr/>
          </p:nvGrpSpPr>
          <p:grpSpPr>
            <a:xfrm>
              <a:off x="4572000" y="2895480"/>
              <a:ext cx="3961800" cy="3570120"/>
              <a:chOff x="4572000" y="2895480"/>
              <a:chExt cx="3961800" cy="357012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4902120" y="2895480"/>
                <a:ext cx="3631680" cy="3354120"/>
                <a:chOff x="4902120" y="2895480"/>
                <a:chExt cx="3631680" cy="3354120"/>
              </a:xfrm>
            </p:grpSpPr>
            <p:grpSp>
              <p:nvGrpSpPr>
                <p:cNvPr id="338" name=""/>
                <p:cNvGrpSpPr/>
                <p:nvPr/>
              </p:nvGrpSpPr>
              <p:grpSpPr>
                <a:xfrm>
                  <a:off x="5105160" y="3466800"/>
                  <a:ext cx="2253240" cy="2706840"/>
                  <a:chOff x="5105160" y="3466800"/>
                  <a:chExt cx="2253240" cy="270684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5231520" y="4590360"/>
                    <a:ext cx="320400" cy="30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6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7038360" y="5857200"/>
                    <a:ext cx="320040" cy="30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9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5238000" y="4037760"/>
                    <a:ext cx="320400" cy="30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9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5105160" y="3466800"/>
                    <a:ext cx="485280" cy="30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1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6476400" y="5866560"/>
                    <a:ext cx="320040" cy="30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6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5161680" y="5866560"/>
                    <a:ext cx="396720" cy="30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5241240" y="5190480"/>
                    <a:ext cx="396360" cy="30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5866560" y="5866560"/>
                    <a:ext cx="396720" cy="30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902120" y="3339720"/>
                  <a:ext cx="2879280" cy="2840760"/>
                  <a:chOff x="4902120" y="3339720"/>
                  <a:chExt cx="2879280" cy="28407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902120" y="333972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5190120" y="333972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5477760" y="333972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5765760" y="333972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053760" y="333972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6341400" y="333972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6629400" y="333972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6917400" y="333972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7205400" y="333972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7493400" y="333972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4902120" y="3623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5190120" y="3623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5477760" y="3623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5765760" y="3623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6053760" y="3623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6341400" y="3623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629400" y="3623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6917400" y="3623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7205400" y="3623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7493400" y="3623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4902120" y="390780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5190120" y="390780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5477760" y="390780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5765760" y="390780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6053760" y="390780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6341400" y="390780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6629400" y="390780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6917400" y="390780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7205400" y="390780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7493400" y="390780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4902120" y="419184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5190120" y="419184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5477760" y="419184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5765760" y="419184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6053760" y="419184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6341400" y="419184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6629400" y="419184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6917400" y="419184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7205400" y="419184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7493400" y="419184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4902120" y="4475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5190120" y="4475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5477760" y="4475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5765760" y="4475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6053760" y="4475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6341400" y="4475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6629400" y="4475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6917400" y="4475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7205400" y="4475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7493400" y="4475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4902120" y="476028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5190120" y="476028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5477760" y="476028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5765760" y="476028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6053760" y="476028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6341400" y="476028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6629400" y="476028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6917400" y="476028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7205400" y="476028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7493400" y="476028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4902120" y="5044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5190120" y="5044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5477760" y="5044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5765760" y="5044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6053760" y="5044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6341400" y="5044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6629400" y="5044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6917400" y="5044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7205400" y="5044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7493400" y="5044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4902120" y="532836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5190120" y="532836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5477760" y="532836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5765760" y="532836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6053760" y="532836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6341400" y="532836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6629400" y="532836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6917400" y="532836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7205400" y="532836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7493400" y="532836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4902120" y="5612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5190120" y="5612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5477760" y="5612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5765760" y="5612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6053760" y="5612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6341400" y="5612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6629400" y="5612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6917400" y="5612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7205400" y="5612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7493400" y="5612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4902120" y="589680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5190120" y="589680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5477760" y="589680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5765760" y="589680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6053760" y="589680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6341400" y="589680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6629400" y="589680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6917400" y="589680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7205400" y="589680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7493400" y="589680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8" name=""/>
                <p:cNvSpPr/>
                <p:nvPr/>
              </p:nvSpPr>
              <p:spPr>
                <a:xfrm>
                  <a:off x="7859520" y="5881320"/>
                  <a:ext cx="674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5497200" y="2895480"/>
                  <a:ext cx="674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0" name=""/>
              <p:cNvSpPr/>
              <p:nvPr/>
            </p:nvSpPr>
            <p:spPr>
              <a:xfrm>
                <a:off x="5494320" y="2971440"/>
                <a:ext cx="0" cy="3494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72000" y="5905440"/>
                <a:ext cx="3539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5419800" y="5848200"/>
              <a:ext cx="128520" cy="128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86440" y="4686480"/>
              <a:ext cx="128520" cy="128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76840" y="3571920"/>
              <a:ext cx="128880" cy="128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5200200" y="2971800"/>
              <a:ext cx="1752840" cy="3505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791320" y="617220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Gall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410080" y="25909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 of 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16200000">
              <a:off x="3353760" y="35038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1828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slope of the l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380880" y="4724280"/>
            <a:ext cx="8686800" cy="978120"/>
            <a:chOff x="380880" y="4724280"/>
            <a:chExt cx="8686800" cy="978120"/>
          </a:xfrm>
        </p:grpSpPr>
        <p:sp>
          <p:nvSpPr>
            <p:cNvPr id="462" name=""/>
            <p:cNvSpPr/>
            <p:nvPr/>
          </p:nvSpPr>
          <p:spPr>
            <a:xfrm>
              <a:off x="380880" y="4876920"/>
              <a:ext cx="868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slope of the line is 2. This means that for every gallon of gas, you will pay another $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5638680" y="4724280"/>
              <a:ext cx="609480" cy="761760"/>
              <a:chOff x="5638680" y="4724280"/>
              <a:chExt cx="609480" cy="761760"/>
            </a:xfrm>
          </p:grpSpPr>
          <p:sp>
            <p:nvSpPr>
              <p:cNvPr id="464" name=""/>
              <p:cNvSpPr/>
              <p:nvPr/>
            </p:nvSpPr>
            <p:spPr>
              <a:xfrm>
                <a:off x="5638680" y="4724280"/>
                <a:ext cx="380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638680" y="5028840"/>
                <a:ext cx="6094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6" name=""/>
          <p:cNvGrpSpPr/>
          <p:nvPr/>
        </p:nvGrpSpPr>
        <p:grpSpPr>
          <a:xfrm>
            <a:off x="905040" y="2571840"/>
            <a:ext cx="2057400" cy="865800"/>
            <a:chOff x="905040" y="2571840"/>
            <a:chExt cx="2057400" cy="865800"/>
          </a:xfrm>
        </p:grpSpPr>
        <p:sp>
          <p:nvSpPr>
            <p:cNvPr id="467" name=""/>
            <p:cNvSpPr/>
            <p:nvPr/>
          </p:nvSpPr>
          <p:spPr>
            <a:xfrm>
              <a:off x="2090880" y="2782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905040" y="2571840"/>
              <a:ext cx="2057400" cy="865800"/>
              <a:chOff x="905040" y="2571840"/>
              <a:chExt cx="2057400" cy="865800"/>
            </a:xfrm>
          </p:grpSpPr>
          <p:sp>
            <p:nvSpPr>
              <p:cNvPr id="469" name=""/>
              <p:cNvSpPr/>
              <p:nvPr/>
            </p:nvSpPr>
            <p:spPr>
              <a:xfrm>
                <a:off x="981360" y="2571840"/>
                <a:ext cx="1523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981360" y="2927520"/>
                <a:ext cx="1981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905040" y="305316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2" name=""/>
          <p:cNvGrpSpPr/>
          <p:nvPr/>
        </p:nvGrpSpPr>
        <p:grpSpPr>
          <a:xfrm>
            <a:off x="2238480" y="3505320"/>
            <a:ext cx="2361960" cy="764280"/>
            <a:chOff x="2238480" y="3505320"/>
            <a:chExt cx="2361960" cy="764280"/>
          </a:xfrm>
        </p:grpSpPr>
        <p:grpSp>
          <p:nvGrpSpPr>
            <p:cNvPr id="473" name=""/>
            <p:cNvGrpSpPr/>
            <p:nvPr/>
          </p:nvGrpSpPr>
          <p:grpSpPr>
            <a:xfrm>
              <a:off x="2238480" y="3505320"/>
              <a:ext cx="2361960" cy="764280"/>
              <a:chOff x="2238480" y="3505320"/>
              <a:chExt cx="2361960" cy="764280"/>
            </a:xfrm>
          </p:grpSpPr>
          <p:grpSp>
            <p:nvGrpSpPr>
              <p:cNvPr id="474" name=""/>
              <p:cNvGrpSpPr/>
              <p:nvPr/>
            </p:nvGrpSpPr>
            <p:grpSpPr>
              <a:xfrm>
                <a:off x="2543040" y="3505320"/>
                <a:ext cx="2057400" cy="764280"/>
                <a:chOff x="2543040" y="3505320"/>
                <a:chExt cx="2057400" cy="76428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2543040" y="350532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6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	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	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2543040" y="3809880"/>
                  <a:ext cx="91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2238480" y="3505320"/>
                <a:ext cx="2057400" cy="761400"/>
                <a:chOff x="2238480" y="3505320"/>
                <a:chExt cx="2057400" cy="761400"/>
              </a:xfrm>
            </p:grpSpPr>
            <p:grpSp>
              <p:nvGrpSpPr>
                <p:cNvPr id="478" name=""/>
                <p:cNvGrpSpPr/>
                <p:nvPr/>
              </p:nvGrpSpPr>
              <p:grpSpPr>
                <a:xfrm>
                  <a:off x="3076560" y="3505320"/>
                  <a:ext cx="761760" cy="761400"/>
                  <a:chOff x="3076560" y="3505320"/>
                  <a:chExt cx="761760" cy="76140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>
                    <a:off x="3076560" y="3505320"/>
                    <a:ext cx="761760" cy="45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3076560" y="3809880"/>
                    <a:ext cx="685800" cy="45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1" name=""/>
                <p:cNvSpPr/>
                <p:nvPr/>
              </p:nvSpPr>
              <p:spPr>
                <a:xfrm>
                  <a:off x="2238480" y="36572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=  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	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2" name=""/>
            <p:cNvSpPr/>
            <p:nvPr/>
          </p:nvSpPr>
          <p:spPr>
            <a:xfrm>
              <a:off x="2647800" y="38858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2362320" y="2676600"/>
            <a:ext cx="2971080" cy="764280"/>
            <a:chOff x="2362320" y="2676600"/>
            <a:chExt cx="2971080" cy="764280"/>
          </a:xfrm>
        </p:grpSpPr>
        <p:grpSp>
          <p:nvGrpSpPr>
            <p:cNvPr id="484" name=""/>
            <p:cNvGrpSpPr/>
            <p:nvPr/>
          </p:nvGrpSpPr>
          <p:grpSpPr>
            <a:xfrm>
              <a:off x="2362320" y="2676600"/>
              <a:ext cx="2971080" cy="764280"/>
              <a:chOff x="2362320" y="2676600"/>
              <a:chExt cx="2971080" cy="764280"/>
            </a:xfrm>
          </p:grpSpPr>
          <p:sp>
            <p:nvSpPr>
              <p:cNvPr id="485" name=""/>
              <p:cNvSpPr/>
              <p:nvPr/>
            </p:nvSpPr>
            <p:spPr>
              <a:xfrm>
                <a:off x="2362320" y="2676600"/>
                <a:ext cx="1563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2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362320" y="2981160"/>
                <a:ext cx="297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6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2592000" y="3052800"/>
              <a:ext cx="140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3200400" y="3505320"/>
            <a:ext cx="2666520" cy="761400"/>
            <a:chOff x="3200400" y="3505320"/>
            <a:chExt cx="2666520" cy="761400"/>
          </a:xfrm>
        </p:grpSpPr>
        <p:grpSp>
          <p:nvGrpSpPr>
            <p:cNvPr id="489" name=""/>
            <p:cNvGrpSpPr/>
            <p:nvPr/>
          </p:nvGrpSpPr>
          <p:grpSpPr>
            <a:xfrm>
              <a:off x="3809880" y="3505320"/>
              <a:ext cx="2057040" cy="761400"/>
              <a:chOff x="3809880" y="3505320"/>
              <a:chExt cx="2057040" cy="761400"/>
            </a:xfrm>
          </p:grpSpPr>
          <p:sp>
            <p:nvSpPr>
              <p:cNvPr id="490" name=""/>
              <p:cNvSpPr/>
              <p:nvPr/>
            </p:nvSpPr>
            <p:spPr>
              <a:xfrm>
                <a:off x="3809880" y="3505320"/>
                <a:ext cx="20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Verdana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809880" y="3809880"/>
                <a:ext cx="91404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3200400" y="3643200"/>
              <a:ext cx="20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919320" y="3895560"/>
              <a:ext cx="3805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49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33520" y="1619280"/>
            <a:ext cx="792468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lope of the line passing through each pair of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4, 3) and (–1, 1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–1, 5) and (4,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143000" y="975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sert Lesson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4343400" y="2513520"/>
            <a:ext cx="4114800" cy="764280"/>
            <a:chOff x="4343400" y="2513520"/>
            <a:chExt cx="4114800" cy="764280"/>
          </a:xfrm>
        </p:grpSpPr>
        <p:sp>
          <p:nvSpPr>
            <p:cNvPr id="504" name=""/>
            <p:cNvSpPr/>
            <p:nvPr/>
          </p:nvSpPr>
          <p:spPr>
            <a:xfrm>
              <a:off x="4343400" y="251352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3300"/>
                  </a:solidFill>
                  <a:uFillTx/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343400" y="281808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4095720" y="3732480"/>
            <a:ext cx="4362480" cy="764280"/>
            <a:chOff x="4095720" y="3732480"/>
            <a:chExt cx="4362480" cy="764280"/>
          </a:xfrm>
        </p:grpSpPr>
        <p:sp>
          <p:nvSpPr>
            <p:cNvPr id="507" name=""/>
            <p:cNvSpPr/>
            <p:nvPr/>
          </p:nvSpPr>
          <p:spPr>
            <a:xfrm>
              <a:off x="4343400" y="403704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095720" y="3732480"/>
              <a:ext cx="1066680" cy="613080"/>
              <a:chOff x="4095720" y="3732480"/>
              <a:chExt cx="1066680" cy="613080"/>
            </a:xfrm>
          </p:grpSpPr>
          <p:sp>
            <p:nvSpPr>
              <p:cNvPr id="509" name=""/>
              <p:cNvSpPr/>
              <p:nvPr/>
            </p:nvSpPr>
            <p:spPr>
              <a:xfrm>
                <a:off x="4343400" y="37324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ff3300"/>
                    </a:solidFill>
                    <a:uFillTx/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095720" y="388584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1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51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33520" y="1371600"/>
            <a:ext cx="792468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The table shows how much money Susan earned as a house painter for one afternoon. Use the data to make a graph. Find the slope of the line and explain what it show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143000" y="975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sert Lesson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52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685800" y="4349880"/>
            <a:ext cx="3124080" cy="2050920"/>
          </a:xfrm>
          <a:prstGeom prst="rect">
            <a:avLst/>
          </a:prstGeom>
          <a:ln w="0">
            <a:noFill/>
          </a:ln>
        </p:spPr>
      </p:pic>
      <p:grpSp>
        <p:nvGrpSpPr>
          <p:cNvPr id="527" name=""/>
          <p:cNvGrpSpPr/>
          <p:nvPr/>
        </p:nvGrpSpPr>
        <p:grpSpPr>
          <a:xfrm>
            <a:off x="4648320" y="2819520"/>
            <a:ext cx="4177800" cy="3657600"/>
            <a:chOff x="4648320" y="2819520"/>
            <a:chExt cx="4177800" cy="3657600"/>
          </a:xfrm>
        </p:grpSpPr>
        <p:sp>
          <p:nvSpPr>
            <p:cNvPr id="528" name=""/>
            <p:cNvSpPr/>
            <p:nvPr/>
          </p:nvSpPr>
          <p:spPr>
            <a:xfrm>
              <a:off x="8151840" y="571536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256000" y="281952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4648320" y="2983320"/>
              <a:ext cx="3796560" cy="3493800"/>
              <a:chOff x="4648320" y="2983320"/>
              <a:chExt cx="3796560" cy="3493800"/>
            </a:xfrm>
          </p:grpSpPr>
          <p:sp>
            <p:nvSpPr>
              <p:cNvPr id="531" name=""/>
              <p:cNvSpPr/>
              <p:nvPr/>
            </p:nvSpPr>
            <p:spPr>
              <a:xfrm>
                <a:off x="5781600" y="6039000"/>
                <a:ext cx="32040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499000" y="6039000"/>
                <a:ext cx="32040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124240" y="6029280"/>
                <a:ext cx="39672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032520" y="6039000"/>
                <a:ext cx="32004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238800" y="6029280"/>
                <a:ext cx="49500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591240" y="6029280"/>
                <a:ext cx="49500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943680" y="6029280"/>
                <a:ext cx="49500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8" name=""/>
              <p:cNvGrpSpPr/>
              <p:nvPr/>
            </p:nvGrpSpPr>
            <p:grpSpPr>
              <a:xfrm>
                <a:off x="4648320" y="2983320"/>
                <a:ext cx="3796560" cy="3493800"/>
                <a:chOff x="4648320" y="2983320"/>
                <a:chExt cx="3796560" cy="349380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4724280" y="6040440"/>
                  <a:ext cx="39636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4676760" y="5621400"/>
                  <a:ext cx="52344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676760" y="5354640"/>
                  <a:ext cx="52344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2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4657680" y="5069160"/>
                  <a:ext cx="52344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3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676760" y="4783320"/>
                  <a:ext cx="52344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4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676760" y="4516560"/>
                  <a:ext cx="52344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5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676760" y="4221360"/>
                  <a:ext cx="52344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6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4676760" y="3907080"/>
                  <a:ext cx="52344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7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4648320" y="3659400"/>
                  <a:ext cx="52380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8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5076720" y="2983320"/>
                  <a:ext cx="0" cy="3493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9" name=""/>
                <p:cNvGrpSpPr/>
                <p:nvPr/>
              </p:nvGrpSpPr>
              <p:grpSpPr>
                <a:xfrm>
                  <a:off x="5073480" y="3211560"/>
                  <a:ext cx="2879280" cy="2841480"/>
                  <a:chOff x="5073480" y="3211560"/>
                  <a:chExt cx="2879280" cy="2841480"/>
                </a:xfrm>
              </p:grpSpPr>
              <p:sp>
                <p:nvSpPr>
                  <p:cNvPr id="550" name=""/>
                  <p:cNvSpPr/>
                  <p:nvPr/>
                </p:nvSpPr>
                <p:spPr>
                  <a:xfrm>
                    <a:off x="5073480" y="3211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5361480" y="3211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5649120" y="3211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5937120" y="3211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6225120" y="3211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6512760" y="3211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6800760" y="3211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7088760" y="3211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7376760" y="3211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7664760" y="3211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5073480" y="3495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5361480" y="3495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5649120" y="3495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5937120" y="3495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6225120" y="3495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6512760" y="3495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6800760" y="3495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7088760" y="3495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7376760" y="3495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7664760" y="3495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5073480" y="3779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5361480" y="3779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5649120" y="3779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5937120" y="3779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6225120" y="3779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6512760" y="3779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6800760" y="3779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7088760" y="3779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7376760" y="3779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7664760" y="3779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5073480" y="4063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5361480" y="4063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5649120" y="4063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5937120" y="4063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6225120" y="4063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6512760" y="4063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6800760" y="4063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7088760" y="4063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7376760" y="4063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7664760" y="4063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5073480" y="43477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5361480" y="4347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5649120" y="43477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5937120" y="4347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6225120" y="4347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6512760" y="43477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6800760" y="4347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7088760" y="43477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7376760" y="4347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7664760" y="43477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5073480" y="4632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5361480" y="4632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5649120" y="4632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5937120" y="4632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6225120" y="4632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6512760" y="4632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6800760" y="4632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7088760" y="4632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7376760" y="4632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7664760" y="4632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5073480" y="49161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5361480" y="4916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5649120" y="49161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5937120" y="4916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6225120" y="4916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6512760" y="49161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6800760" y="4916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7088760" y="49161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7376760" y="4916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7664760" y="49161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5073480" y="5200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5361480" y="5200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5649120" y="5200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5937120" y="5200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6225120" y="5200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6512760" y="5200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6800760" y="5200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7088760" y="5200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7376760" y="5200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7664760" y="5200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5073480" y="5484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5361480" y="5484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5649120" y="5484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5937120" y="5484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6225120" y="5484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6512760" y="5484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6800760" y="5484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7088760" y="5484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7376760" y="5484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7664760" y="5484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5073480" y="57690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5361480" y="5769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5649120" y="57690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5937120" y="5769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6225120" y="5769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6512760" y="57690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6800760" y="5769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7088760" y="57690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7376760" y="5769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7664760" y="57690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0" name=""/>
                <p:cNvSpPr/>
                <p:nvPr/>
              </p:nvSpPr>
              <p:spPr>
                <a:xfrm>
                  <a:off x="4905360" y="6069240"/>
                  <a:ext cx="35395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1" name=""/>
          <p:cNvSpPr/>
          <p:nvPr/>
        </p:nvSpPr>
        <p:spPr>
          <a:xfrm>
            <a:off x="5291280" y="5586480"/>
            <a:ext cx="128520" cy="128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734080" y="5000760"/>
            <a:ext cx="128520" cy="128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162840" y="4410000"/>
            <a:ext cx="128520" cy="128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605640" y="3809880"/>
            <a:ext cx="128520" cy="128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4734000" y="3124080"/>
            <a:ext cx="2504880" cy="3400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533520" y="2817720"/>
            <a:ext cx="4267080" cy="1297440"/>
            <a:chOff x="533520" y="2817720"/>
            <a:chExt cx="4267080" cy="1297440"/>
          </a:xfrm>
        </p:grpSpPr>
        <p:sp>
          <p:nvSpPr>
            <p:cNvPr id="657" name=""/>
            <p:cNvSpPr/>
            <p:nvPr/>
          </p:nvSpPr>
          <p:spPr>
            <a:xfrm>
              <a:off x="533520" y="2970360"/>
              <a:ext cx="426708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Verdana"/>
                </a:rPr>
                <a:t>The slope of the line is 7. This means Susan earned $7 for each hour worked.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3116160" y="2817720"/>
              <a:ext cx="299520" cy="747720"/>
              <a:chOff x="3116160" y="2817720"/>
              <a:chExt cx="299520" cy="747720"/>
            </a:xfrm>
          </p:grpSpPr>
          <p:sp>
            <p:nvSpPr>
              <p:cNvPr id="659" name=""/>
              <p:cNvSpPr/>
              <p:nvPr/>
            </p:nvSpPr>
            <p:spPr>
              <a:xfrm>
                <a:off x="3116160" y="2817720"/>
                <a:ext cx="18720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16160" y="3122280"/>
                <a:ext cx="299520" cy="4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1600200"/>
            <a:ext cx="7467480" cy="29718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 a linear equation that contains terms with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35053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Possible answer: 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+ 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= 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+ 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+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2438280"/>
            <a:ext cx="8305920" cy="10670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find the slope of a line and use slope to understand and draw graph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96520" y="91080"/>
            <a:ext cx="46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sert Lesson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27040" y="2438280"/>
            <a:ext cx="7854480" cy="1656000"/>
            <a:chOff x="527040" y="2438280"/>
            <a:chExt cx="7854480" cy="1656000"/>
          </a:xfrm>
        </p:grpSpPr>
        <p:sp>
          <p:nvSpPr>
            <p:cNvPr id="77" name=""/>
            <p:cNvSpPr/>
            <p:nvPr/>
          </p:nvSpPr>
          <p:spPr>
            <a:xfrm>
              <a:off x="533160" y="2895480"/>
              <a:ext cx="7848360" cy="119880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You looked at slope on the coordinate plane in Lesson 7-5 (p. 347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27040" y="2438280"/>
              <a:ext cx="243828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Remember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14400" y="11872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ear equations have constant slope. For a line on the coordinate plane, slope is the following rat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09480" y="2482920"/>
            <a:ext cx="6933960" cy="947160"/>
            <a:chOff x="609480" y="2482920"/>
            <a:chExt cx="6933960" cy="947160"/>
          </a:xfrm>
        </p:grpSpPr>
        <p:sp>
          <p:nvSpPr>
            <p:cNvPr id="87" name=""/>
            <p:cNvSpPr/>
            <p:nvPr/>
          </p:nvSpPr>
          <p:spPr>
            <a:xfrm>
              <a:off x="609480" y="2482920"/>
              <a:ext cx="3962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ff"/>
                  </a:solidFill>
                  <a:latin typeface="Verdana"/>
                </a:rPr>
                <a:t>vertical change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horizontal chang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14040" y="2987640"/>
              <a:ext cx="335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19360" y="2482920"/>
              <a:ext cx="3124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ff"/>
                  </a:solidFill>
                  <a:latin typeface="Verdana"/>
                </a:rPr>
                <a:t>change in </a:t>
              </a:r>
              <a:r>
                <a:rPr b="0" i="1" lang="en-US" sz="28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change in 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724280" y="298296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267080" y="27115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762120" y="3281400"/>
            <a:ext cx="8229600" cy="2997000"/>
            <a:chOff x="762120" y="3281400"/>
            <a:chExt cx="8229600" cy="2997000"/>
          </a:xfrm>
        </p:grpSpPr>
        <p:sp>
          <p:nvSpPr>
            <p:cNvPr id="93" name=""/>
            <p:cNvSpPr/>
            <p:nvPr/>
          </p:nvSpPr>
          <p:spPr>
            <a:xfrm>
              <a:off x="762120" y="3433680"/>
              <a:ext cx="8229600" cy="28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is ratio is often referred to as       , or “ris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over run,” 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rise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ndicates the number of units moved up or down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run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ndicates the number of units moved to the left or right. Slope can be positive, negative, zero, or undefined. A line with positive slope goes up from left to right. A line with negative slope goes down from left to righ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5791320" y="3281400"/>
              <a:ext cx="1295280" cy="459720"/>
              <a:chOff x="5791320" y="3281400"/>
              <a:chExt cx="1295280" cy="459720"/>
            </a:xfrm>
          </p:grpSpPr>
          <p:sp>
            <p:nvSpPr>
              <p:cNvPr id="95" name=""/>
              <p:cNvSpPr/>
              <p:nvPr/>
            </p:nvSpPr>
            <p:spPr>
              <a:xfrm>
                <a:off x="5791320" y="328140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rise ru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791320" y="37242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800520" cy="4543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3686040" cy="452448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06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4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562200" cy="4419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0" y="1447920"/>
            <a:ext cx="4248000" cy="449568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2120" y="1308240"/>
            <a:ext cx="769608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you know any two points on a line, or two solutions of a linear equation, you can find the slope of the line without graphing. The slope of a line through the points (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3333ff"/>
                </a:solidFill>
                <a:latin typeface="Verdana"/>
              </a:rPr>
              <a:t>y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and (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3333ff"/>
                </a:solidFill>
                <a:latin typeface="Verdana"/>
              </a:rPr>
              <a:t>y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is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971800" y="4191120"/>
            <a:ext cx="2395080" cy="1342440"/>
            <a:chOff x="2971800" y="4191120"/>
            <a:chExt cx="2395080" cy="1342440"/>
          </a:xfrm>
        </p:grpSpPr>
        <p:sp>
          <p:nvSpPr>
            <p:cNvPr id="121" name=""/>
            <p:cNvSpPr/>
            <p:nvPr/>
          </p:nvSpPr>
          <p:spPr>
            <a:xfrm>
              <a:off x="3004920" y="4191120"/>
              <a:ext cx="2361960" cy="13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3600" spc="-1" strike="noStrike" baseline="-25000">
                  <a:solidFill>
                    <a:srgbClr val="3333ff"/>
                  </a:solidFill>
                  <a:latin typeface="Verdana"/>
                </a:rPr>
                <a:t>2</a:t>
              </a:r>
              <a:r>
                <a:rPr b="0" lang="en-US" sz="3600" spc="-1" strike="noStrike">
                  <a:solidFill>
                    <a:srgbClr val="3333ff"/>
                  </a:solidFill>
                  <a:latin typeface="Verdana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3600" spc="-1" strike="noStrike">
                  <a:solidFill>
                    <a:srgbClr val="3333ff"/>
                  </a:solidFill>
                  <a:latin typeface="Verdana"/>
                </a:rPr>
                <a:t> </a:t>
              </a:r>
              <a:r>
                <a:rPr b="0" i="1" lang="en-US" sz="36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3600" spc="-1" strike="noStrike" baseline="-25000">
                  <a:solidFill>
                    <a:srgbClr val="3333ff"/>
                  </a:solidFill>
                  <a:latin typeface="Verdana"/>
                </a:rPr>
                <a:t>1</a:t>
              </a:r>
              <a:r>
                <a:rPr b="0" lang="en-US" sz="3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lang="en-US" sz="3600" spc="-1" strike="noStrike" baseline="-25000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0" lang="en-US" sz="36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36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i="1" lang="en-US" sz="36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lang="en-US" sz="3600" spc="-1" strike="noStrike" baseline="-25000">
                  <a:solidFill>
                    <a:srgbClr val="ff0000"/>
                  </a:solidFill>
                  <a:latin typeface="Verdana"/>
                </a:rPr>
                <a:t>1</a:t>
              </a:r>
              <a:r>
                <a:rPr b="0" lang="en-US" sz="3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71800" y="4876920"/>
              <a:ext cx="171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stevenh</cp:lastModifiedBy>
  <dcterms:modified xsi:type="dcterms:W3CDTF">2006-04-27T16:35:09Z</dcterms:modified>
  <cp:revision>140</cp:revision>
  <dc:subject/>
  <dc:title>Slide 1</dc:title>
</cp:coreProperties>
</file>