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051-32D4-4348-85FE-C0E77A08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268-7F1F-49E8-A417-CEF038E2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1DA-E43E-46E9-BF62-0EED8C64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978-2E1E-49F7-A04B-12D260D8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DE1-F648-4A75-A59E-FE9B157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A32-73AA-4F49-A101-D9823AD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968-6675-4381-9872-8F15D1E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252-0586-477B-ADCE-BBB353B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5C4-407D-4C32-9225-7011996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F15-92FD-43E2-B23D-C7C64E3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0D8-9132-49D2-9387-B2DE036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DCA-D804-4E64-B5CD-AE6B431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488B-96AE-451E-9AFE-94E3172EC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2, –3) and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Slope, Given Two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2, –3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4, 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33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(–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– (–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37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38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46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2, –3) and (4, 6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48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51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57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passes through (–4, –6) and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6668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–4, –6) and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be (2,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05120" y="3352680"/>
            <a:ext cx="2895480" cy="764280"/>
            <a:chOff x="1905120" y="3352680"/>
            <a:chExt cx="2895480" cy="764280"/>
          </a:xfrm>
        </p:grpSpPr>
        <p:sp>
          <p:nvSpPr>
            <p:cNvPr id="175" name=""/>
            <p:cNvSpPr/>
            <p:nvPr/>
          </p:nvSpPr>
          <p:spPr>
            <a:xfrm>
              <a:off x="1905120" y="3352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 – (–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365724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81280" y="3352680"/>
            <a:ext cx="5562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3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6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and –4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633680" y="4038480"/>
            <a:ext cx="2361960" cy="764640"/>
            <a:chOff x="1633680" y="4038480"/>
            <a:chExt cx="23619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1938240" y="4038480"/>
              <a:ext cx="2057400" cy="764640"/>
              <a:chOff x="1938240" y="4038480"/>
              <a:chExt cx="20574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193824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3824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633680" y="4038480"/>
              <a:ext cx="2057400" cy="762120"/>
              <a:chOff x="1633680" y="4038480"/>
              <a:chExt cx="2057400" cy="7621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71760" y="4038480"/>
                <a:ext cx="761760" cy="762120"/>
                <a:chOff x="2471760" y="4038480"/>
                <a:chExt cx="761760" cy="762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47176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47176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63368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457200" y="4848120"/>
            <a:ext cx="6858000" cy="1174320"/>
            <a:chOff x="457200" y="4848120"/>
            <a:chExt cx="6858000" cy="1174320"/>
          </a:xfrm>
        </p:grpSpPr>
        <p:sp>
          <p:nvSpPr>
            <p:cNvPr id="188" name=""/>
            <p:cNvSpPr/>
            <p:nvPr/>
          </p:nvSpPr>
          <p:spPr>
            <a:xfrm>
              <a:off x="457200" y="4848120"/>
              <a:ext cx="685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that passes through (–4, –6) and (2, 3) is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886200" y="5257800"/>
              <a:ext cx="1218960" cy="764640"/>
              <a:chOff x="3886200" y="5257800"/>
              <a:chExt cx="1218960" cy="76464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5257800"/>
                <a:ext cx="114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86200" y="556272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14360" y="3305160"/>
            <a:ext cx="2057400" cy="848160"/>
            <a:chOff x="414360" y="3305160"/>
            <a:chExt cx="2057400" cy="848160"/>
          </a:xfrm>
        </p:grpSpPr>
        <p:sp>
          <p:nvSpPr>
            <p:cNvPr id="193" name=""/>
            <p:cNvSpPr/>
            <p:nvPr/>
          </p:nvSpPr>
          <p:spPr>
            <a:xfrm>
              <a:off x="1600200" y="3504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4360" y="3305160"/>
              <a:ext cx="2057400" cy="848160"/>
              <a:chOff x="414360" y="3305160"/>
              <a:chExt cx="2057400" cy="84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490680" y="330516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0680" y="364320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4360" y="37623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2286000" y="4038480"/>
            <a:ext cx="2361960" cy="764640"/>
            <a:chOff x="2286000" y="4038480"/>
            <a:chExt cx="2361960" cy="764640"/>
          </a:xfrm>
        </p:grpSpPr>
        <p:grpSp>
          <p:nvGrpSpPr>
            <p:cNvPr id="199" name=""/>
            <p:cNvGrpSpPr/>
            <p:nvPr/>
          </p:nvGrpSpPr>
          <p:grpSpPr>
            <a:xfrm>
              <a:off x="2590560" y="4038480"/>
              <a:ext cx="2057400" cy="764640"/>
              <a:chOff x="2590560" y="4038480"/>
              <a:chExt cx="2057400" cy="764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590560" y="40384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90560" y="43434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286000" y="4038480"/>
              <a:ext cx="2057400" cy="762120"/>
              <a:chOff x="2286000" y="4038480"/>
              <a:chExt cx="2057400" cy="762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124080" y="4038480"/>
                <a:ext cx="761760" cy="762120"/>
                <a:chOff x="3124080" y="4038480"/>
                <a:chExt cx="761760" cy="76212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124080" y="403848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24080" y="4343400"/>
                  <a:ext cx="6858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286000" y="419076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066680" y="18288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linear equations have variable rates of change. This means that the rate of change is different between values. This is shown in a graph by a curved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1752480"/>
            <a:ext cx="8237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066680" y="2933640"/>
            <a:ext cx="4038840" cy="3543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29200" y="3581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Constant and Variable Rates of Change in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between any two sets of points in Quadrant 1 is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990720" y="2935440"/>
            <a:ext cx="34113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58128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constant rate of change. The slope between any two points is alw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923760" y="2895480"/>
            <a:ext cx="3724560" cy="3467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828800" y="3200400"/>
            <a:ext cx="1905120" cy="297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graph shows a constant or variable rate of change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648320" y="3581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shows a variable rate of change. The slope is steeper at the ends than in the mi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35049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5238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fruit per pound purchased at the grocery store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2895480" cy="25002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0" y="2666880"/>
            <a:ext cx="3581280" cy="3888720"/>
            <a:chOff x="4572000" y="2666880"/>
            <a:chExt cx="3581280" cy="3888720"/>
          </a:xfrm>
        </p:grpSpPr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4648320" y="2895480"/>
              <a:ext cx="3504960" cy="33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62720" y="6095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u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4154040" y="42274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4120" y="26668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Fr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14400" y="3124080"/>
            <a:ext cx="723888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use any two points to find the slope of the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2585880"/>
            <a:ext cx="2438280" cy="52056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ful H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287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3. This means that for every pound of fruit, you will pay another $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292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298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5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362320" y="2676600"/>
            <a:ext cx="3351960" cy="764280"/>
            <a:chOff x="2362320" y="2676600"/>
            <a:chExt cx="3351960" cy="764280"/>
          </a:xfrm>
        </p:grpSpPr>
        <p:grpSp>
          <p:nvGrpSpPr>
            <p:cNvPr id="309" name=""/>
            <p:cNvGrpSpPr/>
            <p:nvPr/>
          </p:nvGrpSpPr>
          <p:grpSpPr>
            <a:xfrm>
              <a:off x="2362320" y="2676600"/>
              <a:ext cx="3351960" cy="764280"/>
              <a:chOff x="2362320" y="2676600"/>
              <a:chExt cx="335196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2362320" y="2676600"/>
                <a:ext cx="176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62320" y="2981160"/>
                <a:ext cx="335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621520" y="3052800"/>
              <a:ext cx="158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314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371600"/>
            <a:ext cx="8381880" cy="4267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e each equation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1, 0, and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3400" y="31233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0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7040" y="371880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7, –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6760" y="4328280"/>
            <a:ext cx="11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, 5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3730680" y="486180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, –2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134136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total cost of gas per gallon. Use the data to make a graph. Find the slope of the line and explain what it sh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-4680"/>
            <a:ext cx="9144000" cy="6864120"/>
            <a:chOff x="0" y="-468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020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236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3920" y="10908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9288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4300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43000" y="3452760"/>
          <a:ext cx="2819520" cy="2278080"/>
        </p:xfrm>
        <a:graphic>
          <a:graphicData uri="http://schemas.openxmlformats.org/drawingml/2006/table">
            <a:tbl>
              <a:tblPr/>
              <a:tblGrid>
                <a:gridCol w="1592280"/>
                <a:gridCol w="122724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 of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ll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5" name=""/>
          <p:cNvGrpSpPr/>
          <p:nvPr/>
        </p:nvGrpSpPr>
        <p:grpSpPr>
          <a:xfrm>
            <a:off x="4267080" y="2590920"/>
            <a:ext cx="4266720" cy="4041000"/>
            <a:chOff x="4267080" y="2590920"/>
            <a:chExt cx="4266720" cy="4041000"/>
          </a:xfrm>
        </p:grpSpPr>
        <p:grpSp>
          <p:nvGrpSpPr>
            <p:cNvPr id="336" name=""/>
            <p:cNvGrpSpPr/>
            <p:nvPr/>
          </p:nvGrpSpPr>
          <p:grpSpPr>
            <a:xfrm>
              <a:off x="4572000" y="2895480"/>
              <a:ext cx="3961800" cy="3570120"/>
              <a:chOff x="4572000" y="2895480"/>
              <a:chExt cx="3961800" cy="3570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902120" y="2895480"/>
                <a:ext cx="3631680" cy="3354120"/>
                <a:chOff x="4902120" y="2895480"/>
                <a:chExt cx="3631680" cy="3354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5105160" y="3466800"/>
                  <a:ext cx="2253240" cy="2706840"/>
                  <a:chOff x="5105160" y="3466800"/>
                  <a:chExt cx="2253240" cy="2706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5231520" y="45903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038360" y="585720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238000" y="4037760"/>
                    <a:ext cx="320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105160" y="3466800"/>
                    <a:ext cx="48528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76400" y="5866560"/>
                    <a:ext cx="3200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16168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241240" y="5190480"/>
                    <a:ext cx="39636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866560" y="5866560"/>
                    <a:ext cx="39672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902120" y="3339720"/>
                  <a:ext cx="2879280" cy="2840760"/>
                  <a:chOff x="4902120" y="3339720"/>
                  <a:chExt cx="2879280" cy="28407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90212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19012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47776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765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05376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341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29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17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205400" y="333972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493400" y="333972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90212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19012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547776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765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05376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341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629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917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05400" y="3623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493400" y="3623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90212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9012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47776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765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05376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341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629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917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205400" y="3907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93400" y="3907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90212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19012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47776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765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05376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341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629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917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205400" y="419184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93400" y="419184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90212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19012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47776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765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605376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41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629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917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205400" y="447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493400" y="447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90212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19012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47776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765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05376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341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629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917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205400" y="476028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493400" y="476028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90212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19012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47776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765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05376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6341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6629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917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205400" y="504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493400" y="504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90212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19012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47776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765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05376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341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629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917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205400" y="532836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493400" y="532836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90212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19012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47776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65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05376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41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629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917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205400" y="5612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493400" y="5612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90212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19012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47776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765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05376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341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629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917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205400" y="5896800"/>
                    <a:ext cx="28764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493400" y="5896800"/>
                    <a:ext cx="288000" cy="28368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7859520" y="588132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97200" y="2895480"/>
                  <a:ext cx="67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5494320" y="2971440"/>
                <a:ext cx="0" cy="349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72000" y="5905440"/>
                <a:ext cx="3539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419800" y="5848200"/>
              <a:ext cx="128520" cy="128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86440" y="4686480"/>
              <a:ext cx="12852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76840" y="3571920"/>
              <a:ext cx="128880" cy="128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00200" y="2971800"/>
              <a:ext cx="1752840" cy="3505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91320" y="61722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Gall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0080" y="25909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 of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3353760" y="3503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 of th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0880" y="4724280"/>
            <a:ext cx="8686800" cy="978120"/>
            <a:chOff x="380880" y="4724280"/>
            <a:chExt cx="8686800" cy="978120"/>
          </a:xfrm>
        </p:grpSpPr>
        <p:sp>
          <p:nvSpPr>
            <p:cNvPr id="462" name=""/>
            <p:cNvSpPr/>
            <p:nvPr/>
          </p:nvSpPr>
          <p:spPr>
            <a:xfrm>
              <a:off x="380880" y="487692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is 2. This means that for every gallon of gas, you will pay another $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638680" y="4724280"/>
              <a:ext cx="609480" cy="761760"/>
              <a:chOff x="5638680" y="4724280"/>
              <a:chExt cx="609480" cy="761760"/>
            </a:xfrm>
          </p:grpSpPr>
          <p:sp>
            <p:nvSpPr>
              <p:cNvPr id="464" name=""/>
              <p:cNvSpPr/>
              <p:nvPr/>
            </p:nvSpPr>
            <p:spPr>
              <a:xfrm>
                <a:off x="5638680" y="4724280"/>
                <a:ext cx="38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38680" y="502884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905040" y="2571840"/>
            <a:ext cx="2057400" cy="865800"/>
            <a:chOff x="905040" y="2571840"/>
            <a:chExt cx="2057400" cy="865800"/>
          </a:xfrm>
        </p:grpSpPr>
        <p:sp>
          <p:nvSpPr>
            <p:cNvPr id="467" name=""/>
            <p:cNvSpPr/>
            <p:nvPr/>
          </p:nvSpPr>
          <p:spPr>
            <a:xfrm>
              <a:off x="2090880" y="2782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905040" y="2571840"/>
              <a:ext cx="2057400" cy="865800"/>
              <a:chOff x="905040" y="2571840"/>
              <a:chExt cx="2057400" cy="865800"/>
            </a:xfrm>
          </p:grpSpPr>
          <p:sp>
            <p:nvSpPr>
              <p:cNvPr id="469" name=""/>
              <p:cNvSpPr/>
              <p:nvPr/>
            </p:nvSpPr>
            <p:spPr>
              <a:xfrm>
                <a:off x="981360" y="257184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81360" y="292752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05040" y="305316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2238480" y="3505320"/>
            <a:ext cx="2361960" cy="764280"/>
            <a:chOff x="2238480" y="3505320"/>
            <a:chExt cx="2361960" cy="764280"/>
          </a:xfrm>
        </p:grpSpPr>
        <p:grpSp>
          <p:nvGrpSpPr>
            <p:cNvPr id="473" name=""/>
            <p:cNvGrpSpPr/>
            <p:nvPr/>
          </p:nvGrpSpPr>
          <p:grpSpPr>
            <a:xfrm>
              <a:off x="2238480" y="3505320"/>
              <a:ext cx="2361960" cy="764280"/>
              <a:chOff x="2238480" y="3505320"/>
              <a:chExt cx="2361960" cy="76428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2543040" y="3505320"/>
                <a:ext cx="2057400" cy="764280"/>
                <a:chOff x="2543040" y="3505320"/>
                <a:chExt cx="2057400" cy="764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543040" y="35053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543040" y="38098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2238480" y="3505320"/>
                <a:ext cx="2057400" cy="761400"/>
                <a:chOff x="2238480" y="3505320"/>
                <a:chExt cx="2057400" cy="7614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3076560" y="3505320"/>
                  <a:ext cx="761760" cy="761400"/>
                  <a:chOff x="3076560" y="3505320"/>
                  <a:chExt cx="761760" cy="76140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3076560" y="3505320"/>
                    <a:ext cx="7617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076560" y="3809880"/>
                    <a:ext cx="6858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1" name=""/>
                <p:cNvSpPr/>
                <p:nvPr/>
              </p:nvSpPr>
              <p:spPr>
                <a:xfrm>
                  <a:off x="2238480" y="36572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	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2647800" y="3885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362320" y="2676600"/>
            <a:ext cx="2971080" cy="764280"/>
            <a:chOff x="2362320" y="2676600"/>
            <a:chExt cx="2971080" cy="764280"/>
          </a:xfrm>
        </p:grpSpPr>
        <p:grpSp>
          <p:nvGrpSpPr>
            <p:cNvPr id="484" name=""/>
            <p:cNvGrpSpPr/>
            <p:nvPr/>
          </p:nvGrpSpPr>
          <p:grpSpPr>
            <a:xfrm>
              <a:off x="2362320" y="2676600"/>
              <a:ext cx="2971080" cy="764280"/>
              <a:chOff x="2362320" y="2676600"/>
              <a:chExt cx="2971080" cy="764280"/>
            </a:xfrm>
          </p:grpSpPr>
          <p:sp>
            <p:nvSpPr>
              <p:cNvPr id="485" name=""/>
              <p:cNvSpPr/>
              <p:nvPr/>
            </p:nvSpPr>
            <p:spPr>
              <a:xfrm>
                <a:off x="2362320" y="2676600"/>
                <a:ext cx="156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62320" y="2981160"/>
                <a:ext cx="297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2592000" y="3052800"/>
              <a:ext cx="140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200400" y="3505320"/>
            <a:ext cx="2666520" cy="761400"/>
            <a:chOff x="3200400" y="3505320"/>
            <a:chExt cx="2666520" cy="761400"/>
          </a:xfrm>
        </p:grpSpPr>
        <p:grpSp>
          <p:nvGrpSpPr>
            <p:cNvPr id="489" name=""/>
            <p:cNvGrpSpPr/>
            <p:nvPr/>
          </p:nvGrpSpPr>
          <p:grpSpPr>
            <a:xfrm>
              <a:off x="3809880" y="3505320"/>
              <a:ext cx="2057040" cy="761400"/>
              <a:chOff x="3809880" y="3505320"/>
              <a:chExt cx="2057040" cy="76140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9880" y="3505320"/>
                <a:ext cx="20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09880" y="3809880"/>
                <a:ext cx="9140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3200400" y="364320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9320" y="3895560"/>
              <a:ext cx="380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1619280"/>
            <a:ext cx="79246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passing through each pair of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4, 3) and (–1, 1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1, 5) and (4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2513520"/>
            <a:ext cx="4114800" cy="764280"/>
            <a:chOff x="4343400" y="2513520"/>
            <a:chExt cx="4114800" cy="764280"/>
          </a:xfrm>
        </p:grpSpPr>
        <p:sp>
          <p:nvSpPr>
            <p:cNvPr id="504" name=""/>
            <p:cNvSpPr/>
            <p:nvPr/>
          </p:nvSpPr>
          <p:spPr>
            <a:xfrm>
              <a:off x="4343400" y="25135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43400" y="281808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095720" y="3732480"/>
            <a:ext cx="4362480" cy="764280"/>
            <a:chOff x="4095720" y="3732480"/>
            <a:chExt cx="4362480" cy="764280"/>
          </a:xfrm>
        </p:grpSpPr>
        <p:sp>
          <p:nvSpPr>
            <p:cNvPr id="507" name=""/>
            <p:cNvSpPr/>
            <p:nvPr/>
          </p:nvSpPr>
          <p:spPr>
            <a:xfrm>
              <a:off x="4343400" y="403704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095720" y="3732480"/>
              <a:ext cx="1066680" cy="613080"/>
              <a:chOff x="4095720" y="3732480"/>
              <a:chExt cx="1066680" cy="613080"/>
            </a:xfrm>
          </p:grpSpPr>
          <p:sp>
            <p:nvSpPr>
              <p:cNvPr id="509" name=""/>
              <p:cNvSpPr/>
              <p:nvPr/>
            </p:nvSpPr>
            <p:spPr>
              <a:xfrm>
                <a:off x="4343400" y="3732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95720" y="388584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1371600"/>
            <a:ext cx="79246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The table shows how much money Susan earned as a house painter for one afternoon. Use the data to make a graph. Find the slope of the line and explain what it show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85800" y="4349880"/>
            <a:ext cx="3124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648320" y="2819520"/>
            <a:ext cx="4177800" cy="3657600"/>
            <a:chOff x="4648320" y="2819520"/>
            <a:chExt cx="4177800" cy="3657600"/>
          </a:xfrm>
        </p:grpSpPr>
        <p:sp>
          <p:nvSpPr>
            <p:cNvPr id="528" name=""/>
            <p:cNvSpPr/>
            <p:nvPr/>
          </p:nvSpPr>
          <p:spPr>
            <a:xfrm>
              <a:off x="8151840" y="57153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6000" y="28195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648320" y="2983320"/>
              <a:ext cx="3796560" cy="3493800"/>
              <a:chOff x="4648320" y="2983320"/>
              <a:chExt cx="3796560" cy="3493800"/>
            </a:xfrm>
          </p:grpSpPr>
          <p:sp>
            <p:nvSpPr>
              <p:cNvPr id="531" name=""/>
              <p:cNvSpPr/>
              <p:nvPr/>
            </p:nvSpPr>
            <p:spPr>
              <a:xfrm>
                <a:off x="57816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99000" y="6039000"/>
                <a:ext cx="3204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24240" y="6029280"/>
                <a:ext cx="3967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32520" y="6039000"/>
                <a:ext cx="32004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3880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59124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43680" y="6029280"/>
                <a:ext cx="495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4648320" y="2983320"/>
                <a:ext cx="3796560" cy="3493800"/>
                <a:chOff x="4648320" y="2983320"/>
                <a:chExt cx="3796560" cy="3493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724280" y="6040440"/>
                  <a:ext cx="39636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676760" y="562140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676760" y="535464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657680" y="50691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676760" y="478332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76760" y="45165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676760" y="422136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676760" y="3907080"/>
                  <a:ext cx="52344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648320" y="3659400"/>
                  <a:ext cx="5238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76720" y="2983320"/>
                  <a:ext cx="0" cy="349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5073480" y="3211560"/>
                  <a:ext cx="2879280" cy="2841480"/>
                  <a:chOff x="5073480" y="3211560"/>
                  <a:chExt cx="2879280" cy="28414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507348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536148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564912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5937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22512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512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800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7088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376760" y="3211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664760" y="3211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07348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36148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64912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937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2512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512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800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7088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7376760" y="3495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7664760" y="3495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7348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36148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64912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937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22512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12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800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7088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376760" y="3779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7664760" y="3779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07348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6148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64912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937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22512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512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800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088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7376760" y="4063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664760" y="4063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7348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6148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64912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937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22512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512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800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088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7376760" y="4347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7664760" y="43477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7348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36148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64912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937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22512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512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800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7088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7376760" y="4632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664760" y="4632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07348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36148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64912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37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22512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512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800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7088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376760" y="4916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664760" y="4916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07348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536148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564912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937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622512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6512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800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088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376760" y="5200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664760" y="5200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07348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36148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64912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937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2512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512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00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088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376760" y="5484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64760" y="5484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7348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36148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64912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937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2512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512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800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88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7376760" y="5769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664760" y="57690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4905360" y="6069240"/>
                  <a:ext cx="35395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1" name=""/>
          <p:cNvSpPr/>
          <p:nvPr/>
        </p:nvSpPr>
        <p:spPr>
          <a:xfrm>
            <a:off x="5291280" y="55864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34080" y="500076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162840" y="441000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05640" y="380988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734000" y="3124080"/>
            <a:ext cx="2504880" cy="340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33520" y="2817720"/>
            <a:ext cx="4267080" cy="1297440"/>
            <a:chOff x="533520" y="2817720"/>
            <a:chExt cx="4267080" cy="1297440"/>
          </a:xfrm>
        </p:grpSpPr>
        <p:sp>
          <p:nvSpPr>
            <p:cNvPr id="657" name=""/>
            <p:cNvSpPr/>
            <p:nvPr/>
          </p:nvSpPr>
          <p:spPr>
            <a:xfrm>
              <a:off x="533520" y="2970360"/>
              <a:ext cx="426708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Verdana"/>
                </a:rPr>
                <a:t>The slope of the line is 7. This means Susan earned $7 for each hour worked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116160" y="2817720"/>
              <a:ext cx="299520" cy="747720"/>
              <a:chOff x="3116160" y="2817720"/>
              <a:chExt cx="299520" cy="747720"/>
            </a:xfrm>
          </p:grpSpPr>
          <p:sp>
            <p:nvSpPr>
              <p:cNvPr id="659" name=""/>
              <p:cNvSpPr/>
              <p:nvPr/>
            </p:nvSpPr>
            <p:spPr>
              <a:xfrm>
                <a:off x="3116160" y="2817720"/>
                <a:ext cx="18720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16160" y="3122280"/>
                <a:ext cx="299520" cy="4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7467480" cy="2971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linear equation that contains terms with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slope of a line and use slope to understand and draw graph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9652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2438280"/>
            <a:ext cx="7854480" cy="1656000"/>
            <a:chOff x="527040" y="2438280"/>
            <a:chExt cx="7854480" cy="1656000"/>
          </a:xfrm>
        </p:grpSpPr>
        <p:sp>
          <p:nvSpPr>
            <p:cNvPr id="77" name=""/>
            <p:cNvSpPr/>
            <p:nvPr/>
          </p:nvSpPr>
          <p:spPr>
            <a:xfrm>
              <a:off x="533160" y="2895480"/>
              <a:ext cx="7848360" cy="1198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ou looked at slope on the coordinate plane in Lesson 7-5 (p. 347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243828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1187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equations have constant slope. For a line on the coordinate plane, slope is the following rat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482920"/>
            <a:ext cx="6933960" cy="947160"/>
            <a:chOff x="609480" y="2482920"/>
            <a:chExt cx="6933960" cy="947160"/>
          </a:xfrm>
        </p:grpSpPr>
        <p:sp>
          <p:nvSpPr>
            <p:cNvPr id="87" name=""/>
            <p:cNvSpPr/>
            <p:nvPr/>
          </p:nvSpPr>
          <p:spPr>
            <a:xfrm>
              <a:off x="609480" y="2482920"/>
              <a:ext cx="396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vertical change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horizontal chan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040" y="298764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360" y="2482920"/>
              <a:ext cx="3124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ff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change in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24280" y="298296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2711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62120" y="3281400"/>
            <a:ext cx="8229600" cy="2997000"/>
            <a:chOff x="762120" y="3281400"/>
            <a:chExt cx="8229600" cy="2997000"/>
          </a:xfrm>
        </p:grpSpPr>
        <p:sp>
          <p:nvSpPr>
            <p:cNvPr id="93" name=""/>
            <p:cNvSpPr/>
            <p:nvPr/>
          </p:nvSpPr>
          <p:spPr>
            <a:xfrm>
              <a:off x="762120" y="3433680"/>
              <a:ext cx="82296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s ratio is often referred to as       , or “ri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ver run,”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ise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up or down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run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dicates the number of units moved to the left or right. Slope can be positive, negative, zero, or undefined. A line with positive slope goes up from left to right. A line with negative slope goes down from left to righ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91320" y="3281400"/>
              <a:ext cx="1295280" cy="459720"/>
              <a:chOff x="5791320" y="3281400"/>
              <a:chExt cx="129528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5791320" y="32814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ise r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91320" y="3724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0520" cy="4543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686040" cy="45244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6220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2480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308240"/>
            <a:ext cx="7696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you know any two points on a line, or two solutions of a linear equation, you can find the slope of the line without graphing. The slope of a line through the points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and (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3333ff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191120"/>
            <a:ext cx="2395080" cy="1342440"/>
            <a:chOff x="2971800" y="4191120"/>
            <a:chExt cx="2395080" cy="1342440"/>
          </a:xfrm>
        </p:grpSpPr>
        <p:sp>
          <p:nvSpPr>
            <p:cNvPr id="121" name=""/>
            <p:cNvSpPr/>
            <p:nvPr/>
          </p:nvSpPr>
          <p:spPr>
            <a:xfrm>
              <a:off x="3004920" y="4191120"/>
              <a:ext cx="236196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3333ff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3333ff"/>
                  </a:solidFill>
                  <a:latin typeface="Verdana"/>
                </a:rPr>
                <a:t>y</a:t>
              </a:r>
              <a:r>
                <a:rPr b="0" lang="en-US" sz="3600" spc="-1" strike="noStrike" baseline="-25000">
                  <a:solidFill>
                    <a:srgbClr val="3333ff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2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36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36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r>
                <a:rPr b="0" lang="en-US" sz="3600" spc="-1" strike="noStrike" baseline="-25000">
                  <a:solidFill>
                    <a:srgbClr val="ff0000"/>
                  </a:solidFill>
                  <a:latin typeface="Verdana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4876920"/>
              <a:ext cx="171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lope of a L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5:09Z</dcterms:modified>
  <cp:revision>140</cp:revision>
  <dc:subject/>
  <dc:title>Slide 1</dc:title>
</cp:coreProperties>
</file>